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D98C-F358-4E7C-B6A9-3499EE415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BD37-E44B-4200-8218-48A194EF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44F1-F1F1-4591-BB0E-A46ACCDC8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8DEE-F1D4-49FD-BE0F-6F4606D13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959FB-040B-4F51-AFA4-73E393667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7B54D-A8BE-4EE2-ADC4-E8F91E04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AB4CB-03FD-499A-89BF-133A8A1A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FB8BC-F030-4896-8A48-111B56CF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ED33-702C-4557-AE3C-BC4B1017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47B2-2F89-4107-A54C-C28C402C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EFE5A-3A5E-4263-9AEF-7595E021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8B1A-CA12-42D1-A180-D144A0E8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C1CA-76AB-4B32-87D9-AE47772C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F47E-1DD9-44E9-8D6B-46686181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E8C4-BBF0-437E-B811-CA47E9E7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B40E-5289-4CD7-A876-4A88C1268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EC54-746E-4BB3-9BA4-BB7B3CFFD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243DFA-27AF-4BEF-9546-09F87CC57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A6AEA9-7E46-443A-B63B-D15B4EC4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2BE224-5222-4F9B-AFDB-A0B0D2EB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36BE86-D70D-43FC-B43C-ED674279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DFCBC6-2489-4E20-B2E8-CD8F9DB3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D0FE-3250-468A-B78D-C3AC7EF6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F76DDC-7527-4FC6-81F8-D7732258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DEC37C-5BEC-452A-BFE6-E952E5D2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EF5815-4801-4BF5-9F8A-E65D55E2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28C897-4EEF-41E8-A9B1-509F3845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163978-9815-4AD7-89FF-88A5CBE8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81192D-C52A-4418-B71C-EAFC63AC7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DB727A-EF15-4855-AF99-872A91E1F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03B0D-1A49-43B4-B633-065ADADC9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3AD1C-F0C2-4E6F-BBC3-009C9223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6D586-6825-4AE4-8F31-D98C6EA2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E6E9-B177-437B-8FE5-272187DA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97888-12A4-401F-B53E-DABA03DA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76FB3-8DAD-4BE0-835D-26B7D129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37E3F-7B57-459D-82E0-A11033B5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3D27F-3924-4468-9259-7B3DE1CC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E493C-1208-40BE-A06D-52D4C377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95136-3681-49D0-A509-C8F5C5CE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C1A6D-5874-45E0-84FD-AF453970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CC8F0-480D-492E-9900-86B97413B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AAB9C-0BE1-4DF8-9266-EF59A9422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7C1080-AE9B-47E6-97D2-18A55D90C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E69F-28DD-4438-BFF9-7FBEE8C3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B1DEA4-05FD-49A1-B6C9-8CA8FFB9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D913C2-FB61-4FC0-B0D7-A5DD5CA5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3B2468-6FC6-4E04-96B4-C783F474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ED9FBB-2173-4E07-ABC2-70A60E87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175C9E-DFC5-4DAC-AC9D-74D83DD2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044DC0-C5F9-4B53-AEA8-7A550821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6903E0-B290-4869-AB4C-4D03CB95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B263A1-F68E-440F-B442-2CE62171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903787-FD23-48D7-BAB8-6F9478CC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6415F5-AA86-43A6-8A97-3505EB7F4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7F89-D701-477D-8DCE-1AE145A0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F88C38-0B56-41C8-B54A-C5C92DA76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B60E40-1B90-4F2B-BE7D-D2BFF4AEA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EF7DE1-0156-4627-AAA0-0765E536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7D53DD-CD1A-431E-8695-64E11AD2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151128-330B-435D-A858-DA56F071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B5C27A-0D48-4C4A-A20D-81C2E61A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138AB1-6CE4-4A95-AC4D-85696FC0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631473-7AB6-49EF-AF64-DBFCA85E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B7967C-F346-473D-928F-EECA7A64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2F38EF-BAA7-4F74-8CBD-0007B0E5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DBF4-B0CE-4619-B518-91DB6855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EAC2A3-BA72-403D-89A3-88C4C5FB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F5338B-8131-4647-A4E1-A1BC18F81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A7D871-CEE2-4C13-AC16-F49708837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01DBB-3D71-4EFE-9A66-974703E69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BEE60-40EC-4FEB-8B24-C6B47984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6C32C-87D8-4A91-BBAF-B0DB5B87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EB655-2927-4682-B14A-5060AAFF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62486-F01E-4100-BB8E-E0C64268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3BD04-03E3-495E-A86E-E58E1E5A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5A9AB-4FFB-4D69-ABAA-8B6AE624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2240-21DD-42B9-A2AB-68B81D2E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443B4-DA14-43CC-B2F6-9546973A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E5F9F-DFFC-4F1D-967A-A34ABAF3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128D4-3D52-4C75-B78B-28D810FA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1327C-652A-4575-BF31-4E3E53BCC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C2768-5BFD-4973-BF96-5D7611B2E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E41220-76B5-482B-97A1-771CD1069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2E0828-1A2F-4D15-A24B-1F0A7A32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EB86B8-AD11-489D-BA0A-DCEADFF8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5B1F3A-03BC-4208-9262-8BC5CA7B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48CE3D-1B32-441B-BCF8-5BA7787F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C24C-6D9A-43C7-A787-E0740388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42845E-BE27-4C4C-83AD-EC7F5E0E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2343E5-029C-471A-B2AB-ACED0425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A50431C-E8A6-4C42-8DD0-155888AA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56BB04-A095-49B7-A7CE-940AD14C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53EE03-A129-409B-B03B-FD1631F3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F7975E-A025-4912-91F7-A7035521E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2E19BD-3180-4D6C-AEEE-2E9231AD4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578D-43EC-4982-B1BC-B611A480D1E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8D58-D8F4-4623-B363-217797A82B6F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E007-0782-4832-B862-E1EB53AB9A4A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AA9B-543B-446A-956C-5D7E48EBA87B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E389-F525-46F0-A163-E2E131507311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dt" idx="15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71A9-1868-44FA-84E4-4228F2232844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9DE4-E8E4-45BF-8CDE-4450F5B5F1A9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Num" idx="22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D64D-4C65-4C6D-A37E-FB3DB530E724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dt" idx="2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304920" y="56386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efac9"/>
                </a:solidFill>
                <a:latin typeface="Monotype Corsiva"/>
              </a:rPr>
              <a:t>Работу выполнена воспитатель МАДОУ города Нижневартовск детский сад №17 «Ладушки» 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efac9"/>
                </a:solidFill>
                <a:latin typeface="Monotype Corsiva"/>
              </a:rPr>
              <a:t>Гольцова Е.Н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41" name="Прямоугольник 2" descr=""/>
          <p:cNvPicPr/>
          <p:nvPr/>
        </p:nvPicPr>
        <p:blipFill>
          <a:blip r:embed="rId1"/>
          <a:stretch/>
        </p:blipFill>
        <p:spPr>
          <a:xfrm>
            <a:off x="353880" y="212760"/>
            <a:ext cx="8601120" cy="131760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5"/>
          <p:cNvSpPr/>
          <p:nvPr/>
        </p:nvSpPr>
        <p:spPr>
          <a:xfrm>
            <a:off x="457200" y="1522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Picture 5" descr="http://xn--80abf6acpd4b4b.xn--p1ai/photos/med/3729_37828gori6.jpg"/>
          <p:cNvPicPr/>
          <p:nvPr/>
        </p:nvPicPr>
        <p:blipFill>
          <a:blip r:embed="rId2"/>
          <a:stretch/>
        </p:blipFill>
        <p:spPr>
          <a:xfrm>
            <a:off x="762120" y="1828800"/>
            <a:ext cx="7754760" cy="36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3733920" y="1219320"/>
            <a:ext cx="167616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fac9"/>
                </a:solidFill>
                <a:latin typeface="Constantia"/>
              </a:rPr>
              <a:t>Схема: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79" name="Rectangle 4" descr=""/>
          <p:cNvPicPr/>
          <p:nvPr/>
        </p:nvPicPr>
        <p:blipFill>
          <a:blip r:embed="rId1"/>
          <a:stretch/>
        </p:blipFill>
        <p:spPr>
          <a:xfrm>
            <a:off x="298440" y="146160"/>
            <a:ext cx="8626320" cy="1006200"/>
          </a:xfrm>
          <a:prstGeom prst="rect">
            <a:avLst/>
          </a:prstGeom>
          <a:ln w="0">
            <a:noFill/>
          </a:ln>
        </p:spPr>
      </p:pic>
      <p:sp>
        <p:nvSpPr>
          <p:cNvPr id="380" name="AutoShape 25"/>
          <p:cNvSpPr/>
          <p:nvPr/>
        </p:nvSpPr>
        <p:spPr>
          <a:xfrm>
            <a:off x="152280" y="1219320"/>
            <a:ext cx="1752840" cy="4572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мпровизац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AutoShape 27"/>
          <p:cNvSpPr/>
          <p:nvPr/>
        </p:nvSpPr>
        <p:spPr>
          <a:xfrm>
            <a:off x="152280" y="1828800"/>
            <a:ext cx="1752840" cy="83808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оль костюмов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екораций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едметног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круж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AutoShape 28"/>
          <p:cNvSpPr/>
          <p:nvPr/>
        </p:nvSpPr>
        <p:spPr>
          <a:xfrm>
            <a:off x="152280" y="2743200"/>
            <a:ext cx="1752840" cy="6858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иск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ыразительн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редст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AutoShape 29"/>
          <p:cNvSpPr/>
          <p:nvPr/>
        </p:nvSpPr>
        <p:spPr>
          <a:xfrm>
            <a:off x="152280" y="3809880"/>
            <a:ext cx="1752840" cy="5335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гровы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виж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AutoShape 30"/>
          <p:cNvSpPr/>
          <p:nvPr/>
        </p:nvSpPr>
        <p:spPr>
          <a:xfrm>
            <a:off x="152280" y="44956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бота на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оторикой ру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 ее движе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 ширм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AutoShape 31"/>
          <p:cNvSpPr/>
          <p:nvPr/>
        </p:nvSpPr>
        <p:spPr>
          <a:xfrm>
            <a:off x="228600" y="5715000"/>
            <a:ext cx="1676520" cy="6858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тонация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характер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укл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AutoShape 32"/>
          <p:cNvSpPr/>
          <p:nvPr/>
        </p:nvSpPr>
        <p:spPr>
          <a:xfrm>
            <a:off x="2438280" y="1600200"/>
            <a:ext cx="1752840" cy="11430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накомств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 основа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раматиза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AutoShape 33"/>
          <p:cNvSpPr/>
          <p:nvPr/>
        </p:nvSpPr>
        <p:spPr>
          <a:xfrm>
            <a:off x="2438280" y="434340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накомств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 основа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укольного театр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 кукловожд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AutoShape 34"/>
          <p:cNvSpPr/>
          <p:nvPr/>
        </p:nvSpPr>
        <p:spPr>
          <a:xfrm>
            <a:off x="3886200" y="3200400"/>
            <a:ext cx="1447920" cy="60948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БЕН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AutoShape 35"/>
          <p:cNvSpPr/>
          <p:nvPr/>
        </p:nvSpPr>
        <p:spPr>
          <a:xfrm>
            <a:off x="5105520" y="1600200"/>
            <a:ext cx="1600200" cy="11430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накомств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 основа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ктерског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стерств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AutoShape 36"/>
          <p:cNvSpPr/>
          <p:nvPr/>
        </p:nvSpPr>
        <p:spPr>
          <a:xfrm>
            <a:off x="5257800" y="4343400"/>
            <a:ext cx="1676520" cy="12193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амостоятельна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еатрализованна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еятельност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AutoShape 37"/>
          <p:cNvSpPr/>
          <p:nvPr/>
        </p:nvSpPr>
        <p:spPr>
          <a:xfrm>
            <a:off x="3809880" y="5867280"/>
            <a:ext cx="1752840" cy="83844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аздники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звлеч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AutoShape 38"/>
          <p:cNvSpPr/>
          <p:nvPr/>
        </p:nvSpPr>
        <p:spPr>
          <a:xfrm>
            <a:off x="7315200" y="1143000"/>
            <a:ext cx="1676520" cy="4572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гровые движ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AutoShape 39"/>
          <p:cNvSpPr/>
          <p:nvPr/>
        </p:nvSpPr>
        <p:spPr>
          <a:xfrm>
            <a:off x="7315200" y="182880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ыразительно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чте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AutoShape 40"/>
          <p:cNvSpPr/>
          <p:nvPr/>
        </p:nvSpPr>
        <p:spPr>
          <a:xfrm>
            <a:off x="7315200" y="2438280"/>
            <a:ext cx="1600200" cy="3049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ими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AutoShape 41"/>
          <p:cNvSpPr/>
          <p:nvPr/>
        </p:nvSpPr>
        <p:spPr>
          <a:xfrm>
            <a:off x="7315200" y="2895480"/>
            <a:ext cx="1676520" cy="5335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ыразительност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вижен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AutoShape 42"/>
          <p:cNvSpPr/>
          <p:nvPr/>
        </p:nvSpPr>
        <p:spPr>
          <a:xfrm>
            <a:off x="7391520" y="3886200"/>
            <a:ext cx="1523880" cy="60948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становк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пектакле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AutoShape 43"/>
          <p:cNvSpPr/>
          <p:nvPr/>
        </p:nvSpPr>
        <p:spPr>
          <a:xfrm>
            <a:off x="7391520" y="4724280"/>
            <a:ext cx="1523880" cy="5335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гры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раматиза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AutoShape 44"/>
          <p:cNvSpPr/>
          <p:nvPr/>
        </p:nvSpPr>
        <p:spPr>
          <a:xfrm>
            <a:off x="7391520" y="5486400"/>
            <a:ext cx="1600200" cy="5335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ссказыван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казо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Line 46"/>
          <p:cNvSpPr/>
          <p:nvPr/>
        </p:nvSpPr>
        <p:spPr>
          <a:xfrm flipV="1">
            <a:off x="4876920" y="2743200"/>
            <a:ext cx="10666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Line 48"/>
          <p:cNvSpPr/>
          <p:nvPr/>
        </p:nvSpPr>
        <p:spPr>
          <a:xfrm flipH="1" flipV="1">
            <a:off x="3352680" y="2743200"/>
            <a:ext cx="106704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Line 49"/>
          <p:cNvSpPr/>
          <p:nvPr/>
        </p:nvSpPr>
        <p:spPr>
          <a:xfrm flipH="1">
            <a:off x="3429000" y="3809880"/>
            <a:ext cx="99072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Line 50"/>
          <p:cNvSpPr/>
          <p:nvPr/>
        </p:nvSpPr>
        <p:spPr>
          <a:xfrm>
            <a:off x="4876920" y="380988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51"/>
          <p:cNvSpPr/>
          <p:nvPr/>
        </p:nvSpPr>
        <p:spPr>
          <a:xfrm>
            <a:off x="4648320" y="380988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Line 52"/>
          <p:cNvSpPr/>
          <p:nvPr/>
        </p:nvSpPr>
        <p:spPr>
          <a:xfrm flipH="1" flipV="1">
            <a:off x="1904760" y="1447560"/>
            <a:ext cx="53316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53"/>
          <p:cNvSpPr/>
          <p:nvPr/>
        </p:nvSpPr>
        <p:spPr>
          <a:xfrm flipH="1">
            <a:off x="1904760" y="22096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54"/>
          <p:cNvSpPr/>
          <p:nvPr/>
        </p:nvSpPr>
        <p:spPr>
          <a:xfrm flipH="1">
            <a:off x="1828440" y="2286000"/>
            <a:ext cx="60948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Line 55"/>
          <p:cNvSpPr/>
          <p:nvPr/>
        </p:nvSpPr>
        <p:spPr>
          <a:xfrm flipH="1" flipV="1">
            <a:off x="1904760" y="4114440"/>
            <a:ext cx="53316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Line 56"/>
          <p:cNvSpPr/>
          <p:nvPr/>
        </p:nvSpPr>
        <p:spPr>
          <a:xfrm flipH="1">
            <a:off x="1904760" y="48769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57"/>
          <p:cNvSpPr/>
          <p:nvPr/>
        </p:nvSpPr>
        <p:spPr>
          <a:xfrm flipH="1">
            <a:off x="1904760" y="4876920"/>
            <a:ext cx="53316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Line 58"/>
          <p:cNvSpPr/>
          <p:nvPr/>
        </p:nvSpPr>
        <p:spPr>
          <a:xfrm flipV="1">
            <a:off x="6705720" y="1371240"/>
            <a:ext cx="60948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Line 59"/>
          <p:cNvSpPr/>
          <p:nvPr/>
        </p:nvSpPr>
        <p:spPr>
          <a:xfrm>
            <a:off x="6705720" y="19810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Line 60"/>
          <p:cNvSpPr/>
          <p:nvPr/>
        </p:nvSpPr>
        <p:spPr>
          <a:xfrm>
            <a:off x="6705720" y="1981080"/>
            <a:ext cx="6094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Line 61"/>
          <p:cNvSpPr/>
          <p:nvPr/>
        </p:nvSpPr>
        <p:spPr>
          <a:xfrm>
            <a:off x="6705720" y="1981080"/>
            <a:ext cx="609480" cy="1067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Line 62"/>
          <p:cNvSpPr/>
          <p:nvPr/>
        </p:nvSpPr>
        <p:spPr>
          <a:xfrm flipV="1">
            <a:off x="6934320" y="42670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Line 63"/>
          <p:cNvSpPr/>
          <p:nvPr/>
        </p:nvSpPr>
        <p:spPr>
          <a:xfrm>
            <a:off x="6934320" y="48769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Line 64"/>
          <p:cNvSpPr/>
          <p:nvPr/>
        </p:nvSpPr>
        <p:spPr>
          <a:xfrm>
            <a:off x="6934320" y="4952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4" descr=""/>
          <p:cNvPicPr/>
          <p:nvPr/>
        </p:nvPicPr>
        <p:blipFill>
          <a:blip r:embed="rId1"/>
          <a:stretch/>
        </p:blipFill>
        <p:spPr>
          <a:xfrm>
            <a:off x="298440" y="92160"/>
            <a:ext cx="8852040" cy="90792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7"/>
          <p:cNvSpPr/>
          <p:nvPr/>
        </p:nvSpPr>
        <p:spPr>
          <a:xfrm>
            <a:off x="380880" y="6248520"/>
            <a:ext cx="8305920" cy="30456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иагностика развития артистических способностей дет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11"/>
          <p:cNvSpPr/>
          <p:nvPr/>
        </p:nvSpPr>
        <p:spPr>
          <a:xfrm>
            <a:off x="380880" y="914400"/>
            <a:ext cx="8305920" cy="91440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.Последовательное знакомство детей с различными видами театр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.Поэтапное освоение детьми различных видов творчест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.Совершенствование артистических навыков детей посредством переживания и воплощен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раза в сказка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Rectangle 14"/>
          <p:cNvSpPr/>
          <p:nvPr/>
        </p:nvSpPr>
        <p:spPr>
          <a:xfrm>
            <a:off x="380880" y="2057400"/>
            <a:ext cx="8305920" cy="99072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.Инсценировка  песен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.Развлеч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.Фольклорные праздник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.Сказки, мюзиклы, театрализованные представл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Rectangle 15"/>
          <p:cNvSpPr/>
          <p:nvPr/>
        </p:nvSpPr>
        <p:spPr>
          <a:xfrm>
            <a:off x="380880" y="3352680"/>
            <a:ext cx="8305920" cy="83844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.Создание театрального коллекти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.Изготовление декораций, ширмы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.Изготовление костюмов персонаж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.Организация оркестр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16"/>
          <p:cNvSpPr/>
          <p:nvPr/>
        </p:nvSpPr>
        <p:spPr>
          <a:xfrm>
            <a:off x="380880" y="4419720"/>
            <a:ext cx="8305920" cy="68580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.Индивидуальные беседы с родителям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.Консультации для воспитател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.Сотрудничество с районными детскими садам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17"/>
          <p:cNvSpPr/>
          <p:nvPr/>
        </p:nvSpPr>
        <p:spPr>
          <a:xfrm>
            <a:off x="380880" y="5257800"/>
            <a:ext cx="8305920" cy="83808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.Поиск высокохудожественных музыкальных произведений для аранжировк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еатральных представлен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.Изучение русских народных иг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Line 25"/>
          <p:cNvSpPr/>
          <p:nvPr/>
        </p:nvSpPr>
        <p:spPr>
          <a:xfrm>
            <a:off x="4419720" y="3124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Line 27"/>
          <p:cNvSpPr/>
          <p:nvPr/>
        </p:nvSpPr>
        <p:spPr>
          <a:xfrm>
            <a:off x="4495680" y="51055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Line 29"/>
          <p:cNvSpPr/>
          <p:nvPr/>
        </p:nvSpPr>
        <p:spPr>
          <a:xfrm>
            <a:off x="4419720" y="6172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Line 25"/>
          <p:cNvSpPr/>
          <p:nvPr/>
        </p:nvSpPr>
        <p:spPr>
          <a:xfrm>
            <a:off x="4419720" y="4267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8" name="Прямая со стрелкой 24"/>
          <p:cNvCxnSpPr/>
          <p:nvPr/>
        </p:nvCxnSpPr>
        <p:spPr>
          <a:xfrm flipH="1">
            <a:off x="4343040" y="1828440"/>
            <a:ext cx="2160" cy="22788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Прямоугольник 4"/>
          <p:cNvSpPr/>
          <p:nvPr/>
        </p:nvSpPr>
        <p:spPr>
          <a:xfrm>
            <a:off x="1447920" y="380880"/>
            <a:ext cx="6705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e58b6"/>
                </a:solidFill>
                <a:latin typeface="Arial"/>
              </a:rPr>
              <a:t>СПАСИБО ЗА ВНИМ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0" name="Picture 6" descr="http://rostov-rekomenduyu.ru/media/com_jvld/images/photos/j1422903787317_d182d0.jpg"/>
          <p:cNvPicPr/>
          <p:nvPr/>
        </p:nvPicPr>
        <p:blipFill>
          <a:blip r:embed="rId1"/>
          <a:stretch/>
        </p:blipFill>
        <p:spPr>
          <a:xfrm>
            <a:off x="1066680" y="1371600"/>
            <a:ext cx="6667560" cy="4619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4"/>
          <p:cNvSpPr/>
          <p:nvPr/>
        </p:nvSpPr>
        <p:spPr>
          <a:xfrm>
            <a:off x="457200" y="1223280"/>
            <a:ext cx="8305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Это хорошая возможность раскрытия творческого потенциала ребенка, воспитания творческой направленности личности. Дети учатся воплощать интересные идеи , создавать свой художественный образ любимого персонажа, у них развивается творческое воображение, ассоциативное мышление, речь, умение видеть необычные моменты в обыденн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Театрализованная деятельность помогает ребенку преодолеть робость, неуверенность в себе, застенчив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Таким образом, театр помогает ребенку развиваться всесторонн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Rectangle 5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837720" y="1218960"/>
            <a:ext cx="7620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нятие театрализованной деятельностью в детском саду помогает ребенку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ысить общую культуру, приобщить к духовным ценностям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накомить с детской литературой, музыкой, изобразительным искусством, правилами этикета, обрядами, традициями, привить интерес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ть элементарные представления о видах театр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ершенствовать навык воплощения в игре эмоциональных переживаний, побудить к созданию новых образов, к мышлени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ь игровое поведение, эстетическое чувство, способность творчески относиться к любому делу, умение общаться со сверстниками и взрослыми, развитию сценического творчества , музыкальных и артистических способностей 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47" name="Rectangle 4" descr=""/>
          <p:cNvPicPr/>
          <p:nvPr/>
        </p:nvPicPr>
        <p:blipFill>
          <a:blip r:embed="rId1"/>
          <a:stretch/>
        </p:blipFill>
        <p:spPr>
          <a:xfrm>
            <a:off x="755640" y="-6480"/>
            <a:ext cx="7785000" cy="1030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Rectangle 23" descr=""/>
          <p:cNvPicPr/>
          <p:nvPr/>
        </p:nvPicPr>
        <p:blipFill>
          <a:blip r:embed="rId1"/>
          <a:stretch/>
        </p:blipFill>
        <p:spPr>
          <a:xfrm>
            <a:off x="682560" y="-6480"/>
            <a:ext cx="80899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349" name="Diagram 18"/>
          <p:cNvGrpSpPr/>
          <p:nvPr/>
        </p:nvGrpSpPr>
        <p:grpSpPr>
          <a:xfrm>
            <a:off x="2143080" y="1606680"/>
            <a:ext cx="4554360" cy="4711320"/>
            <a:chOff x="2143080" y="1606680"/>
            <a:chExt cx="4554360" cy="4711320"/>
          </a:xfrm>
        </p:grpSpPr>
        <p:sp>
          <p:nvSpPr>
            <p:cNvPr id="350" name="_s1028"/>
            <p:cNvSpPr/>
            <p:nvPr/>
          </p:nvSpPr>
          <p:spPr>
            <a:xfrm flipH="1" flipV="1">
              <a:off x="3611160" y="3126960"/>
              <a:ext cx="403920" cy="419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_s1029"/>
            <p:cNvSpPr/>
            <p:nvPr/>
          </p:nvSpPr>
          <p:spPr>
            <a:xfrm>
              <a:off x="2642760" y="2125080"/>
              <a:ext cx="1137240" cy="1176840"/>
            </a:xfrm>
            <a:prstGeom prst="ellipse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ЛЕП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_s1030"/>
            <p:cNvSpPr/>
            <p:nvPr/>
          </p:nvSpPr>
          <p:spPr>
            <a:xfrm flipH="1">
              <a:off x="3276720" y="3961440"/>
              <a:ext cx="57276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_s1031"/>
            <p:cNvSpPr/>
            <p:nvPr/>
          </p:nvSpPr>
          <p:spPr>
            <a:xfrm>
              <a:off x="2143080" y="3373920"/>
              <a:ext cx="1137240" cy="1176840"/>
            </a:xfrm>
            <a:prstGeom prst="ellipse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ФИЗИЧЕСКОЕ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ВОСПИТАНИЕ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_s1032"/>
            <p:cNvSpPr/>
            <p:nvPr/>
          </p:nvSpPr>
          <p:spPr>
            <a:xfrm flipH="1">
              <a:off x="3610800" y="4377600"/>
              <a:ext cx="405720" cy="418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_s1033"/>
            <p:cNvSpPr/>
            <p:nvPr/>
          </p:nvSpPr>
          <p:spPr>
            <a:xfrm>
              <a:off x="2642760" y="4622760"/>
              <a:ext cx="1137240" cy="1176840"/>
            </a:xfrm>
            <a:prstGeom prst="ellipse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ХУДОЖЕСТВЕННАЯ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ЛИТЕРАТУРА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_s1034"/>
            <p:cNvSpPr/>
            <p:nvPr/>
          </p:nvSpPr>
          <p:spPr>
            <a:xfrm>
              <a:off x="4417920" y="4548600"/>
              <a:ext cx="1440" cy="592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_s1035"/>
            <p:cNvSpPr/>
            <p:nvPr/>
          </p:nvSpPr>
          <p:spPr>
            <a:xfrm>
              <a:off x="3850200" y="5141520"/>
              <a:ext cx="1136880" cy="1176480"/>
            </a:xfrm>
            <a:prstGeom prst="ellipse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РИСОВАНИ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_s1036"/>
            <p:cNvSpPr/>
            <p:nvPr/>
          </p:nvSpPr>
          <p:spPr>
            <a:xfrm>
              <a:off x="4820400" y="4375800"/>
              <a:ext cx="403920" cy="419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_s1037"/>
            <p:cNvSpPr/>
            <p:nvPr/>
          </p:nvSpPr>
          <p:spPr>
            <a:xfrm>
              <a:off x="5058720" y="4624920"/>
              <a:ext cx="1136880" cy="1176480"/>
            </a:xfrm>
            <a:prstGeom prst="ellipse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ahoma"/>
                </a:rPr>
                <a:t>КОНСТРУИРОВАНИЕ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РУЧНОЙ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ТРУД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_s1038"/>
            <p:cNvSpPr/>
            <p:nvPr/>
          </p:nvSpPr>
          <p:spPr>
            <a:xfrm>
              <a:off x="4985280" y="3961440"/>
              <a:ext cx="5727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_s1039"/>
            <p:cNvSpPr/>
            <p:nvPr/>
          </p:nvSpPr>
          <p:spPr>
            <a:xfrm>
              <a:off x="5560560" y="3373920"/>
              <a:ext cx="1136880" cy="1176840"/>
            </a:xfrm>
            <a:prstGeom prst="ellipse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МУЗЫКАЛЬНОЕ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ВОСПИТАНИЕ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_s1040"/>
            <p:cNvSpPr/>
            <p:nvPr/>
          </p:nvSpPr>
          <p:spPr>
            <a:xfrm flipV="1">
              <a:off x="4818240" y="3126960"/>
              <a:ext cx="405720" cy="419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_s1041"/>
            <p:cNvSpPr/>
            <p:nvPr/>
          </p:nvSpPr>
          <p:spPr>
            <a:xfrm>
              <a:off x="5058720" y="2123280"/>
              <a:ext cx="1136880" cy="1176480"/>
            </a:xfrm>
            <a:prstGeom prst="ellipse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РАЗВИТИЕ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РЕЧИ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_s1042"/>
            <p:cNvSpPr/>
            <p:nvPr/>
          </p:nvSpPr>
          <p:spPr>
            <a:xfrm flipV="1">
              <a:off x="4417920" y="2781000"/>
              <a:ext cx="0" cy="594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_s1043"/>
            <p:cNvSpPr/>
            <p:nvPr/>
          </p:nvSpPr>
          <p:spPr>
            <a:xfrm>
              <a:off x="3850200" y="1606680"/>
              <a:ext cx="1136880" cy="1176480"/>
            </a:xfrm>
            <a:prstGeom prst="ellipse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РЭМП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_s1044"/>
            <p:cNvSpPr/>
            <p:nvPr/>
          </p:nvSpPr>
          <p:spPr>
            <a:xfrm>
              <a:off x="3850200" y="3375720"/>
              <a:ext cx="1136880" cy="1176480"/>
            </a:xfrm>
            <a:prstGeom prst="ellipse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e58b6"/>
                  </a:solidFill>
                  <a:latin typeface="Tahoma"/>
                </a:rPr>
                <a:t>ТЕАТРАЛИЗОВАННАЯ 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e58b6"/>
                  </a:solidFill>
                  <a:latin typeface="Tahoma"/>
                </a:rPr>
                <a:t>ДЕЯТЕЛЬНОСТЬ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304920" y="15235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 algn="just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e58b6"/>
                </a:solidFill>
                <a:latin typeface="Times New Roman"/>
                <a:ea typeface="Times New Roman"/>
              </a:rPr>
              <a:t>Театральная игра</a:t>
            </a:r>
            <a:endParaRPr b="0" lang="en-US" sz="18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Задачи: Учить детей ориентироваться в пространстве, равномерно размещаться в музыкальном зале, строить диалог со сверстником на заданную тему. Запоминать слова героев спектаклей, развивать зрительное слуховое внимание, память, наблюдательность, образное мышление, фантазию, воображение, интерес к сценическому искусству. </a:t>
            </a:r>
            <a:endParaRPr b="0" lang="en-US" sz="18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 algn="just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e58b6"/>
                </a:solidFill>
                <a:latin typeface="Times New Roman"/>
                <a:ea typeface="Times New Roman"/>
              </a:rPr>
              <a:t>Ритмопластика</a:t>
            </a:r>
            <a:endParaRPr b="0" lang="en-US" sz="18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Задачи: Развивать умение произвольно реагировать на команду или музыкальный сигнал, готовность действовать согласовано, развивать координацию движения, учить запоминать заданные позы и образно передавать их.</a:t>
            </a:r>
            <a:endParaRPr b="0" lang="en-US" sz="18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 algn="just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e58b6"/>
                </a:solidFill>
                <a:latin typeface="Times New Roman"/>
                <a:ea typeface="Times New Roman"/>
              </a:rPr>
              <a:t>Основы театральной культуры </a:t>
            </a:r>
            <a:endParaRPr b="0" lang="en-US" sz="18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Задачи:</a:t>
            </a:r>
            <a:r>
              <a:rPr b="1" lang="ru-RU" sz="1800" spc="-1" strike="noStrike" u="sng">
                <a:solidFill>
                  <a:srgbClr val="fefac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Познакомить детей с театральной терминологией, с основными видами театрального искусства, воспитывать культуру поведения в на сцене и в театре.</a:t>
            </a:r>
            <a:endParaRPr b="0" lang="en-US" sz="18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 algn="just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e58b6"/>
                </a:solidFill>
                <a:latin typeface="Times New Roman"/>
                <a:ea typeface="Times New Roman"/>
              </a:rPr>
              <a:t>Работа над сказкой</a:t>
            </a:r>
            <a:endParaRPr b="0" lang="en-US" sz="18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Задачи: Развивать умение пользоваться интонациями, выражающими разнообразные эмоциональные состояния (грустно, радостно, сердито, удивленно, восхищённо, жалобно и т.д.).</a:t>
            </a:r>
            <a:endParaRPr b="0" lang="en-US" sz="18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68" name="Rectangle 2" descr=""/>
          <p:cNvPicPr/>
          <p:nvPr/>
        </p:nvPicPr>
        <p:blipFill>
          <a:blip r:embed="rId1"/>
          <a:stretch/>
        </p:blipFill>
        <p:spPr>
          <a:xfrm>
            <a:off x="378000" y="-281160"/>
            <a:ext cx="8242200" cy="1354320"/>
          </a:xfrm>
          <a:prstGeom prst="rect">
            <a:avLst/>
          </a:prstGeom>
          <a:ln w="0">
            <a:noFill/>
          </a:ln>
        </p:spPr>
      </p:pic>
      <p:sp>
        <p:nvSpPr>
          <p:cNvPr id="369" name="Прямоугольник 3"/>
          <p:cNvSpPr/>
          <p:nvPr/>
        </p:nvSpPr>
        <p:spPr>
          <a:xfrm>
            <a:off x="457200" y="3808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58b6"/>
                </a:solidFill>
                <a:latin typeface="Arial"/>
              </a:rPr>
              <a:t>Основные направления  работы с деть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837720" y="1523880"/>
            <a:ext cx="80773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Выбирая материал для инсценировки, нужно отталкиваться от возрастных возможностей, знаний и умений детей, обогащать их жизненный опыт, побуждать интерес к новым знаниям, расширять творческий потенциал: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Совместная театрализованная деятельность взрослых и детей, театральное занятие, театрализованная игра на праздниках и развлечениях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Самостоятельная театрально-художественная деятельность, театрализованные игра в повседневной жизн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Мини-игры на занятиях, посещение детьми театров совместно с родителями, мини-сценки с куклами в ходе изучения инсценировки с детьми, привлечение куклы - Петрушки в решение познавательных  задач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71" name="Rectangle 2" descr=""/>
          <p:cNvPicPr/>
          <p:nvPr/>
        </p:nvPicPr>
        <p:blipFill>
          <a:blip r:embed="rId1"/>
          <a:stretch/>
        </p:blipFill>
        <p:spPr>
          <a:xfrm>
            <a:off x="682560" y="208080"/>
            <a:ext cx="8242200" cy="1218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Театральные игры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Речевые игры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Ритмопластик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Инсценировка песен, попевок, хороводов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Использование различных видов театр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Драматизация сказок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Посещение театров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Взаимодействие с родителям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73" name="Rectang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бибабо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настольный театр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театр на фланелеграфе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книжка-театр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театр на ширме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театр масок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пальчиковый театр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магнитный театр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450720" y="53028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6094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В музыкальном зале организован уголок для  театрализованных представлений, спектаклей. В нем отводится место для игр с пальчиковым, настольным театром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e58b6"/>
                </a:solidFill>
                <a:latin typeface="Constantia"/>
              </a:rPr>
              <a:t>В уголке располагаются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07680" indent="-259200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fac9"/>
                </a:solidFill>
                <a:latin typeface="Constantia"/>
              </a:rPr>
              <a:t>различные виды театров: бибабо, настольный, театр на фланелеграфе и др.;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07680" indent="-259200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fac9"/>
                </a:solidFill>
                <a:latin typeface="Constantia"/>
              </a:rPr>
              <a:t>реквизит для разыгрывания сценок и спектаклей: набор кукол, ширмы для кукольного театра, костюмы, элементы костюмов, маски;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07680" indent="-259200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fac9"/>
                </a:solidFill>
                <a:latin typeface="Constantia"/>
              </a:rPr>
              <a:t>атрибуты для различных игровых позиций: театральный реквизит,  декорации, сценарии, книги, образцы музыкальных произведений. 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804960" y="85680"/>
            <a:ext cx="8028000" cy="1596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7:11:15Z</dcterms:created>
  <dc:creator>USER</dc:creator>
  <dc:description/>
  <dc:language>en-US</dc:language>
  <cp:lastModifiedBy>NRJ</cp:lastModifiedBy>
  <dcterms:modified xsi:type="dcterms:W3CDTF">2015-08-30T09:26:11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