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63F-A34D-43F3-B557-7077483A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341-2C5D-4C53-B9E5-FD718BFD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30B-C587-4335-83B6-51CE2C66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996-48A6-4E2A-8F2D-FADA7778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95DB-0ACC-43BC-96F1-764FB825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243B-ED19-45E8-9386-BE9AC1F5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C2D3-255D-4249-AF60-DEBF9E92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128A-EACB-4C5C-A9EA-BC15848C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8E38-1B48-4D99-B414-96802CB2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5AF3-BCE8-46AA-8F2A-60333C3E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900E-E764-4350-BE7F-A1B304BF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1B2-0F14-4926-B605-90760C7A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B685-C173-48F1-8DCF-13CC5DBB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5882-C0E3-42A6-884A-3B6BBD5C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62A5-3085-4D45-8BFD-E2DC90D2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4ACB-59F5-4D79-9B22-06FB66D7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F904-D620-4EB9-88C2-5BB06313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5BBC0-0EC3-4FCA-9FE8-689EA76E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BF832-7121-4E35-90EA-AD8416E5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AC94F-6F14-4AE8-BE78-FF8FB30C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C8B3D-AC42-417A-8C74-589EA6C6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C67C3-7399-4805-8310-0876754A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E8C-C1C4-432E-8C17-93C04422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C70A8-2B03-4B6B-B214-E3A6F33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1729B-1C0A-4515-9FC4-23485DCD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951CA-CF00-4D16-B486-9DDED29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4C7A4-DF34-489E-A9F4-C3E5DF0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3BECD-B218-4FFC-A5AF-4436CEA8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5B713-3497-42BC-9132-E3AAB5E9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646FF-267D-43B8-807B-48DC9A3B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0AA80-7FE9-4E30-8A44-59698FBA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4CD7-A00E-435E-81B5-F4A4530E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515B-5D1B-4404-9541-DE257AE2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2B1-357C-4A85-B0A1-CB7ABACF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5521-6470-4DD9-A48E-D1872611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157D4-4F68-45BE-978A-1A9F2FE8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CB124-EB8C-4058-B55B-B1655766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0CB2-DD2B-4763-ADED-3882501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9CD2F-2F7B-4287-9E3A-E632233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C1ED-5EC5-494F-86B0-C6B8C8B4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F84E-A889-45B4-BCC8-B881412F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44E1-5EDC-4262-AA5F-2762C5FE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36AD4-34F7-4CDC-BDBA-0C4E6AA5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2321A7-CF76-4B4C-BC00-0ED3CB48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561-B1EE-423D-A024-BDC14377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A3B89-52A3-42D7-9607-61AE569A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0082F-0DC0-4429-961B-00D1B48D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DE2252-4300-4DE1-95A6-DDFFF74F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F4B29-C1B6-4430-A3E6-1EB2C83C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BA7FE7-DEE6-4683-9BE9-C06923A8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2C5108-0255-490B-B367-160F46A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361D0B-F68B-4856-8927-008FA840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0B2BCF-6CC3-4F1F-A8E3-B94B6FF2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905341-F6A7-46BE-ACC8-BA1AB921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90A5A6-ED0B-4E95-86F0-04E1213D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097-6AB0-47C7-9680-DA09C8EC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115CE1-7392-40EF-885C-12350337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AA5D1-79F3-4191-8271-FFA12FCD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98C95-4B63-434C-A611-DA163F41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8FDE0-2769-45CE-9D34-26505E65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C9419-4640-4E2D-8A1A-FECDF704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E209B-AD15-41E5-961B-133C9D71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D3A2C-E32F-4986-9F65-B8292D3E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DECC2-DA1B-4700-9492-08E9AE35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13C5F-A931-4E78-8533-A3B385B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230BF-0431-43F0-81C1-050B24EA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55A-C39B-4203-826E-DC1DE43B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A051E-D0A4-434D-A22E-C9ED1A2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7B119-D775-4E7B-8332-A5434C05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DC6929-8E89-430A-A2A3-B8F0AA87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F6DF9-B35A-40CA-A0DD-C9BF8ACD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70A3C-3670-47E2-9356-F94A6821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2737-B181-4933-8887-A68745A8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23327-4384-494D-989D-8CDE3A50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513BC-67F4-4BC4-8D0A-7453AF91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776B-4E8D-41A3-8FB8-04631981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481A9-CD71-4B64-8E24-706B1970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764-AC55-4A78-8E52-6AA87996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C411E-2B73-4814-B56E-11D65AB0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43F39-3049-46D8-AF13-D05E5347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50864-70B8-433B-AF14-464E1F91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E2B0-13D0-4B52-A896-9BEA8F05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4C08A-79E0-4F14-BB9A-7E0E1C49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59D8ED-66F3-43F2-97CF-C1A8073F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A0279D-C21E-47CD-AC79-9F3DBF9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FE14ED-DB68-472C-BA28-BD17A627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23F605-412F-4F46-9527-AF5C2A75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387A4-0F49-4D52-90CF-6CC32AC3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553-85C7-4E9E-998C-9E5B3593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BC208-86AD-4599-A06E-64588E30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815119-D2D5-49D1-801B-83A2BAA0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C88E7-5F66-47DF-B63E-5B68C83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E5F91A-912A-4EA7-845A-CD3595C4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1BE632-931F-475E-A760-AE417600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0E600E-02F1-483F-9B7D-14AE15AA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B4AB08-0694-47C0-9A1D-67E1B3A0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B12-0EFE-46E7-B34E-41E53D330DC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EFE6-2860-4057-AC93-CCBF24F7A9C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5134-BA8D-446B-9662-4920025B70E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0A45-6C32-4ECF-BC30-5611D562A09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349-34B8-40F8-8427-1F4A01714CE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DE97-AF70-401A-8A6D-84AAF354F39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8E46-CDB7-4D18-9C03-A8C89BAC96B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EB9D-3358-4190-983A-092F69E187B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4920" y="56386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efac9"/>
                </a:solidFill>
                <a:latin typeface="Monotype Corsiva"/>
              </a:rPr>
              <a:t>Работу выполнена воспитатель МАДОУ города Нижневартовск детский сад №17 «Ладушки»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efac9"/>
                </a:solidFill>
                <a:latin typeface="Monotype Corsiva"/>
              </a:rPr>
              <a:t>Гольцова Е.Н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1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212760"/>
            <a:ext cx="8601120" cy="1317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5"/>
          <p:cNvSpPr/>
          <p:nvPr/>
        </p:nvSpPr>
        <p:spPr>
          <a:xfrm>
            <a:off x="457200" y="152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http://xn--80abf6acpd4b4b.xn--p1ai/photos/med/3729_37828gori6.jpg"/>
          <p:cNvPicPr/>
          <p:nvPr/>
        </p:nvPicPr>
        <p:blipFill>
          <a:blip r:embed="rId2"/>
          <a:stretch/>
        </p:blipFill>
        <p:spPr>
          <a:xfrm>
            <a:off x="762120" y="1828800"/>
            <a:ext cx="7754760" cy="36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733920" y="12193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ac9"/>
                </a:solidFill>
                <a:latin typeface="Constantia"/>
              </a:rPr>
              <a:t>Схема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9" name="Rectangle 4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626320" cy="100620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25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28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29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30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31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32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33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34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35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36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37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38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39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40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41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42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43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44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46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48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49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50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51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2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3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4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55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56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57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58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59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60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61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62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63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64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4" descr=""/>
          <p:cNvPicPr/>
          <p:nvPr/>
        </p:nvPicPr>
        <p:blipFill>
          <a:blip r:embed="rId1"/>
          <a:stretch/>
        </p:blipFill>
        <p:spPr>
          <a:xfrm>
            <a:off x="298440" y="92160"/>
            <a:ext cx="8852040" cy="9079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380880" y="6248520"/>
            <a:ext cx="8305920" cy="30456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380880" y="914400"/>
            <a:ext cx="8305920" cy="9144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80880" y="2057400"/>
            <a:ext cx="8305920" cy="99072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Развлеч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Фольклорные праздн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Сказки, мюзиклы, театрализованные предст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380880" y="3352680"/>
            <a:ext cx="8305920" cy="8384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Изготовление декораций, ширм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Изготовление костюмов персонаж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380880" y="4419720"/>
            <a:ext cx="8305920" cy="6858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Сотрудничество с районными детскими сад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380880" y="5257800"/>
            <a:ext cx="8305920" cy="8380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Изучение русских народных иг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5"/>
          <p:cNvSpPr/>
          <p:nvPr/>
        </p:nvSpPr>
        <p:spPr>
          <a:xfrm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7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9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41972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8" name="Прямая со стрелкой 24"/>
          <p:cNvCxnSpPr/>
          <p:nvPr/>
        </p:nvCxnSpPr>
        <p:spPr>
          <a:xfrm flipH="1">
            <a:off x="4343040" y="1828440"/>
            <a:ext cx="2160" cy="227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58b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6" descr="http://rostov-rekomenduyu.ru/media/com_jvld/images/photos/j1422903787317_d182d0.jpg"/>
          <p:cNvPicPr/>
          <p:nvPr/>
        </p:nvPicPr>
        <p:blipFill>
          <a:blip r:embed="rId1"/>
          <a:stretch/>
        </p:blipFill>
        <p:spPr>
          <a:xfrm>
            <a:off x="1066680" y="1371600"/>
            <a:ext cx="666756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457200" y="122328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воплощать интересные идеи , создавать свой художественный образ любимого персонажа, 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Rectangle 5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7720" y="12189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е театрализованной деятельностью в детском саду помогает ребенку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сить общую культуру, приобщить к духовным ценностям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с детской литературой, музыкой, изобразительным искусством, правилами этикета, обрядами, традициями, привить интерес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ь элементарные представления о видах театр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овать навык воплощения в игре эмоциональных переживаний, побудить к созданию новых образов, к мышлени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ь игровое поведение, эстетическое чувство, способность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7" name="Rectangle 4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7785000" cy="1030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3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8089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49" name="Diagram 18"/>
          <p:cNvGrpSpPr/>
          <p:nvPr/>
        </p:nvGrpSpPr>
        <p:grpSpPr>
          <a:xfrm>
            <a:off x="2143080" y="1606680"/>
            <a:ext cx="4554360" cy="4711320"/>
            <a:chOff x="2143080" y="1606680"/>
            <a:chExt cx="4554360" cy="4711320"/>
          </a:xfrm>
        </p:grpSpPr>
        <p:sp>
          <p:nvSpPr>
            <p:cNvPr id="350" name="_s1028"/>
            <p:cNvSpPr/>
            <p:nvPr/>
          </p:nvSpPr>
          <p:spPr>
            <a:xfrm flipH="1" flipV="1">
              <a:off x="3611160" y="3126960"/>
              <a:ext cx="4039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_s1029"/>
            <p:cNvSpPr/>
            <p:nvPr/>
          </p:nvSpPr>
          <p:spPr>
            <a:xfrm>
              <a:off x="2642760" y="2125080"/>
              <a:ext cx="1137240" cy="117684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_s1030"/>
            <p:cNvSpPr/>
            <p:nvPr/>
          </p:nvSpPr>
          <p:spPr>
            <a:xfrm flipH="1">
              <a:off x="3276720" y="3961440"/>
              <a:ext cx="5727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_s1031"/>
            <p:cNvSpPr/>
            <p:nvPr/>
          </p:nvSpPr>
          <p:spPr>
            <a:xfrm>
              <a:off x="2143080" y="3373920"/>
              <a:ext cx="1137240" cy="117684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_s1032"/>
            <p:cNvSpPr/>
            <p:nvPr/>
          </p:nvSpPr>
          <p:spPr>
            <a:xfrm flipH="1">
              <a:off x="3610800" y="4377600"/>
              <a:ext cx="405720" cy="418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_s1033"/>
            <p:cNvSpPr/>
            <p:nvPr/>
          </p:nvSpPr>
          <p:spPr>
            <a:xfrm>
              <a:off x="2642760" y="4622760"/>
              <a:ext cx="1137240" cy="117684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4417920" y="4548600"/>
              <a:ext cx="1440" cy="592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_s1035"/>
            <p:cNvSpPr/>
            <p:nvPr/>
          </p:nvSpPr>
          <p:spPr>
            <a:xfrm>
              <a:off x="3850200" y="514152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_s1036"/>
            <p:cNvSpPr/>
            <p:nvPr/>
          </p:nvSpPr>
          <p:spPr>
            <a:xfrm>
              <a:off x="4820400" y="4375800"/>
              <a:ext cx="4039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_s1037"/>
            <p:cNvSpPr/>
            <p:nvPr/>
          </p:nvSpPr>
          <p:spPr>
            <a:xfrm>
              <a:off x="5058720" y="462492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_s1038"/>
            <p:cNvSpPr/>
            <p:nvPr/>
          </p:nvSpPr>
          <p:spPr>
            <a:xfrm>
              <a:off x="4985280" y="3961440"/>
              <a:ext cx="572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1039"/>
            <p:cNvSpPr/>
            <p:nvPr/>
          </p:nvSpPr>
          <p:spPr>
            <a:xfrm>
              <a:off x="5560560" y="3373920"/>
              <a:ext cx="1136880" cy="117684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1040"/>
            <p:cNvSpPr/>
            <p:nvPr/>
          </p:nvSpPr>
          <p:spPr>
            <a:xfrm flipV="1">
              <a:off x="4818240" y="3126960"/>
              <a:ext cx="4057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_s1041"/>
            <p:cNvSpPr/>
            <p:nvPr/>
          </p:nvSpPr>
          <p:spPr>
            <a:xfrm>
              <a:off x="5058720" y="212328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1042"/>
            <p:cNvSpPr/>
            <p:nvPr/>
          </p:nvSpPr>
          <p:spPr>
            <a:xfrm flipV="1">
              <a:off x="4417920" y="2781000"/>
              <a:ext cx="0" cy="59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_s1043"/>
            <p:cNvSpPr/>
            <p:nvPr/>
          </p:nvSpPr>
          <p:spPr>
            <a:xfrm>
              <a:off x="3850200" y="160668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1044"/>
            <p:cNvSpPr/>
            <p:nvPr/>
          </p:nvSpPr>
          <p:spPr>
            <a:xfrm>
              <a:off x="3850200" y="337572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e58b6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e58b6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Театральная игра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Задачи: Учить детей ориентироваться в пространстве, равномерно размещаться в музыкальном зале, строить диалог со сверстником на заданную тему.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Ритмопластика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Основы театральной культуры 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Задачи:</a:t>
            </a:r>
            <a:r>
              <a:rPr b="1" lang="ru-RU" sz="1800" spc="-1" strike="noStrike" u="sng">
                <a:solidFill>
                  <a:srgbClr val="fefac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ознакомить детей с театральной терминологией, с основными видами театрального искусства, воспитывать культуру поведения в на сцене и в театре.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Работа над сказкой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Задачи: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378000" y="-281160"/>
            <a:ext cx="8242200" cy="135432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57200" y="380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58b6"/>
                </a:solidFill>
                <a:latin typeface="Arial"/>
              </a:rPr>
              <a:t>Основные направления  работы с деть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ини-игры на занятиях, посещение детьми театров совместно с родителями, мини-сценки с куклами в ходе изучения инсценировки с детьми, привлечение куклы - Петрушки в решение познавательных  задач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682560" y="208080"/>
            <a:ext cx="824220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альные иг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ечевые иг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итмопласти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раматизация сказо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осещение театр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заимодействие с родителям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бибаб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астольный теат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 на фланелеграф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нижка-теат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 на ширм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 масо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альчиковый театр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магнитный театр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музыкальном зале организован уголок для  театрализованных представлений, спектаклей. В нем отводится место для игр с пальчиковым, настольным театр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58b6"/>
                </a:solidFill>
                <a:latin typeface="Constantia"/>
              </a:rPr>
              <a:t>В уголке располагаются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различные виды театров: бибабо, настольный, театр на фланелеграфе и др.;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7680" indent="-25920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7680" indent="-25920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атрибуты для различных игровых позиций: театральный реквизит,  декорации, сценарии, книги, образцы музыкальных произведений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804960" y="85680"/>
            <a:ext cx="8028000" cy="1596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NRJ</cp:lastModifiedBy>
  <dcterms:modified xsi:type="dcterms:W3CDTF">2015-08-30T09:26:1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