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2D7-6526-4796-82F1-DC3B4D84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DE6-6745-4BB9-B49C-B17759D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892EC-718A-4BDA-A92A-C1D01A4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AC344-9119-4FE6-A194-C3B95D7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5FD0D-3A5F-4DAC-AC0B-E46C7BB3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882FA-0959-41DB-B604-0AC537DA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C4C08-B121-4EF0-A43E-24D980D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64D44-71E7-42FF-A3FA-D3B160CA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34D91-436F-46BC-90D6-6A997730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C8AF1-2D41-441B-9FEC-550F03F6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AC6F7-306B-495E-911D-EA1D96F7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115F1-2578-408C-95AC-4F3A1158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EB8-F8D5-4B20-BAF1-9C9BF5C5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9ABA0-2D65-4154-BCA4-5FA920C9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2921D-170A-4088-B128-97CB782F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A3B96-EC92-4F58-9ED1-CE8445AE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E9BA3-B488-4CA0-8E37-CB47B4BA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706D9-50B7-40C4-9AAC-B82FD07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7B2D0-1504-4CB4-BDCF-1546DE4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39B13-22BF-464F-8696-4B25D98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DC55E-5FA7-468A-838A-C691C564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CC8F5-204B-417E-8231-53175E98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0528D-52D3-42E7-8B9E-9AD39867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565-4488-4509-A3FF-246DF540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77F87-D373-41B2-A763-9F170845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E4C8-4B10-4081-9D58-88CCAC53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4680A-3BEC-443D-9947-6D09AB0B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38953-70A0-46AF-B9BE-7F4D9972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95009-349D-48B6-AEB9-EBEB0FE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0271D-7EEB-4794-B7E9-0E095255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8777B-6D48-4A5C-AD6C-75D955D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E9D06-18F0-473C-A5A9-379B365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CB360-8A2C-46E6-8DEA-54678F56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4AF50-2EB3-4254-9D24-67F73DF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9E5B-52FF-4BEB-9E76-267A6C3F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E5B2F-AE1F-43FD-9FFC-8F7DDCD7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50509-E6C1-4FF6-9C67-FA4C04B0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EEAFC-4C60-4843-B176-AA40E725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A6534-E4D9-4F13-8C41-8787836B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928D2-9266-4D80-8390-F1EB7CE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2EA89-6298-450F-993D-703408AD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59DD0-D399-495F-9F9E-086163DB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41424-EAF5-4FB7-8957-2C56A50B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702E8-BBE7-47FF-A601-52474FA4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172C2-81D5-4DF6-BE66-47A04B4E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0C71-DB30-4774-8635-F0048D59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F74CF-26D6-465D-8737-84A014F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95E55-0381-4CB4-B027-7F48D2D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B3EA4-33C4-4044-AF23-1E1B4F0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30473-33D0-4D88-9BD4-95816758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8F824-716F-4423-8F79-EA4F0178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3AE7A-1CAE-4943-8E6D-E20970E3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679D2-5B8B-4138-A69D-D758145E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0CE5F-5A25-450A-A655-CF7B6838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C7262-FCAD-44D7-B15F-541CB7AA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72697-7B8F-4D6F-A6FD-44384081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C96B-1AFA-4E75-B132-6642F30B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3BD17-821B-451C-90FB-6C469A2A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05679-F4BB-4BA8-B4D3-0A8E4F1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F5FB8-F1AB-496C-BF56-FA47B9D3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ED5FC-3D68-4CFC-9F0C-30A8E30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C094B-F154-4EFD-B1A5-ECF35DEE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0183F-8451-4055-A0BD-03C3B7E9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C9F6A-0BE7-4EF2-B507-DB46282C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0454A-2DB9-45CE-B8DE-9E93EA76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89AA6-09F2-41A8-9CC0-F46C6B55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39C37-2130-4C5D-B9BC-4BFFCA5A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B754-8A2D-4B38-99CE-346C740E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B34EB-A482-4576-B75F-318174E6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CD568-4AC4-4FB3-BF5E-B9BD5CE2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42264-7948-4912-A44E-D2D30999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A0B58-F3AF-49A4-86C7-F7ECAC3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CDE4C-1EF7-4F8A-B22B-AF21CDCE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B836A-B8D2-4826-A6E1-1B247A8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878D4-B4A3-43A3-A46C-C526456A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92E4C-D6F6-46E1-81D4-2D795C74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C216A-B78B-43A4-B7FB-C3709063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E9AC0-1982-441B-9CB2-EEAE86E6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2551-7BEF-4B75-92CC-B1DA1B3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B5B76-A2BE-4CF5-A5FC-09F167A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A5806-0ABE-4E31-ADE3-4CE47D1A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13B58-7EB0-481D-9901-E4EF4007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F4BB2-3779-4F39-9EFA-08AB74AC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FEB0D-6E0D-408E-9979-E3722E97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A29CF-20B9-4E76-9398-3988C59A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90B46-1862-4331-828D-41CF55DC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12871-B26C-456C-A116-A6C82EB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90A39-385C-4E53-95DE-FFED1959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97996-1D14-462D-84A8-7A3376CA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8831-5044-475E-A323-5FF8F1B5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8BAE7-58F2-4D89-9FED-734A9D50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0EDE6-5B65-4987-89D8-188B62CE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F3062-BD4B-4E83-A888-851B76C1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3F829-B658-4746-811A-3C126077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77793-C330-4E2C-9B08-EBE87A68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DC93D-845F-4B75-BC68-6B9B0E25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1C2BA-CF62-4364-9C0D-F2FCD62B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0FDCE-7E2A-4414-B5F5-05A55AA0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E7237-5E9E-4A1D-87AB-727B910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ED89E-1CE7-4FE8-BC8A-7E2A7B3E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2A84-95BD-4EF1-8977-C744B2D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63F08-996E-4CDE-A517-CE40F81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D6008-8E0E-489E-A9C1-86A6D7C1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09805-D41D-4F70-AE81-98AA7A6D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413DE-FF49-4581-B9C0-28BF202A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FB6AC-DB87-4C0F-B0FE-DD9008BC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A266C-82A0-49B5-B5B3-C0D41C5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60505-CC54-488D-8732-B49F811F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268DB-79EB-42DD-BB66-B03D8891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CDDD7-4D7E-46E1-9FC0-20B46109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82E34-8E5D-4FC0-8C15-B3693149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800-DC66-4AFD-9803-FD0B3948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BD8E-312F-4323-98E2-64DA5C7F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B6A4F-B053-409F-8AF7-5877910E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89F1F-5955-4142-BF3B-9F66E84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F7D9D-CF52-497A-A949-8C0AC85D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B32DC-7A61-487D-839C-5B77C66A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FE373-1BF9-4A90-B5FA-1C1615FB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4CAC-77FA-4E6A-86F6-DAF7172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F1A-99B7-466C-8866-59EC1973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9692-B67D-484D-BFA6-7B3F9D74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6F60-C0A2-4C7F-9CB7-2D039DC6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D04B-D9C5-4BE5-B5C3-023BE9B9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B379-6EFB-4E80-A38B-7BFF2C1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9CB0-3474-4891-BB29-FD5B9DD3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0F06-7F0B-487F-B4D7-91811205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7CFF-69C6-4EC5-9DB7-389D07C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D54-FDB3-402C-A969-F943E442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0BEB-8BB7-4E44-865D-3E36CB6E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B215-B82E-42CC-8923-1F67543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C0C0-6326-441A-896D-BF3A1E50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9B57-E670-4B68-BB35-EC46F126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ACF5-4CFC-4632-B787-81BFF61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88C6-3F6F-430D-8699-BAE43683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FEA1-2A7D-4358-90F9-B2F50630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1C26-E83F-44F5-85E5-BF6914FB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3A7B-E05A-4B69-B1F5-D065BE72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4D52F-EED7-4F2C-9C86-6F56D98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E3B-E11D-44C2-AF5F-71DC95A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E6FFF-1A81-4865-A6FE-D6353623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28AF-5E44-498C-8661-47815E44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2C31-C3B2-4D9D-86BE-F4AB7FC5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28A8-70D1-4A48-BE19-8FC7675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FF44-D387-48D3-958A-DD1F76A5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B544-D135-4EDA-90A8-21CA0BEF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871A-2C72-4D72-9580-00B47741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C951-7126-46E2-A32E-B6C7BB61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7F14A-8297-4E25-BA55-5AD49803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334C-8CFC-4525-9D37-50D0F0B3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041-B516-4762-BF17-21489EE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1DC7-2AD3-472C-ACF5-7FC590FE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0398-684A-4F04-B0E8-F8AB9258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EFE4-D286-4552-85FF-BF17F44C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8D82-6CC8-41FD-A853-702AAFBB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9134-58BC-4B92-9FAB-80C4470F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81B8-E9D4-435E-B002-1D3E353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AA4F-A34E-4AC8-8A80-4086BEB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77D53-906B-4CD4-A182-8BA3BA3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4B557-4E20-42FB-A190-0A397F7C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22DC-26AC-4AAC-BFEE-F19FD096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834-347F-4A18-971D-1B8286C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9101-07B3-4F31-A077-90F97C8C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5B57-BBE9-4923-8CFA-A8904F2C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6C75-2D3C-467E-B08E-23C43FFF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93A9-759B-4605-B859-061A0B37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1DD5C-B942-4090-8F82-EDBE85C4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3D46C-A8A7-433B-A9DA-3164752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A6028-9B30-4ADC-A87C-4764A58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CAEFE-780C-4D55-A779-EE04B3C1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C15F2-1B3A-46C4-94A2-FAD9F81B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DAD1-6705-484B-8514-3386A4B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3EE-AA48-4ADF-8579-8885D1F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025A-2A04-4EE6-8810-90EA3B1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8F66-38E3-4AD0-9AF5-3028C5AE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87443-AB20-4356-9F23-2653FDAF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7893B-3178-435C-99A6-CC1571CA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3955-AB8A-45E2-AA0A-119465E0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8C033-4CEE-4989-ACBC-96F6D8E6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48CDF-3745-418D-8D13-5EE21DD4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FA3FE-CCD1-4BD8-80F5-A4B47E38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01E39-45E2-4E45-926C-17AA1D26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A15EF-83D6-45F8-BE7C-D22491A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9CB-63A5-440C-9E8E-B521E9F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E16EA-DF1C-4F61-A217-958B5093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31DAE-AD70-4CA5-880C-1B50846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FCCA2-4E16-47DD-BE29-FFD5923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B18E-C23F-4B33-8D2A-6B04D41B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2022C-8BE2-4426-9F5D-5A10BC6F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89518-8418-445F-A435-8A0A80A4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9BB1-D7BF-4AB0-9B1A-B6D8321F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395FF-FD73-4C2C-8E52-73A89247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44B4-7804-4B66-9151-44FCD88D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18860-6A8F-4058-BDBE-33D31D7D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930-8F7B-40F0-A1F7-E77777E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B5C0D-E026-4982-92BA-F3045752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38DE-4942-47EB-9CAA-C95CBA55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03FCF-1B72-467A-8C3B-3CB41897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9909-5F19-4D62-B5C1-8507516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21B2C-22E2-48BA-82ED-B8790789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275AA-794A-4847-9DBF-E32A63FD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9FDB1-6F8D-4645-93B4-599D63B3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E49E2-D8D0-457B-B17E-999DA61F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C5F16-1267-4DCF-BBFB-762FAB1D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52D70-48E1-480E-972D-12A5EADA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572D8C-D02B-44A8-BB8F-3322CD40FC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BC29FB-C86F-4F2E-A032-4CBBC298CE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F3B509-16B8-4966-ACDA-0BA8DBE093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EE49BF-CC43-43F0-A908-A8DC60F3C9B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CB9D98-D634-4D8D-93C0-6BF92F5FA55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8D099F-BCB9-48A9-9A0E-D5BEBB0338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93215F-E1AA-491C-8757-91620A192C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B2DA73-C143-4DA2-B6DA-4B49D4A026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19ED8B-1A6D-450E-BC37-1829DE1522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9DE83C-BFAA-4A38-8558-6C21323DA4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B6FB7B-720C-4D0B-9ABE-98EB73F0FD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B1EFCA-6A32-49B5-92AD-2218DA2F02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7863C6-42D0-4C40-AE89-65CFC89A67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65285E-92CE-4410-A585-6460209829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1209A5-B143-4BF6-AB78-58AF887ECE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0C7FFC-471C-473F-AA54-17B2D2291B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889E09-78B8-48D9-BE62-783869189F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027160" y="463680"/>
            <a:ext cx="8912160" cy="128088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MingLiU_HKSCS-ExtB"/>
              </a:rPr>
              <a:t>«Ударные и безударные слоги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2038320" y="2000160"/>
          <a:ext cx="8915400" cy="428652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106704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втор: Цыбульская Наталья Александров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3816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. о. Балаши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6032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БОУ «Школа № 30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6032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олжность: учитель начальных клас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60680">
                <a:tc>
                  <a:txBody>
                    <a:bodyPr lIns="77400" rIns="77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7400" marR="77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232000" y="37908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TextBox 6"/>
          <p:cNvSpPr/>
          <p:nvPr/>
        </p:nvSpPr>
        <p:spPr>
          <a:xfrm>
            <a:off x="1163520" y="2316240"/>
            <a:ext cx="2984760" cy="106884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й слог ударны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Заголовок 8"/>
          <p:cNvSpPr/>
          <p:nvPr/>
        </p:nvSpPr>
        <p:spPr>
          <a:xfrm>
            <a:off x="4973760" y="2316240"/>
            <a:ext cx="2908080" cy="107640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торой сло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ударны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8578800" y="2308320"/>
            <a:ext cx="3154320" cy="108432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етий слог ударный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TextBox 9"/>
          <p:cNvSpPr/>
          <p:nvPr/>
        </p:nvSpPr>
        <p:spPr>
          <a:xfrm>
            <a:off x="5864400" y="3594240"/>
            <a:ext cx="11268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TextBox 10"/>
          <p:cNvSpPr/>
          <p:nvPr/>
        </p:nvSpPr>
        <p:spPr>
          <a:xfrm>
            <a:off x="9516960" y="3597120"/>
            <a:ext cx="14302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лок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TextBox 11"/>
          <p:cNvSpPr/>
          <p:nvPr/>
        </p:nvSpPr>
        <p:spPr>
          <a:xfrm>
            <a:off x="9559800" y="4424400"/>
            <a:ext cx="13874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сор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TextBox 12"/>
          <p:cNvSpPr/>
          <p:nvPr/>
        </p:nvSpPr>
        <p:spPr>
          <a:xfrm>
            <a:off x="5781600" y="4406760"/>
            <a:ext cx="129240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TextBox 13"/>
          <p:cNvSpPr/>
          <p:nvPr/>
        </p:nvSpPr>
        <p:spPr>
          <a:xfrm>
            <a:off x="2057400" y="3594240"/>
            <a:ext cx="11984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1" name="TextBox 14"/>
          <p:cNvSpPr/>
          <p:nvPr/>
        </p:nvSpPr>
        <p:spPr>
          <a:xfrm>
            <a:off x="1890720" y="4424400"/>
            <a:ext cx="15318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р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ш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807840" y="1754280"/>
            <a:ext cx="1107900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Monotype Corsiva"/>
              </a:rPr>
              <a:t>Объясни почему слова, которые пишутся одинаково имеют разное значение.</a:t>
            </a:r>
            <a:endParaRPr b="0" lang="en-US" sz="3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892160" y="317160"/>
            <a:ext cx="891072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1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4" name="Picture 2" descr="http://im7-tub-ru.yandex.net/i?id=171058865-16-72&amp;n=21"/>
          <p:cNvPicPr/>
          <p:nvPr/>
        </p:nvPicPr>
        <p:blipFill>
          <a:blip r:embed="rId1"/>
          <a:stretch/>
        </p:blipFill>
        <p:spPr>
          <a:xfrm>
            <a:off x="1646280" y="4010040"/>
            <a:ext cx="3459240" cy="240660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6" descr="http://im7-tub-ru.yandex.net/i?id=349784458-69-72&amp;n=21"/>
          <p:cNvPicPr/>
          <p:nvPr/>
        </p:nvPicPr>
        <p:blipFill>
          <a:blip r:embed="rId2"/>
          <a:stretch/>
        </p:blipFill>
        <p:spPr>
          <a:xfrm>
            <a:off x="7915320" y="4010040"/>
            <a:ext cx="2527200" cy="231300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" descr="C:\Documents and Settings\Кирилл\Рабочий стол\Рабочий стол\МАМА\ударение\92.gif"/>
          <p:cNvPicPr/>
          <p:nvPr/>
        </p:nvPicPr>
        <p:blipFill>
          <a:blip r:embed="rId3"/>
          <a:stretch/>
        </p:blipFill>
        <p:spPr>
          <a:xfrm>
            <a:off x="1393920" y="4761000"/>
            <a:ext cx="1807920" cy="1655640"/>
          </a:xfrm>
          <a:prstGeom prst="rect">
            <a:avLst/>
          </a:prstGeom>
          <a:ln w="0">
            <a:noFill/>
          </a:ln>
        </p:spPr>
      </p:pic>
      <p:sp>
        <p:nvSpPr>
          <p:cNvPr id="1267" name="TextBox 5"/>
          <p:cNvSpPr/>
          <p:nvPr/>
        </p:nvSpPr>
        <p:spPr>
          <a:xfrm>
            <a:off x="1054080" y="2676600"/>
            <a:ext cx="429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упив жене кольцо в подарок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ер Генри возвратился в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8" name="TextBox 6"/>
          <p:cNvSpPr/>
          <p:nvPr/>
        </p:nvSpPr>
        <p:spPr>
          <a:xfrm>
            <a:off x="4471920" y="309888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о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9" name="TextBox 7"/>
          <p:cNvSpPr/>
          <p:nvPr/>
        </p:nvSpPr>
        <p:spPr>
          <a:xfrm>
            <a:off x="7053120" y="2666880"/>
            <a:ext cx="425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орота он открыть не смог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ворецкий поменял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0" name="TextBox 9"/>
          <p:cNvSpPr/>
          <p:nvPr/>
        </p:nvSpPr>
        <p:spPr>
          <a:xfrm>
            <a:off x="9645480" y="3095640"/>
            <a:ext cx="15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м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82880" y="39492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014480" y="1828440"/>
            <a:ext cx="10850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Monotype Corsiva"/>
              </a:rPr>
              <a:t>Объясни почему слова, которые пишутся одинаково имеют разное значение.</a:t>
            </a:r>
            <a:endParaRPr b="0" lang="en-US" sz="3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TextBox 6"/>
          <p:cNvSpPr/>
          <p:nvPr/>
        </p:nvSpPr>
        <p:spPr>
          <a:xfrm>
            <a:off x="1455840" y="2751120"/>
            <a:ext cx="99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голка  ходит  вверх  и  вниз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от  листья  появились.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Жуёт  Алёнушка             ,                                      А  вышивает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TextBox 8"/>
          <p:cNvSpPr/>
          <p:nvPr/>
        </p:nvSpPr>
        <p:spPr>
          <a:xfrm>
            <a:off x="3840120" y="36133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р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5" name="TextBox 9"/>
          <p:cNvSpPr/>
          <p:nvPr/>
        </p:nvSpPr>
        <p:spPr>
          <a:xfrm>
            <a:off x="9661680" y="361332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6" name="Picture 2" descr="http://im2-tub-ru.yandex.net/i?id=477814705-22-72&amp;n=21"/>
          <p:cNvPicPr/>
          <p:nvPr/>
        </p:nvPicPr>
        <p:blipFill>
          <a:blip r:embed="rId1"/>
          <a:stretch/>
        </p:blipFill>
        <p:spPr>
          <a:xfrm>
            <a:off x="8018640" y="4135320"/>
            <a:ext cx="2403360" cy="220680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2390760" y="1060596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        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8" name="Picture 4" descr="http://im6-tub-ru.yandex.net/i?id=550994036-38-72&amp;n=21"/>
          <p:cNvPicPr/>
          <p:nvPr/>
        </p:nvPicPr>
        <p:blipFill>
          <a:blip r:embed="rId2"/>
          <a:stretch/>
        </p:blipFill>
        <p:spPr>
          <a:xfrm>
            <a:off x="1886040" y="4135320"/>
            <a:ext cx="2503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347920" y="22500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Monotype Corsiva"/>
              </a:rPr>
              <a:t>Решение учебных задач направленно на формирование у учащих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2395440" y="1579680"/>
          <a:ext cx="8915400" cy="461160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едметных результатов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тавить ударение в словах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пределять ударный  слог в слове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делять ударный и безударные слог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етапредметных результатов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формулировать и удерживать учебную задач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сознанно и произвольно строить сообщения в устной форм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формулировать собственное мнение и позиц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ичностных результатов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тивация учебной деятель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уважительное отношение к иному мнен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155680" y="353520"/>
            <a:ext cx="891072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спользованные ресурсы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2163240" y="1875960"/>
            <a:ext cx="89154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Яндекс картинк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Предметная программа и ее автор: </a:t>
            </a:r>
            <a:r>
              <a:rPr b="0" i="1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.П. Канакина, В.Г. Горецкий Русский язык рабочая программа  2013 год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чебник  Русский язык В.П. Канакина В.Г. Горецкий   Москва Изд. «Просвещение» 2012г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бочая тетрадь  Русский язык   В.П. Канакина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http://propedagog.ru/gramatika/46-udarenie-ego-rol-v-slove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0000ff"/>
                </a:solidFill>
                <a:uFillTx/>
                <a:latin typeface="Monotype Corsiva"/>
                <a:ea typeface="Times New Roman"/>
              </a:rPr>
              <a:t>Ударный слог,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0000ff"/>
                </a:solidFill>
                <a:uFillTx/>
                <a:latin typeface="Monotype Corsiva"/>
                <a:ea typeface="Times New Roman"/>
              </a:rPr>
              <a:t>Раздели слова на группы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едеральный центр информационных образовательных ресурсов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диная коллекция цифровых образовательных ресурсов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 algn="just">
              <a:lnSpc>
                <a:spcPts val="18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176560" y="41400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едметная область: Филолог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9" name="Объект 3" descr=""/>
          <p:cNvPicPr/>
          <p:nvPr/>
        </p:nvPicPr>
        <p:blipFill>
          <a:blip r:embed="rId1"/>
          <a:stretch/>
        </p:blipFill>
        <p:spPr>
          <a:xfrm>
            <a:off x="2182680" y="2017800"/>
            <a:ext cx="89233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476440" y="382680"/>
            <a:ext cx="8912160" cy="128088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вариант 1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523600" y="2154240"/>
            <a:ext cx="43434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Что такое ударение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6985080" y="1720440"/>
            <a:ext cx="43387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Это выделение в слове голосом одного из слогов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TextBox 3"/>
          <p:cNvSpPr/>
          <p:nvPr/>
        </p:nvSpPr>
        <p:spPr>
          <a:xfrm>
            <a:off x="3073320" y="3862440"/>
            <a:ext cx="714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-РО-на,  ма- ЛИ-на , РА-ду-га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1855440" y="2452320"/>
            <a:ext cx="434340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й слог называют ударным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6730920" y="2068560"/>
            <a:ext cx="433872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лог, который произносится в слове с большей силой голоса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090880" y="50760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TextBox 1"/>
          <p:cNvSpPr/>
          <p:nvPr/>
        </p:nvSpPr>
        <p:spPr>
          <a:xfrm>
            <a:off x="2198520" y="5172120"/>
            <a:ext cx="182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л-ка,      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TextBox 2"/>
          <p:cNvSpPr/>
          <p:nvPr/>
        </p:nvSpPr>
        <p:spPr>
          <a:xfrm>
            <a:off x="5019840" y="5168880"/>
            <a:ext cx="219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-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-ки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TextBox 7"/>
          <p:cNvSpPr/>
          <p:nvPr/>
        </p:nvSpPr>
        <p:spPr>
          <a:xfrm>
            <a:off x="8102520" y="5168880"/>
            <a:ext cx="261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а-ш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-ка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077920" y="275760"/>
            <a:ext cx="891072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1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077920" y="1741320"/>
            <a:ext cx="89107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ставь ударение в словах. Найди слова в которых первый слог ударный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Picture 2" descr="http://im4-tub-ru.yandex.net/i?id=45687038-11-72&amp;n=21"/>
          <p:cNvPicPr/>
          <p:nvPr/>
        </p:nvPicPr>
        <p:blipFill>
          <a:blip r:embed="rId1"/>
          <a:stretch/>
        </p:blipFill>
        <p:spPr>
          <a:xfrm>
            <a:off x="1565280" y="307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1565280" y="4599000"/>
            <a:ext cx="1905120" cy="69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ка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584520" y="3676680"/>
            <a:ext cx="1905120" cy="53496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txBody>
          <a:bodyPr anchor="ctr">
            <a:normAutofit fontScale="91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ежи</a:t>
            </a:r>
            <a:r>
              <a:rPr b="0" lang="el-GR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́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5" name="Рисунок 18" descr=""/>
          <p:cNvPicPr/>
          <p:nvPr/>
        </p:nvPicPr>
        <p:blipFill>
          <a:blip r:embed="rId2"/>
          <a:stretch/>
        </p:blipFill>
        <p:spPr>
          <a:xfrm>
            <a:off x="3597120" y="43815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6" name="Рисунок 19" descr=""/>
          <p:cNvPicPr/>
          <p:nvPr/>
        </p:nvPicPr>
        <p:blipFill>
          <a:blip r:embed="rId3"/>
          <a:stretch/>
        </p:blipFill>
        <p:spPr>
          <a:xfrm>
            <a:off x="5603760" y="3024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97" name="Рисунок 20" descr=""/>
          <p:cNvPicPr/>
          <p:nvPr/>
        </p:nvPicPr>
        <p:blipFill>
          <a:blip r:embed="rId4"/>
          <a:stretch/>
        </p:blipFill>
        <p:spPr>
          <a:xfrm>
            <a:off x="7623000" y="44686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198" name="TextBox 1"/>
          <p:cNvSpPr/>
          <p:nvPr/>
        </p:nvSpPr>
        <p:spPr>
          <a:xfrm>
            <a:off x="5603760" y="4575240"/>
            <a:ext cx="190512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585858"/>
                </a:solidFill>
                <a:latin typeface="Monotype Corsiva"/>
              </a:rPr>
              <a:t>оле</a:t>
            </a:r>
            <a:r>
              <a:rPr b="0" lang="ru-RU" sz="32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585858"/>
                </a:solidFill>
                <a:latin typeface="Monotype Corsiva"/>
              </a:rPr>
              <a:t>н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9" name="TextBox 2"/>
          <p:cNvSpPr/>
          <p:nvPr/>
        </p:nvSpPr>
        <p:spPr>
          <a:xfrm>
            <a:off x="7661160" y="3738600"/>
            <a:ext cx="182880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ц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0" name="Рисунок 5" descr=""/>
          <p:cNvPicPr/>
          <p:nvPr/>
        </p:nvPicPr>
        <p:blipFill>
          <a:blip r:embed="rId5"/>
          <a:stretch/>
        </p:blipFill>
        <p:spPr>
          <a:xfrm>
            <a:off x="9705960" y="30099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01" name="TextBox 6"/>
          <p:cNvSpPr/>
          <p:nvPr/>
        </p:nvSpPr>
        <p:spPr>
          <a:xfrm>
            <a:off x="9705960" y="4597560"/>
            <a:ext cx="190512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090520" y="507600"/>
            <a:ext cx="89103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Прямоугольник 7"/>
          <p:cNvSpPr/>
          <p:nvPr/>
        </p:nvSpPr>
        <p:spPr>
          <a:xfrm>
            <a:off x="2089080" y="1933560"/>
            <a:ext cx="891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ставь ударение в словах. Найди слова в которых второй слог ударный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TextBox 10"/>
          <p:cNvSpPr/>
          <p:nvPr/>
        </p:nvSpPr>
        <p:spPr>
          <a:xfrm>
            <a:off x="1805040" y="5372280"/>
            <a:ext cx="93960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ю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TextBox 11"/>
          <p:cNvSpPr/>
          <p:nvPr/>
        </p:nvSpPr>
        <p:spPr>
          <a:xfrm>
            <a:off x="3425760" y="3340080"/>
            <a:ext cx="10954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TextBox 12"/>
          <p:cNvSpPr/>
          <p:nvPr/>
        </p:nvSpPr>
        <p:spPr>
          <a:xfrm>
            <a:off x="5048280" y="5372280"/>
            <a:ext cx="16351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л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и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7253280" y="3314880"/>
            <a:ext cx="14302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к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TextBox 14"/>
          <p:cNvSpPr/>
          <p:nvPr/>
        </p:nvSpPr>
        <p:spPr>
          <a:xfrm>
            <a:off x="9325080" y="5348160"/>
            <a:ext cx="167616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ш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9" name="Picture 2" descr="J:\ЮЛА.jpg"/>
          <p:cNvPicPr/>
          <p:nvPr/>
        </p:nvPicPr>
        <p:blipFill>
          <a:blip r:embed="rId1"/>
          <a:stretch/>
        </p:blipFill>
        <p:spPr>
          <a:xfrm>
            <a:off x="1444680" y="3629160"/>
            <a:ext cx="1658880" cy="160812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3" descr="J:\кукла.jpg"/>
          <p:cNvPicPr/>
          <p:nvPr/>
        </p:nvPicPr>
        <p:blipFill>
          <a:blip r:embed="rId2"/>
          <a:stretch/>
        </p:blipFill>
        <p:spPr>
          <a:xfrm>
            <a:off x="3357720" y="4103640"/>
            <a:ext cx="1231920" cy="181764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4" descr="J:\солдатик.jpg"/>
          <p:cNvPicPr/>
          <p:nvPr/>
        </p:nvPicPr>
        <p:blipFill>
          <a:blip r:embed="rId3"/>
          <a:stretch/>
        </p:blipFill>
        <p:spPr>
          <a:xfrm>
            <a:off x="4867200" y="3651120"/>
            <a:ext cx="1998720" cy="17211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J:\кубики.jpg"/>
          <p:cNvPicPr/>
          <p:nvPr/>
        </p:nvPicPr>
        <p:blipFill>
          <a:blip r:embed="rId4"/>
          <a:stretch/>
        </p:blipFill>
        <p:spPr>
          <a:xfrm>
            <a:off x="7045200" y="429732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6" descr="J:\машинка.jpg"/>
          <p:cNvPicPr/>
          <p:nvPr/>
        </p:nvPicPr>
        <p:blipFill>
          <a:blip r:embed="rId5"/>
          <a:stretch/>
        </p:blipFill>
        <p:spPr>
          <a:xfrm>
            <a:off x="9325080" y="3797280"/>
            <a:ext cx="1676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2295000" y="1860480"/>
            <a:ext cx="891252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здели слова на группы: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247840" y="398520"/>
            <a:ext cx="8912160" cy="128088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1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TextBox 1"/>
          <p:cNvSpPr/>
          <p:nvPr/>
        </p:nvSpPr>
        <p:spPr>
          <a:xfrm>
            <a:off x="1373040" y="2395440"/>
            <a:ext cx="114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ч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TextBox 4"/>
          <p:cNvSpPr/>
          <p:nvPr/>
        </p:nvSpPr>
        <p:spPr>
          <a:xfrm>
            <a:off x="7839000" y="3295800"/>
            <a:ext cx="164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асточ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3370320" y="3295800"/>
            <a:ext cx="143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лесо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Box 8"/>
          <p:cNvSpPr/>
          <p:nvPr/>
        </p:nvSpPr>
        <p:spPr>
          <a:xfrm>
            <a:off x="5543640" y="4557600"/>
            <a:ext cx="191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рандаш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TextBox 11"/>
          <p:cNvSpPr/>
          <p:nvPr/>
        </p:nvSpPr>
        <p:spPr>
          <a:xfrm>
            <a:off x="5746680" y="2398680"/>
            <a:ext cx="150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шин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TextBox 13"/>
          <p:cNvSpPr/>
          <p:nvPr/>
        </p:nvSpPr>
        <p:spPr>
          <a:xfrm>
            <a:off x="9980640" y="2351160"/>
            <a:ext cx="171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2" name="Picture 2" descr="http://im1-tub-ru.yandex.net/i?id=96342822-33-72&amp;n=21"/>
          <p:cNvPicPr/>
          <p:nvPr/>
        </p:nvPicPr>
        <p:blipFill>
          <a:blip r:embed="rId1"/>
          <a:stretch/>
        </p:blipFill>
        <p:spPr>
          <a:xfrm>
            <a:off x="1139760" y="2911320"/>
            <a:ext cx="1606680" cy="121464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4" descr="http://im7-tub-ru.yandex.net/i?id=131414296-12-72&amp;n=21"/>
          <p:cNvPicPr/>
          <p:nvPr/>
        </p:nvPicPr>
        <p:blipFill>
          <a:blip r:embed="rId2"/>
          <a:stretch/>
        </p:blipFill>
        <p:spPr>
          <a:xfrm>
            <a:off x="8051760" y="3833640"/>
            <a:ext cx="1395360" cy="119880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http://castle.pri.ee/wp-content/uploads/2010/06/R_2.jpg"/>
          <p:cNvPicPr/>
          <p:nvPr/>
        </p:nvPicPr>
        <p:blipFill>
          <a:blip r:embed="rId3"/>
          <a:stretch/>
        </p:blipFill>
        <p:spPr>
          <a:xfrm>
            <a:off x="3395520" y="3833640"/>
            <a:ext cx="1381320" cy="12891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8" descr="http://www.proza.ru/pics/2011/06/03/1114.jpg"/>
          <p:cNvPicPr/>
          <p:nvPr/>
        </p:nvPicPr>
        <p:blipFill>
          <a:blip r:embed="rId4"/>
          <a:stretch/>
        </p:blipFill>
        <p:spPr>
          <a:xfrm>
            <a:off x="5746680" y="5126040"/>
            <a:ext cx="1568520" cy="130968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0" descr="http://im2-tub-ru.yandex.net/i?id=655137673-04-72&amp;n=21"/>
          <p:cNvPicPr/>
          <p:nvPr/>
        </p:nvPicPr>
        <p:blipFill>
          <a:blip r:embed="rId5"/>
          <a:stretch/>
        </p:blipFill>
        <p:spPr>
          <a:xfrm>
            <a:off x="5708520" y="293832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2" descr="http://im0-tub-ru.yandex.net/i?id=111969595-60-72&amp;n=21"/>
          <p:cNvPicPr/>
          <p:nvPr/>
        </p:nvPicPr>
        <p:blipFill>
          <a:blip r:embed="rId6"/>
          <a:stretch/>
        </p:blipFill>
        <p:spPr>
          <a:xfrm>
            <a:off x="10071000" y="2911320"/>
            <a:ext cx="15321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831920" y="1930320"/>
            <a:ext cx="2908440" cy="107784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торой сло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ударный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1977840" y="3537000"/>
            <a:ext cx="1299960" cy="59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ка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8488440" y="1930320"/>
            <a:ext cx="3154320" cy="108432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етий слог ударный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TextBox 10"/>
          <p:cNvSpPr/>
          <p:nvPr/>
        </p:nvSpPr>
        <p:spPr>
          <a:xfrm>
            <a:off x="1100160" y="1930320"/>
            <a:ext cx="2984400" cy="1068840"/>
          </a:xfrm>
          <a:prstGeom prst="rect">
            <a:avLst/>
          </a:prstGeom>
          <a:solidFill>
            <a:srgbClr val="f9daab"/>
          </a:solidFill>
          <a:ln w="381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й слог ударны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2" name="TextBox 11"/>
          <p:cNvSpPr/>
          <p:nvPr/>
        </p:nvSpPr>
        <p:spPr>
          <a:xfrm>
            <a:off x="1679400" y="4292640"/>
            <a:ext cx="182592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оч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3" name="TextBox 14"/>
          <p:cNvSpPr/>
          <p:nvPr/>
        </p:nvSpPr>
        <p:spPr>
          <a:xfrm>
            <a:off x="5456160" y="3537000"/>
            <a:ext cx="166068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ш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4" name="TextBox 16"/>
          <p:cNvSpPr/>
          <p:nvPr/>
        </p:nvSpPr>
        <p:spPr>
          <a:xfrm>
            <a:off x="5410080" y="4292640"/>
            <a:ext cx="175284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о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ш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5" name="TextBox 19"/>
          <p:cNvSpPr/>
          <p:nvPr/>
        </p:nvSpPr>
        <p:spPr>
          <a:xfrm>
            <a:off x="9418680" y="3537000"/>
            <a:ext cx="138600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лес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6" name="TextBox 21"/>
          <p:cNvSpPr/>
          <p:nvPr/>
        </p:nvSpPr>
        <p:spPr>
          <a:xfrm>
            <a:off x="9036000" y="4292640"/>
            <a:ext cx="2152800" cy="1068840"/>
          </a:xfrm>
          <a:prstGeom prst="rect">
            <a:avLst/>
          </a:prstGeom>
          <a:solidFill>
            <a:srgbClr val="fcecd5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рандаш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7" name="Заголовок 1"/>
          <p:cNvSpPr/>
          <p:nvPr/>
        </p:nvSpPr>
        <p:spPr>
          <a:xfrm>
            <a:off x="1724040" y="45072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 вариант 1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98720" y="394920"/>
            <a:ext cx="8912160" cy="1281240"/>
          </a:xfrm>
          <a:prstGeom prst="rect">
            <a:avLst/>
          </a:prstGeom>
          <a:solidFill>
            <a:srgbClr val="f0a22e"/>
          </a:solidFill>
          <a:ln w="57240">
            <a:solidFill>
              <a:srgbClr val="c87d0e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( вариант 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2006280" y="1910880"/>
            <a:ext cx="893772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здели слова на группы: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0" name="Picture 14" descr="http://www.owlpages.com/pictures/species-Asio-flammeus-5.jpg"/>
          <p:cNvPicPr/>
          <p:nvPr/>
        </p:nvPicPr>
        <p:blipFill>
          <a:blip r:embed="rId1"/>
          <a:stretch/>
        </p:blipFill>
        <p:spPr>
          <a:xfrm>
            <a:off x="1390680" y="3735360"/>
            <a:ext cx="1231920" cy="1636920"/>
          </a:xfrm>
          <a:prstGeom prst="rect">
            <a:avLst/>
          </a:prstGeom>
          <a:ln w="0">
            <a:noFill/>
          </a:ln>
        </p:spPr>
      </p:pic>
      <p:sp>
        <p:nvSpPr>
          <p:cNvPr id="1241" name="TextBox 5"/>
          <p:cNvSpPr/>
          <p:nvPr/>
        </p:nvSpPr>
        <p:spPr>
          <a:xfrm>
            <a:off x="1442880" y="2867040"/>
            <a:ext cx="112716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2" name="Picture 16" descr="http://im7-tub-ru.yandex.net/i?id=122108686-34-72&amp;n=21"/>
          <p:cNvPicPr/>
          <p:nvPr/>
        </p:nvPicPr>
        <p:blipFill>
          <a:blip r:embed="rId2"/>
          <a:stretch/>
        </p:blipFill>
        <p:spPr>
          <a:xfrm>
            <a:off x="4854600" y="3735360"/>
            <a:ext cx="16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3" descr=""/>
          <p:cNvPicPr/>
          <p:nvPr/>
        </p:nvPicPr>
        <p:blipFill>
          <a:blip r:embed="rId3"/>
          <a:stretch/>
        </p:blipFill>
        <p:spPr>
          <a:xfrm>
            <a:off x="10353600" y="4579920"/>
            <a:ext cx="1689120" cy="1262160"/>
          </a:xfrm>
          <a:prstGeom prst="rect">
            <a:avLst/>
          </a:prstGeom>
          <a:ln w="0">
            <a:noFill/>
          </a:ln>
        </p:spPr>
      </p:pic>
      <p:sp>
        <p:nvSpPr>
          <p:cNvPr id="1244" name="TextBox 8"/>
          <p:cNvSpPr/>
          <p:nvPr/>
        </p:nvSpPr>
        <p:spPr>
          <a:xfrm>
            <a:off x="10547280" y="3699000"/>
            <a:ext cx="13003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руш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5" name="TextBox 2"/>
          <p:cNvSpPr/>
          <p:nvPr/>
        </p:nvSpPr>
        <p:spPr>
          <a:xfrm>
            <a:off x="4954680" y="2943360"/>
            <a:ext cx="12794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у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TextBox 9"/>
          <p:cNvSpPr/>
          <p:nvPr/>
        </p:nvSpPr>
        <p:spPr>
          <a:xfrm>
            <a:off x="6745320" y="3687840"/>
            <a:ext cx="119700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дуг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7" name="TextBox 11"/>
          <p:cNvSpPr/>
          <p:nvPr/>
        </p:nvSpPr>
        <p:spPr>
          <a:xfrm>
            <a:off x="3138480" y="3687840"/>
            <a:ext cx="14288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локо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8" name="TextBox 12"/>
          <p:cNvSpPr/>
          <p:nvPr/>
        </p:nvSpPr>
        <p:spPr>
          <a:xfrm>
            <a:off x="8575560" y="2959200"/>
            <a:ext cx="13874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соро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9" name="Picture 2" descr="J:\молоко.jpg"/>
          <p:cNvPicPr/>
          <p:nvPr/>
        </p:nvPicPr>
        <p:blipFill>
          <a:blip r:embed="rId4"/>
          <a:stretch/>
        </p:blipFill>
        <p:spPr>
          <a:xfrm>
            <a:off x="2994120" y="4413240"/>
            <a:ext cx="1717560" cy="142884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3" descr="J:\радуга.jpg"/>
          <p:cNvPicPr/>
          <p:nvPr/>
        </p:nvPicPr>
        <p:blipFill>
          <a:blip r:embed="rId5"/>
          <a:stretch/>
        </p:blipFill>
        <p:spPr>
          <a:xfrm>
            <a:off x="6508800" y="4497480"/>
            <a:ext cx="1670040" cy="14284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4" descr="J:\носорог.jpg"/>
          <p:cNvPicPr/>
          <p:nvPr/>
        </p:nvPicPr>
        <p:blipFill>
          <a:blip r:embed="rId6"/>
          <a:stretch/>
        </p:blipFill>
        <p:spPr>
          <a:xfrm>
            <a:off x="8389800" y="3735360"/>
            <a:ext cx="1760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06:07:30Z</dcterms:created>
  <dc:creator>Компьютерный класс 309</dc:creator>
  <dc:description/>
  <dc:language>en-US</dc:language>
  <cp:lastModifiedBy>Дмитрий</cp:lastModifiedBy>
  <dcterms:modified xsi:type="dcterms:W3CDTF">2015-02-08T13:23:29Z</dcterms:modified>
  <cp:revision>36</cp:revision>
  <dc:subject/>
  <dc:title>Презентация PowerPoint</dc:title>
</cp:coreProperties>
</file>