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776-E0CD-4515-97CB-6F6E6D7D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E56-6E92-441E-B8D0-DA3073A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2C00E-6AA3-491E-9A1E-7E8CFB0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C9256-5E2B-43CF-AF93-72174B6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E1CC-4FE1-4BAA-93C5-B4795013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CDD45-925F-4024-B37F-EE36BB3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3651A-F70E-4935-98A7-2E08269C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5372C-4AB8-4234-96D6-B19BDC5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82D79-35ED-40F9-87EB-DDEFB68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67518-EF42-4443-AABD-D35E5241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D0B79-A2F4-40AE-8F7B-0286E75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42100-AB0E-4BE8-8AD5-79B46B86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CB8-83B8-419E-8E87-4CCED55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7670E-2228-47B0-88C6-5B74DA3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A9F1D-F211-455E-8FDB-23D81C7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D000D-B8C1-4641-BD1A-65F57BE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EB7F-567A-4BE7-BE47-BA28E78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A20DA-DBCF-45B6-A8FD-22C0D837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C942B-364E-46FD-94A5-B7C9DD4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8EF8B-11D3-4D2A-B1A2-C39063E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5AAB-6D73-46E8-9DF8-FB91C707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24ED-D4C0-48CC-B86B-C9940537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62F5D-6476-4BCE-B4C9-3C3FF649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A22-BC9D-4CA9-8536-A253F8A0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7A56B-CEA4-4DF3-80A0-7AFBA86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7F2E5-B5F2-4CB7-AAF4-F57706D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417B9-CD3F-4EB8-ABEE-64152AA1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73CC3-AA82-40F8-BFF2-9E51CD7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7B88C-668C-40EC-91CB-90AF55B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693EE-08E9-4AE9-B800-CAA096AB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FE851-A504-4CF6-8C61-74938F8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07286-76D2-4102-A2AC-951552F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A383B-D4BA-4E58-9A62-F94969D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3A8DD-D1DB-4C3D-B322-BE647D6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99E3-3B0F-41BD-BBCB-E2E60995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95F0-11A1-479F-ADAA-DC0FE6E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6FD4-2795-4279-BF3B-B2D70A14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3D8A-161A-455D-840B-1138B7D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0B45D-B473-4DD7-AA74-83B4564A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12AAF-2CB7-4563-8F47-292BD564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CACAC-6C83-4D8F-ABC4-BF0DA5B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CC9C3-2896-4FBB-B6F3-8620D37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F5DA4-2875-47CF-8892-D896E95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F7D5-00B8-4890-9493-BC231C0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D7B1A-6996-4583-9566-9F047F1F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597F-CA36-4C78-974E-483E3A2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DEFF4-8B19-4166-9898-71CD381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864EE-6208-4694-8120-2138D7F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14A5C-3E3B-4E3D-B6EF-E2E6802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2DFAD-F498-4D42-9831-62997E3E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C9EB-84CB-4176-974E-5CB9383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98870-0236-488F-B53F-1DAFF0BC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CFABB-8DF7-4D3A-AA85-BE019622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9EF39-104E-4DFD-A543-B33AA5EA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750EE-39D0-4256-97FB-7E3AF4B2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C5101-21EF-4175-AB7A-0C56A6F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6452-B971-44C7-8589-3A0F9E13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B8D24-0DE7-4ED1-9586-323BAAE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DB518-883B-4792-836F-4B6DE2B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BB64E-5197-42AD-98ED-E05FF43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B085E-DE09-4FD7-8C7A-3800AD2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884C9-9A84-4B0E-A8F4-C309DF5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FE8B4-5D39-4D6D-8353-40E84022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BEE6C-0A52-475B-817F-DF3F7C5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1AB61-E801-4E49-8ECB-AAA6EA7F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F5A88-2180-4DCE-BCE9-208539A2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79125-12D5-4DA8-8EA2-372AA97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162B-E027-45DA-87FC-FDBB0E13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C0652-6368-40F4-A4AF-A77A9E4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865A1-3CA6-437F-9F73-A594EA20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BCD3E-7321-4098-B7F9-C81A7B6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A5851-9129-4713-B0CB-B7275B88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2B424-244E-4B9E-9855-D566A85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5CBF-053E-4812-B598-AA86471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2E73C-FAA0-4771-9DD5-D31F13DD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8BB4B-0E13-4E10-81ED-1507D2AF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0A0C2-4C9E-49AB-BE7A-48C3A795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3D172-42BA-4D0C-84CE-DB38E015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7618-6426-49E4-8549-2BFC58A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8D091-8C62-4E12-8806-527F3BC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72BCA-E078-4E12-BF15-97A01574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24E7A-12BB-45C1-BB15-D7546BB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73A60-7F66-4D4A-8A31-A8D4511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6B151-C470-4353-B88F-3A7EB9B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1C078-76E9-4F66-BB36-0DC84B3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AC8B8-F6E0-40D4-9864-E02044E8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53779-674D-4E58-B5E3-D7B4533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CA4D5-55C6-400A-A489-C07B4C4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78B5C-C428-421A-BC8D-EEF6E8EE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0DF2-578D-4B9A-9868-476D452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569AA-4419-4449-ABF2-5B59A95B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BA81E-E52E-4BE8-B63A-C698127F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C2D47-8011-43EE-B4A4-C540031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43727-888B-490A-ABFA-FA283BF1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29DCA-8F14-41C4-964B-B8938AF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10F08-B3B9-4142-AD45-686B673F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01C43-144E-466F-BB33-89A3605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7A9F2-749B-4747-9761-730619E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D58BE-389F-4052-8C07-73F5A7B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27BAC-421B-4E53-A648-B802E6E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AF90-FC16-432E-8154-A43946F5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33FD2-9B40-44CF-A7E9-CB8D142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57DC0-8A4A-47AD-A4EB-1EA6C191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4DE09-D1B3-4CA9-89FB-689843A7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6E668-4EE0-4628-8520-D8A44260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3D875-83C4-448A-A87E-93B7E3B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95880-AC37-43A0-9903-CC3C6AC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DF426-5212-4E01-9A61-BBADABA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52E98-F077-4E25-959C-7126BD6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CD242-3032-41C5-82C7-9A3DE8BB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CE390-89B8-4A6F-BFBC-114169F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A29-36E2-4946-AC9B-FD74C016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A274-F135-4784-8403-80CAED3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59A4B-2DF6-4F78-8225-C1E2E96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E4340-6701-4FA1-86B3-309BB4C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27F04-C812-45AC-BDAF-542EEB2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4085C-B94F-4F39-8F12-5CCE6C6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A6EC6-6AC0-45A3-B00D-0AA42B36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AF7-ADB4-47CD-B5DB-3E7897C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01B-25B7-4F32-A22C-F312F2D9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A26E-BE74-462F-A7AB-698D4C9F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3D6F-9789-4189-A540-27A0104A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A0A8-CFB0-4A2A-9220-3C76DCF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88CB-20B1-4C0A-BCCE-861919C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6619-AE12-4AB4-9B70-A699DF9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C86D-97AF-44C9-BFBD-B4C5345D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7BF7-A8AF-40B3-B9FB-00703406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504-08FD-4EC3-B273-23FCEBE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83C3-47D2-483A-8FED-045FFE65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6E5F-DFA6-4658-96CE-CF252A4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639F-58B0-4242-9F1F-2BCB73C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6CCE-5118-45F0-94B6-A2B24C2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5712-174E-4FBA-8145-E39D39B1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F71A-1DE8-4B25-B7A6-378BE1D2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07D1-AF7F-44A5-83EF-5BD0B3FE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2D8E-B08C-4CE3-9E0B-DB1FF047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9CED-73B2-4FC7-ABBD-EB25985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4B01-40E3-4D4B-B759-4949EE4B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6ED-51FF-4CAB-9026-90AF3D26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15A4-A074-46CA-975E-FB4E0D8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CC49C-38E5-401A-8BC4-BB333FB2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95AF-C3EA-4419-B7A5-E7715C0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B323-1AE6-4435-8F8F-0D000FB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531A-E52D-4FC0-974A-C4659BA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5AE2-2AE7-4F4F-A88C-81C222D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2D84-7008-4CF6-9268-2208F8AD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56C3-E89A-454F-BC31-BAABCBDE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B5BE-EAF1-4C7D-B76D-227A51CD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7ADB-4254-4CF9-A883-A939BD3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458-41A1-4847-83B4-F791F5F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6F54-67DB-47C7-BD18-35667A9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39BC-CC7C-4AD4-8BC6-7252DBA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EEFB-C037-4324-8BA0-B8C8B32D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4E72D-6987-42F4-8BE7-F408173D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CBDA-6C8F-4799-8973-55A0633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54113-AC0D-4747-BE6F-60788E6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F1BD-AB63-47DD-99DC-AF06AF5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82DC-2202-4EE1-85B7-CD67F93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0AB8-0929-4939-BD61-1458C1E7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EDE8-AC3C-4DB8-8D03-E4397E01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DCC-DB13-4C36-A5B3-05D71A6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532E-776E-4311-BA66-4073F23D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1C15-CA3B-4AB5-A1F1-AE184648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7A3C0-9266-4F8D-8EBA-C5F3D3F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2AB7-FD82-4B96-BFEA-93F6924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1C44-34AD-4A24-9674-43306540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6E86-B6C8-48FC-AC83-785BE02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F4C4-B902-45AE-B188-2C6187C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1024F-22BF-4D5D-9898-88C10E9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8B5E-EA1A-403F-BF77-66DF55C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2506D-F1E7-45EA-9208-C8CAADF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DD5-1501-474B-8715-6A44294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E3FD-43A6-4D7A-B180-5F6DFC65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9845-DEFE-4EB0-A6C4-D5A34283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ACE2-6BFB-4FD4-858A-393D75D0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6E4A-EB0B-4600-9F3C-1795BEC3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70C3-4520-4837-8F01-EE3BE17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E313-4BED-4ACF-BC5C-0E1E043B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EFAF8-A551-4D8E-8908-32733236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15BD-6A78-4057-ACCD-E78AA097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908B-A24A-4299-8EA3-7F71CD7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1896-69D6-4F55-90CD-670120D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423-49EE-4552-9AB3-C9E18C1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1F65-6490-4BEE-865B-5D8E56B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76EF-BC90-4692-BAE2-3D0111F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542E-05AA-4645-93B9-DB8FA3C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76BE-1F29-452F-A1CC-17228F33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0E68-A18F-4066-B5B9-44772EF1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204AD-6754-4E51-ACB6-ABDA833C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4A249-3495-4DCF-99C1-2539051A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AE8F0-A7B2-4D56-95B0-E71B9FA6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26507-1E88-4F7A-9DF2-4E4CDB5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95F8D-3A96-417A-975A-70F368D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B7D-EE7D-4750-9411-2E25BC8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ED23-DDBD-4D43-AEB8-AB459A4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4C2D-6F48-4D85-9320-C40E37D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071F-5453-4ED8-BEE8-86DE170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9F7A-3CD8-42E6-A077-AB1491C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99E6-5E3A-44B4-9898-A62E9512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70289-FD74-4E20-BBFD-D91A48F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D55B-841E-40D8-A9CC-EE881ECF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1EA1-36DD-450A-B94D-E61D13F7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1978-E361-4C93-B565-8B90979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671AA-4516-4744-86B8-2B7CC37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B9B058-D49B-42DC-BD41-1AB2C3E12F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5C9239-D6D1-4C96-B68E-03EC81F2D4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F31C9-D459-4A60-95BB-EB92748197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927F47-53B7-4AF0-B35E-857C5F04D8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03D3B9-E3DE-429B-85CE-2A4F8EA3AD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F4F3B4-2CA3-4218-A0CA-1C0CD6A387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F18ED-C176-466C-ACC7-D88AAECD1D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9069AB-0358-4ABF-BA1A-49C8909D19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14FA9-77FD-437A-9FBB-D00846D78C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2DCF69-26D9-41AC-B87A-85E7E5B173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3A4BC2-01A8-498B-A14F-932CC56EC0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6434AF-F1F8-4DF6-B6F0-820E1E259D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1C8898-C51F-48D9-9D50-8314DA335D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9D170E-F315-41D5-B94E-0E4A03849F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89B2FE-A2F9-4A14-A2D6-D6217A8ACA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1C13C6-E528-4173-A6EA-3A3992C5BA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7961F7-BD1F-4091-A79C-4B8C060CC2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27160" y="46368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MingLiU_HKSCS-ExtB"/>
              </a:rPr>
              <a:t>«Ударные и безударные слоги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2038320" y="2000160"/>
          <a:ext cx="8915400" cy="428652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06704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втор: Цыбульская Наталья Александро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3816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. о. Балаши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6032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БОУ «Школа № 30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6032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олжность: учитель начальных клас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6068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232000" y="37908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TextBox 6"/>
          <p:cNvSpPr/>
          <p:nvPr/>
        </p:nvSpPr>
        <p:spPr>
          <a:xfrm>
            <a:off x="1163520" y="2316240"/>
            <a:ext cx="2984760" cy="1068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слог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Заголовок 8"/>
          <p:cNvSpPr/>
          <p:nvPr/>
        </p:nvSpPr>
        <p:spPr>
          <a:xfrm>
            <a:off x="4973760" y="2316240"/>
            <a:ext cx="2908080" cy="107640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сл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8578800" y="2308320"/>
            <a:ext cx="3154320" cy="108432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ий слог ударны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TextBox 9"/>
          <p:cNvSpPr/>
          <p:nvPr/>
        </p:nvSpPr>
        <p:spPr>
          <a:xfrm>
            <a:off x="5864400" y="3594240"/>
            <a:ext cx="11268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Box 10"/>
          <p:cNvSpPr/>
          <p:nvPr/>
        </p:nvSpPr>
        <p:spPr>
          <a:xfrm>
            <a:off x="9516960" y="3597120"/>
            <a:ext cx="14302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ло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TextBox 11"/>
          <p:cNvSpPr/>
          <p:nvPr/>
        </p:nvSpPr>
        <p:spPr>
          <a:xfrm>
            <a:off x="9559800" y="4424400"/>
            <a:ext cx="1387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о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TextBox 12"/>
          <p:cNvSpPr/>
          <p:nvPr/>
        </p:nvSpPr>
        <p:spPr>
          <a:xfrm>
            <a:off x="5781600" y="4406760"/>
            <a:ext cx="12924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TextBox 13"/>
          <p:cNvSpPr/>
          <p:nvPr/>
        </p:nvSpPr>
        <p:spPr>
          <a:xfrm>
            <a:off x="2057400" y="3594240"/>
            <a:ext cx="1198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TextBox 14"/>
          <p:cNvSpPr/>
          <p:nvPr/>
        </p:nvSpPr>
        <p:spPr>
          <a:xfrm>
            <a:off x="1890720" y="4424400"/>
            <a:ext cx="15318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ш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807840" y="1754280"/>
            <a:ext cx="1107900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Monotype Corsiva"/>
              </a:rPr>
              <a:t>Объясни почему слова, которые пишутся одинаково имеют разное значение.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892160" y="31716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4" name="Picture 2" descr="http://im7-tub-ru.yandex.net/i?id=171058865-16-72&amp;n=21"/>
          <p:cNvPicPr/>
          <p:nvPr/>
        </p:nvPicPr>
        <p:blipFill>
          <a:blip r:embed="rId1"/>
          <a:stretch/>
        </p:blipFill>
        <p:spPr>
          <a:xfrm>
            <a:off x="1646280" y="4010040"/>
            <a:ext cx="3459240" cy="240660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http://im7-tub-ru.yandex.net/i?id=349784458-69-72&amp;n=21"/>
          <p:cNvPicPr/>
          <p:nvPr/>
        </p:nvPicPr>
        <p:blipFill>
          <a:blip r:embed="rId2"/>
          <a:stretch/>
        </p:blipFill>
        <p:spPr>
          <a:xfrm>
            <a:off x="7915320" y="4010040"/>
            <a:ext cx="2527200" cy="231300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" descr="C:\Documents and Settings\Кирилл\Рабочий стол\Рабочий стол\МАМА\ударение\92.gif"/>
          <p:cNvPicPr/>
          <p:nvPr/>
        </p:nvPicPr>
        <p:blipFill>
          <a:blip r:embed="rId3"/>
          <a:stretch/>
        </p:blipFill>
        <p:spPr>
          <a:xfrm>
            <a:off x="1393920" y="4761000"/>
            <a:ext cx="1807920" cy="1655640"/>
          </a:xfrm>
          <a:prstGeom prst="rect">
            <a:avLst/>
          </a:prstGeom>
          <a:ln w="0">
            <a:noFill/>
          </a:ln>
        </p:spPr>
      </p:pic>
      <p:sp>
        <p:nvSpPr>
          <p:cNvPr id="1267" name="TextBox 5"/>
          <p:cNvSpPr/>
          <p:nvPr/>
        </p:nvSpPr>
        <p:spPr>
          <a:xfrm>
            <a:off x="1054080" y="2676600"/>
            <a:ext cx="429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упив жене кольцо в подарок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ер Генри возвратился в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8" name="TextBox 6"/>
          <p:cNvSpPr/>
          <p:nvPr/>
        </p:nvSpPr>
        <p:spPr>
          <a:xfrm>
            <a:off x="4471920" y="30988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TextBox 7"/>
          <p:cNvSpPr/>
          <p:nvPr/>
        </p:nvSpPr>
        <p:spPr>
          <a:xfrm>
            <a:off x="7053120" y="2666880"/>
            <a:ext cx="425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рота он открыть не смог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ворецкий поменя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TextBox 9"/>
          <p:cNvSpPr/>
          <p:nvPr/>
        </p:nvSpPr>
        <p:spPr>
          <a:xfrm>
            <a:off x="9645480" y="3095640"/>
            <a:ext cx="15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м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82880" y="3949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014480" y="1828440"/>
            <a:ext cx="1085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Monotype Corsiva"/>
              </a:rPr>
              <a:t>Объясни почему слова, которые пишутся одинаково имеют разное значение.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TextBox 6"/>
          <p:cNvSpPr/>
          <p:nvPr/>
        </p:nvSpPr>
        <p:spPr>
          <a:xfrm>
            <a:off x="1455840" y="2751120"/>
            <a:ext cx="99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голка  ходит  вверх  и  вниз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т  листья  появились.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Жуёт  Алёнушка             ,                                      А  вышивает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TextBox 8"/>
          <p:cNvSpPr/>
          <p:nvPr/>
        </p:nvSpPr>
        <p:spPr>
          <a:xfrm>
            <a:off x="3840120" y="3613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TextBox 9"/>
          <p:cNvSpPr/>
          <p:nvPr/>
        </p:nvSpPr>
        <p:spPr>
          <a:xfrm>
            <a:off x="9661680" y="36133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6" name="Picture 2" descr="http://im2-tub-ru.yandex.net/i?id=477814705-22-72&amp;n=21"/>
          <p:cNvPicPr/>
          <p:nvPr/>
        </p:nvPicPr>
        <p:blipFill>
          <a:blip r:embed="rId1"/>
          <a:stretch/>
        </p:blipFill>
        <p:spPr>
          <a:xfrm>
            <a:off x="8018640" y="4135320"/>
            <a:ext cx="2403360" cy="220680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2390760" y="1060596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8" name="Picture 4" descr="http://im6-tub-ru.yandex.net/i?id=550994036-38-72&amp;n=21"/>
          <p:cNvPicPr/>
          <p:nvPr/>
        </p:nvPicPr>
        <p:blipFill>
          <a:blip r:embed="rId2"/>
          <a:stretch/>
        </p:blipFill>
        <p:spPr>
          <a:xfrm>
            <a:off x="1886040" y="4135320"/>
            <a:ext cx="2503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347920" y="2250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Monotype Corsiva"/>
              </a:rPr>
              <a:t>Решение учебных задач направленно на формирование у учащих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2395440" y="1579680"/>
          <a:ext cx="8915400" cy="461160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едметных результатов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авить ударение в слова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пределять ударный  слог в слове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делять ударный и безударные слог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етапредметных результатов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ормулировать и удерживать учебную задач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сознанно и произвольно строить сообщения в устной форм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ормулировать собственное мнение и позиц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ичностных результатов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тивация учебн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важительное отношение к иному мне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155680" y="35352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спользованные ресурсы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2163240" y="187596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Яндекс картинк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Предметная программа и ее автор: </a:t>
            </a: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.П. Канакина, В.Г. Горецкий Русский язык рабочая программа  2013 год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ебник  Русский язык В.П. Канакина В.Г. Горецкий   Москва Изд. «Просвещение» 2012г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бочая тетрадь  Русский язык   В.П. Канакина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http://propedagog.ru/gramatika/46-udarenie-ego-rol-v-slove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Ударный слог,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Раздели слова на группы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едеральный центр информационных образовательных ресурсов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диная коллекция цифровых образовательных ресурсов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76560" y="4140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едметная область: Филолог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Объект 3" descr=""/>
          <p:cNvPicPr/>
          <p:nvPr/>
        </p:nvPicPr>
        <p:blipFill>
          <a:blip r:embed="rId1"/>
          <a:stretch/>
        </p:blipFill>
        <p:spPr>
          <a:xfrm>
            <a:off x="2182680" y="2017800"/>
            <a:ext cx="89233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476440" y="38268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23600" y="2154240"/>
            <a:ext cx="43434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Что такое ударение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6985080" y="1720440"/>
            <a:ext cx="43387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выделение в слове голосом одного из слого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TextBox 3"/>
          <p:cNvSpPr/>
          <p:nvPr/>
        </p:nvSpPr>
        <p:spPr>
          <a:xfrm>
            <a:off x="3073320" y="3862440"/>
            <a:ext cx="714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-РО-на,  ма- ЛИ-на , РА-ду-га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855440" y="2452320"/>
            <a:ext cx="43434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й слог называют ударным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6730920" y="2068560"/>
            <a:ext cx="433872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лог, который произносится в слове с большей силой голоса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090880" y="5076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TextBox 1"/>
          <p:cNvSpPr/>
          <p:nvPr/>
        </p:nvSpPr>
        <p:spPr>
          <a:xfrm>
            <a:off x="2198520" y="517212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л-ка,    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Box 2"/>
          <p:cNvSpPr/>
          <p:nvPr/>
        </p:nvSpPr>
        <p:spPr>
          <a:xfrm>
            <a:off x="5019840" y="5168880"/>
            <a:ext cx="219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-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-ки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Box 7"/>
          <p:cNvSpPr/>
          <p:nvPr/>
        </p:nvSpPr>
        <p:spPr>
          <a:xfrm>
            <a:off x="8102520" y="5168880"/>
            <a:ext cx="261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а-ш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-ка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077920" y="27576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077920" y="1741320"/>
            <a:ext cx="89107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ставь ударение в словах. Найди слова в которых первый слог ударный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Picture 2" descr="http://im4-tub-ru.yandex.net/i?id=45687038-11-72&amp;n=21"/>
          <p:cNvPicPr/>
          <p:nvPr/>
        </p:nvPicPr>
        <p:blipFill>
          <a:blip r:embed="rId1"/>
          <a:stretch/>
        </p:blipFill>
        <p:spPr>
          <a:xfrm>
            <a:off x="1565280" y="307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1565280" y="4599000"/>
            <a:ext cx="1905120" cy="69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к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584520" y="3676680"/>
            <a:ext cx="1905120" cy="5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txBody>
          <a:bodyPr anchor="ctr">
            <a:normAutofit fontScale="9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жи</a:t>
            </a:r>
            <a:r>
              <a:rPr b="0" lang="el-GR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́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5" name="Рисунок 18" descr=""/>
          <p:cNvPicPr/>
          <p:nvPr/>
        </p:nvPicPr>
        <p:blipFill>
          <a:blip r:embed="rId2"/>
          <a:stretch/>
        </p:blipFill>
        <p:spPr>
          <a:xfrm>
            <a:off x="3597120" y="43815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6" name="Рисунок 19" descr=""/>
          <p:cNvPicPr/>
          <p:nvPr/>
        </p:nvPicPr>
        <p:blipFill>
          <a:blip r:embed="rId3"/>
          <a:stretch/>
        </p:blipFill>
        <p:spPr>
          <a:xfrm>
            <a:off x="5603760" y="3024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20" descr=""/>
          <p:cNvPicPr/>
          <p:nvPr/>
        </p:nvPicPr>
        <p:blipFill>
          <a:blip r:embed="rId4"/>
          <a:stretch/>
        </p:blipFill>
        <p:spPr>
          <a:xfrm>
            <a:off x="7623000" y="4468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198" name="TextBox 1"/>
          <p:cNvSpPr/>
          <p:nvPr/>
        </p:nvSpPr>
        <p:spPr>
          <a:xfrm>
            <a:off x="5603760" y="4575240"/>
            <a:ext cx="190512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585858"/>
                </a:solidFill>
                <a:latin typeface="Monotype Corsiva"/>
              </a:rPr>
              <a:t>оле</a:t>
            </a:r>
            <a:r>
              <a:rPr b="0" lang="ru-RU" sz="32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585858"/>
                </a:solidFill>
                <a:latin typeface="Monotype Corsiva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TextBox 2"/>
          <p:cNvSpPr/>
          <p:nvPr/>
        </p:nvSpPr>
        <p:spPr>
          <a:xfrm>
            <a:off x="7661160" y="3738600"/>
            <a:ext cx="18288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ц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0" name="Рисунок 5" descr=""/>
          <p:cNvPicPr/>
          <p:nvPr/>
        </p:nvPicPr>
        <p:blipFill>
          <a:blip r:embed="rId5"/>
          <a:stretch/>
        </p:blipFill>
        <p:spPr>
          <a:xfrm>
            <a:off x="9705960" y="30099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6"/>
          <p:cNvSpPr/>
          <p:nvPr/>
        </p:nvSpPr>
        <p:spPr>
          <a:xfrm>
            <a:off x="9705960" y="4597560"/>
            <a:ext cx="190512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090520" y="507600"/>
            <a:ext cx="89103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Прямоугольник 7"/>
          <p:cNvSpPr/>
          <p:nvPr/>
        </p:nvSpPr>
        <p:spPr>
          <a:xfrm>
            <a:off x="2089080" y="1933560"/>
            <a:ext cx="891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ставь ударение в словах. Найди слова в которых второй слог ударный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TextBox 10"/>
          <p:cNvSpPr/>
          <p:nvPr/>
        </p:nvSpPr>
        <p:spPr>
          <a:xfrm>
            <a:off x="1805040" y="5372280"/>
            <a:ext cx="9396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ю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11"/>
          <p:cNvSpPr/>
          <p:nvPr/>
        </p:nvSpPr>
        <p:spPr>
          <a:xfrm>
            <a:off x="3425760" y="3340080"/>
            <a:ext cx="10954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TextBox 12"/>
          <p:cNvSpPr/>
          <p:nvPr/>
        </p:nvSpPr>
        <p:spPr>
          <a:xfrm>
            <a:off x="5048280" y="5372280"/>
            <a:ext cx="16351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л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и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7253280" y="3314880"/>
            <a:ext cx="14302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к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TextBox 14"/>
          <p:cNvSpPr/>
          <p:nvPr/>
        </p:nvSpPr>
        <p:spPr>
          <a:xfrm>
            <a:off x="9325080" y="5348160"/>
            <a:ext cx="167616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Picture 2" descr="J:\ЮЛА.jpg"/>
          <p:cNvPicPr/>
          <p:nvPr/>
        </p:nvPicPr>
        <p:blipFill>
          <a:blip r:embed="rId1"/>
          <a:stretch/>
        </p:blipFill>
        <p:spPr>
          <a:xfrm>
            <a:off x="1444680" y="3629160"/>
            <a:ext cx="1658880" cy="16081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3" descr="J:\кукла.jpg"/>
          <p:cNvPicPr/>
          <p:nvPr/>
        </p:nvPicPr>
        <p:blipFill>
          <a:blip r:embed="rId2"/>
          <a:stretch/>
        </p:blipFill>
        <p:spPr>
          <a:xfrm>
            <a:off x="3357720" y="4103640"/>
            <a:ext cx="1231920" cy="181764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4" descr="J:\солдатик.jpg"/>
          <p:cNvPicPr/>
          <p:nvPr/>
        </p:nvPicPr>
        <p:blipFill>
          <a:blip r:embed="rId3"/>
          <a:stretch/>
        </p:blipFill>
        <p:spPr>
          <a:xfrm>
            <a:off x="4867200" y="3651120"/>
            <a:ext cx="1998720" cy="17211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J:\кубики.jpg"/>
          <p:cNvPicPr/>
          <p:nvPr/>
        </p:nvPicPr>
        <p:blipFill>
          <a:blip r:embed="rId4"/>
          <a:stretch/>
        </p:blipFill>
        <p:spPr>
          <a:xfrm>
            <a:off x="7045200" y="429732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6" descr="J:\машинка.jpg"/>
          <p:cNvPicPr/>
          <p:nvPr/>
        </p:nvPicPr>
        <p:blipFill>
          <a:blip r:embed="rId5"/>
          <a:stretch/>
        </p:blipFill>
        <p:spPr>
          <a:xfrm>
            <a:off x="9325080" y="3797280"/>
            <a:ext cx="1676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2295000" y="1860480"/>
            <a:ext cx="891252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дели слова на группы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247840" y="39852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TextBox 1"/>
          <p:cNvSpPr/>
          <p:nvPr/>
        </p:nvSpPr>
        <p:spPr>
          <a:xfrm>
            <a:off x="1373040" y="2395440"/>
            <a:ext cx="114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TextBox 4"/>
          <p:cNvSpPr/>
          <p:nvPr/>
        </p:nvSpPr>
        <p:spPr>
          <a:xfrm>
            <a:off x="7839000" y="3295800"/>
            <a:ext cx="164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сто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3370320" y="3295800"/>
            <a:ext cx="143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ес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5543640" y="4557600"/>
            <a:ext cx="191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рандаш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Box 11"/>
          <p:cNvSpPr/>
          <p:nvPr/>
        </p:nvSpPr>
        <p:spPr>
          <a:xfrm>
            <a:off x="5746680" y="2398680"/>
            <a:ext cx="150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н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Box 13"/>
          <p:cNvSpPr/>
          <p:nvPr/>
        </p:nvSpPr>
        <p:spPr>
          <a:xfrm>
            <a:off x="9980640" y="2351160"/>
            <a:ext cx="171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2" name="Picture 2" descr="http://im1-tub-ru.yandex.net/i?id=96342822-33-72&amp;n=21"/>
          <p:cNvPicPr/>
          <p:nvPr/>
        </p:nvPicPr>
        <p:blipFill>
          <a:blip r:embed="rId1"/>
          <a:stretch/>
        </p:blipFill>
        <p:spPr>
          <a:xfrm>
            <a:off x="1139760" y="2911320"/>
            <a:ext cx="1606680" cy="12146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4" descr="http://im7-tub-ru.yandex.net/i?id=131414296-12-72&amp;n=21"/>
          <p:cNvPicPr/>
          <p:nvPr/>
        </p:nvPicPr>
        <p:blipFill>
          <a:blip r:embed="rId2"/>
          <a:stretch/>
        </p:blipFill>
        <p:spPr>
          <a:xfrm>
            <a:off x="8051760" y="3833640"/>
            <a:ext cx="1395360" cy="119880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http://castle.pri.ee/wp-content/uploads/2010/06/R_2.jpg"/>
          <p:cNvPicPr/>
          <p:nvPr/>
        </p:nvPicPr>
        <p:blipFill>
          <a:blip r:embed="rId3"/>
          <a:stretch/>
        </p:blipFill>
        <p:spPr>
          <a:xfrm>
            <a:off x="3395520" y="3833640"/>
            <a:ext cx="1381320" cy="12891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8" descr="http://www.proza.ru/pics/2011/06/03/1114.jpg"/>
          <p:cNvPicPr/>
          <p:nvPr/>
        </p:nvPicPr>
        <p:blipFill>
          <a:blip r:embed="rId4"/>
          <a:stretch/>
        </p:blipFill>
        <p:spPr>
          <a:xfrm>
            <a:off x="5746680" y="5126040"/>
            <a:ext cx="1568520" cy="130968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0" descr="http://im2-tub-ru.yandex.net/i?id=655137673-04-72&amp;n=21"/>
          <p:cNvPicPr/>
          <p:nvPr/>
        </p:nvPicPr>
        <p:blipFill>
          <a:blip r:embed="rId5"/>
          <a:stretch/>
        </p:blipFill>
        <p:spPr>
          <a:xfrm>
            <a:off x="5708520" y="293832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2" descr="http://im0-tub-ru.yandex.net/i?id=111969595-60-72&amp;n=21"/>
          <p:cNvPicPr/>
          <p:nvPr/>
        </p:nvPicPr>
        <p:blipFill>
          <a:blip r:embed="rId6"/>
          <a:stretch/>
        </p:blipFill>
        <p:spPr>
          <a:xfrm>
            <a:off x="10071000" y="2911320"/>
            <a:ext cx="15321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831920" y="1930320"/>
            <a:ext cx="2908440" cy="1077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сл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ударны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1977840" y="3537000"/>
            <a:ext cx="1299960" cy="59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к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8488440" y="1930320"/>
            <a:ext cx="3154320" cy="108432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ий слог ударны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TextBox 10"/>
          <p:cNvSpPr/>
          <p:nvPr/>
        </p:nvSpPr>
        <p:spPr>
          <a:xfrm>
            <a:off x="1100160" y="1930320"/>
            <a:ext cx="2984400" cy="1068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слог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2" name="TextBox 11"/>
          <p:cNvSpPr/>
          <p:nvPr/>
        </p:nvSpPr>
        <p:spPr>
          <a:xfrm>
            <a:off x="1679400" y="4292640"/>
            <a:ext cx="182592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о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TextBox 14"/>
          <p:cNvSpPr/>
          <p:nvPr/>
        </p:nvSpPr>
        <p:spPr>
          <a:xfrm>
            <a:off x="5456160" y="3537000"/>
            <a:ext cx="166068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4" name="TextBox 16"/>
          <p:cNvSpPr/>
          <p:nvPr/>
        </p:nvSpPr>
        <p:spPr>
          <a:xfrm>
            <a:off x="5410080" y="4292640"/>
            <a:ext cx="175284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ш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9418680" y="3537000"/>
            <a:ext cx="138600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ес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6" name="TextBox 21"/>
          <p:cNvSpPr/>
          <p:nvPr/>
        </p:nvSpPr>
        <p:spPr>
          <a:xfrm>
            <a:off x="9036000" y="4292640"/>
            <a:ext cx="215280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ранд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7" name="Заголовок 1"/>
          <p:cNvSpPr/>
          <p:nvPr/>
        </p:nvSpPr>
        <p:spPr>
          <a:xfrm>
            <a:off x="1724040" y="4507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98720" y="3949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2006280" y="1910880"/>
            <a:ext cx="893772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дели слова на группы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0" name="Picture 14" descr="http://www.owlpages.com/pictures/species-Asio-flammeus-5.jpg"/>
          <p:cNvPicPr/>
          <p:nvPr/>
        </p:nvPicPr>
        <p:blipFill>
          <a:blip r:embed="rId1"/>
          <a:stretch/>
        </p:blipFill>
        <p:spPr>
          <a:xfrm>
            <a:off x="1390680" y="3735360"/>
            <a:ext cx="1231920" cy="1636920"/>
          </a:xfrm>
          <a:prstGeom prst="rect">
            <a:avLst/>
          </a:prstGeom>
          <a:ln w="0">
            <a:noFill/>
          </a:ln>
        </p:spPr>
      </p:pic>
      <p:sp>
        <p:nvSpPr>
          <p:cNvPr id="1241" name="TextBox 5"/>
          <p:cNvSpPr/>
          <p:nvPr/>
        </p:nvSpPr>
        <p:spPr>
          <a:xfrm>
            <a:off x="1442880" y="2867040"/>
            <a:ext cx="112716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2" name="Picture 16" descr="http://im7-tub-ru.yandex.net/i?id=122108686-34-72&amp;n=21"/>
          <p:cNvPicPr/>
          <p:nvPr/>
        </p:nvPicPr>
        <p:blipFill>
          <a:blip r:embed="rId2"/>
          <a:stretch/>
        </p:blipFill>
        <p:spPr>
          <a:xfrm>
            <a:off x="4854600" y="3735360"/>
            <a:ext cx="16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3" descr=""/>
          <p:cNvPicPr/>
          <p:nvPr/>
        </p:nvPicPr>
        <p:blipFill>
          <a:blip r:embed="rId3"/>
          <a:stretch/>
        </p:blipFill>
        <p:spPr>
          <a:xfrm>
            <a:off x="10353600" y="4579920"/>
            <a:ext cx="1689120" cy="1262160"/>
          </a:xfrm>
          <a:prstGeom prst="rect">
            <a:avLst/>
          </a:prstGeom>
          <a:ln w="0">
            <a:noFill/>
          </a:ln>
        </p:spPr>
      </p:pic>
      <p:sp>
        <p:nvSpPr>
          <p:cNvPr id="1244" name="TextBox 8"/>
          <p:cNvSpPr/>
          <p:nvPr/>
        </p:nvSpPr>
        <p:spPr>
          <a:xfrm>
            <a:off x="10547280" y="3699000"/>
            <a:ext cx="13003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руш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TextBox 2"/>
          <p:cNvSpPr/>
          <p:nvPr/>
        </p:nvSpPr>
        <p:spPr>
          <a:xfrm>
            <a:off x="4954680" y="2943360"/>
            <a:ext cx="1279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9"/>
          <p:cNvSpPr/>
          <p:nvPr/>
        </p:nvSpPr>
        <p:spPr>
          <a:xfrm>
            <a:off x="6745320" y="3687840"/>
            <a:ext cx="11970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ду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Box 11"/>
          <p:cNvSpPr/>
          <p:nvPr/>
        </p:nvSpPr>
        <p:spPr>
          <a:xfrm>
            <a:off x="3138480" y="3687840"/>
            <a:ext cx="14288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лок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Box 12"/>
          <p:cNvSpPr/>
          <p:nvPr/>
        </p:nvSpPr>
        <p:spPr>
          <a:xfrm>
            <a:off x="8575560" y="2959200"/>
            <a:ext cx="1387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оро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9" name="Picture 2" descr="J:\молоко.jpg"/>
          <p:cNvPicPr/>
          <p:nvPr/>
        </p:nvPicPr>
        <p:blipFill>
          <a:blip r:embed="rId4"/>
          <a:stretch/>
        </p:blipFill>
        <p:spPr>
          <a:xfrm>
            <a:off x="2994120" y="4413240"/>
            <a:ext cx="1717560" cy="142884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3" descr="J:\радуга.jpg"/>
          <p:cNvPicPr/>
          <p:nvPr/>
        </p:nvPicPr>
        <p:blipFill>
          <a:blip r:embed="rId5"/>
          <a:stretch/>
        </p:blipFill>
        <p:spPr>
          <a:xfrm>
            <a:off x="6508800" y="4497480"/>
            <a:ext cx="1670040" cy="14284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4" descr="J:\носорог.jpg"/>
          <p:cNvPicPr/>
          <p:nvPr/>
        </p:nvPicPr>
        <p:blipFill>
          <a:blip r:embed="rId6"/>
          <a:stretch/>
        </p:blipFill>
        <p:spPr>
          <a:xfrm>
            <a:off x="8389800" y="3735360"/>
            <a:ext cx="176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06:07:30Z</dcterms:created>
  <dc:creator>Компьютерный класс 309</dc:creator>
  <dc:description/>
  <dc:language>en-US</dc:language>
  <cp:lastModifiedBy>Дмитрий</cp:lastModifiedBy>
  <dcterms:modified xsi:type="dcterms:W3CDTF">2015-02-08T13:23:29Z</dcterms:modified>
  <cp:revision>36</cp:revision>
  <dc:subject/>
  <dc:title>Презентация PowerPoint</dc:title>
</cp:coreProperties>
</file>