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4.gif" ContentType="image/gif"/>
  <Override PartName="/ppt/media/image16.png" ContentType="image/png"/>
  <Override PartName="/ppt/media/image15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0085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00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52360" y="-360"/>
            <a:ext cx="2946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84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5236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CDC1-6F96-435D-A043-D30A6C137B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EA5D-9BF1-4607-B390-15AACAA29F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C715-C6FB-4B2A-B679-EE8A50238E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153-C93A-458C-8387-93FDA2C3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2C8-55A4-4C62-B475-40AD5C5F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4EF-60E6-4F5F-B409-901FAC0B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AFA-59D4-4665-B895-7D5CFCDB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4DF3-9138-415C-8C17-DBCF80DF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414D-6BC5-4C2D-9FEA-84735C83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E1D6-99E3-4231-8560-76F20FC3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8975-2C8C-4C73-B63F-FC744B5C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A594-EB02-4B0F-BB32-4F6708E0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CCDD-DF2D-4F39-80C5-A300EF69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FD1D-C035-4A47-8A66-06ED74F7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708-2D40-40F7-8644-57C8AF6C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FFA6-AFC4-4414-A1CB-E52BD785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0901-77A1-4031-9480-78BD301D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D90B-CAF3-4333-BB86-59BB3692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E88D-3797-4C9B-A4D4-F068F0A1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6709-D9F2-4A44-942C-027A71F4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032-E593-4646-A262-D325EB8C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847-43B8-438F-AA55-4C634BDB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D27-39A6-4779-8A76-FB588F31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B60-4186-4374-8831-63AB2421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346-A0A3-400B-84AD-BFCA3403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2C6-179F-4337-9A4B-63878D5C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FB1-BDEA-48B9-9C3D-C2F1C65B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D267-343F-4400-8391-EE6E0EDBF9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BC9F-DA90-44B8-BCAD-A70B6C675A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63128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Нестандартные формы урок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42720" y="4357800"/>
            <a:ext cx="700092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Новикова Елена Тарас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МОУ гимназия №3 города Ту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8" descr="MCj03434030000[1]"/>
          <p:cNvPicPr/>
          <p:nvPr/>
        </p:nvPicPr>
        <p:blipFill>
          <a:blip r:embed="rId1"/>
          <a:stretch/>
        </p:blipFill>
        <p:spPr>
          <a:xfrm>
            <a:off x="0" y="5715000"/>
            <a:ext cx="121428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Закрепление новых знаний и способов деятельности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1356840"/>
            <a:ext cx="80074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взаимообмен заданиями, вопрос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вопросно – ответное обобщ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ридумывание заданий, вопросов, зада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использование вопросов, повышающих интеллектуальную актив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использование гипотез, предложен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каждый учит каждог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творческие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круглый стол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интерв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обучающие игры (ролевые, деловые, образовательны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Рисунок 3" descr=""/>
          <p:cNvPicPr/>
          <p:nvPr/>
        </p:nvPicPr>
        <p:blipFill>
          <a:blip r:embed="rId2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Применение знаний и способов деятельности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904760"/>
            <a:ext cx="8488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дебаты «за» и «против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задание «по кругу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разноуровневая самостоятельная рабо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групповая рабо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очинен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Автобусная остановка» (наработать «+» и «-» на «остановке» в течение 3-х мину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MCj03433430000[1]"/>
          <p:cNvPicPr/>
          <p:nvPr/>
        </p:nvPicPr>
        <p:blipFill>
          <a:blip r:embed="rId2"/>
          <a:stretch/>
        </p:blipFill>
        <p:spPr>
          <a:xfrm>
            <a:off x="0" y="5072040"/>
            <a:ext cx="1857240" cy="178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Контроль и самоконтроль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071800"/>
            <a:ext cx="800748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тестовые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разноуровневые проверочные раб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задания с избыточным количеством или противоречивыми данны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Дюжина вопросов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Смена собеседников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MCj03433450000[1]"/>
          <p:cNvPicPr/>
          <p:nvPr/>
        </p:nvPicPr>
        <p:blipFill>
          <a:blip r:embed="rId2"/>
          <a:stretch/>
        </p:blipFill>
        <p:spPr>
          <a:xfrm>
            <a:off x="0" y="5081760"/>
            <a:ext cx="1990800" cy="177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Коррекция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тестовые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задания с пропусками </a:t>
            </a:r>
            <a:r>
              <a:rPr b="0" i="1" lang="ru-RU" sz="2400" spc="-1" strike="noStrike">
                <a:solidFill>
                  <a:srgbClr val="ffffb7"/>
                </a:solidFill>
                <a:latin typeface="Arial Black"/>
              </a:rPr>
              <a:t>«Найди ошибку», «Корректор», «Вставь пропущенную букву», «Продолжи предложение»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труктурно – логические схемы с пропуск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Ассоциаци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Алфавит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Минута говорени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Выбор «1*2*4» или «один-вдвоем-все вместе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MCj03434030000[1]"/>
          <p:cNvPicPr/>
          <p:nvPr/>
        </p:nvPicPr>
        <p:blipFill>
          <a:blip r:embed="rId2"/>
          <a:stretch/>
        </p:blipFill>
        <p:spPr>
          <a:xfrm>
            <a:off x="0" y="5715000"/>
            <a:ext cx="121428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Подведение итогов учебного занятия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Незаконченное предложение», например: «Я научился на этом уроке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Линейка» самооцен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(К-красота,          П-правильн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-старание,        А-аккуратнос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Знаковая система в 1 клас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ловесная аргументированная оц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Эмоциональные минутки рад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MCj03433510000[1]"/>
          <p:cNvPicPr/>
          <p:nvPr/>
        </p:nvPicPr>
        <p:blipFill>
          <a:blip r:embed="rId2"/>
          <a:stretch/>
        </p:blipFill>
        <p:spPr>
          <a:xfrm>
            <a:off x="0" y="5000760"/>
            <a:ext cx="178596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9" descr="MCj03433450000[1]"/>
          <p:cNvPicPr/>
          <p:nvPr/>
        </p:nvPicPr>
        <p:blipFill>
          <a:blip r:embed="rId1"/>
          <a:stretch/>
        </p:blipFill>
        <p:spPr>
          <a:xfrm>
            <a:off x="0" y="5000760"/>
            <a:ext cx="1990800" cy="17762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Рефлексия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7720" y="1714680"/>
            <a:ext cx="800748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Письмо самому себе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Анкета «Плюс-минус-интересно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Я хочу сказать спасибо…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Дневники настроения учебного дня или уро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Заверши фразу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Цепочка пожеланий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Рефлексивный круг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Рисунок 3" descr=""/>
          <p:cNvPicPr/>
          <p:nvPr/>
        </p:nvPicPr>
        <p:blipFill>
          <a:blip r:embed="rId2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Рефлексия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7720" y="1785960"/>
            <a:ext cx="80074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Четыре угла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Шкала мнений» (займи позицию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Мини-сочин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Телеграмма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Барометр настроения» (3 лица: улыбающееся, серьезное, плачуще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Рисунок 4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MCj03433430000[1]"/>
          <p:cNvPicPr/>
          <p:nvPr/>
        </p:nvPicPr>
        <p:blipFill>
          <a:blip r:embed="rId2"/>
          <a:stretch/>
        </p:blipFill>
        <p:spPr>
          <a:xfrm>
            <a:off x="0" y="4786200"/>
            <a:ext cx="214308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3851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d2bc"/>
                </a:solidFill>
                <a:latin typeface="Arial Black"/>
              </a:rPr>
              <a:t>Правила работы в парах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7720" y="1500120"/>
            <a:ext cx="80074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</a:rPr>
              <a:t>Правила общ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при разговоре смотри на собесед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говори шепотом, доброжелатель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называй товарища по име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убедись, что в разговоре участвует кажды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говори спокойно и ясно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говори только по дел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обязательно спрашивай у товарища его мн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MCj03433450000[1]"/>
          <p:cNvPicPr/>
          <p:nvPr/>
        </p:nvPicPr>
        <p:blipFill>
          <a:blip r:embed="rId2"/>
          <a:stretch/>
        </p:blipFill>
        <p:spPr>
          <a:xfrm>
            <a:off x="0" y="5081760"/>
            <a:ext cx="1990800" cy="177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3851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d2bc"/>
                </a:solidFill>
                <a:latin typeface="Arial Black"/>
              </a:rPr>
              <a:t>Правила работы в парах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571320"/>
            <a:ext cx="800748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428760" y="1000080"/>
            <a:ext cx="8215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  <a:ea typeface="Calibri"/>
              </a:rPr>
              <a:t>Я говор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"Ты согласен?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"Не возражаешь?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"А ты как думаешь?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"Почему ты так думаешь?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  <a:ea typeface="Calibri"/>
              </a:rPr>
              <a:t>Этапы </a:t>
            </a:r>
            <a:r>
              <a:rPr b="0" lang="ru-RU" sz="2400" spc="-1" strike="noStrike" u="sng">
                <a:solidFill>
                  <a:srgbClr val="ffffb7"/>
                </a:solidFill>
                <a:uFillTx/>
                <a:latin typeface="Arial"/>
                <a:ea typeface="Calibri"/>
              </a:rPr>
              <a:t>работы в пара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809640">
              <a:buClr>
                <a:srgbClr val="ffffb7"/>
              </a:buClr>
              <a:buFont typeface="Arial"/>
              <a:buChar char="•"/>
              <a:tabLst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  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посоветуйтесь в парах и решите, </a:t>
            </a: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  <a:ea typeface="Calibri"/>
              </a:rPr>
              <a:t>какие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  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посоветуйтесь в парах и решите, </a:t>
            </a: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  <a:ea typeface="Calibri"/>
              </a:rPr>
              <a:t>к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  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посоветуйтесь в парах и решите, </a:t>
            </a: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  <a:ea typeface="Calibri"/>
              </a:rPr>
              <a:t>ч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Рисунок 4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MCj03433510000[1]"/>
          <p:cNvPicPr/>
          <p:nvPr/>
        </p:nvPicPr>
        <p:blipFill>
          <a:blip r:embed="rId2"/>
          <a:stretch/>
        </p:blipFill>
        <p:spPr>
          <a:xfrm>
            <a:off x="142920" y="5000760"/>
            <a:ext cx="178596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d2bc"/>
                </a:solidFill>
                <a:latin typeface="Arial Black"/>
              </a:rPr>
              <a:t>Правила работы в группе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</a:rPr>
              <a:t>Этапы групповой раб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постановка задач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планирование работы в групп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выполнение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обсуждение результат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обсуждение общего задания группы (замечания, дополнения, уточнения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сообщение о результатах работы групп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общий вывод о работе групп и достижении поставленной задач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MCj03433430000[1]"/>
          <p:cNvPicPr/>
          <p:nvPr/>
        </p:nvPicPr>
        <p:blipFill>
          <a:blip r:embed="rId2"/>
          <a:stretch/>
        </p:blipFill>
        <p:spPr>
          <a:xfrm>
            <a:off x="0" y="5276880"/>
            <a:ext cx="1490760" cy="15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789840" y="29160"/>
            <a:ext cx="7627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Среди моделей обучения мы выделяе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                                           </a:t>
            </a:r>
            <a:r>
              <a:rPr b="0" lang="ru-RU" sz="2400" spc="-1" strike="noStrike" u="sng">
                <a:solidFill>
                  <a:srgbClr val="fad2bc"/>
                </a:solidFill>
                <a:uFillTx/>
                <a:latin typeface="Arial Black"/>
                <a:ea typeface="Times New Roman"/>
              </a:rPr>
              <a:t>пассивну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                                            </a:t>
            </a:r>
            <a:r>
              <a:rPr b="0" lang="ru-RU" sz="2400" spc="-1" strike="noStrike" u="sng">
                <a:solidFill>
                  <a:srgbClr val="fad2bc"/>
                </a:solidFill>
                <a:uFillTx/>
                <a:latin typeface="Arial Black"/>
                <a:ea typeface="Times New Roman"/>
              </a:rPr>
              <a:t>активну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                                            </a:t>
            </a:r>
            <a:r>
              <a:rPr b="0" lang="ru-RU" sz="2400" spc="-1" strike="noStrike" u="sng">
                <a:solidFill>
                  <a:srgbClr val="fad2bc"/>
                </a:solidFill>
                <a:uFillTx/>
                <a:latin typeface="Arial Black"/>
                <a:ea typeface="Times New Roman"/>
              </a:rPr>
              <a:t>интерактивную</a:t>
            </a:r>
            <a:r>
              <a:rPr b="0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Особенностями </a:t>
            </a:r>
            <a:r>
              <a:rPr b="1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пассивной </a:t>
            </a:r>
            <a:r>
              <a:rPr b="0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модели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является т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что ученики усваивают материал из с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учителя или из текста учебников, не обща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между собой,  не выполняют творческ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зада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Активные</a:t>
            </a:r>
            <a:r>
              <a:rPr b="0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 методы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предполаг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стимулирование познаватель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деятельности и самостоя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уче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Интерактивная</a:t>
            </a:r>
            <a:r>
              <a:rPr b="0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 модель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своей целью стави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организацию комфортных условий обуч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при которых все ученики актив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взаимодействуют </a:t>
            </a: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  <a:ea typeface="Times New Roman"/>
              </a:rPr>
              <a:t>между собой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d2bc"/>
                </a:solidFill>
                <a:latin typeface="Arial Black"/>
              </a:rPr>
              <a:t>Правила работы в группе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</a:rPr>
              <a:t>Наши роли в групп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организатор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– следит за стилем об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секретарь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– ведет запис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спикер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– докладывает о результатах обсужд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контролер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– проверяет результа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критик –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высказывает противоположную точку з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MCj03433510000[1]"/>
          <p:cNvPicPr/>
          <p:nvPr/>
        </p:nvPicPr>
        <p:blipFill>
          <a:blip r:embed="rId2"/>
          <a:stretch/>
        </p:blipFill>
        <p:spPr>
          <a:xfrm>
            <a:off x="0" y="5000760"/>
            <a:ext cx="178596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d2bc"/>
                </a:solidFill>
                <a:latin typeface="Arial Black"/>
              </a:rPr>
              <a:t>Правила работы в группе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</a:rPr>
              <a:t>Виды </a:t>
            </a:r>
            <a:r>
              <a:rPr b="0" lang="ru-RU" sz="2400" spc="-1" strike="noStrike" u="sng">
                <a:solidFill>
                  <a:srgbClr val="ffffb7"/>
                </a:solidFill>
                <a:uFillTx/>
                <a:latin typeface="Arial"/>
              </a:rPr>
              <a:t>работы в пара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проверять друг друг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тренироваться в пара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обсуждение в пар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</a:rPr>
              <a:t>Критерии слаженной раб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снижение числа ошибок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удовольствие партнеров от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совместной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MCj03433450000[1]"/>
          <p:cNvPicPr/>
          <p:nvPr/>
        </p:nvPicPr>
        <p:blipFill>
          <a:blip r:embed="rId2"/>
          <a:stretch/>
        </p:blipFill>
        <p:spPr>
          <a:xfrm>
            <a:off x="0" y="5081760"/>
            <a:ext cx="1990800" cy="177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Эвристическо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задание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37720" y="2428920"/>
            <a:ext cx="80074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Эвристическо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задание -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учебное задание, имеющее целью создание учеником </a:t>
            </a: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личного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образовательного продукта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 с использованием эвристических способов и форм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MCj03433510000[1]"/>
          <p:cNvPicPr/>
          <p:nvPr/>
        </p:nvPicPr>
        <p:blipFill>
          <a:blip r:embed="rId2"/>
          <a:stretch/>
        </p:blipFill>
        <p:spPr>
          <a:xfrm>
            <a:off x="142920" y="4929120"/>
            <a:ext cx="17859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990720" y="533520"/>
            <a:ext cx="5905440" cy="5715000"/>
            <a:chOff x="990720" y="533520"/>
            <a:chExt cx="5905440" cy="5715000"/>
          </a:xfrm>
        </p:grpSpPr>
        <p:grpSp>
          <p:nvGrpSpPr>
            <p:cNvPr id="191" name="Group 3"/>
            <p:cNvGrpSpPr/>
            <p:nvPr/>
          </p:nvGrpSpPr>
          <p:grpSpPr>
            <a:xfrm>
              <a:off x="1067040" y="725400"/>
              <a:ext cx="5729040" cy="5391360"/>
              <a:chOff x="1067040" y="725400"/>
              <a:chExt cx="5729040" cy="5391360"/>
            </a:xfrm>
          </p:grpSpPr>
          <p:sp>
            <p:nvSpPr>
              <p:cNvPr id="192" name="Freeform 4"/>
              <p:cNvSpPr/>
              <p:nvPr/>
            </p:nvSpPr>
            <p:spPr>
              <a:xfrm>
                <a:off x="1067040" y="725400"/>
                <a:ext cx="5729040" cy="5391360"/>
              </a:xfrm>
              <a:custGeom>
                <a:avLst/>
                <a:gdLst>
                  <a:gd name="textAreaLeft" fmla="*/ 0 w 5729040"/>
                  <a:gd name="textAreaRight" fmla="*/ 5729400 w 5729040"/>
                  <a:gd name="textAreaTop" fmla="*/ 0 h 5391360"/>
                  <a:gd name="textAreaBottom" fmla="*/ 5391720 h 5391360"/>
                </a:gdLst>
                <a:ahLst/>
                <a:rect l="textAreaLeft" t="textAreaTop" r="textAreaRight" b="textAreaBottom"/>
                <a:pathLst>
                  <a:path w="3609" h="3396">
                    <a:moveTo>
                      <a:pt x="33" y="2006"/>
                    </a:moveTo>
                    <a:cubicBezTo>
                      <a:pt x="45" y="1897"/>
                      <a:pt x="49" y="1879"/>
                      <a:pt x="53" y="1748"/>
                    </a:cubicBezTo>
                    <a:cubicBezTo>
                      <a:pt x="60" y="1532"/>
                      <a:pt x="0" y="1309"/>
                      <a:pt x="133" y="1132"/>
                    </a:cubicBezTo>
                    <a:cubicBezTo>
                      <a:pt x="143" y="1093"/>
                      <a:pt x="171" y="1017"/>
                      <a:pt x="192" y="983"/>
                    </a:cubicBezTo>
                    <a:cubicBezTo>
                      <a:pt x="201" y="969"/>
                      <a:pt x="212" y="957"/>
                      <a:pt x="222" y="943"/>
                    </a:cubicBezTo>
                    <a:cubicBezTo>
                      <a:pt x="236" y="924"/>
                      <a:pt x="262" y="884"/>
                      <a:pt x="262" y="884"/>
                    </a:cubicBezTo>
                    <a:cubicBezTo>
                      <a:pt x="278" y="821"/>
                      <a:pt x="265" y="856"/>
                      <a:pt x="311" y="784"/>
                    </a:cubicBezTo>
                    <a:cubicBezTo>
                      <a:pt x="322" y="767"/>
                      <a:pt x="320" y="743"/>
                      <a:pt x="331" y="725"/>
                    </a:cubicBezTo>
                    <a:cubicBezTo>
                      <a:pt x="352" y="691"/>
                      <a:pt x="399" y="649"/>
                      <a:pt x="431" y="625"/>
                    </a:cubicBezTo>
                    <a:cubicBezTo>
                      <a:pt x="460" y="536"/>
                      <a:pt x="499" y="505"/>
                      <a:pt x="589" y="477"/>
                    </a:cubicBezTo>
                    <a:cubicBezTo>
                      <a:pt x="618" y="439"/>
                      <a:pt x="664" y="387"/>
                      <a:pt x="709" y="367"/>
                    </a:cubicBezTo>
                    <a:cubicBezTo>
                      <a:pt x="728" y="358"/>
                      <a:pt x="748" y="354"/>
                      <a:pt x="768" y="347"/>
                    </a:cubicBezTo>
                    <a:cubicBezTo>
                      <a:pt x="778" y="344"/>
                      <a:pt x="798" y="337"/>
                      <a:pt x="798" y="337"/>
                    </a:cubicBezTo>
                    <a:cubicBezTo>
                      <a:pt x="821" y="321"/>
                      <a:pt x="856" y="314"/>
                      <a:pt x="868" y="288"/>
                    </a:cubicBezTo>
                    <a:cubicBezTo>
                      <a:pt x="872" y="280"/>
                      <a:pt x="895" y="225"/>
                      <a:pt x="907" y="218"/>
                    </a:cubicBezTo>
                    <a:cubicBezTo>
                      <a:pt x="943" y="196"/>
                      <a:pt x="997" y="194"/>
                      <a:pt x="1036" y="179"/>
                    </a:cubicBezTo>
                    <a:cubicBezTo>
                      <a:pt x="1149" y="136"/>
                      <a:pt x="1027" y="185"/>
                      <a:pt x="1126" y="129"/>
                    </a:cubicBezTo>
                    <a:cubicBezTo>
                      <a:pt x="1152" y="114"/>
                      <a:pt x="1220" y="111"/>
                      <a:pt x="1235" y="109"/>
                    </a:cubicBezTo>
                    <a:cubicBezTo>
                      <a:pt x="1295" y="79"/>
                      <a:pt x="1334" y="77"/>
                      <a:pt x="1404" y="69"/>
                    </a:cubicBezTo>
                    <a:cubicBezTo>
                      <a:pt x="1518" y="32"/>
                      <a:pt x="1635" y="30"/>
                      <a:pt x="1751" y="0"/>
                    </a:cubicBezTo>
                    <a:cubicBezTo>
                      <a:pt x="1877" y="3"/>
                      <a:pt x="2003" y="4"/>
                      <a:pt x="2129" y="10"/>
                    </a:cubicBezTo>
                    <a:cubicBezTo>
                      <a:pt x="2223" y="14"/>
                      <a:pt x="2323" y="63"/>
                      <a:pt x="2417" y="79"/>
                    </a:cubicBezTo>
                    <a:cubicBezTo>
                      <a:pt x="2509" y="148"/>
                      <a:pt x="2644" y="161"/>
                      <a:pt x="2754" y="189"/>
                    </a:cubicBezTo>
                    <a:cubicBezTo>
                      <a:pt x="2825" y="311"/>
                      <a:pt x="2762" y="211"/>
                      <a:pt x="2874" y="357"/>
                    </a:cubicBezTo>
                    <a:cubicBezTo>
                      <a:pt x="2881" y="366"/>
                      <a:pt x="2882" y="382"/>
                      <a:pt x="2893" y="387"/>
                    </a:cubicBezTo>
                    <a:cubicBezTo>
                      <a:pt x="2921" y="400"/>
                      <a:pt x="2953" y="400"/>
                      <a:pt x="2983" y="407"/>
                    </a:cubicBezTo>
                    <a:cubicBezTo>
                      <a:pt x="3039" y="449"/>
                      <a:pt x="3070" y="463"/>
                      <a:pt x="3122" y="496"/>
                    </a:cubicBezTo>
                    <a:cubicBezTo>
                      <a:pt x="3129" y="523"/>
                      <a:pt x="3126" y="554"/>
                      <a:pt x="3142" y="576"/>
                    </a:cubicBezTo>
                    <a:cubicBezTo>
                      <a:pt x="3161" y="603"/>
                      <a:pt x="3199" y="611"/>
                      <a:pt x="3221" y="635"/>
                    </a:cubicBezTo>
                    <a:cubicBezTo>
                      <a:pt x="3239" y="655"/>
                      <a:pt x="3244" y="684"/>
                      <a:pt x="3261" y="705"/>
                    </a:cubicBezTo>
                    <a:cubicBezTo>
                      <a:pt x="3284" y="734"/>
                      <a:pt x="3319" y="753"/>
                      <a:pt x="3340" y="784"/>
                    </a:cubicBezTo>
                    <a:cubicBezTo>
                      <a:pt x="3379" y="839"/>
                      <a:pt x="3405" y="979"/>
                      <a:pt x="3460" y="1023"/>
                    </a:cubicBezTo>
                    <a:cubicBezTo>
                      <a:pt x="3481" y="1039"/>
                      <a:pt x="3506" y="1049"/>
                      <a:pt x="3529" y="1062"/>
                    </a:cubicBezTo>
                    <a:cubicBezTo>
                      <a:pt x="3532" y="1089"/>
                      <a:pt x="3533" y="1116"/>
                      <a:pt x="3539" y="1142"/>
                    </a:cubicBezTo>
                    <a:cubicBezTo>
                      <a:pt x="3546" y="1172"/>
                      <a:pt x="3569" y="1231"/>
                      <a:pt x="3569" y="1231"/>
                    </a:cubicBezTo>
                    <a:cubicBezTo>
                      <a:pt x="3576" y="1371"/>
                      <a:pt x="3586" y="1510"/>
                      <a:pt x="3609" y="1648"/>
                    </a:cubicBezTo>
                    <a:cubicBezTo>
                      <a:pt x="3606" y="1734"/>
                      <a:pt x="3607" y="1821"/>
                      <a:pt x="3599" y="1907"/>
                    </a:cubicBezTo>
                    <a:cubicBezTo>
                      <a:pt x="3593" y="1974"/>
                      <a:pt x="3541" y="2065"/>
                      <a:pt x="3519" y="2125"/>
                    </a:cubicBezTo>
                    <a:cubicBezTo>
                      <a:pt x="3479" y="2234"/>
                      <a:pt x="3437" y="2338"/>
                      <a:pt x="3390" y="2443"/>
                    </a:cubicBezTo>
                    <a:cubicBezTo>
                      <a:pt x="3381" y="2462"/>
                      <a:pt x="3377" y="2482"/>
                      <a:pt x="3370" y="2502"/>
                    </a:cubicBezTo>
                    <a:cubicBezTo>
                      <a:pt x="3358" y="2536"/>
                      <a:pt x="3313" y="2589"/>
                      <a:pt x="3291" y="2622"/>
                    </a:cubicBezTo>
                    <a:cubicBezTo>
                      <a:pt x="3285" y="2631"/>
                      <a:pt x="3287" y="2643"/>
                      <a:pt x="3281" y="2651"/>
                    </a:cubicBezTo>
                    <a:cubicBezTo>
                      <a:pt x="3265" y="2671"/>
                      <a:pt x="3238" y="2681"/>
                      <a:pt x="3221" y="2701"/>
                    </a:cubicBezTo>
                    <a:cubicBezTo>
                      <a:pt x="3171" y="2761"/>
                      <a:pt x="3163" y="2810"/>
                      <a:pt x="3082" y="2830"/>
                    </a:cubicBezTo>
                    <a:cubicBezTo>
                      <a:pt x="3035" y="2900"/>
                      <a:pt x="3055" y="2870"/>
                      <a:pt x="3023" y="2920"/>
                    </a:cubicBezTo>
                    <a:cubicBezTo>
                      <a:pt x="3017" y="2930"/>
                      <a:pt x="3002" y="2932"/>
                      <a:pt x="2993" y="2939"/>
                    </a:cubicBezTo>
                    <a:cubicBezTo>
                      <a:pt x="2961" y="2965"/>
                      <a:pt x="2924" y="2992"/>
                      <a:pt x="2893" y="3019"/>
                    </a:cubicBezTo>
                    <a:cubicBezTo>
                      <a:pt x="2844" y="3063"/>
                      <a:pt x="2834" y="3088"/>
                      <a:pt x="2774" y="3108"/>
                    </a:cubicBezTo>
                    <a:cubicBezTo>
                      <a:pt x="2745" y="3128"/>
                      <a:pt x="2712" y="3135"/>
                      <a:pt x="2685" y="3158"/>
                    </a:cubicBezTo>
                    <a:cubicBezTo>
                      <a:pt x="2659" y="3180"/>
                      <a:pt x="2656" y="3194"/>
                      <a:pt x="2625" y="3208"/>
                    </a:cubicBezTo>
                    <a:cubicBezTo>
                      <a:pt x="2494" y="3266"/>
                      <a:pt x="2361" y="3295"/>
                      <a:pt x="2218" y="3307"/>
                    </a:cubicBezTo>
                    <a:cubicBezTo>
                      <a:pt x="2172" y="3323"/>
                      <a:pt x="2089" y="3370"/>
                      <a:pt x="2049" y="3376"/>
                    </a:cubicBezTo>
                    <a:cubicBezTo>
                      <a:pt x="1964" y="3388"/>
                      <a:pt x="1877" y="3386"/>
                      <a:pt x="1791" y="3396"/>
                    </a:cubicBezTo>
                    <a:cubicBezTo>
                      <a:pt x="1698" y="3393"/>
                      <a:pt x="1606" y="3392"/>
                      <a:pt x="1513" y="3386"/>
                    </a:cubicBezTo>
                    <a:cubicBezTo>
                      <a:pt x="1476" y="3384"/>
                      <a:pt x="1476" y="3373"/>
                      <a:pt x="1444" y="3366"/>
                    </a:cubicBezTo>
                    <a:cubicBezTo>
                      <a:pt x="1366" y="3349"/>
                      <a:pt x="1284" y="3337"/>
                      <a:pt x="1205" y="3327"/>
                    </a:cubicBezTo>
                    <a:cubicBezTo>
                      <a:pt x="1159" y="3304"/>
                      <a:pt x="1107" y="3289"/>
                      <a:pt x="1066" y="3257"/>
                    </a:cubicBezTo>
                    <a:cubicBezTo>
                      <a:pt x="1033" y="3231"/>
                      <a:pt x="979" y="3176"/>
                      <a:pt x="937" y="3158"/>
                    </a:cubicBezTo>
                    <a:cubicBezTo>
                      <a:pt x="874" y="3131"/>
                      <a:pt x="816" y="3096"/>
                      <a:pt x="758" y="3059"/>
                    </a:cubicBezTo>
                    <a:cubicBezTo>
                      <a:pt x="735" y="3029"/>
                      <a:pt x="718" y="2994"/>
                      <a:pt x="689" y="2969"/>
                    </a:cubicBezTo>
                    <a:cubicBezTo>
                      <a:pt x="673" y="2955"/>
                      <a:pt x="642" y="2965"/>
                      <a:pt x="629" y="2949"/>
                    </a:cubicBezTo>
                    <a:cubicBezTo>
                      <a:pt x="596" y="2909"/>
                      <a:pt x="577" y="2859"/>
                      <a:pt x="560" y="2810"/>
                    </a:cubicBezTo>
                    <a:cubicBezTo>
                      <a:pt x="553" y="2790"/>
                      <a:pt x="555" y="2766"/>
                      <a:pt x="540" y="2751"/>
                    </a:cubicBezTo>
                    <a:cubicBezTo>
                      <a:pt x="519" y="2730"/>
                      <a:pt x="465" y="2713"/>
                      <a:pt x="431" y="2701"/>
                    </a:cubicBezTo>
                    <a:cubicBezTo>
                      <a:pt x="431" y="2701"/>
                      <a:pt x="391" y="2661"/>
                      <a:pt x="371" y="2641"/>
                    </a:cubicBezTo>
                    <a:cubicBezTo>
                      <a:pt x="328" y="2599"/>
                      <a:pt x="289" y="2565"/>
                      <a:pt x="262" y="2512"/>
                    </a:cubicBezTo>
                    <a:cubicBezTo>
                      <a:pt x="242" y="2384"/>
                      <a:pt x="242" y="2280"/>
                      <a:pt x="123" y="2205"/>
                    </a:cubicBezTo>
                    <a:cubicBezTo>
                      <a:pt x="113" y="2192"/>
                      <a:pt x="98" y="2181"/>
                      <a:pt x="93" y="2165"/>
                    </a:cubicBezTo>
                    <a:cubicBezTo>
                      <a:pt x="77" y="2117"/>
                      <a:pt x="96" y="2061"/>
                      <a:pt x="73" y="2016"/>
                    </a:cubicBezTo>
                    <a:cubicBezTo>
                      <a:pt x="28" y="1926"/>
                      <a:pt x="33" y="1992"/>
                      <a:pt x="33" y="2006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Rectangle 5"/>
              <p:cNvSpPr/>
              <p:nvPr/>
            </p:nvSpPr>
            <p:spPr>
              <a:xfrm>
                <a:off x="2000520" y="1905120"/>
                <a:ext cx="4019400" cy="37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Критерием результативности  являются положительные изменения в чувствах, эмоциях, мышлении, практической деятельности учащихся, их комфортное состояние в учебном процессе и образовательном пространстве в целом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улучшение взаимоотношений в школе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4" name="AutoShape 6"/>
            <p:cNvSpPr/>
            <p:nvPr/>
          </p:nvSpPr>
          <p:spPr>
            <a:xfrm>
              <a:off x="990720" y="533520"/>
              <a:ext cx="5905440" cy="5715000"/>
            </a:xfrm>
            <a:custGeom>
              <a:avLst/>
              <a:gdLst>
                <a:gd name="textAreaLeft" fmla="*/ 865080 w 5905440"/>
                <a:gd name="textAreaRight" fmla="*/ 5040360 w 5905440"/>
                <a:gd name="textAreaTop" fmla="*/ 836640 h 5715000"/>
                <a:gd name="textAreaBottom" fmla="*/ 4878360 h 57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61" y="10800"/>
                  </a:moveTo>
                  <a:cubicBezTo>
                    <a:pt x="1061" y="16179"/>
                    <a:pt x="5421" y="20539"/>
                    <a:pt x="10800" y="20539"/>
                  </a:cubicBezTo>
                  <a:cubicBezTo>
                    <a:pt x="16179" y="20539"/>
                    <a:pt x="20539" y="16179"/>
                    <a:pt x="20539" y="10800"/>
                  </a:cubicBezTo>
                  <a:cubicBezTo>
                    <a:pt x="20539" y="5421"/>
                    <a:pt x="16179" y="1061"/>
                    <a:pt x="10800" y="1061"/>
                  </a:cubicBezTo>
                  <a:cubicBezTo>
                    <a:pt x="5421" y="1061"/>
                    <a:pt x="1061" y="5421"/>
                    <a:pt x="106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Group 7"/>
          <p:cNvGrpSpPr/>
          <p:nvPr/>
        </p:nvGrpSpPr>
        <p:grpSpPr>
          <a:xfrm>
            <a:off x="468360" y="228600"/>
            <a:ext cx="6934320" cy="6629400"/>
            <a:chOff x="468360" y="228600"/>
            <a:chExt cx="6934320" cy="6629400"/>
          </a:xfrm>
        </p:grpSpPr>
        <p:pic>
          <p:nvPicPr>
            <p:cNvPr id="196" name="Picture 8" descr="pe01758_"/>
            <p:cNvPicPr/>
            <p:nvPr/>
          </p:nvPicPr>
          <p:blipFill>
            <a:blip r:embed="rId2"/>
            <a:stretch/>
          </p:blipFill>
          <p:spPr>
            <a:xfrm>
              <a:off x="5726160" y="1143000"/>
              <a:ext cx="1676520" cy="16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9" descr="pe02947_"/>
            <p:cNvPicPr/>
            <p:nvPr/>
          </p:nvPicPr>
          <p:blipFill>
            <a:blip r:embed="rId3"/>
            <a:stretch/>
          </p:blipFill>
          <p:spPr>
            <a:xfrm>
              <a:off x="925560" y="4419720"/>
              <a:ext cx="1332000" cy="14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0" descr="bd07226_"/>
            <p:cNvPicPr/>
            <p:nvPr/>
          </p:nvPicPr>
          <p:blipFill>
            <a:blip r:embed="rId4"/>
            <a:stretch/>
          </p:blipFill>
          <p:spPr>
            <a:xfrm>
              <a:off x="468360" y="2133720"/>
              <a:ext cx="102240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1" descr="pe01821_"/>
            <p:cNvPicPr/>
            <p:nvPr/>
          </p:nvPicPr>
          <p:blipFill>
            <a:blip r:embed="rId5"/>
            <a:stretch/>
          </p:blipFill>
          <p:spPr>
            <a:xfrm>
              <a:off x="5421600" y="4267080"/>
              <a:ext cx="1411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2" descr="pe02654_"/>
            <p:cNvPicPr/>
            <p:nvPr/>
          </p:nvPicPr>
          <p:blipFill>
            <a:blip r:embed="rId6"/>
            <a:stretch/>
          </p:blipFill>
          <p:spPr>
            <a:xfrm>
              <a:off x="3135600" y="228600"/>
              <a:ext cx="1752480" cy="16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3" descr="bd07214_"/>
            <p:cNvPicPr/>
            <p:nvPr/>
          </p:nvPicPr>
          <p:blipFill>
            <a:blip r:embed="rId7"/>
            <a:stretch/>
          </p:blipFill>
          <p:spPr>
            <a:xfrm>
              <a:off x="1382760" y="380880"/>
              <a:ext cx="11350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4" descr="pe02282_"/>
            <p:cNvPicPr/>
            <p:nvPr/>
          </p:nvPicPr>
          <p:blipFill>
            <a:blip r:embed="rId8"/>
            <a:stretch/>
          </p:blipFill>
          <p:spPr>
            <a:xfrm>
              <a:off x="2982960" y="5029200"/>
              <a:ext cx="17510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4" descr="pe02282_"/>
            <p:cNvPicPr/>
            <p:nvPr/>
          </p:nvPicPr>
          <p:blipFill>
            <a:blip r:embed="rId9"/>
            <a:stretch/>
          </p:blipFill>
          <p:spPr>
            <a:xfrm>
              <a:off x="3048120" y="5029200"/>
              <a:ext cx="175104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15"/>
          <p:cNvGrpSpPr/>
          <p:nvPr/>
        </p:nvGrpSpPr>
        <p:grpSpPr>
          <a:xfrm>
            <a:off x="7400880" y="0"/>
            <a:ext cx="1743120" cy="2133720"/>
            <a:chOff x="7400880" y="0"/>
            <a:chExt cx="1743120" cy="2133720"/>
          </a:xfrm>
        </p:grpSpPr>
        <p:pic>
          <p:nvPicPr>
            <p:cNvPr id="205" name="Picture 16" descr="ag00433_"/>
            <p:cNvPicPr/>
            <p:nvPr/>
          </p:nvPicPr>
          <p:blipFill>
            <a:blip r:embed="rId10"/>
            <a:stretch/>
          </p:blipFill>
          <p:spPr>
            <a:xfrm>
              <a:off x="7400880" y="304920"/>
              <a:ext cx="174312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7" descr="j0076161"/>
            <p:cNvPicPr/>
            <p:nvPr/>
          </p:nvPicPr>
          <p:blipFill>
            <a:blip r:embed="rId11"/>
            <a:stretch/>
          </p:blipFill>
          <p:spPr>
            <a:xfrm>
              <a:off x="7696080" y="0"/>
              <a:ext cx="14479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Text Box 20"/>
          <p:cNvSpPr/>
          <p:nvPr/>
        </p:nvSpPr>
        <p:spPr>
          <a:xfrm>
            <a:off x="8763120" y="6400800"/>
            <a:ext cx="380880" cy="36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1026"/>
          <p:cNvSpPr txBox="1"/>
          <p:nvPr/>
        </p:nvSpPr>
        <p:spPr>
          <a:xfrm>
            <a:off x="1940040" y="609480"/>
            <a:ext cx="548964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2700000" blurRad="0" rotWithShape="0">
                    <a:srgbClr val="ffffff"/>
                  </a:outerShdw>
                </a:effectLst>
                <a:latin typeface="Impact"/>
              </a:rPr>
              <a:t>Спасибо за внимание.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07932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WordArt 1027"/>
          <p:cNvSpPr txBox="1"/>
          <p:nvPr/>
        </p:nvSpPr>
        <p:spPr>
          <a:xfrm>
            <a:off x="608040" y="2514600"/>
            <a:ext cx="7921440" cy="266688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ворческих Вам успехов!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0" name="Object 2" descr=""/>
          <p:cNvPicPr/>
          <p:nvPr/>
        </p:nvPicPr>
        <p:blipFill>
          <a:blip r:embed="rId3"/>
          <a:stretch/>
        </p:blipFill>
        <p:spPr>
          <a:xfrm>
            <a:off x="3581280" y="4572000"/>
            <a:ext cx="14414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571680" y="687600"/>
            <a:ext cx="778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  <a:ea typeface="Times New Roman"/>
              </a:rPr>
              <a:t>Рассмотрим основные этапы интерактивного учебного занят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На каждом этапе - свой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интерактивный пр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2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Cj03433450000[1]"/>
          <p:cNvPicPr/>
          <p:nvPr/>
        </p:nvPicPr>
        <p:blipFill>
          <a:blip r:embed="rId2"/>
          <a:stretch/>
        </p:blipFill>
        <p:spPr>
          <a:xfrm>
            <a:off x="-142920" y="4429080"/>
            <a:ext cx="2571840" cy="242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Организационный этап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1904760"/>
            <a:ext cx="8488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обранность уч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реемственность и последовательность требова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покойное и умеренное ведение уро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упражнения на создание благоприятной атмосферы урока: «Подари цветок», «Прогноз погоды», «Комплимент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Cj03433430000[1]"/>
          <p:cNvPicPr/>
          <p:nvPr/>
        </p:nvPicPr>
        <p:blipFill>
          <a:blip r:embed="rId2"/>
          <a:stretch/>
        </p:blipFill>
        <p:spPr>
          <a:xfrm>
            <a:off x="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MCj03433510000[1]"/>
          <p:cNvPicPr/>
          <p:nvPr/>
        </p:nvPicPr>
        <p:blipFill>
          <a:blip r:embed="rId1"/>
          <a:stretch/>
        </p:blipFill>
        <p:spPr>
          <a:xfrm>
            <a:off x="142920" y="5000760"/>
            <a:ext cx="1785960" cy="1714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Проверка домашнего задания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571400"/>
            <a:ext cx="80074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разминк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тестовые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выполнение заданий подобных домашни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остановка дополнительных вопро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обращение с просьбой продолжить ответ (по «цепочке», по «кругу»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оставление плана выполнения домашнего з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2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" descr="MCj03433450000[1]"/>
          <p:cNvPicPr/>
          <p:nvPr/>
        </p:nvPicPr>
        <p:blipFill>
          <a:blip r:embed="rId1"/>
          <a:stretch/>
        </p:blipFill>
        <p:spPr>
          <a:xfrm>
            <a:off x="-142920" y="5286240"/>
            <a:ext cx="1785960" cy="15717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Актуализация субъективного опыта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7720" y="1643040"/>
            <a:ext cx="80074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объяснение ц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остановка целей в виде проблемного вопроса,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роведение опроса на предмет знания и понимания изучаемог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остановка целей через показ конечных результатов заня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остановка привлекательной ц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ерегово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2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Изучение нового материала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1904760"/>
            <a:ext cx="8488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работа в малых групп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ученик в роли уч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импозиу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мастерская будущего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работа с определением пон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использование аналогий и гомолог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MCj03433450000[1]"/>
          <p:cNvPicPr/>
          <p:nvPr/>
        </p:nvPicPr>
        <p:blipFill>
          <a:blip r:embed="rId2"/>
          <a:stretch/>
        </p:blipFill>
        <p:spPr>
          <a:xfrm>
            <a:off x="0" y="5081760"/>
            <a:ext cx="1990800" cy="177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Изучение нового материала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356840"/>
            <a:ext cx="80074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изучение в </a:t>
            </a:r>
            <a:r>
              <a:rPr b="1" lang="ru-RU" sz="2400" spc="-1" strike="noStrike">
                <a:solidFill>
                  <a:srgbClr val="fad2bc"/>
                </a:solidFill>
                <a:latin typeface="Arial Black"/>
              </a:rPr>
              <a:t>экстрактивном</a:t>
            </a:r>
            <a:r>
              <a:rPr b="0" lang="ru-RU" sz="2400" spc="-1" strike="noStrike">
                <a:solidFill>
                  <a:srgbClr val="fad2bc"/>
                </a:solidFill>
                <a:latin typeface="Arial Black"/>
              </a:rPr>
              <a:t> режиме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(рассказ, лекция, сообще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изучение в </a:t>
            </a:r>
            <a:r>
              <a:rPr b="1" lang="ru-RU" sz="2400" spc="-1" strike="noStrike">
                <a:solidFill>
                  <a:srgbClr val="fad2bc"/>
                </a:solidFill>
                <a:latin typeface="Arial Black"/>
              </a:rPr>
              <a:t>интроактивном</a:t>
            </a:r>
            <a:r>
              <a:rPr b="0" lang="ru-RU" sz="2400" spc="-1" strike="noStrike">
                <a:solidFill>
                  <a:srgbClr val="fad2bc"/>
                </a:solidFill>
                <a:latin typeface="Arial Black"/>
              </a:rPr>
              <a:t> режим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а) модульное обуч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б) программ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в) компьютерное обу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изучение в </a:t>
            </a:r>
            <a:r>
              <a:rPr b="1" lang="ru-RU" sz="2400" spc="-1" strike="noStrike">
                <a:solidFill>
                  <a:srgbClr val="fad2bc"/>
                </a:solidFill>
                <a:latin typeface="Arial Black"/>
              </a:rPr>
              <a:t>интерактивном</a:t>
            </a:r>
            <a:r>
              <a:rPr b="0" lang="ru-RU" sz="2400" spc="-1" strike="noStrike">
                <a:solidFill>
                  <a:srgbClr val="fad2bc"/>
                </a:solidFill>
                <a:latin typeface="Arial Black"/>
              </a:rPr>
              <a:t> режим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а) проблемное обуч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б) адаптивное обуч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в) проектное обу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Cj03433430000[1]"/>
          <p:cNvPicPr/>
          <p:nvPr/>
        </p:nvPicPr>
        <p:blipFill>
          <a:blip r:embed="rId2"/>
          <a:stretch/>
        </p:blipFill>
        <p:spPr>
          <a:xfrm>
            <a:off x="0" y="5276880"/>
            <a:ext cx="1490760" cy="15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MCj03433450000[1]"/>
          <p:cNvPicPr/>
          <p:nvPr/>
        </p:nvPicPr>
        <p:blipFill>
          <a:blip r:embed="rId1"/>
          <a:stretch/>
        </p:blipFill>
        <p:spPr>
          <a:xfrm>
            <a:off x="-142920" y="5500800"/>
            <a:ext cx="1428840" cy="13572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"/>
          <p:cNvPicPr/>
          <p:nvPr/>
        </p:nvPicPr>
        <p:blipFill>
          <a:blip r:embed="rId2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38512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Первичная проверка знаний и способов деятельности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642680"/>
            <a:ext cx="80074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опорный конспек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остроение ассоциативного ря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использование заданий на узнавание изучаемых объект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разрешение пробл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роектный мето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Карусел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Мозговой штур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упражнения: «Лучший диктор», «Веселые диктанты» и орфографические размин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Шесть шляп мыш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08:34:36Z</dcterms:created>
  <dc:creator>Злата</dc:creator>
  <dc:description/>
  <dc:language>en-US</dc:language>
  <cp:lastModifiedBy>Настя</cp:lastModifiedBy>
  <dcterms:modified xsi:type="dcterms:W3CDTF">2012-04-09T11:58:56Z</dcterms:modified>
  <cp:revision>76</cp:revision>
  <dc:subject/>
  <dc:title>Методическая разработка «Нетрадиционные формы урока»</dc:title>
</cp:coreProperties>
</file>