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463E-5A7B-48A7-9AD8-90B0170E4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9F0C-9A8E-4E90-9750-3D5B098D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7FB7-532B-4F83-89F4-21F211DC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D6F9-ABF5-4E43-927C-2C0D287BB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152D-801A-4900-8B94-AA4E9170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7FE0-EAF0-40BA-B1EA-17D32DF2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0FD4-7731-4D0C-9A3A-AE435900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9036-1297-4884-8BE4-B2107D8B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AB6E-4355-4503-887B-13D8F7E7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8B80-C29F-4837-988F-0FDE35F5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2D31-A92D-4E83-A011-10FE152D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0934-142D-4F98-BA61-D649A5AD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BF8E-4964-46A3-9DBB-F9F45082C2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ари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portfoliobib.ucoz.ru/shablon/fon_s_perom.jpg"/>
          <p:cNvPicPr/>
          <p:nvPr/>
        </p:nvPicPr>
        <p:blipFill>
          <a:blip r:embed="rId1"/>
          <a:stretch/>
        </p:blipFill>
        <p:spPr>
          <a:xfrm>
            <a:off x="-255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1619280" y="549360"/>
            <a:ext cx="6048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«Подготовка учащихся к участию в олимпиадах разного уровн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Условия подготовки к олимпиадам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4920" y="2997000"/>
            <a:ext cx="79930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1. Отбор учащихся при помощи различных методик диагностирования, выявляющие общие и определенные  способности по предме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000" y="836280"/>
            <a:ext cx="821844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2. Подготовка к олимпиаде через внеурочные занят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3. Использование творческих заданий повышенного уровня на уроках и во внеурочной деятельност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4.Максимальная самостоятельность – предоставление возможности самостоятельного решения задани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9280" y="765000"/>
            <a:ext cx="814716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5. Принцип активность знани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6. Принцип опережающего уровня сложност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7. Анализ результатов прошедших олимпиа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8. Напутственное слово учител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9. Повышение эффективности уроков через использование развивающих методических прием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user</cp:lastModifiedBy>
  <dcterms:modified xsi:type="dcterms:W3CDTF">2015-08-31T10:20:35Z</dcterms:modified>
  <cp:revision>10</cp:revision>
  <dc:subject/>
  <dc:title>Шаблон презентации</dc:title>
</cp:coreProperties>
</file>