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717F-6E7C-4300-B09E-78471497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139E-A847-40E4-86C3-2E41B557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A6F1-D827-459F-AC08-7B04333D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832C-F1E0-4218-8B98-6CDEA817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6542-AC19-4485-9A13-F15BA8D3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33FB-DFA4-457A-99FA-B5C7163F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7C3-148F-480D-A8E3-D6B7ECF3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F752-C6BF-4B4A-BF41-926211F3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1678-00B0-4C72-8D45-44852F54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A154-90A6-4E82-84C5-EE763FB9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EDC5-D17B-403C-807A-B1053B08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65A9-549F-40C1-8718-AB335121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0E7D-B0FE-4E48-8A90-70E36B2E3B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ри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portfoliobib.ucoz.ru/shablon/fon_s_perom.jpg"/>
          <p:cNvPicPr/>
          <p:nvPr/>
        </p:nvPicPr>
        <p:blipFill>
          <a:blip r:embed="rId1"/>
          <a:stretch/>
        </p:blipFill>
        <p:spPr>
          <a:xfrm>
            <a:off x="-255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1619280" y="549360"/>
            <a:ext cx="604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«Подготовка учащихся к участию в олимпиадах разного уровн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Условия подготовки к олимпиада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2997000"/>
            <a:ext cx="7993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1. Отбор учащихся при помощи различных методик диагностирования, выявляющие общие и определенные  способности по предме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000" y="836280"/>
            <a:ext cx="821844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2. Подготовка к олимпиаде через внеурочные занят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3. Использование творческих заданий повышенного уровня на уроках и во внеурочной деятель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4.Максимальная самостоятельность – предоставление возможности самостоятельного решения задан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280" y="765000"/>
            <a:ext cx="81471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5. Принцип активность знан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6. Принцип опережающего уровня слож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7. Анализ результатов прошедших олимпиа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8. Напутственное слово учител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9. Повышение эффективности уроков через использование развивающих методических прием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user</cp:lastModifiedBy>
  <dcterms:modified xsi:type="dcterms:W3CDTF">2015-08-31T10:20:35Z</dcterms:modified>
  <cp:revision>10</cp:revision>
  <dc:subject/>
  <dc:title>Шаблон презентации</dc:title>
</cp:coreProperties>
</file>