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73F5-1FD8-46B4-94C4-2CA123CF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9DDA-D482-467F-8D3B-B8BBF785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900-150D-41D4-9177-B98054A2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C7F-92D4-4F5C-A12A-6430FEF2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9AFE-463E-4EDC-9371-F8DC1932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8266-6187-4FA7-8568-07C9AD9D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6B07-6AF5-4BAA-99D8-DE11D027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0091-EEA7-4167-B2F2-B5AB531B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201C-C2EE-4454-8AE9-889A3C62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FA3F-BB3E-4E2D-8CC5-A821E922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B00F-2395-46E9-8E48-D8128AD2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5321-6143-4F4B-8F2F-167BDC03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1ECA-E72B-45F4-818E-2D410AAF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F458-5E7C-49BF-BEA6-9C054B1D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7128-741C-4765-AC09-EC9F493E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6BF1-F7FB-4154-B60C-D87E6C36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CEED-22EE-4099-9A8F-6824DEE8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8B95-380B-423C-8F81-A297F5FC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FDE3-745F-4CC0-BF2F-1B08239A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31DD-F11D-4CAF-92EC-1715AC8D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415D-F555-444D-BC9F-F4D42D7A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DE32-BF8B-432B-A3B0-1AF63BFB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54A-FD03-41FC-B7A1-4A09DDF3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7F02-9F2E-4FA7-8E0F-99D19D74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2C84-E966-4C3C-B01E-AF4E2711B1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404D-6560-42B8-A4DB-46D000A729E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sport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-53172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b4b5a"/>
                </a:solidFill>
                <a:latin typeface="Arial"/>
              </a:rPr>
              <a:t>ВЛИЯНИЕ ДОПОЛНИТЕЛЬНЫХ ЗАНЯТИЙ ФИЗИЧЕСКОЙ  КУЛЬТУРОЙ И СПОРТОМ НА РАЗВИТИЕ ВЫНОСЛИВОСТИ ШКОЛЬНИКОВ 7-х КЛАССОВ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26920" y="5661000"/>
            <a:ext cx="7561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езентаци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сследовательской работ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Ерофеева Т. 9Б, Байбаков А. 7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оказатели выносливости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85" name="Object 10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ОКАЗАТЕЛИ РАЗВИТИЯ ВЫНОСЛИВОСТ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5770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нешние (поведенческие) показатели   характеризуют результативность двигательной деятельности человека во время утом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нутренние (функциональные) показатели отражают определенные изменения в функционировании различных органов и систем организма, обеспечивающих выполнение данной деятельн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484000" y="907560"/>
            <a:ext cx="626436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скольку на уроках физического воспитания исключается специализация, отпадают типичные задачи развития специальной выносливости. Накапливаются лишь некоторые обобщенные ее элементы в рамках общей выносливост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 время же дополнительных занятий со   школьниками    активно развивается специальная выносливость в соответствии с выбранной спортивной специализацией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24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втор проекта: Тельнова Т.В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1" name="Picture 7" descr="sport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WordArt 8"/>
          <p:cNvSpPr txBox="1"/>
          <p:nvPr/>
        </p:nvSpPr>
        <p:spPr>
          <a:xfrm>
            <a:off x="3132000" y="6334200"/>
            <a:ext cx="5772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Автор проекта: Тельнова Т.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Среди актуальных проблем физического воспитания и спорта значительное место занимает такая специфическая проблема, как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развитие основных физических качеств (выносливость, быстрота, сила, ловкость, гибкость) и физической подготовленности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348000" y="2852640"/>
            <a:ext cx="540072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ЛЬ ИССЛЕДОВАНИЯ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ссмотреть и проанализировать эффективность влияния дополнительных занятий физической культурой и спортом на развитие выносливост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ЗАДАЧИ:</a:t>
            </a:r>
            <a:br>
              <a:rPr sz="3200"/>
            </a:b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84000" y="907560"/>
            <a:ext cx="6202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зучить литературу по теме исследовани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пределить понятие выносливости, показатели выносливости, виды выносливост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аскрыть влияние дополнительных занятий физической культурой и спортом на развитие выносливости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ИПОТЕЗ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мы предполагаем, что физические упражнения являются действенным средством для развития вынослив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23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АКТУАЛЬНОСТЬ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27280" y="980640"/>
            <a:ext cx="6192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ключается в том, что выносливость необходима при выполнении любой физической деятель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посредственно определяет спортивный результа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зволяет лучшим образом выполнить определенные тактические действ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могает переносить высокие нагруз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еспечивает быстрое восстановление после рабо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носливость —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484000" y="1599840"/>
            <a:ext cx="620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собность человека к длительному выполнению какой-либо двигательной деятельности без снижения ее эффективност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97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ВИДЫ ВЫНОСЛИВОСТИ:</a:t>
            </a:r>
            <a:br>
              <a:rPr sz="3600"/>
            </a:b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202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Общая выносливость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— это способность человека к продолжительному и эффективному выполнению работы неспецифического характера, оказывающая положительное влияние на развитие специфических компонентов работоспособности человека, благодаря повышению адаптации к нагрузкам и наличию явлений «переноса» тренированности с неспецифических видов деятельности на специфическ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Специальная выносливость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— это способность к эффективному выполнению работы и преодолению утомления в условиях, определяемых требованиями конкретного вида деятельност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НАЧАЛЬНАЯ ШКОЛ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4" name="Picture 8" descr="DSC02252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IMGA0530"/>
          <p:cNvPicPr/>
          <p:nvPr/>
        </p:nvPicPr>
        <p:blipFill>
          <a:blip r:embed="rId2"/>
          <a:stretch/>
        </p:blipFill>
        <p:spPr>
          <a:xfrm>
            <a:off x="1201680" y="1600200"/>
            <a:ext cx="2548080" cy="4530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IMGA0380"/>
          <p:cNvPicPr/>
          <p:nvPr/>
        </p:nvPicPr>
        <p:blipFill>
          <a:blip r:embed="rId3"/>
          <a:stretch/>
        </p:blipFill>
        <p:spPr>
          <a:xfrm>
            <a:off x="4721400" y="3941640"/>
            <a:ext cx="38923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оказатели выносливости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ЗАНЯТИЯ В СЕКЦИ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1" name="Picture 26" descr="IMGA0696"/>
          <p:cNvPicPr/>
          <p:nvPr/>
        </p:nvPicPr>
        <p:blipFill>
          <a:blip r:embed="rId1"/>
          <a:stretch/>
        </p:blipFill>
        <p:spPr>
          <a:xfrm>
            <a:off x="1201680" y="1600200"/>
            <a:ext cx="2548080" cy="4530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7" descr="IMGA0903"/>
          <p:cNvPicPr/>
          <p:nvPr/>
        </p:nvPicPr>
        <p:blipFill>
          <a:blip r:embed="rId2"/>
          <a:stretch/>
        </p:blipFill>
        <p:spPr>
          <a:xfrm>
            <a:off x="4721400" y="1600200"/>
            <a:ext cx="3892320" cy="2189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9" descr="IMGA0888"/>
          <p:cNvPicPr/>
          <p:nvPr/>
        </p:nvPicPr>
        <p:blipFill>
          <a:blip r:embed="rId3"/>
          <a:stretch/>
        </p:blipFill>
        <p:spPr>
          <a:xfrm>
            <a:off x="4721400" y="3941640"/>
            <a:ext cx="38923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7:15:11Z</dcterms:created>
  <dc:creator>О спорт ты мир</dc:creator>
  <dc:description/>
  <dc:language>en-US</dc:language>
  <cp:lastModifiedBy>Мама</cp:lastModifiedBy>
  <dcterms:modified xsi:type="dcterms:W3CDTF">2015-08-31T16:20:52Z</dcterms:modified>
  <cp:revision>41</cp:revision>
  <dc:subject/>
  <dc:title>КОНТРОЛЬ И САМОКОНТРОЛЬ НА ЗАНЯТИЯХ ФИЗИЧЕСКОЙ КУЛЬТУРОЙ И СПОРТОМ</dc:title>
</cp:coreProperties>
</file>