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media/image8.wmf" ContentType="image/x-wmf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10BC-2F52-4BB7-AA26-C6B05340E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DFB6-23F7-47E6-B5DC-2DA889DF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0CAC-2CE3-4008-9053-EFCD7A9D3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71B6-25DF-4C7D-A50E-6E8A22796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38297-E7B7-4C26-99D9-207F94B78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0EEDC-51F2-422D-8EBF-C0640054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129C-65EC-4275-81C2-3F7BDA05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6CC0-D95E-4139-9BC2-9AA73E38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E34C-D986-4F53-A430-FC18DBBD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4135-158E-419F-9162-EC5557AB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AB0C-5D48-43B9-9001-C4E059A7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D1E6-A5A8-461B-AEE4-C6C31CFA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A135-9C5E-4FA6-81B8-B28D8BE1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DADF-DDC6-4416-88C1-9CEF46B7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7DF3-E4E8-4015-8588-AC966610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9247-CCA0-4B9F-A0F7-1E8676E7C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F874-6E60-4E8A-8999-5245F5AF0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894E-126B-452F-94F9-BF4C1A21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B018-90DB-4F7C-874B-84F254B9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5A80-65C6-4865-876F-B9930754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47C4-3978-4095-8722-BA71A708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C0C3-19B3-4867-9651-C379E932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4A66-99F9-436C-BC9A-AE51B0FB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BE4D-56F4-4600-8443-083582FD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B1F6-490B-433D-B932-48A9DD9A151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559F-C58C-4F01-A498-AAECBE44A3F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sport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4360" y="-531720"/>
            <a:ext cx="7772400" cy="25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b4b5a"/>
                </a:solidFill>
                <a:latin typeface="Arial"/>
              </a:rPr>
              <a:t>ВЛИЯНИЕ ДОПОЛНИТЕЛЬНЫХ ЗАНЯТИЙ ФИЗИЧЕСКОЙ  КУЛЬТУРОЙ И СПОРТОМ НА РАЗВИТИЕ ВЫНОСЛИВОСТИ ШКОЛЬНИКОВ 7-х КЛАССОВ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826920" y="5661000"/>
            <a:ext cx="75614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резентация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исследовательской работ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Ерофеева Т. 9Б, Байбаков А. 7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оказатели выносливости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85" name="Object 10"/>
          <p:cNvGraphicFramePr/>
          <p:nvPr/>
        </p:nvGraphicFramePr>
        <p:xfrm>
          <a:off x="460440" y="1600200"/>
          <a:ext cx="822312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1600200"/>
                    <a:ext cx="822312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ПОКАЗАТЕЛИ РАЗВИТИЯ ВЫНОСЛИВОСТИ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916000" y="1600200"/>
            <a:ext cx="5770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нешние (поведенческие) показатели   характеризуют результативность двигательной деятельности человека во время утомле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нутренние (функциональные) показатели отражают определенные изменения в функционировании различных органов и систем организма, обеспечивающих выполнение данной деятельност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2484000" y="907560"/>
            <a:ext cx="6264360" cy="51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скольку на уроках физического воспитания исключается специализация, отпадают типичные задачи развития специальной выносливости. Накапливаются лишь некоторые обобщенные ее элементы в рамках общей выносливост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о время же дополнительных занятий со   школьниками    активно развивается специальная выносливость в соответствии с выбранной спортивной специализацией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92428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Автор проекта: Тельнова Т.В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1" name="Picture 7" descr="sport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WordArt 8"/>
          <p:cNvSpPr txBox="1"/>
          <p:nvPr/>
        </p:nvSpPr>
        <p:spPr>
          <a:xfrm>
            <a:off x="3132000" y="6334200"/>
            <a:ext cx="5772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Автор проекта: Тельнова Т.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Среди актуальных проблем физического воспитания и спорта значительное место занимает такая специфическая проблема, как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развитие основных физических качеств (выносливость, быстрота, сила, ловкость, гибкость) и физической подготовленности.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3348000" y="2852640"/>
            <a:ext cx="540072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ЦЕЛЬ ИССЛЕДОВАНИЯ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ссмотреть и проанализировать эффективность влияния дополнительных занятий физической культурой и спортом на развитие выносливости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ЗАДАЧИ:</a:t>
            </a:r>
            <a:br>
              <a:rPr sz="3200"/>
            </a:br>
            <a:br>
              <a:rPr sz="2800"/>
            </a:br>
            <a:br>
              <a:rPr sz="2800"/>
            </a:b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484000" y="907560"/>
            <a:ext cx="6202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зучить литературу по теме исследования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пределить понятие выносливости, показатели выносливости, виды выносливост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аскрыть влияние дополнительных занятий физической культурой и спортом на развитие выносливости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ГИПОТЕЗ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 мы предполагаем, что физические упражнения являются действенным средством для развития выносливост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23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АКТУАЛЬНОСТЬ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627280" y="980640"/>
            <a:ext cx="6192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ключается в том, что выносливость необходима при выполнении любой физической деятельност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посредственно определяет спортивный результа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зволяет лучшим образом выполнить определенные тактические действ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могает переносить высокие нагрузк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беспечивает быстрое восстановление после работ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Выносливость —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484000" y="1599840"/>
            <a:ext cx="6202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особность человека к длительному выполнению какой-либо двигательной деятельности без снижения ее эффективности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97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99"/>
                </a:solidFill>
                <a:latin typeface="Arial"/>
              </a:rPr>
              <a:t>ВИДЫ ВЫНОСЛИВОСТИ:</a:t>
            </a:r>
            <a:br>
              <a:rPr sz="3600"/>
            </a:b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484000" y="1699920"/>
            <a:ext cx="6202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Общая выносливость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— это способность человека к продолжительному и эффективному выполнению работы неспецифического характера, оказывающая положительное влияние на развитие специфических компонентов работоспособности человека, благодаря повышению адаптации к нагрузкам и наличию явлений «переноса» тренированности с неспецифических видов деятельности на специфически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Специальная выносливость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— это способность к эффективному выполнению работы и преодолению утомления в условиях, определяемых требованиями конкретного вида деятельност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НАЧАЛЬНАЯ ШКОЛ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4" name="Picture 8" descr="DSC02252"/>
          <p:cNvPicPr/>
          <p:nvPr/>
        </p:nvPicPr>
        <p:blipFill>
          <a:blip r:embed="rId1"/>
          <a:stretch/>
        </p:blipFill>
        <p:spPr>
          <a:xfrm>
            <a:off x="5207040" y="160020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IMGA0530"/>
          <p:cNvPicPr/>
          <p:nvPr/>
        </p:nvPicPr>
        <p:blipFill>
          <a:blip r:embed="rId2"/>
          <a:stretch/>
        </p:blipFill>
        <p:spPr>
          <a:xfrm>
            <a:off x="1201680" y="1600200"/>
            <a:ext cx="2548080" cy="4530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IMGA0380"/>
          <p:cNvPicPr/>
          <p:nvPr/>
        </p:nvPicPr>
        <p:blipFill>
          <a:blip r:embed="rId3"/>
          <a:stretch/>
        </p:blipFill>
        <p:spPr>
          <a:xfrm>
            <a:off x="4721400" y="3941640"/>
            <a:ext cx="389232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оказатели выносливости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460440" y="1600200"/>
          <a:ext cx="822312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1600200"/>
                    <a:ext cx="822312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ЗАНЯТИЯ В СЕКЦИИ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1" name="Picture 26" descr="IMGA0696"/>
          <p:cNvPicPr/>
          <p:nvPr/>
        </p:nvPicPr>
        <p:blipFill>
          <a:blip r:embed="rId1"/>
          <a:stretch/>
        </p:blipFill>
        <p:spPr>
          <a:xfrm>
            <a:off x="1201680" y="1600200"/>
            <a:ext cx="2548080" cy="4530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7" descr="IMGA0903"/>
          <p:cNvPicPr/>
          <p:nvPr/>
        </p:nvPicPr>
        <p:blipFill>
          <a:blip r:embed="rId2"/>
          <a:stretch/>
        </p:blipFill>
        <p:spPr>
          <a:xfrm>
            <a:off x="4721400" y="1600200"/>
            <a:ext cx="3892320" cy="2189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9" descr="IMGA0888"/>
          <p:cNvPicPr/>
          <p:nvPr/>
        </p:nvPicPr>
        <p:blipFill>
          <a:blip r:embed="rId3"/>
          <a:stretch/>
        </p:blipFill>
        <p:spPr>
          <a:xfrm>
            <a:off x="4721400" y="3941640"/>
            <a:ext cx="389232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3T07:15:11Z</dcterms:created>
  <dc:creator>О спорт ты мир</dc:creator>
  <dc:description/>
  <dc:language>en-US</dc:language>
  <cp:lastModifiedBy>Мама</cp:lastModifiedBy>
  <dcterms:modified xsi:type="dcterms:W3CDTF">2015-08-31T16:20:52Z</dcterms:modified>
  <cp:revision>41</cp:revision>
  <dc:subject/>
  <dc:title>КОНТРОЛЬ И САМОКОНТРОЛЬ НА ЗАНЯТИЯХ ФИЗИЧЕСКОЙ КУЛЬТУРОЙ И СПОРТОМ</dc:title>
</cp:coreProperties>
</file>