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213-0A9B-4D07-87B6-A7ADCB5B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9C5-9F69-497D-91FC-33198E4D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53E-543B-4A12-8ED8-2A201CB7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D09-2625-40F7-A0D5-2440D309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0CD0-F422-4EAE-88CC-264304C6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307-8E05-4613-AA55-4BE754A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7526-0A6D-40F7-946E-4F77976A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CE4A-22FE-49FE-AE63-C05F11AD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2E57-83E7-4C86-B8AA-D803B578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C453-AB3A-4913-BFA5-CA71AB77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D337-03A5-4780-9AC6-877FA8E7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FD7-3A3B-41FC-9AC1-7F880D0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2728-F082-46CD-B00B-67B6A1F4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CABE-A11D-44FD-B151-D365FF30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9064-5083-4AAE-802E-9235755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567B-3726-4C26-A63B-47C2C755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6A9F-35CF-4AA9-9CA5-D7DA9DF3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A57-E572-4D2B-8B41-893F3547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485-28E8-468A-9BC3-3A17BB50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46A-3DE4-4789-B86D-63FE1943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86B-F387-4864-844D-C87CBB37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761-DF9F-44E2-A21F-84B6C12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DAB-9C67-403D-B5F2-BB210FD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51B-F94D-4E9D-B26F-75CEA345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D8EF-ECEA-400F-8CA6-5AD76DE388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EC54-C7E6-4143-8C98-372100073F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kurskit.org/" TargetMode="External"/><Relationship Id="rId3" Type="http://schemas.openxmlformats.org/officeDocument/2006/relationships/hyperlink" Target="http://www.konkurskit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znaika.r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fourok.ru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истанционные конкурсы и олимпиады по информатике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2920" y="2138400"/>
            <a:ext cx="734400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агаю вашему вниманию краткий обзор интернет-ресурсов для учащихся и их учителей,в которых можно принять участие,проверить свои возможности, получить свидетельство,сертификат, диплом или даже приз. Участие во всех предлагаемых конкурсах, викторинах и олимпиадах ПЛАТНОЕ, но в большинстве из них плата символ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частие в КИ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омпьютеры, Информатика, Технологи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участия в конкурсе необходимо связаться с региональным организатором, а если такового нет, то стать им. Материалы присылаются и отправляются обратно только в бумажной форме В конкурсе могут принимать участие все учащиеся с 1 по 11 класс. Участники получают сертификаты, победители - дипломы. Стоимость участия- 50 рублей.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onkurskit.org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4"/>
          <a:stretch/>
        </p:blipFill>
        <p:spPr>
          <a:xfrm>
            <a:off x="4221000" y="2133720"/>
            <a:ext cx="43293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нфознайк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териалы конкурса можно получить в бумажной и электронной формах, на ваш выбор. В конкурсе могут принимать участие ученики 1 по 11 класс. Для каждой возрастной группы свои задания. Все участники получают сертификаты, а победители - дипломы и призы! Стоимость участия  50 рублей.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infoznaika.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ект 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InfoUrok.R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мпиада по информатике от проекта InfoUrok.Ru,  На сайте есть возможность поучаствовать в олимпиаде и по другим предметам. Начальная школа в олимпиаде по информатике не участвует, а остальные- пожалуйста. Материалы в электронном виде рассылаются через личный кабинет, но только после оплаты. Участники получают сертификаты, а победители - дипломы 1,2 или 3 степени, в зависимости от занятого места. Стоимость участия 100 рубл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Центр  развития мышления и интеллек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тр  развития мышления и интеллекта под названием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www.vot-zadachka.ru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этом сайте вы сможете принять участие в одном из нескольких десятков конкурсов или олимпиаде по любому предмету школьного курса. Здесь и фотоконкурсы, и конкурсы презентаций, и конкурсы прикладного творчества, конкурсы сочинений и многое другое. Все участники получают сертификат об участии в мероприятии, все победители получают дипломы, а все учителя, организовавшие своих учеников на участие в олимпиадах или конкурсах, получают сертификат куратора. Сроки проведения конкурсов самые разные. можно участвовать целый учебный год с сентября по ма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оимость участия 100 рубл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лимпу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 Олимпус, расположенный по адресу  www.olimpus.org.ru. Здесь вам предложат Олимпиады по русскому языку, литературе, математике, истории, обществознанию, биологии, географии, физике, химии, информатике, английскому языку и немецкому языку предназначены для учеников 4, 5, 6, 7, 8, 9 классов. Олимпиада представляет собой тест многократного выбора, состоящий из 30 заданий. Стоимость участия  50 рублей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Участник предметных олимпиад, независимо от достигнутого результата, получит диплом участия в рамках данного предмета и класса. В Олимпиадах Олимпус предусмотрены следующие награды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сто с 1 по 5: Дипломы лауреатов и книги в наград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сто с 6 по 10: Дипломы лауреа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сто от 11: Дипломы учас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еоуроки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2013 году появилась ещё одна масштабная олимпиада по всем предметам школьного курса, организованная Дмитрием Тарасовым, автором сайта www.Videouroki.Net   Зайдите по ссылке  http://lk.videouroki.net/ и вы попадете на главную страницу Олимпиады. Участие в любой олимпиаде стоит 80 рублей. Всем участникам гарантируется сертификат, а победители получают дипломы 1,2 или 3 степени. Результаты публикуются на сайте практически сразу после проведения олимпиады. Ещё нигде такой оперативности я не наблюдал. Ещё учителям, которые проявят самую высокую активность, обещают денежные призы из призового фонда 70000 рублей! Так, что стимул есть, дерзайте, пробуйте, побеждайте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291520" cy="216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8280360" cy="298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56000" y="53928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дународный конкурс компьютерных работ среди детей, юношества и студенческой молодежи «Цифровой ветер–2013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обности: http://www.digitalwind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762200" cy="1104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33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гиональный открытый конкурс по информатике и программиров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одит Высшей колледж информатики НГУ. http://www.ci.nsu.ru/roc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жение о конкурс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ci.nsu.ru/roc/old_pages/polgenie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838080" cy="161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348000" y="2708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нтр творческих инициатив "SNAIL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истанционные конк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метные олимпиады для школьников, в т.ч. по информати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астие плат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8360" y="5300640"/>
            <a:ext cx="590400" cy="676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4568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 дистанционного обучения "Эйдос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станционные курсы, эвристические олимпиады, предметные недели, интернет-шк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астие пла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обности: http://www.eidos.ru/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17:09:12Z</dcterms:created>
  <dc:creator>Admin</dc:creator>
  <dc:description/>
  <dc:language>en-US</dc:language>
  <cp:lastModifiedBy>Admin</cp:lastModifiedBy>
  <dcterms:modified xsi:type="dcterms:W3CDTF">2014-08-26T17:52:24Z</dcterms:modified>
  <cp:revision>6</cp:revision>
  <dc:subject/>
  <dc:title>Дистанционные конкурсы и олимпиады по информатике </dc:title>
</cp:coreProperties>
</file>