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2C6-C63B-411B-8B2A-EA7818F4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11B-F26E-4BFD-A40D-110C2C7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0A9-0C9F-4C80-9C3E-FFB46F6B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99E-CB44-4136-836D-09EBFB40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F32-981E-4C1D-845B-6CFFF3F5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80F-74CF-4ADD-9957-87066F3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0F3-3747-4BAE-BD3C-96EB507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0FFB-7738-45B7-9D0A-67E5FBDC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CEF-7BA5-4DEB-B36A-77EF076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BC91-B82E-4660-BEDB-79910D0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A097-030B-48FF-A8A0-B03FA04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D37-7125-4D4D-8568-D900A88D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8F90-F456-44C1-95DE-E40AA31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955-AC66-43B4-BB8B-73F77A1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325-2528-485F-93CC-5AF4DDA0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EBDD-6307-4A39-9126-5FF6E6C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899F-B436-467A-A01D-EA92DB07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FF8-B767-42A7-A934-BAA2F83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453-D81A-46DD-923A-8CCA348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E6D-C442-4400-8FDD-E71FFF3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B33-0973-4C97-82F5-597680FE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305-8E98-4C91-B12C-77B1987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92E-DE4A-4E48-B9F5-1DD43F4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096-D538-4EC3-B638-D5CF98E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FFB-8268-43B4-8CF7-26194A6B4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A81F-AEB0-41D5-A838-37641D0124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kurskit.org/" TargetMode="External"/><Relationship Id="rId3" Type="http://schemas.openxmlformats.org/officeDocument/2006/relationships/hyperlink" Target="http://www.konkurskit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znaika.r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urok.ru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истанционные конкурсы и олимпиады по информатик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2138400"/>
            <a:ext cx="73440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агаю вашему вниманию краткий обзор интернет-ресурсов для учащихся и их учителей,в которых можно принять участие,проверить свои возможности, получить свидетельство,сертификат, диплом или даже приз. Участие во всех предлагаемых конкурсах, викторинах и олимпиадах ПЛАТНОЕ, но в большинстве из них плата символ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астие в КИ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мпьютеры, Информатика, Технолог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участия в конкурсе необходимо связаться с региональным организатором, а если такового нет, то стать им. Материалы присылаются и отправляются обратно только в бумажной форме В конкурсе могут принимать участие все учащиеся с 1 по 11 класс. Участники получают сертификаты, победители - дипломы. Стоимость участия- 50 рублей.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onkurskit.or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4221000" y="2133720"/>
            <a:ext cx="43293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нфознайк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ы конкурса можно получить в бумажной и электронной формах, на ваш выбор. В конкурсе могут принимать участие ученики 1 по 11 класс. Для каждой возрастной группы свои задания. Все участники получают сертификаты, а победители - дипломы и призы! Стоимость участия  50 рублей.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infoznaika.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 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InfoUrok.R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мпиада по информатике от проекта InfoUrok.Ru,  На сайте есть возможность поучаствовать в олимпиаде и по другим предметам. Начальная школа в олимпиаде по информатике не участвует, а остальные- пожалуйста. Материалы в электронном виде рассылаются через личный кабинет, но только после оплаты. Участники получают сертификаты, а победители - дипломы 1,2 или 3 степени, в зависимости от занятого места. Стоимость участия 100 рубл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нтр  развития мышления и интелл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  развития мышления и интеллекта под название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ww.vot-zadachka.ru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этом сайте вы сможете принять участие в одном из нескольких десятков конкурсов или олимпиаде по любому предмету школьного курса. Здесь и фотоконкурсы, и конкурсы презентаций, и конкурсы прикладного творчества, конкурсы сочинений и многое другое. Все участники получают сертификат об участии в мероприятии, все победители получают дипломы, а все учителя, организовавшие своих учеников на участие в олимпиадах или конкурсах, получают сертификат куратора. Сроки проведения конкурсов самые разные. можно участвовать целый учебный год с сентября по ма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имость участия 100 руб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лимпу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 Олимпус, расположенный по адресу  www.olimpus.org.ru. Здесь вам предложат Олимпиады по русскому языку, литературе, математике, истории, обществознанию, биологии, географии, физике, химии, информатике, английскому языку и немецкому языку предназначены для учеников 4, 5, 6, 7, 8, 9 классов. Олимпиада представляет собой тест многократного выбора, состоящий из 30 заданий. Стоимость участия  50 рубле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Участник предметных олимпиад, независимо от достигнутого результата, получит диплом участия в рамках данного предмета и класса. В Олимпиадах Олимпус предусмотрены следующие награды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с 1 по 5: Дипломы лауреатов и книги в награ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с 6 по 10: Дипломы лауреа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от 11: Дипломы учас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еоуроки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13 году появилась ещё одна масштабная олимпиада по всем предметам школьного курса, организованная Дмитрием Тарасовым, автором сайта www.Videouroki.Net   Зайдите по ссылке  http://lk.videouroki.net/ и вы попадете на главную страницу Олимпиады. Участие в любой олимпиаде стоит 80 рублей. Всем участникам гарантируется сертификат, а победители получают дипломы 1,2 или 3 степени. Результаты публикуются на сайте практически сразу после проведения олимпиады. Ещё нигде такой оперативности я не наблюдал. Ещё учителям, которые проявят самую высокую активность, обещают денежные призы из призового фонда 70000 рублей! Так, что стимул есть, дерзайте, пробуйте, побеждайте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291520" cy="216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280360" cy="298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56000" y="5392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дународный конкурс компьютерных работ среди детей, юношества и студенческой молодежи «Цифровой ветер–2013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обности: http://www.digitalwind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62200" cy="1104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33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иональный открытый конкурс по информатике и программиров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Высшей колледж информатики НГУ. http://www.ci.nsu.ru/roc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ение о конкурс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ci.nsu.ru/roc/old_pages/polgenie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838080" cy="161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48000" y="2708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нтр творческих инициатив "SN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истанционные конк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метные олимпиады для школьников, в т.ч. по информа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ие пла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5300640"/>
            <a:ext cx="59040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456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дистанционного обучения "Эйдос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танционные курсы, эвристические олимпиады, предметные недели, интернет-шк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стие пла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обности: http://www.eidos.ru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7:09:12Z</dcterms:created>
  <dc:creator>Admin</dc:creator>
  <dc:description/>
  <dc:language>en-US</dc:language>
  <cp:lastModifiedBy>Admin</cp:lastModifiedBy>
  <dcterms:modified xsi:type="dcterms:W3CDTF">2014-08-26T17:52:24Z</dcterms:modified>
  <cp:revision>6</cp:revision>
  <dc:subject/>
  <dc:title>Дистанционные конкурсы и олимпиады по информатике </dc:title>
</cp:coreProperties>
</file>