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EEB-4475-4B8E-90F9-556CD978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8566-ADBB-405C-A5E6-0004DA06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371DC-5BA4-4A5A-B3BB-7494CC2B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ED92AA-8B43-4951-AFC1-8525A0E5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2440A7-6EED-44CC-BC93-15648F45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3684B-8420-48AF-B8F1-53EE64D0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FE01A1-1B1B-4A95-B339-D7F5BCE8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23E41-9834-47D0-B751-1ACB03D8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45975E-4C0E-4968-8F65-EBD7ED04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D72CE-9A32-4282-8B21-08ECC43C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0DFDF4-E88E-48B1-9397-243EDBC4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38690-8873-483D-9942-DBCB7EC6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3D17-CC48-4BD0-9D88-F5FF603C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13BA7-01E9-4B19-9C10-AF7DA5CF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65068-1C78-4A6B-AD63-1601E58C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E5C32-443C-4713-BD46-04A2ED7B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513DD-8270-46FF-9AB4-689E323B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B66F94-11ED-4395-A9A3-772D870C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5198A-B2C7-4CFD-97A4-8C42C196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E754D-44DD-49D5-9E96-018BD975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814A7F-8865-4AAE-A609-72439A35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D3499-3A47-46A0-B6A8-092E652C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03FF33-93AB-415B-BFF0-3A03B046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F60D-0532-46C9-8F1C-78832ED1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0E064-CFA6-4A83-98FE-7FDEB22A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E8205-3CC2-4BCA-A4B5-5B215016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93833-9CBB-4CB3-9C3A-FAE01024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C6EAB-D061-41CB-BEB3-CB5BEAEF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F9E4C-74E5-4965-ACBF-299FB236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5B6C5-B916-41BC-8088-547E3CBE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82ED0-54AA-4C80-AFEA-8EF0A222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A348E-2299-4014-A15C-96BFFB74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B4AC4-A496-4EA0-A1CC-FD2A455C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A439B-933B-415F-91B2-A6D46CB4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E071-89CD-40C5-AB21-4540E464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9A6F2-9DFA-4F0E-A86D-E04702D2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1F0B2-237B-4C17-B112-07EC14AD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6C352-D461-4C26-9878-AEE6224F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B7D3E1-DCB0-43EC-AFFA-5B6BE2F7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514672-930D-45E0-93EE-460CFF35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DEF6E4-9D52-4C54-AEAC-E9D21B59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DFCC14-2AAB-4E59-982C-7F93EA37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34F313-6EA3-446F-923F-2E7F6AF1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A5A3C-C630-4F73-AEA1-48054245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31069A-D69A-4892-A499-62FF0306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C7FC-F3B8-4C0F-8DA5-E8277224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92FF92-EFBF-4CBA-BB3E-EFA27FAB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5699F2-ACAD-49D2-9765-5115F641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E0FF2-CC18-4E63-8579-712A180C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DC45E0-7955-4184-929C-3CD74A84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EA5973-26F1-4FFD-945E-8ADB818F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6ABC-F242-4CFB-AB52-7E393E62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1782-D050-4DBF-99A3-753A52A2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67DF-B052-49E3-8879-32DCC0E1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3BB7-D2B3-4464-9C37-09917187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501D-4144-4366-AC9B-8EFF69EF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7A2-AEAA-4F84-ADAD-C045A0E6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4F87-01C4-4CF2-8B4D-B2EEFAA7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30CD-F6CB-4DFB-B14F-1FF73CFA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29C3-83E7-48E0-B1BC-38A93276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520B-DA6F-46ED-8FAF-8D3FC817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71E7-DD9C-41FF-8DA9-A704D215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97CBE-80F8-4369-A009-BF61208F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DBAB7-8F50-40ED-91AD-1991D4D7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44289-561A-4FC6-8AC3-7951546E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76A19-7F3C-4B49-80DC-A0011932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DA0B5-8483-4473-9AE7-63DF43A3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8CA-202A-48B9-A7C7-93AA310A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37E4A-56BF-40E0-A56A-31A08A09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2F75E-F948-4229-832C-4E61F05C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17375-7B29-4801-93D5-760935EF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947EE-951D-4093-B82D-E619BD80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CD152-E220-46DF-93D4-C5A9CFE5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B180D-7710-4AA0-8D93-49415C75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639C2-D3AD-4E3A-A16D-2BA97883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21ED1-B03B-4ABB-A637-B30613D2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9FBC5-C101-47B1-A88D-0EEB2990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008F7-5DB9-4BC9-B7F3-C1B0E5CF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1F00-70C0-4E68-95A8-BD4F7396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6A953-5416-453D-93C0-7141BA67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5EA54-3724-432E-8462-76A00757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3DD45-417D-4D42-853B-8FB178B6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13C6D-0096-4D7E-9125-5C4C7A48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EB7AC-EEE8-42B3-BDBB-0EC39B02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22594-9546-4312-9AFF-B3ACE412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E9227-7DD7-47BA-999D-90A64EB2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3E0AB-595B-4B5C-B688-5D44AB92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683E3-D3C0-42AD-92E1-C6746218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EA6E8-D38A-4867-92D2-971ED902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E869-DC58-4B33-99FB-FE933688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E8B0F-7CB8-481A-8965-403E62CE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05C0E-85A0-4AB6-B12D-FC1D5527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09643-DB28-48D5-A685-3AC3FE37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DA6A1-0D5A-44A7-92FE-CF400742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D88FA-BA7D-4AE2-A63E-56954476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1B2F7-DD1F-41A6-B767-66D6480D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A1EE3-A7E8-4636-B08F-5DF907B1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47A46-AC17-4CA1-8B07-FB763238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04DF1-459F-4306-9980-2BC1035E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DE703-0C13-4432-A111-B44E9E24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0CB-ACA0-4FF3-844C-6D3A9843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0C232-5C9C-4F5C-8A9B-1DBE2994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78D66-4685-48C4-BB76-C2106778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5058B-C7E6-4455-B8D8-74262329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152AB-F1F8-4E32-9762-2309E741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E0D71-6313-4E48-BBB9-905CC270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17BD3-F263-4C96-8AA2-7D04EA4E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DE2B4-7347-44C0-B89D-72D4EEC6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E426A-8602-4D3A-A7E5-F9A68D5D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57BDB-FDF9-4E34-BD50-0E608324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4678D-B6E2-4265-8E0B-76C5D85D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C49-5E99-4CCF-AADB-EC2A0D77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C6586-BB4D-40EF-B808-9FE6E15F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93BE5-D87F-4141-83DB-2EB40909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FFEB1-AE06-4BC4-A8EA-8697EA3E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3C44D-811E-465B-8500-CFDFAD31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CCEF7-834D-4382-91E5-C3FBEAD6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D385E-C732-4D1F-BACC-B42206F1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48381-00A0-43FD-8C86-7B138D2A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04229-504D-44D2-946D-81698135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DCF5D-0CBA-482A-8B62-6862ECF4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E81B0-BDE9-42E9-9AA0-E394A5F2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71D7-7195-4B01-9609-B79C2FFA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A7901-5EA0-4F44-88AD-3F90138F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4CE20-E5FC-4C3C-920E-3BBDD793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7B18A-A601-4964-8EB5-912539A1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083A4-05CD-4180-A201-198A1DD9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10480-FEB4-4B26-8552-C55E3468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5BC99-C74A-4E7D-B234-19ADC77D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CCF7E-E18C-41EB-9109-7F0794A0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4738A-AA99-48DF-931F-D221F613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DFD86-F2FF-41BF-A8CA-6A184464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11475-9932-48F6-B47A-218F98FC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29E-2959-4AEF-9735-8FB83A09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60B69-719A-4949-AD25-A701FE63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A4448-0D99-4987-97C1-DFE4118C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653C1-E61D-4914-A66F-63BFFAF1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3A305-DAD6-4BE4-B32F-1E0CEEEC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60666-3FE9-42AD-918B-9352A45E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9627A-3F6B-4448-AD79-337BFED8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988D5-EA35-4CE4-A0DE-362979C3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13F22-EB6C-4D10-B561-7D30C4A7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2FEF37-85D4-4575-93A4-59B456D3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97EEB-1AB7-4B46-8CBF-169D0EC0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5B3A-1687-4100-9122-0CCB8522666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5BB6-E575-4FED-BE68-508FDEB7D10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F672-5136-4449-ADF2-74573FD68B2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1421-5775-42FB-B931-BBBFF02699F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8575-EA26-42ED-B57F-BA944E80ED4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3218-D352-4B2A-B4E3-B8B258AB81C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1E65-B1B3-4E22-8A7A-1EE0D9A8943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2FF0-1860-4189-B083-48DE01DBEAD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9731-33EF-4266-9106-F69744F4E4E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B08E-9E84-46AC-961C-5F163370F8C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F8B0-CD8D-465C-AEE6-D4E1D2ABCDCA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8D67-D897-4B5D-8315-02B701E2D7B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ed=1&amp;text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571760" y="3142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УЧИТЕЛЬ БИОЛОГИИ: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РОЖНОВА В.М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Гипотезы возникновения жизни</a:t>
            </a:r>
            <a:br>
              <a:rPr sz="4200"/>
            </a:br>
            <a:r>
              <a:rPr b="0" lang="ru-RU" sz="1400" spc="-1" strike="noStrike">
                <a:solidFill>
                  <a:srgbClr val="d16349"/>
                </a:solidFill>
                <a:latin typeface="Georgia"/>
              </a:rPr>
              <a:t>Урок биологии в 9 классе</a:t>
            </a:r>
            <a:endParaRPr b="0" lang="en-US" sz="1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з перечисленных условий наиболее важным для возникновения жизни является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радиоактивность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наличие воды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наличие источника энерги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) масса планеты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4.Установите соответствие между концепциями возникновения жизни и их содержанием: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1)     постоянное самозарождение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2)     теория биохимической эволюции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3)     пансперм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) жизнь возникла в специфических условиях древней Земли в результате процессов, подчиняющимся физическим и химическим законам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Б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) жизнь возникала и возникает неоднократно из неживого вещества, в частности, из земли в процессе гниен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В)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появление жизни на Земле в результате переноса с других планет «зародышей жизни», например, спор микроорганизмов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Тест (2 вариант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.Сущность теории биогенеза состоит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 происхождения живого из неживого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Б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явлением живого только из живог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В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творения мира бого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Г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несения жизни из космос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Тест (2 вариант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Опыт Ф. Реди доказал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А.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самозарождение жизни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Б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явление живого только из живого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 Занесение семян жизни из космоса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Г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 биохимической эволюци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3.Гипотеза панспермии подразумевает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Божественное сотворение мир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космическое зарождение жизн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возникновение жизни из коацервато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) стационарное состояние живого</a:t>
            </a:r>
            <a:br>
              <a:rPr sz="2700"/>
            </a:br>
            <a:r>
              <a:rPr b="0" lang="ru-RU" sz="2700" spc="-1" strike="noStrike">
                <a:solidFill>
                  <a:srgbClr val="ffe947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4.Установите соответствие между концепциями возникновения жизни и их содержанием: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1)     креационизм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2)     пансперм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3)     стационарное состояние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А)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аминокислоты и сложные органические вещества, а, возможно, простейшие организмы распространены во Вселенной и были занесены на Землю с кометным и метеоритным веществом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Б)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жизнь никогда не возникала, она существовала всегда, и будет существовать вечно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В)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создание жизни Творцом – богом в определенное врем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Ответы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 вариант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а        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б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.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 вариан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б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б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б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. 3.1-В 2-А 3-Б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Домашнее задание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зучить п. 8.1-8.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дготовить мини - сочинение «Мои взгляды на происхождение жизни»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ставить синквейн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Рефлексия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тебе сегодня удалось, чем бы ты мог поделиться со всеми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итератур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Каменский А.А., Криксунов Е.А., Пасечник В.В.  Биология. Введение в общую биологию и экологию. 9 кл. Рекомендовано МО  РФ . 12-е издание. М.: Дрофа, 2011 г. (Гриф: Рекомендовано МО РФ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Беляев Д.К. «Общая биология». Учебник для 10-11 классов общеобразовательных учреждений. Под ред.Дымшица.- Москва, Просвещение, 2001 год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Энциклопедия для детей: Биология, М.: «Аванта + », 1994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images.yandex.ru/yandsearch?ed=1&amp;tex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Что изображено на рисунках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2" descr="http://g.denik.cz/56/d2/0330-chleba_sip-920.jpg"/>
          <p:cNvPicPr/>
          <p:nvPr/>
        </p:nvPicPr>
        <p:blipFill>
          <a:blip r:embed="rId1"/>
          <a:stretch/>
        </p:blipFill>
        <p:spPr>
          <a:xfrm>
            <a:off x="642960" y="1643040"/>
            <a:ext cx="3643200" cy="30002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http://novinar.bg/data/2013-12-18/20131216_0169.jpg"/>
          <p:cNvPicPr/>
          <p:nvPr/>
        </p:nvPicPr>
        <p:blipFill>
          <a:blip r:embed="rId2"/>
          <a:stretch/>
        </p:blipFill>
        <p:spPr>
          <a:xfrm>
            <a:off x="4714920" y="2928960"/>
            <a:ext cx="3643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Откуда на куске хлеба, мог взяться живой организм – плесневый гриб мукор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лесень зародилась ниоткуда, или она развилась из спор, которые всегда есть в воздухе? А откуда взялась жизнь на нашей планете Земля? С тех пор, как человек начал задаваться вопросом, как возникла жизнь, прошло не меньше двух тысячелетий, возникло множество гипотез и предположений о зарождении жизни. Этот вопрос до сих пор не решен в полной мере. А вам интересно было бы узнать, откуда взялась жизнь на нашей планете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Итак, ребята, о чем сегодня пойдет речь на нашем уроке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А что же такое жизнь? Что ассоциируется у вас с этим понятием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Жизнь – это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питание, рост и одряхление” (Аристотель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тойкое единообразие процессов при различии внешних влияний” (Г. Тревиранус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овокупность функций, сопротивляющихся смерти” (М. Биша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имическая функция” (А. Лавуазье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ложный химический процесс” (И.П. Павлов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особая, очень сложная форма движения материи” (А.И. Опарин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пособ существования белковых тел, основным атрибутом которого является обмен веществ” (Ф. Энгельс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Работа в группах (по изучению текста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дание: На основе анализа текста раскрыть различия в подходах с религиозных и научных позици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дание:  Назовите основные идеи, объясняющие происхождение жизни на Земл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Таблица «Сравнительная характеристика основных гипотез происхождения жизни на Земле»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357120" y="2214720"/>
          <a:ext cx="7929720" cy="1427040"/>
        </p:xfrm>
        <a:graphic>
          <a:graphicData uri="http://schemas.openxmlformats.org/drawingml/2006/table">
            <a:tbl>
              <a:tblPr/>
              <a:tblGrid>
                <a:gridCol w="1851120"/>
                <a:gridCol w="1852560"/>
                <a:gridCol w="1851120"/>
                <a:gridCol w="2374920"/>
              </a:tblGrid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поте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ые по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тверждена эксперименталь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ем и когд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Закрепление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ллективно критикуются все представленные гипотезы,  решается проблема о том, какая гипотеза нашла больше сторонников и наиболее приемлема. Выясняют, кто же победил в вечном споре сторонники абиогенеза или биогенез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ТЕСТ (1 вариант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. Сущность абиогенеза состоит в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а) происхождении живого из неживого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происхождении живого от живого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сотворении мира Богом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) занесении жизни из Космос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. Опыты Луи Пастера доказали возможност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самозарождения жизни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появления живого только из живого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занесения «семян жизни» из Космос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) биохимической эволюц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0T13:28:11Z</dcterms:created>
  <dc:creator>Владимир</dc:creator>
  <dc:description/>
  <dc:language>en-US</dc:language>
  <cp:lastModifiedBy>Владимир</cp:lastModifiedBy>
  <dcterms:modified xsi:type="dcterms:W3CDTF">2015-09-01T18:47:34Z</dcterms:modified>
  <cp:revision>7</cp:revision>
  <dc:subject/>
  <dc:title>Гипотезы возникновения жизни</dc:title>
</cp:coreProperties>
</file>