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B78-C82E-492B-ACE2-E28BB333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275-FCF2-4110-B4D4-DAA9E2E6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55E5B-30FB-43C9-8DE2-640D8EE3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1C95C-5959-4DB9-8BAA-712AFB87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334C8-61CA-499A-B27B-4C63EB89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A91AD-82AC-4B5B-A92D-78D6F083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855C0-0A67-4F69-BE68-19249CDE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F9009-894E-4DDF-8E65-85AFA458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77EA3-9391-4B9F-A1C6-1A6B41C5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EC14E-8252-45DE-AC18-6F57922C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43CC7-687D-44CC-81F4-B1642F69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2833F-D73F-46B7-A640-2929BF8E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B16-5A58-4177-A12A-48B0B2B2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3579B-7E98-4D14-9343-04D1CD51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CF7F8-41A3-4AE1-8041-A7844E9A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EEF2B-39A5-4747-BF79-18F5C73B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3B870-51C3-489A-BF51-4A195ED7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B1C81-5CD2-4130-A60E-44746172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56F87-E5F6-49D6-8386-D44A9E88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76207-F08B-4A0F-9CFF-0DAE4784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8DF7B-DECC-4028-8B9C-FD90E810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C5E69-B170-4FAF-ADBD-5873229E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77ADE-EF6E-4B9E-9398-665F4D93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E87-36B4-46AC-88DD-26CB021D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0E609-E20B-490C-A763-41D3660B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DB3CB-AFC3-4C7E-9A47-7A4AD4DC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D2DFE-8CAD-4AE5-B311-E9DA1EE0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58D49-759B-48C1-AB2B-C8AA32BA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1A348-0AB6-4D5F-8494-190994C7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8A071-59F3-4069-A1C7-4C71CF82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FB498-9E6C-4F25-8F29-3FF746E9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A6ACB-D74F-419C-8830-8D0174C5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58D99-0CD3-4C7D-B465-6BD94E32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36E2B-D149-415A-8376-0A3DD475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AED0-CB0B-4C87-B603-B00CB2DB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215C7-1D72-4102-B77D-9582EA2A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22404-3437-4832-88F0-5578D898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08856-99D5-41B5-9C7D-A8BB1FE3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82204-BE2E-4292-ACA5-EC9CE24F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B887C-C7C6-40AD-AEAD-D22AD4F7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0704E-2B1E-48AB-9677-7E682D9E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4FDC2-CC2B-4F09-9960-0B30BF58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D2827-85C4-4176-BD12-504C03D9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FAB43-85D6-463F-846A-2FCB0313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693FF-84B2-44B9-985F-31CA0ECE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610C-14DC-421E-9F4E-46729CB6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EF108-4B28-4E7F-B099-11980EEF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4B80C-BED3-48B9-88E9-1B468DAF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8A962A-12FC-4E80-A0DB-13EF9CD6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97790-8F7E-409E-870A-C65B7AB2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29899-4729-460F-922C-6713FAD5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18A4-8F6D-4B03-B938-ED13CB61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1389-1242-4879-92B9-74644A73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81CB-F437-4260-8EF9-EE79984A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967D-1DFA-4920-82BF-173F55F1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8495-9C52-4CFA-BA98-82215E97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99A-5D5C-4845-A006-7706058A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20AF-CFF8-4B50-8F9B-45FAFA47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5DC7-3B64-4B15-8AAF-9F90F7CA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772C-8035-418D-9B5E-218A8586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A076-CC38-425D-B29B-C2312ED9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C131-B8C9-4C44-9446-6005DC6E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62DE-83AD-46AA-BD4B-C99F4905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0183-E7CD-4749-81EC-7AF43DCC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A11B8-864C-4E8C-815C-DCC84522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E837-DB75-42BC-9C37-AB57717E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7E1E-EA10-41E3-8F93-4E5756D7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3B5-F9A6-4AB3-B891-3B8AD713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3BCAC-8985-484B-A306-B2716653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24A6-00CA-48D8-8346-E17F4482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292D-1EC6-4E75-B70B-58D2E772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5076-044B-48AF-98CA-A6E47E42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1A3AB-67EE-4F78-B0E2-A7617562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5B2D-7ACD-4241-94D4-3840455C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CF3D-A565-45D5-A7BF-FE93E3A4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7153B-131A-4715-813E-08D123C7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4F15A-FA99-4E8C-AA8A-87483C3C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BC8B-847D-46A7-816A-FB360911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B22-F457-4F36-9E82-270E59AE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36900-CD55-4421-99AC-E6429E93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B4571-B77C-486E-9F55-330504CB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F6368-E541-45C0-9ADB-AA1323B0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EE5B2-48DC-44BC-A68E-7A0EA724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83C7B-C9D3-42F6-8053-0A4291CB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732F1-5AD1-4EF0-9C86-81F3F988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B3DBC-570D-4750-81D5-D2B53CFA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7773-AF07-4D38-A529-221B4C6C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7894-BFEE-414E-8D4E-855EB546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415AB-F99E-499C-BC6C-0434D558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B7A-FBA5-4E25-B850-D59F9027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F515F-8789-48CA-9D39-63BAC0FA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56590-EF25-483D-B6F7-32578ED9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BFA3F-88FC-471D-8123-B4C778A8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FF7CA-BB80-4745-9F92-05738BF7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10473-87CB-415F-AFF8-49241DAE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66963-4A6C-487F-9165-50957BF0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DA84B-E738-4D02-A8BC-151EE065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6A09F-9D3F-43C5-A1A7-489BB610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87A68-996D-4AD9-8D89-E18A3052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5EF1E-661F-40E7-B489-0FD18EAA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7AE-7338-45D4-8F81-3CEAA2B5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908A8-8A79-4D8E-BDEA-1C714912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CE2A2-D8F9-4251-BC42-3727C316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DD621-D848-46A0-80BE-14EDCCF8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4F55C-61B5-4D33-B166-5477693A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7BA09-3B76-4BF2-9C94-A479220E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9CEB4-FB60-49F6-8907-17E8AD84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D84CC-DECF-4425-9C88-95E624DB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A0C4C-10FD-4D13-86E7-8FB09059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72989-F17D-4B73-93E4-CED70EF3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79951-B245-4267-A7FE-07A6C972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009-2AFB-414B-89C3-793693C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23E70-A131-46AE-B386-7CD5F367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47A3A-CE41-4757-A168-65440D1A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B46AD-6C28-4147-B957-596332AE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DA6F8-0E9D-4005-BB21-EF86CDF9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C4B9E-DAA5-4354-8DFE-10D9B096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4E54A-0DF6-40C7-B4DA-A0DC51EF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1284B-69B4-4413-9F75-0C18588D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C52DD-25B8-4DAE-BF40-ED51549F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D37C1-DF7C-4B71-BFE8-3D165C8C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5C1BA-D94C-4FA6-B58B-0C1492CB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C2B-1528-4456-9C1D-CFDD3FD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D1929-E72F-4F7E-8F4C-55ADC5B8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A128E-5B15-4413-801D-F82E8882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96F99-B54A-4B8F-8093-B9CA3331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2A16D-D8F2-48AA-8355-0885D2A8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D3575-704B-44B1-83EC-7B3AE833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EA431-13DF-4954-A0DE-57C8E7B3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6EDB5-78DA-4490-8C53-11453E7E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6D401-0370-4DBF-9999-56880969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D4D62-A127-4A33-9D6C-6E0A94FF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842BE-E936-4C9E-B4B3-86727349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73A-BD4F-4878-BE6A-DB066B37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34F53-ED34-45DD-AA0F-8B649A6F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4F1A1-5EFC-4820-85B5-973C2599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4B16D-8513-4D7D-A828-C073F473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BBDF4-AFA7-455B-B73B-DC3658BE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C707F-6D63-4B5B-BDFA-2F98C270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CF1CF-32BD-4827-B2E5-AD19DE84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330BB-B12B-41F7-9433-ECEDEC34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F07B2-AB24-4765-9F8B-7B632F9D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662B5-0EBC-4A18-B044-6C2F8DE5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0CA60-9374-4335-A63B-87EA2DFA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BDC8-9633-4835-AD63-0289D717F9A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089C-AB41-4A16-8674-C375F15DC1B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D5B8-64A3-46DC-BDE4-9E77698DFF0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213C-4BAD-48DC-B036-DA4E394611F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2E2A-E319-4757-B118-2216E9D3A0D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2E5B-40B4-4FBD-A6E2-6E756A1A713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F9B7-EFDD-4C09-A247-2B408B3CC33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89E6-5795-41F1-BCAF-060CE3DD770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705A-EE9B-440E-AD3B-481A84C339F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7768-C8F5-4FB8-A74C-2CE1E872A00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9929-8B4E-40FA-8FEE-784EBFA3DFC3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9085-634B-45CD-9B09-4850E8BBD09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text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57176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УЧИТЕЛЬ БИОЛОГИИ: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РОЖНОВА В.М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Гипотезы возникновения жизни</a:t>
            </a:r>
            <a:br>
              <a:rPr sz="4200"/>
            </a:br>
            <a:r>
              <a:rPr b="0" lang="ru-RU" sz="1400" spc="-1" strike="noStrike">
                <a:solidFill>
                  <a:srgbClr val="d16349"/>
                </a:solidFill>
                <a:latin typeface="Georgia"/>
              </a:rPr>
              <a:t>Урок биологии в 9 классе</a:t>
            </a:r>
            <a:endParaRPr b="0" lang="en-US" sz="1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з перечисленных условий наиболее важным для возникновения жизни является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радиоактивност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наличие воды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наличие источника энерг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) масса планеты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4.Установите соответствие между концепциями возникновения жизни и их содержанием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1)     постоянное самозарождение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2)     теория биохимической эволюции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3)     пансперм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) жизнь возникла в специфических условиях древней Земли в результате процессов, подчиняющимся физическим и химическим законам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) жизнь возникала и возникает неоднократно из неживого вещества, в частности, из земли в процессе гни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появление жизни на Земле в результате переноса с других планет «зародышей жизни», например, спор микроорганизмов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Тест (2 вариант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.Сущность теории биогенеза состоит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 происхождения живого из неживого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Б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явлением живого только из живог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творения мира бого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Г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несения жизни из космос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Тест (2 вариант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пыт Ф. Реди доказал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А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амозарождение жизн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Б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явление живого только из живого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 Занесение семян жизни из космос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Г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 биохимической эволюци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.Гипотеза панспермии подразумевает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Божественное сотворение мир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космическое зарождение жизн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возникновение жизни из коацерват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) стационарное состояние живого</a:t>
            </a:r>
            <a:br>
              <a:rPr sz="2700"/>
            </a:br>
            <a:r>
              <a:rPr b="0" lang="ru-RU" sz="2700" spc="-1" strike="noStrike">
                <a:solidFill>
                  <a:srgbClr val="ffe947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4.Установите соответствие между концепциями возникновения жизни и их содержанием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1)     креационизм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2)     пансперм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3)     стационарное состояние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А)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аминокислоты и сложные органические вещества, а, возможно, простейшие организмы распространены во Вселенной и были занесены на Землю с кометным и метеоритным веществом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Б)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жизнь никогда не возникала, она существовала всегда, и будет существовать вечно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создание жизни Творцом – богом в определенное врем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тветы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 вариант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а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.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 вариан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. 3.1-В 2-А 3-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зучить п. 8.1-8.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дготовить мини - сочинение «Мои взгляды на происхождение жизни»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ставить синквейн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Рефлексия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тебе сегодня удалось, чем бы ты мог поделиться со всеми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итерату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аменский А.А., Криксунов Е.А., Пасечник В.В.  Биология. Введение в общую биологию и экологию. 9 кл. Рекомендовано МО  РФ . 12-е издание. М.: Дрофа, 2011 г. (Гриф: Рекомендовано МО РФ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Беляев Д.К. «Общая биология». Учебник для 10-11 классов общеобразовательных учреждений. Под ред.Дымшица.- Москва, Просвещение, 2001 год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Энциклопедия для детей: Биология, М.: «Аванта + », 1994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images.yandex.ru/yandsearch?ed=1&amp;tex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Что изображено на рисунках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2" descr="http://g.denik.cz/56/d2/0330-chleba_sip-920.jpg"/>
          <p:cNvPicPr/>
          <p:nvPr/>
        </p:nvPicPr>
        <p:blipFill>
          <a:blip r:embed="rId1"/>
          <a:stretch/>
        </p:blipFill>
        <p:spPr>
          <a:xfrm>
            <a:off x="642960" y="1643040"/>
            <a:ext cx="3643200" cy="30002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http://novinar.bg/data/2013-12-18/20131216_0169.jpg"/>
          <p:cNvPicPr/>
          <p:nvPr/>
        </p:nvPicPr>
        <p:blipFill>
          <a:blip r:embed="rId2"/>
          <a:stretch/>
        </p:blipFill>
        <p:spPr>
          <a:xfrm>
            <a:off x="4714920" y="292896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Откуда на куске хлеба, мог взяться живой организм – плесневый гриб мукор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лесень зародилась ниоткуда, или она развилась из спор, которые всегда есть в воздухе? А откуда взялась жизнь на нашей планете Земля? С тех пор, как человек начал задаваться вопросом, как возникла жизнь, прошло не меньше двух тысячелетий, возникло множество гипотез и предположений о зарождении жизни. Этот вопрос до сих пор не решен в полной мере. А вам интересно было бы узнать, откуда взялась жизнь на нашей планете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так, ребята, о чем сегодня пойдет речь на нашем уроке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А что же такое жизнь? Что ассоциируется у вас с этим понятием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Жизнь – это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питание, рост и одряхление” (Аристотель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тойкое единообразие процессов при различии внешних влияний” (Г. Тревиранус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овокупность функций, сопротивляющихся смерти” (М. Биша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имическая функция” (А. Лавуазье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ложный химический процесс” (И.П. Павлов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особая, очень сложная форма движения материи” (А.И. Опарин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пособ существования белковых тел, основным атрибутом которого является обмен веществ” (Ф. Энгельс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Работа в группах (по изучению текста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дание: На основе анализа текста раскрыть различия в подходах с религиозных и научных позици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дание:  Назовите основные идеи, объясняющие происхождение жизни на Земл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Таблица «Сравнительная характеристика основных гипотез происхождения жизни на Земле»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57120" y="2214720"/>
          <a:ext cx="7929720" cy="1427040"/>
        </p:xfrm>
        <a:graphic>
          <a:graphicData uri="http://schemas.openxmlformats.org/drawingml/2006/table">
            <a:tbl>
              <a:tblPr/>
              <a:tblGrid>
                <a:gridCol w="1851120"/>
                <a:gridCol w="1852560"/>
                <a:gridCol w="1851120"/>
                <a:gridCol w="2374920"/>
              </a:tblGrid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поте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ые по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тверждена эксперименталь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ем и когд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Закрепление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ллективно критикуются все представленные гипотезы,  решается проблема о том, какая гипотеза нашла больше сторонников и наиболее приемлема. Выясняют, кто же победил в вечном споре сторонники абиогенеза или биогенез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ТЕСТ (1 вариант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. Сущность абиогенеза состоит в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а) происхождении живого из неживого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происхождении живого от живого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сотворении мира Бого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) занесении жизни из Космос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. Опыты Луи Пастера доказали возможност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самозарождения жизни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появления живого только из живого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занесения «семян жизни» из Космос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) биохимической эволю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0T13:28:11Z</dcterms:created>
  <dc:creator>Владимир</dc:creator>
  <dc:description/>
  <dc:language>en-US</dc:language>
  <cp:lastModifiedBy>Владимир</cp:lastModifiedBy>
  <dcterms:modified xsi:type="dcterms:W3CDTF">2015-09-01T18:47:34Z</dcterms:modified>
  <cp:revision>7</cp:revision>
  <dc:subject/>
  <dc:title>Гипотезы возникновения жизни</dc:title>
</cp:coreProperties>
</file>