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D46-E0A8-460C-BC65-16661AB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A51-3B89-4D88-A012-027939F1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100-09EF-4775-A830-C3F53500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3C6-25B7-4C44-A260-B463A9FF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495-3CFB-4DDC-AB6F-D8D1E101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AC3-0506-4A31-B4CB-09DD32F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9C30-35C0-41A6-956E-A568289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B4CE-B057-4DEE-B00C-2A959BD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05A-DDD1-489F-9113-43382CC4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8DB9-7A61-484C-BC89-44D7165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348D-4247-454C-B25B-76BC8D0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F9E-A98F-447E-9F1F-87290AEC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2E23-6DE5-42A9-96E5-3407BD3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7967-0C4E-446D-ADF0-D09AE61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AA0-D23B-4D5D-8650-0AACA95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B73-A7EC-4CF1-952B-D7D9B70C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0AC5-D820-46DC-AAB6-E08B613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E15-9043-422F-AE59-EF42419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2DE-9C48-4BDB-A822-35D1050A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38A-1D6F-4697-A9A2-315BC57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1E1-3DCE-4C9C-BD6F-61541788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EE0-93E7-45B2-8032-3830A6E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286-48C6-45F4-89AF-C5F300D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EB4-40D9-4BB4-A342-127FC3D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6B1-31DA-4C47-91F9-EDD3C04EE4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6CD-4B29-4894-B3DC-E899781E8C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814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Немецкая пасх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399276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Пасха – древнейший христианский праздник, отмечаемый как католиками, так и православными. В разных странах бытуют свои традиции и обычаи, связанные с этим праздником. Сегодня я расскажу о том, как отмечают Пасху в Германии и пролью  свет на некоторые весьма забавные традиции, которые есть у немцев! Passt gut auf!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Как это по-немецки?</a:t>
            </a:r>
            <a:br>
              <a:rPr sz="1400"/>
            </a:b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В разных языках закрепились различные наименования этого праздника. В русском языке слово пасха уходит своими корнями к латинскому наименованию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pascha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, производному от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pessach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 на иврите. Песах – так называется сегодня центральный иудейский праздник, отмечаемый в память об Исходе из Египта. Начинается он, согласно еврейскому календарю, на 15-й день весеннего месяца нисан и празднуется в течение семи дней в Израиле и восьми – вне Израиля.</a:t>
            </a:r>
            <a:br>
              <a:rPr sz="1400"/>
            </a:b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По-немецки праздник Пасхи называется 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Ostern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. Ostern – слово древнегерманского происхождения, своим значением тесно связано с наименованием части света – восток (</a:t>
            </a:r>
            <a:r>
              <a:rPr b="1" lang="ru-RU" sz="1400" spc="-1" strike="noStrike">
                <a:solidFill>
                  <a:srgbClr val="00b200"/>
                </a:solidFill>
                <a:latin typeface="Comic Sans MS"/>
              </a:rPr>
              <a:t>Osten</a:t>
            </a:r>
            <a:r>
              <a:rPr b="0" lang="ru-RU" sz="1400" spc="-1" strike="noStrike">
                <a:solidFill>
                  <a:srgbClr val="00b200"/>
                </a:solidFill>
                <a:latin typeface="Comic Sans MS"/>
              </a:rPr>
              <a:t>). Для сравнения, Eastern – пасха в английском языке также перекликается с названием части света, где встает солнце – east. Та сторона, где восходит солнце, считалась особым символом у христиан, связанным с воскресением Иисуса Христа.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огда у немцев Пасха?</a:t>
            </a:r>
            <a:br>
              <a:rPr sz="1600"/>
            </a:b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Пасха относится к числу так называемых «переходящих» церковных праздников, дата которых меняется в зависимости от года. В григорианской и юлианской традиции имеется расхождение между датами расчёта Пасхи, которое иногда может достигать даже пяти недель! Чаще всего католическая Пасха празднуется на неделю раньше православной, иногда разница между ними может составлять 4 недели, иногда, как было уже сказано выше – 5 недель. Эта разница обусловлена разницей между григорианским и юлианским солнечными календарями, из-за чего православные и католики в разное время начинают отсчет времени, оставшегося до Пасхи от первого весеннего новолуния.</a:t>
            </a:r>
            <a:br>
              <a:rPr sz="1600"/>
            </a:b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В 2013 году, например, в Германии Пасху отмечают в выходные (Ostersonntag - 31 марта), в то время как в России Пасха в этом году – 5 мая. Интересно также, что в Германии Пасха, как и Рождество – праздник государственного уровня. На Пасху немецкие школьники выходят на каникулы, которые так и называются «пасхальными» – 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Osterferien</a:t>
            </a: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. Каникулы эти длятся от одной до двух недель, в зависимости от федеральной земли.  Кроме того, официальными выходными днями считаются также 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Karfreitag,  Ostersonntag и Ostermonnta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23623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Что такое Karfeiertag, Ostersonntag и Ostermontag?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Karfrei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(по-русски Великая пятница, Страстная пятница) – так называется пятница на Страстной неделе – неделе перед Пасхой. Этот день посвящен воспоминанию о смерти Иисуса Христа на кресте, снятию с креста Его тела и погребения. В Германии этот день называют также „stilleTag" (тихий день) или „stilleFeiertag" (тихий праздник). В этот день даже существует запрет на проведение увеселительных и спортивных мероприятий в общественных местах, танцы-дискотеки, и даже театрам приходится считаться с имеющимся законом. Во многих городах Германии большие торгово-развлекательные центры остаются в этот день закрытыми для посетител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Karsams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(Великая суббота, Страстная суббота) – суббота Страстной недели, посвященная, согласно христианской традиции, посту и молитвам в ожидании Воскресения Христа. Этот день в некоторых регионах Германии называется также „stiller Samstag" по аналогии с пятницей – тихая суббот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Ostersonn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– так называется день, который знаменует собой Воскрешение Христа, конец Великого Поста и Страстной недели. В этот день все обычно собираются за семейным столом с традиционными блюдами, поздравляют друг друга с Пасхой. В Германии этот день – выходной.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Ostermontag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 – понедельник сразу же после Пасхи, также является выходным днем. В этот день не работают школы, общественные и государственные учреждения, а также многие магазины. Так что, если вы оказались в Германии накануне Пасхи, следует заранее подумать о том, чтобы запастись едой на эти выходные и подготовить все необходимое для празднования Пасхи!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1076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Когда яйца красить будем?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Да, да – немцы тоже красят яйца на Пасху! Правда, они чаще всего это делают не сами, а покупают в супермаркете уже готовые сваренные и раскрашенные яйца. Их можно купить, кстати, и не только на Пасху – в другое время это разноцветье будет называться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Picknick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. Но на Пасху их продают просто в огромных количествах, причем уже задолго до самого праздника! Открытки с нарисованными на них яйцами, зайцами и прочими атрибутами праздника начинают появляться в магазинах кое-где уже после Рождества, а за несколько недель до самого праздника в некоторых торговых центрах появляются фигурки пасхальных зайцев и изображение сценок, как дети ищут разноцветные яйца в саду и во дворе. После Пасхи это все украшательство убирают, и некоторые люди шутят, что раз убрали пасхальную «мишуру» с полок, значит скоро вновь появится рождественская. На то это и Германия – все планируем заранее, даже Ostereier! </a:t>
            </a: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Очень популярны на Пасху также шоколадные яйца и киндер-сюрпризы – по-немецки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Überaschungs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, сокращенно </a:t>
            </a: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Ü-eier</a:t>
            </a:r>
            <a:r>
              <a:rPr b="0" lang="ru-RU" sz="1400" spc="-1" strike="noStrike">
                <a:solidFill>
                  <a:srgbClr val="ff6600"/>
                </a:solidFill>
                <a:latin typeface="Comic Sans MS"/>
              </a:rPr>
              <a:t> (яйца с сюрпризом!). Их особенно любят дети, для которых Пасха – это в первую очередь весёлый праздник, ведь на Пасху приходит….нет, не Санта Клаус, а  пасхальный заяц! 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276360" cy="2274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Comic Sans MS"/>
              </a:rPr>
              <a:t>Что прячет Пасхальный заяц?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Ну, конечно же, яйца! Это он прячет накануне разноцветные раскрашенные яйца и сладости в саду, чтобы дети потом их искали и радовались! Это его рисуют на картинках с пожеланиями и в него иногда переодеваются папа или старший брат, чтобы доставить радость малышам, которые верят – раз яйца берутся неизвестно откуда, значит, их действительно принес </a:t>
            </a:r>
            <a:r>
              <a:rPr b="1" lang="ru-RU" sz="1600" spc="-1" strike="noStrike">
                <a:solidFill>
                  <a:srgbClr val="cc0099"/>
                </a:solidFill>
                <a:latin typeface="Comic Sans MS"/>
              </a:rPr>
              <a:t>Osterhase</a:t>
            </a: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, этот самый пасхальный заяц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Пасхальный заяц как символ плодородия и богатства стал символом Пасхи в Германии с XVI века и с тех пор распространился по всему миру. Особой популярностью он пользуется в Германии, Швейцарии и Нидерландах. В виде зайчиков делают также игрушки, сладости и сувениры. Есть на Пасху ещё и другой обычай – Eier rollen, что значит катать яйца: у кого дальше укатится, тот и победил. Радости у детей хоть отбавляй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46376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914400" y="495288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7477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352680" y="4648320"/>
            <a:ext cx="29718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b800"/>
                </a:solidFill>
                <a:latin typeface="Comic Sans MS"/>
              </a:rPr>
              <a:t>С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с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0" lang="ru-RU" sz="5400" spc="-1" strike="noStrike">
                <a:solidFill>
                  <a:srgbClr val="cc0099"/>
                </a:solidFill>
                <a:latin typeface="Comic Sans MS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з</a:t>
            </a:r>
            <a:r>
              <a:rPr b="0" lang="ru-RU" sz="5400" spc="-1" strike="noStrike">
                <a:solidFill>
                  <a:srgbClr val="00ff00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33ccff"/>
                </a:solidFill>
                <a:latin typeface="Comic Sans MS"/>
              </a:rPr>
              <a:t>в</a:t>
            </a:r>
            <a:r>
              <a:rPr b="0" lang="ru-RU" sz="5400" spc="-1" strike="noStrike">
                <a:solidFill>
                  <a:srgbClr val="9900ff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cc9900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666699"/>
                </a:solidFill>
                <a:latin typeface="Comic Sans MS"/>
              </a:rPr>
              <a:t>м</a:t>
            </a:r>
            <a:r>
              <a:rPr b="0" lang="ru-RU" sz="5400" spc="-1" strike="noStrike">
                <a:solidFill>
                  <a:srgbClr val="ff99ff"/>
                </a:solidFill>
                <a:latin typeface="Comic Sans MS"/>
              </a:rPr>
              <a:t>а</a:t>
            </a:r>
            <a:r>
              <a:rPr b="0" lang="ru-RU" sz="5400" spc="-1" strike="noStrike">
                <a:solidFill>
                  <a:srgbClr val="996633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336600"/>
                </a:solidFill>
                <a:latin typeface="Comic Sans MS"/>
              </a:rPr>
              <a:t>и</a:t>
            </a:r>
            <a:r>
              <a:rPr b="0" lang="ru-RU" sz="5400" spc="-1" strike="noStrike">
                <a:solidFill>
                  <a:srgbClr val="ffcc66"/>
                </a:solidFill>
                <a:latin typeface="Comic Sans MS"/>
              </a:rPr>
              <a:t>е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Comic Sans MS"/>
              </a:rPr>
              <a:t>                  </a:t>
            </a:r>
            <a:r>
              <a:rPr b="0" lang="ru-RU" sz="1600" spc="-1" strike="noStrike">
                <a:solidFill>
                  <a:srgbClr val="ffb800"/>
                </a:solidFill>
                <a:latin typeface="Comic Sans MS"/>
              </a:rPr>
              <a:t>Выполнила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работу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ученица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ef66"/>
                </a:solidFill>
                <a:latin typeface="Comic Sans MS"/>
              </a:rPr>
              <a:t>5-а </a:t>
            </a:r>
            <a:r>
              <a:rPr b="0" lang="ru-RU" sz="1600" spc="-1" strike="noStrike">
                <a:solidFill>
                  <a:srgbClr val="ff99ff"/>
                </a:solidFill>
                <a:latin typeface="Comic Sans MS"/>
              </a:rPr>
              <a:t>класс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666699"/>
                </a:solidFill>
                <a:latin typeface="Comic Sans MS"/>
              </a:rPr>
              <a:t>Маковкина</a:t>
            </a:r>
            <a:r>
              <a:rPr b="0" lang="ru-RU" sz="1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9900ff"/>
                </a:solidFill>
                <a:latin typeface="Comic Sans MS"/>
              </a:rPr>
              <a:t>Ан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962520" cy="319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3-04-28T18:14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