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3B43-E2C8-463A-8138-625CF752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FB0-FE82-485D-9967-932DE325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2ACA-1EF1-4795-AFA0-1D7CD109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EEF0-DA3D-418A-8D11-BF96F860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452F-A970-4C96-B6C1-9A502FD4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BF1A-B96D-46FF-ADD6-5A8937DD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61EB-AC73-4FFF-A519-3C9C06D9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D90D-E69C-4791-8EFA-830C9FF3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5B67-DB5C-42A6-9476-661B45B4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2F98-54DC-4B5A-9BED-2ECE2064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1EFC-06CD-4A13-9043-D9D2C845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985B-2EF7-41EB-A169-DC7616F4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26F4-8084-4C7D-B0AD-6FF707DA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FACB-CCC3-41A6-A5F5-43A4328E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3941-336F-4F95-99EA-1B57E081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6608-616D-4149-98AD-01212424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20B3-FF32-41FC-9413-9AEDE057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1A05-830C-43B4-9076-4498BFB2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D2A9-83B0-429C-B1CA-F332757C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3BDD-1782-461B-8B98-802BB6DE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EBE3-4AAA-4E55-9B92-A5D13058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E31A-21C0-4F45-BC5E-1DEE685D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363C-5294-4843-8C5D-31557162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28CB-E586-4491-8CE1-2E832F22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8E9E-8F41-4C60-B5A0-8C0E421F6F0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B0A2-31FB-4E3E-BC3E-38C6617C490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1447920"/>
          </a:xfrm>
          <a:prstGeom prst="rect">
            <a:avLst/>
          </a:prstGeom>
          <a:solidFill>
            <a:srgbClr val="720000"/>
          </a:solidFill>
          <a:ln w="7632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ahoma"/>
              </a:rPr>
              <a:t>К 70-ЛЕТИЮ ПОБЕДЫ В  ВЕЛИКОЙ ОТЕЧЕСТВЕННОЙ ВОЙНЕ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Picture 16" descr="i?id=230841540-36-72&amp;n=21"/>
          <p:cNvPicPr/>
          <p:nvPr/>
        </p:nvPicPr>
        <p:blipFill>
          <a:blip r:embed="rId1"/>
          <a:stretch/>
        </p:blipFill>
        <p:spPr>
          <a:xfrm>
            <a:off x="1295280" y="1828800"/>
            <a:ext cx="65534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076960" cy="685800"/>
          </a:xfrm>
          <a:prstGeom prst="rect">
            <a:avLst/>
          </a:prstGeom>
          <a:solidFill>
            <a:srgbClr val="fffffa"/>
          </a:solidFill>
          <a:ln w="38160">
            <a:solidFill>
              <a:srgbClr val="82514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ПОБЕДА ПОД МОСКВОЙ ИМЕЛА ОГРОМНОЕ ВОЕННОЕ И ПОЛИТИЧЕСКОЕ ЗНАЧЕНИ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4800600" y="838080"/>
            <a:ext cx="4343400" cy="6019920"/>
          </a:xfrm>
          <a:prstGeom prst="rect">
            <a:avLst/>
          </a:prstGeom>
          <a:solidFill>
            <a:srgbClr val="fffffa"/>
          </a:solidFill>
          <a:ln w="381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ПОБЕДА ПОД МОСКВОЙ ИМЕЛА ОГРОМНОЕ ВОЕННОЕ И ПОЛИТИЧЕСКОЕ ЗНАЧЕНИЕ. ОНА ОЗНАЧАЛА КРАХ НЕМЕЦКИХ ПЛАНОВ «МОЛНИЕНОСНОЙ ВОЙНЫ». ЯПОНИЯ И ТУРЦИЯ ОКОНЧАТЕЛЬНО ОТКАЗАЛИСЬ ОТ ВСТУПЛЕНИЯ В ВОЙНУ НА СТОРОНЕ ГЕРМАНИИ. БЫЛ УСКОРЕН ПРОЦЕСС СОЗДАНИЯ ЕДИНОЙ АНТИГИТЛЕРОВСКОЙ КОАЛИЦИИ ГОСУДАРСТ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6" descr="i?id=177603041-44-72&amp;n=21"/>
          <p:cNvPicPr/>
          <p:nvPr/>
        </p:nvPicPr>
        <p:blipFill>
          <a:blip r:embed="rId1"/>
          <a:stretch/>
        </p:blipFill>
        <p:spPr>
          <a:xfrm>
            <a:off x="0" y="838080"/>
            <a:ext cx="47242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400800" cy="1295640"/>
          </a:xfrm>
          <a:prstGeom prst="rect">
            <a:avLst/>
          </a:prstGeom>
          <a:solidFill>
            <a:srgbClr val="720000"/>
          </a:solidFill>
          <a:ln w="7632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БИТВА ЗА МОСКВУ</a:t>
            </a:r>
            <a:br>
              <a:rPr sz="3200"/>
            </a:b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СЕНТЯБРЬ 1941-  </a:t>
            </a:r>
            <a:br>
              <a:rPr sz="3200"/>
            </a:b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 6 ДЕКАБРЯ 1941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Picture 3" descr="moskovskaja_bitva"/>
          <p:cNvPicPr/>
          <p:nvPr/>
        </p:nvPicPr>
        <p:blipFill>
          <a:blip r:embed="rId1"/>
          <a:stretch/>
        </p:blipFill>
        <p:spPr>
          <a:xfrm>
            <a:off x="1371600" y="1447920"/>
            <a:ext cx="6400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400800" cy="1295640"/>
          </a:xfrm>
          <a:prstGeom prst="rect">
            <a:avLst/>
          </a:prstGeom>
          <a:solidFill>
            <a:srgbClr val="720000"/>
          </a:solidFill>
          <a:ln w="7632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30.09.1941 Г. ГЕНЕРАЛЬНОЕ НАСТУПЛЕНИЕ НЕМЦЕВ НА МОСКВУ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3" name="Picture 7" descr="i?id=461101740-18-72&amp;n=21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076960" cy="685800"/>
          </a:xfrm>
          <a:prstGeom prst="rect">
            <a:avLst/>
          </a:prstGeom>
          <a:solidFill>
            <a:srgbClr val="fffffa"/>
          </a:solidFill>
          <a:ln w="38160">
            <a:solidFill>
              <a:srgbClr val="82514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00"/>
                </a:solidFill>
                <a:latin typeface="Tahoma"/>
              </a:rPr>
              <a:t>ДЛЯ МОСКВЫ СЛОЖИЛАСЬ КРИТИЧЕСКАЯ СИТУАЦИЯ. </a:t>
            </a:r>
            <a:br>
              <a:rPr sz="2000"/>
            </a:br>
            <a:r>
              <a:rPr b="0" lang="ru-RU" sz="2000" spc="-1" strike="noStrike">
                <a:solidFill>
                  <a:srgbClr val="8c0000"/>
                </a:solidFill>
                <a:latin typeface="Tahoma"/>
              </a:rPr>
              <a:t>БОИ ШЛИ В 80-100 КМ ОТ СТОЛИЦЫ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4800600" y="838080"/>
            <a:ext cx="4343400" cy="6248520"/>
          </a:xfrm>
          <a:prstGeom prst="rect">
            <a:avLst/>
          </a:prstGeom>
          <a:solidFill>
            <a:srgbClr val="fffffa"/>
          </a:solidFill>
          <a:ln w="381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8c0000"/>
                </a:solidFill>
                <a:latin typeface="Times New Roman"/>
              </a:rPr>
              <a:t>ПЛАН «БАРБАРОСС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Times New Roman"/>
              </a:rPr>
              <a:t>ПРЕДУСМАТРИВАЛ ВЕДЕ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Times New Roman"/>
              </a:rPr>
              <a:t>«МОЛНИЕНОСНОЙ ВОЙНЫ» ПРОТИ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Times New Roman"/>
              </a:rPr>
              <a:t>СССР НА ТРЕХ ОСНОВНЫ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Times New Roman"/>
              </a:rPr>
              <a:t>НАПРАВЛЕНИЯХ- Н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Times New Roman"/>
              </a:rPr>
              <a:t>ЛЕНИНГРАД(ГРУППА АРМИЙ «СЕВЕР»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Times New Roman"/>
              </a:rPr>
              <a:t>МОСКВУ(ГРУППА АРМИЙ «ЦЕНТР»)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Times New Roman"/>
              </a:rPr>
              <a:t>КИЕВ( ГРУППА АРМИЙ «ЮГ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24" descr="i?id=246863836-54-72&amp;n=21"/>
          <p:cNvPicPr/>
          <p:nvPr/>
        </p:nvPicPr>
        <p:blipFill>
          <a:blip r:embed="rId1"/>
          <a:stretch/>
        </p:blipFill>
        <p:spPr>
          <a:xfrm>
            <a:off x="0" y="838080"/>
            <a:ext cx="47242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076960" cy="685800"/>
          </a:xfrm>
          <a:prstGeom prst="rect">
            <a:avLst/>
          </a:prstGeom>
          <a:solidFill>
            <a:srgbClr val="fffffa"/>
          </a:solidFill>
          <a:ln w="38160">
            <a:solidFill>
              <a:srgbClr val="82514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00"/>
                </a:solidFill>
                <a:latin typeface="Tahoma"/>
              </a:rPr>
              <a:t>7 НОЯБРЯ 1941 НА КРАСНОЙ ПЛОЩАДИ СОСТОЯЛСЯ ВОЕННЫЙ ПАРАД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4800600" y="838080"/>
            <a:ext cx="4343400" cy="6019920"/>
          </a:xfrm>
          <a:prstGeom prst="rect">
            <a:avLst/>
          </a:prstGeom>
          <a:solidFill>
            <a:srgbClr val="fffffa"/>
          </a:solidFill>
          <a:ln w="381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КОЛОССАЛЬНЫМ НАПРЯЖЕНИЕ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СИЛ,БЕСПРИМЕРНЫ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МУЖЕСТВОМ И ГЕРОИЗМО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ЗАЩИТНИКОВ СТОЛИЦ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НАСТУПЛЕНИЕ НЕМЦЕВ В ПЕРВЫ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ЧИСЛАХ НОЯБРЯ БЫЛ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ОСТАНОВЛЕ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7 НОЯБРЯ 1941 НА КРАСНОЙ ПЛОЩАДИ СОСТОЯЛСЯ ВОЕННЫЙ ПАРА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Командовал парадом командующий Московским военным округом генерал Павел Артемьев, а принимал его маршал Семен Будён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6" descr="i?id=52046438-71-72&amp;n=21"/>
          <p:cNvPicPr/>
          <p:nvPr/>
        </p:nvPicPr>
        <p:blipFill>
          <a:blip r:embed="rId1"/>
          <a:stretch/>
        </p:blipFill>
        <p:spPr>
          <a:xfrm>
            <a:off x="0" y="762120"/>
            <a:ext cx="4724280" cy="3028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i?id=553364072-62-72&amp;n=21"/>
          <p:cNvPicPr/>
          <p:nvPr/>
        </p:nvPicPr>
        <p:blipFill>
          <a:blip r:embed="rId2"/>
          <a:stretch/>
        </p:blipFill>
        <p:spPr>
          <a:xfrm>
            <a:off x="0" y="3886200"/>
            <a:ext cx="4724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076960" cy="685800"/>
          </a:xfrm>
          <a:prstGeom prst="rect">
            <a:avLst/>
          </a:prstGeom>
          <a:solidFill>
            <a:srgbClr val="fffffa"/>
          </a:solidFill>
          <a:ln w="38160">
            <a:solidFill>
              <a:srgbClr val="82514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00"/>
                </a:solidFill>
                <a:latin typeface="Tahoma"/>
              </a:rPr>
              <a:t>7 НОЯБРЯ 1941 НА КРАСНОЙ ПЛОЩАДИ СОСТОЯЛСЯ ВОЕННЫЙ ПАРАД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4800600" y="838080"/>
            <a:ext cx="4343400" cy="6019920"/>
          </a:xfrm>
          <a:prstGeom prst="rect">
            <a:avLst/>
          </a:prstGeom>
          <a:solidFill>
            <a:srgbClr val="fffffa"/>
          </a:solidFill>
          <a:ln w="381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Парад на </a:t>
            </a:r>
            <a:r>
              <a:rPr b="0" lang="ru-RU" sz="1800" spc="-1" strike="noStrike" u="sng">
                <a:solidFill>
                  <a:srgbClr val="8c0000"/>
                </a:solidFill>
                <a:uFillTx/>
                <a:latin typeface="Arial"/>
              </a:rPr>
              <a:t>Красной</a:t>
            </a: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 площади 7 ноября 1941 года, проведенный советским командованием буквально под носом у наступающего врага, ранее обещавшего в тот день провести в Москве собственное победное шествие, не имеет аналогов во всей мировой истории войн. Парад имел колоссальное идеологическое значение, а его успешное проведение, называемое историками крупнейшей войсковой операцией, стало первым предзнаменованием будущей Великой Побед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7" descr="10382-23"/>
          <p:cNvPicPr/>
          <p:nvPr/>
        </p:nvPicPr>
        <p:blipFill>
          <a:blip r:embed="rId1"/>
          <a:stretch/>
        </p:blipFill>
        <p:spPr>
          <a:xfrm>
            <a:off x="0" y="838080"/>
            <a:ext cx="48006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076960" cy="609480"/>
          </a:xfrm>
          <a:prstGeom prst="rect">
            <a:avLst/>
          </a:prstGeom>
          <a:solidFill>
            <a:srgbClr val="fffffa"/>
          </a:solidFill>
          <a:ln w="38160">
            <a:solidFill>
              <a:srgbClr val="82514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00"/>
                </a:solidFill>
                <a:latin typeface="Tahoma"/>
              </a:rPr>
              <a:t>КОНТРНАСТУПЛЕНИЮ ПРЕДШЕСТВОВАЛИ БОЛЕЕ ДВУХ МЕСЯЦЕВ ТЯЖЕЛЕЙШИХ БОЕВ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4800600" y="838080"/>
            <a:ext cx="4343400" cy="6019920"/>
          </a:xfrm>
          <a:prstGeom prst="rect">
            <a:avLst/>
          </a:prstGeom>
          <a:solidFill>
            <a:srgbClr val="fffffa"/>
          </a:solidFill>
          <a:ln w="381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Контрнаступлению предшествовали более двух месяцев тяжелейших боев, когда, казалось, </a:t>
            </a:r>
            <a:br>
              <a:rPr sz="1800"/>
            </a:b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Москва на грани падения, и война проиграна. Как вспоминал Георгий Жуков, командовавший Западным фронтом, защищавшим Москву, </a:t>
            </a:r>
            <a:br>
              <a:rPr sz="1800"/>
            </a:b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Сталин в один из особенно тяжелых дней вражеского наступления спросил его: «Вы уверены, что мы удержим Москву? </a:t>
            </a:r>
            <a:br>
              <a:rPr sz="1800"/>
            </a:b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Я спрашиваю вас это с болью в душе. Говорите честно, как коммунист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Жуков ответил «Москву, безусловно, удержим. Но нужно еще не менее двух армий. И хотя бы двести танков». </a:t>
            </a:r>
            <a:br>
              <a:rPr sz="1800"/>
            </a:b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Сталин, да и Жуков, отлично понимали, что значат такие силы, и как трудно их откуда либо взя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6" descr="i?id=64558654-45-72&amp;n=21"/>
          <p:cNvPicPr/>
          <p:nvPr/>
        </p:nvPicPr>
        <p:blipFill>
          <a:blip r:embed="rId1"/>
          <a:stretch/>
        </p:blipFill>
        <p:spPr>
          <a:xfrm>
            <a:off x="0" y="3429000"/>
            <a:ext cx="4724280" cy="342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i?id=527393534-11-72&amp;n=21"/>
          <p:cNvPicPr/>
          <p:nvPr/>
        </p:nvPicPr>
        <p:blipFill>
          <a:blip r:embed="rId2"/>
          <a:stretch/>
        </p:blipFill>
        <p:spPr>
          <a:xfrm>
            <a:off x="304920" y="762120"/>
            <a:ext cx="40384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400800" cy="1295640"/>
          </a:xfrm>
          <a:prstGeom prst="rect">
            <a:avLst/>
          </a:prstGeom>
          <a:solidFill>
            <a:srgbClr val="720000"/>
          </a:solidFill>
          <a:ln w="7632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КАРТА КОНТРНАСТУПЛЕНИЯ СОВЕТСКИХ ВОЙСК ПОД МОСКВОЙ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Picture 5" descr="moscow1"/>
          <p:cNvPicPr/>
          <p:nvPr/>
        </p:nvPicPr>
        <p:blipFill>
          <a:blip r:embed="rId1"/>
          <a:stretch/>
        </p:blipFill>
        <p:spPr>
          <a:xfrm>
            <a:off x="1371600" y="1523880"/>
            <a:ext cx="6477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076960" cy="685800"/>
          </a:xfrm>
          <a:prstGeom prst="rect">
            <a:avLst/>
          </a:prstGeom>
          <a:solidFill>
            <a:srgbClr val="fffffa"/>
          </a:solidFill>
          <a:ln w="38160">
            <a:solidFill>
              <a:srgbClr val="82514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00"/>
                </a:solidFill>
                <a:latin typeface="Tahoma"/>
              </a:rPr>
              <a:t>5 - 6 ДЕКАБРЯ 1941 Г. КОНТРНАСТУПЛЕНИЕ СОВЕТСКИХ ВОЙСК ПОД МОСКВОЙ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4800600" y="838080"/>
            <a:ext cx="4343400" cy="6019920"/>
          </a:xfrm>
          <a:prstGeom prst="rect">
            <a:avLst/>
          </a:prstGeom>
          <a:solidFill>
            <a:srgbClr val="fffffa"/>
          </a:solidFill>
          <a:ln w="381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К КОНЦУ НОЯБРЯ ВОЙСКА ЗАПАДНОГО ФРОНТА ПОЛУЧИЛИ ЗНАЧИТЕЛЬНЫЕ ПОДКРЕПЛЕНИЯ НА ВОСТОЧНЫХ РАЙОНАХ СТРАНЫ. ЭТО ПОЗВОЛИЛО 5-6 ДЕКАБРЯ 1941 Г. НАЧАТЬ КОНТРНАСТУПЛЕНИЕ СОВЕТСКИХ ВОЙСК ПОД МОСКВ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В ПЕРВЫЕ ЖЕ ДНИ БЫЛИ ОСВОБОЖДЕНЫ ГОРОДА КАЛИНИН(ТВЕРЬ),СОЛНЕЧНОГОРСК, КЛИН, ИСТР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ВСЕГО ЖЕ В ХОДЕ ЗИМНЕГО НАСТУПЛЕНИЯ СОВЕТСКИЕ ВОЙСКА РАЗГРОМИЛИ 38 НЕМЕЦКИХ ДИВИЗ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ВРАГ БЫЛ ОТБРОШЕН НА 100-250 КМ ОТ МОСКВ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00"/>
                </a:solidFill>
                <a:latin typeface="Arial"/>
              </a:rPr>
              <a:t>ЭТО БЫЛО ПЕРВОЕ КРУПНОЕ ПОРАЖЕНИЕ НЕМЕЦКИХ ВОЙСК В ХОДЕ ВСЕЙ ВТОРОЙ МИРОВОЙ ВОЙ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6" descr="i?id=202248272-41-72&amp;n=21"/>
          <p:cNvPicPr/>
          <p:nvPr/>
        </p:nvPicPr>
        <p:blipFill>
          <a:blip r:embed="rId1"/>
          <a:stretch/>
        </p:blipFill>
        <p:spPr>
          <a:xfrm>
            <a:off x="0" y="838080"/>
            <a:ext cx="47242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2:25:36Z</dcterms:created>
  <dc:creator>elior</dc:creator>
  <dc:description/>
  <dc:language>en-US</dc:language>
  <cp:lastModifiedBy>Школа</cp:lastModifiedBy>
  <dcterms:modified xsi:type="dcterms:W3CDTF">2013-12-10T17:45:29Z</dcterms:modified>
  <cp:revision>167</cp:revision>
  <dc:subject/>
  <dc:title>Первобытное обществ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71049</vt:lpwstr>
  </property>
</Properties>
</file>