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D00-AA54-4FD3-9347-A823E9D7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3F3-AEB4-4A5B-A7F8-AE12BB3C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546-02A1-448A-99C4-D4E7FE35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FFC-BACD-41AF-89CA-82B8B765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E2E0-A3BA-45BC-BA27-05B44625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CDC-0720-47FF-867E-3096068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1474-2FDB-4753-AE75-797D40E3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D695-615F-457C-81EB-CB06B3DF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8851-58B5-4E57-B599-72377658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D9A2-6B38-4A88-A718-521A16D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B717-558A-4BBB-AC7E-AE94848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074-A93C-4259-A606-64D06E06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BC30-4B50-4126-9B4E-757DBCE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1BF3-7A54-4014-BBDA-24CFBF76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F901-A6F6-45CF-8BAC-7D9911DC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E2B-7A9A-49D4-87D1-5F0D4BD8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AC5F-C6C3-40E2-BE65-CC8ACE3A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291-D6D7-4E25-9FDC-CA7FE8D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998-B50B-4DE5-BC26-2ACF6EA5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A71-E6A0-4248-A356-6882CCC7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78F-ECC7-4C4E-9601-52711B52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E28-80EB-400A-A040-0B9AFB76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22E-7AB8-4BAB-B19D-BA3E24F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EB2-2E60-4FBF-A150-BF6C054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54D-32DD-42CF-8A41-E6D09EF5D9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F66D-F211-4C90-8C15-69CA8D5C89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144792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ahoma"/>
              </a:rPr>
              <a:t>К 70-ЛЕТИЮ ПОБЕДЫ В  ВЕЛИКОЙ ОТЕЧЕСТВЕННОЙ ВОЙН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16" descr="i?id=230841540-36-72&amp;n=21"/>
          <p:cNvPicPr/>
          <p:nvPr/>
        </p:nvPicPr>
        <p:blipFill>
          <a:blip r:embed="rId1"/>
          <a:stretch/>
        </p:blipFill>
        <p:spPr>
          <a:xfrm>
            <a:off x="1295280" y="18288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ОБЕДА ПОД МОСКВОЙ ИМЕЛА ОГРОМНОЕ ВОЕННОЕ И ПОЛИТИЧЕСКОЕ ЗНАЧЕ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ПОБЕДА ПОД МОСКВОЙ ИМЕЛА ОГРОМНОЕ ВОЕННОЕ И ПОЛИТИЧЕСКОЕ ЗНАЧЕНИЕ. ОНА ОЗНАЧАЛА КРАХ НЕМЕЦКИХ ПЛАНОВ «МОЛНИЕНОСНОЙ ВОЙНЫ». ЯПОНИЯ И ТУРЦИЯ ОКОНЧАТЕЛЬНО ОТКАЗАЛИСЬ ОТ ВСТУПЛЕНИЯ В ВОЙНУ НА СТОРОНЕ ГЕРМАНИИ. БЫЛ УСКОРЕН ПРОЦЕСС СОЗДАНИЯ ЕДИНОЙ АНТИГИТЛЕРОВСКОЙ КОАЛИЦИИ ГОСУДАР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i?id=177603041-44-72&amp;n=21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29564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БИТВА ЗА МОСКВУ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ЕНТЯБРЬ 1941- 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 6 ДЕКАБРЯ 194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3" descr="moskovskaja_bitva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29564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0.09.1941 Г. ГЕНЕРАЛЬНОЕ НАСТУПЛЕНИЕ НЕМЦЕВ НА МОСКВ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7" descr="i?id=461101740-18-72&amp;n=21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ДЛЯ МОСКВЫ СЛОЖИЛАСЬ КРИТИЧЕСКАЯ СИТУАЦИЯ. </a:t>
            </a:r>
            <a:br>
              <a:rPr sz="2000"/>
            </a:b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БОИ ШЛИ В 80-100 КМ ОТ СТОЛИЦ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800600" y="838080"/>
            <a:ext cx="4343400" cy="62485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ПЛАН «БАРБАРО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ПРЕДУСМАТРИВАЛ ВЕД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«МОЛНИЕНОСНОЙ ВОЙНЫ» ПРОТИ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СССР НА ТРЕХ ОСНОВ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НАПРАВЛЕНИЯХ-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ЛЕНИНГРАД(ГРУППА АРМИЙ «СЕВЕР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МОСКВУ(ГРУППА АРМИЙ «ЦЕНТР»)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КИЕВ( ГРУППА АРМИЙ «Ю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4" descr="i?id=246863836-54-72&amp;n=21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7 НОЯБРЯ 1941 НА КРАСНОЙ ПЛОЩАДИ СОСТОЯЛСЯ ВОЕННЫЙ ПАРАД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КОЛОССАЛЬНЫМ НАПРЯЖЕНИ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СИЛ,БЕСПРИМЕРНЫ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МУЖЕСТВОМ И ГЕРОИЗМ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ЗАЩИТНИКОВ СТОЛ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НАСТУПЛЕНИЕ НЕМЦЕВ В ПЕРВ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ЧИСЛАХ НОЯБРЯ БЫЛ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ОСТАНОВЛЕ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7 НОЯБРЯ 1941 НА КРАСНОЙ ПЛОЩАДИ СОСТОЯЛСЯ ВОЕННЫЙ ПА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Командовал парадом командующий Московским военным округом генерал Павел Артемьев, а принимал его маршал Семен Будён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i?id=52046438-71-72&amp;n=21"/>
          <p:cNvPicPr/>
          <p:nvPr/>
        </p:nvPicPr>
        <p:blipFill>
          <a:blip r:embed="rId1"/>
          <a:stretch/>
        </p:blipFill>
        <p:spPr>
          <a:xfrm>
            <a:off x="0" y="762120"/>
            <a:ext cx="4724280" cy="30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?id=553364072-62-72&amp;n=21"/>
          <p:cNvPicPr/>
          <p:nvPr/>
        </p:nvPicPr>
        <p:blipFill>
          <a:blip r:embed="rId2"/>
          <a:stretch/>
        </p:blipFill>
        <p:spPr>
          <a:xfrm>
            <a:off x="0" y="3886200"/>
            <a:ext cx="4724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7 НОЯБРЯ 1941 НА КРАСНОЙ ПЛОЩАДИ СОСТОЯЛСЯ ВОЕННЫЙ ПАРАД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Парад на </a:t>
            </a:r>
            <a:r>
              <a:rPr b="0" lang="ru-RU" sz="1800" spc="-1" strike="noStrike" u="sng">
                <a:solidFill>
                  <a:srgbClr val="8c0000"/>
                </a:solidFill>
                <a:uFillTx/>
                <a:latin typeface="Arial"/>
              </a:rPr>
              <a:t>Красной</a:t>
            </a: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 площади 7 ноября 1941 года, проведенный советским командованием буквально под носом у наступающего врага, ранее обещавшего в тот день провести в Москве собственное победное шествие, не имеет аналогов во всей мировой истории войн. Парад имел колоссальное идеологическое значение, а его успешное проведение, называемое историками крупнейшей войсковой операцией, стало первым предзнаменованием будущей Великой Побе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10382-23"/>
          <p:cNvPicPr/>
          <p:nvPr/>
        </p:nvPicPr>
        <p:blipFill>
          <a:blip r:embed="rId1"/>
          <a:stretch/>
        </p:blipFill>
        <p:spPr>
          <a:xfrm>
            <a:off x="0" y="838080"/>
            <a:ext cx="4800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0948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КОНТРНАСТУПЛЕНИЮ ПРЕДШЕСТВОВАЛИ БОЛЕЕ ДВУХ МЕСЯЦЕВ ТЯЖЕЛЕЙШИХ БОЕ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онтрнаступлению предшествовали более двух месяцев тяжелейших боев, когда, казалось,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сква на грани падения, и война проиграна. Как вспоминал Георгий Жуков, командовавший Западным фронтом, защищавшим Москву,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ин в один из особенно тяжелых дней вражеского наступления спросил его: «Вы уверены, что мы удержим Москву?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Я спрашиваю вас это с болью в душе. Говорите честно, как коммунис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уков ответил «Москву, безусловно, удержим. Но нужно еще не менее двух армий. И хотя бы двести танков».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ин, да и Жуков, отлично понимали, что значат такие силы, и как трудно их откуда либо взя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i?id=64558654-45-72&amp;n=21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?id=527393534-11-72&amp;n=21"/>
          <p:cNvPicPr/>
          <p:nvPr/>
        </p:nvPicPr>
        <p:blipFill>
          <a:blip r:embed="rId2"/>
          <a:stretch/>
        </p:blipFill>
        <p:spPr>
          <a:xfrm>
            <a:off x="304920" y="7621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29564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КАРТА КОНТРНАСТУПЛЕНИЯ СОВЕТСКИХ ВОЙСК ПОД МОСКВО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5" descr="moscow1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5 - 6 ДЕКАБРЯ 1941 Г. КОНТРНАСТУПЛЕНИЕ СОВЕТСКИХ ВОЙСК ПОД МОСКВОЙ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К КОНЦУ НОЯБРЯ ВОЙСКА ЗАПАДНОГО ФРОНТА ПОЛУЧИЛИ ЗНАЧИТЕЛЬНЫЕ ПОДКРЕПЛЕНИЯ НА ВОСТОЧНЫХ РАЙОНАХ СТРАНЫ. ЭТО ПОЗВОЛИЛО 5-6 ДЕКАБРЯ 1941 Г. НАЧАТЬ КОНТРНАСТУПЛЕНИЕ СОВЕТСКИХ ВОЙСК ПОД МОСКВ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В ПЕРВЫЕ ЖЕ ДНИ БЫЛИ ОСВОБОЖДЕНЫ ГОРОДА КАЛИНИН(ТВЕРЬ),СОЛНЕЧНОГОРСК, КЛИН, ИСТ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ВСЕГО ЖЕ В ХОДЕ ЗИМНЕГО НАСТУПЛЕНИЯ СОВЕТСКИЕ ВОЙСКА РАЗГРОМИЛИ 38 НЕМЕЦКИХ ДИВИ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ВРАГ БЫЛ ОТБРОШЕН НА 100-250 КМ ОТ МОСКВ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ЭТО БЫЛО ПЕРВОЕ КРУПНОЕ ПОРАЖЕНИЕ НЕМЕЦКИХ ВОЙСК В ХОДЕ ВСЕЙ ВТОРОЙ МИРОВОЙ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i?id=202248272-41-72&amp;n=21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36Z</dcterms:created>
  <dc:creator>elior</dc:creator>
  <dc:description/>
  <dc:language>en-US</dc:language>
  <cp:lastModifiedBy>Школа</cp:lastModifiedBy>
  <dcterms:modified xsi:type="dcterms:W3CDTF">2013-12-10T17:45:29Z</dcterms:modified>
  <cp:revision>167</cp:revision>
  <dc:subject/>
  <dc:title>Первобытное обще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