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AC6-3C28-4631-8304-34424E7C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5F8-85C0-475A-9F4E-53FCF82F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7C6-2913-4B11-A15C-DB9E6327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E38-597B-4095-B3CE-E3067F89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A4C0-EE4F-45F5-9654-350EEE2D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23A9-7C8F-4BA5-ABC0-C65F9F2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8361-B7D7-4A2D-9754-3ABD10E3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FF1A-D2AB-45FB-A44B-4EE27C19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BFB7-1C62-4BF0-991E-329DD9ED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7F16-E6AF-4EA4-AC88-22B6FE75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8BFE-81D4-4028-9242-AEA93765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153-C7C7-4C96-A994-D34E474A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16AD-EED0-4FE5-A14F-2F0364D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9E2C-63B7-421B-B159-1BE6832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79B4-4D72-48D7-997E-4510A79E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8EEF-2057-4377-B68E-31446E62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2753-AA70-4722-B0EB-6C2B8A8E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F076E-F9E8-4112-88B4-E57B4550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9C88-147B-4708-AEAD-C1F3146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2C43-F393-42DD-A7E7-8B7AEB0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573A-E49E-4AE3-AC61-57757EA7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4F85-5B8B-495B-B539-ECB1D7B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79E-BDE7-4705-9EFC-DE4CB1B4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7C39-AE23-42B6-B3D9-AE49F30E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53A2-CE76-45BB-A61F-86FF68F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7A84-85C7-44E8-9874-61E91D33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9159-03F5-4A23-95CC-5D3D999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2873-57C5-4DBF-902E-A0F36636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6AC3-5CBD-464B-A3A2-018E1B35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2C98-569B-490A-AC99-E9217826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5734-315B-4332-9A2E-ECF64E60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16BB-8B6D-4EC4-A130-8FC8EE38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FCB1-67E6-44AF-9D1C-7FB8B476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CC4-7D06-4465-9B7D-B6B10021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B626-8FA8-458D-983A-4E2E1F8A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1F004-2C2C-4F74-9B98-F1648E7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D5ED-524E-40B0-AB1D-CD31F6FE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9DD7-9BDD-4C49-9982-704C77D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8ED0-B28D-4AA3-9F91-B683936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7A3E2-679E-445E-8EEF-A4A39B4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42CE-7EAB-4C10-A518-5E8799F0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BB8F-42E5-4A74-8F02-BA00B0EE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8EDE-BF99-40BF-B600-031CB384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D88-AF6C-4FED-9D01-A843A1E6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AD6-9732-445C-8EFD-A388532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7F2-D7E4-4DBE-A975-1E3A0A79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3B7-5CD3-44ED-B432-6045217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80A-7A41-4AAA-BB1B-DFCCE19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A839-8314-4C41-85FB-483BAA7381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59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6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C46-DB93-43BD-A1FE-64B6E09F12D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F5C9-8C84-40F1-8756-71B15AFAF0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1800" y="60840"/>
              <a:ext cx="3628080" cy="6141600"/>
              <a:chOff x="5401800" y="60840"/>
              <a:chExt cx="3628080" cy="614160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960" y="345960"/>
                <a:ext cx="211392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120" y="1964160"/>
                <a:ext cx="905400" cy="8420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4160" y="258984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0760" y="6721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44920" y="265536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31240" y="124524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2080" y="294048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2640" y="280440"/>
              <a:ext cx="893160" cy="824760"/>
              <a:chOff x="5642640" y="280440"/>
              <a:chExt cx="893160" cy="824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4240" y="77436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3120" y="4546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6360" y="380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68760" y="5252040"/>
              <a:ext cx="1059120" cy="829800"/>
              <a:chOff x="968760" y="5252040"/>
              <a:chExt cx="1059120" cy="82980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711080" y="551700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93040" y="572724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60120" y="537660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75840" y="428760"/>
              <a:ext cx="1690200" cy="1146600"/>
              <a:chOff x="375840" y="428760"/>
              <a:chExt cx="1690200" cy="114660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76080" y="10472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22760" y="5724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78640" y="10861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9800" y="3712320"/>
              <a:ext cx="1155600" cy="1607760"/>
              <a:chOff x="7399800" y="3712320"/>
              <a:chExt cx="1155600" cy="160776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45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524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780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40D9-07EA-467A-8E90-BCC1CE5EA07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ГРАММА «РАЗГОВОР О ПРАВИЛЬНОМ ПИТАНИИ» -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428480" y="7000560"/>
            <a:ext cx="66294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928800" y="5214960"/>
            <a:ext cx="727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58760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C:\Users\viki\AppData\Local\Microsoft\Windows\Temporary Internet Files\Content.IE5\M8TJYLUS\MCj04381290000[1].wmf"/>
          <p:cNvPicPr/>
          <p:nvPr/>
        </p:nvPicPr>
        <p:blipFill>
          <a:blip r:embed="rId1"/>
          <a:stretch/>
        </p:blipFill>
        <p:spPr>
          <a:xfrm>
            <a:off x="3071880" y="3214800"/>
            <a:ext cx="285732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3499920" y="-32112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для детей 6-8 лет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28760" y="-2913480"/>
            <a:ext cx="8215200" cy="86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ymbol"/>
                <a:ea typeface="Symbol"/>
              </a:rPr>
              <a:t>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тическое планиро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. Если хочешь быть здоров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2. Самые полезные продукты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3. Как правильно есть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4. Удивительные превращения пирожка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5. Из чего варят каши и как сделать кашу вкусной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9"/>
          <p:cNvSpPr/>
          <p:nvPr/>
        </p:nvSpPr>
        <p:spPr>
          <a:xfrm>
            <a:off x="0" y="50720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6.Плох обед, если хлеба 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214200" y="64296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7. Время есть булочки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8. Пора ужинать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9. На вкус и цвет товарищей нет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0. Как утолить жажду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1.Что надо есть, если хочешь стать сильнее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2. Где найти витамины весной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3. Овощи, ягоды и фрукты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14. Всякому овощу -свое время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Формы обуче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экскурс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наблюде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сюжетно-ролевые игр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игры по правила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мини проект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совместная работа с родител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групповые дискусс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Методы обуче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7120" y="15717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исследователь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объяснительно-иллюстратив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ракт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исков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14200" y="651240"/>
            <a:ext cx="871560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ы с прави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а-соревнование «Разложи продукты на разноцветные стол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 или 3 команды должны разложить продукты (нарисованные на карточках) на 3 стола, покрытые скатертями трех цв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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зеленой (продукты ежедневного рацион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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лтой (полезные продукты, используемые достаточно част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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асной (продукты, присутствующие на столе изред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бедителем становится команда, первой выполнившая задание прави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214200" y="703080"/>
            <a:ext cx="8715600" cy="5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амическая игра «Поезд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 ребёнок исполняет роль светофора. Остальные дети получают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 одной карточке с рисунками продуктов. Дети образуют «длинный поезд», держа карточки в ру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Едет поезд необыч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 большой и симпатичный (непривычны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т вагонов, нет коле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нем: капуста, мед, ове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Лук, петрушка и укроп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тановк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езд, стоп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езд движется по группе к светофору. По сигналу «Стоп!» на светофоре загорается красный свет (ребенок, исполняющий роль светофора, поднимает красный кружо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колонны выходят дети, в руках которых были карточки с рисун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дуктов, которые можно есть лишь изре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езд движется дальше и снова по сигналу «Стоп» загорается желтый св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колонны выходят дети, в руках которых карточки с рисунками полез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дуктов, которые не следует есть каждый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оставе поезда остаются самые полезные продукты. Каждый ребёнок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ссказывает, чем полезен продукт, изображенный н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500040" y="117504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моги Кубику или Бусинк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 столе 4 карточки, на которых нарисованы блюда для завтрака, обеда, полдника и уж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ложите карточки к тем часам, на которых указано время этого приема пищ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285840" y="73044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скажи пословиц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ждая пословица написана на 2-х карточках, надо найти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дол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Кто не умерен в еде - (враг себ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Хочешь есть калачи - (не сиди на печ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Когда я ем - (я глух и не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нег на полях - (хлеб в закрома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428760" y="234720"/>
            <a:ext cx="842940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а «Знато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 столе раскладываются различные колоски. В блюдцах - кру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бятам предлагается по виду колоса определить название растения (пшеница, гречиха, овес...), а затем найти в блюдцах соответствующую крупу и тоже назвать ее (манная, гречневая, овсяна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едует обратить вним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бят на форму крупы, ее размеры, ц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571680" y="298440"/>
            <a:ext cx="8572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а «Поварят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блюдцах насыпаны вперемешку крупы — рисовая, гречневая, пше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 «поварятам» отделить крупы друг от друга и разложить по отдельным кастрюлям. Победителем станет тот, кто быстрее и без ошибок справится с зад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56760" y="566280"/>
            <a:ext cx="800100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грамма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зговор о правильном питании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допущена министерством образования Российской Федер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вторами программы являются Безруких М.М., Филиппова Т.А., Макеева А.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грамма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зговор о правильном питании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включает в себя три ча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ервая часть программы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зговор о правильном питании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, предназначенная для учащихся 1-2 классов, включает в себя 15 занят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торая часть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ве недели в лагере здоровья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состоит из 14 занятий, предназначенных для учеников 3-4 класс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ретья часть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Формула правильного питания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включает в себя 11 занятий, предназначена для учеников 5 класс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каждый комплект входит методическое пособие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ля учителя, рабочая тетрадь для учащегося, плакаты, информационные материалы для родител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57120" y="434880"/>
            <a:ext cx="83581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енок из послов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 заранее готовит макет венка из колосков и отдельные коло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етям предлагается вспомнить и назвать все пословицы о хлебе. Пос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ждой названной пословицы педагог вплетает в венок новый колосок. После окончания игры венок может украсить груп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ушко - пирогу деду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з печки холодно - без хлеба гол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в пору и обед, коли хлеба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Ешь пироги, а хлеб вперед 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куда есть хлеб да вода, все не б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т хлеба - нет об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ного снега - много хле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жаной хлебушко - калачу деду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 на стол - и стол престо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 - батюшка-кормил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з хлеба несытно, без него и у воды жить худ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леб - всему го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се приедается, а хлеб -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Ожидаемый результа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полученные знания позволят детям ориентироваться в ассортименте наиболее типичных продуктов питания, сознательно выбирать наиболее полезны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дети смогут оценивать свой рацион и режим питания с точки зрения соответствия требованиям здорового образа жизн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дети получат знания и навыки, связанные с этикетом в области пит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- здоровый физически, психически, нравственно, адекватно оценивающий свое место и предназначение в жизни выпускни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785880" y="405000"/>
            <a:ext cx="75009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долж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лезные проду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авила этик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роль правильного питания в здоровом образе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соблюдать режим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выполнять  правила правильного пит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выбирать в рацион питания полезные проду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714240" y="571680"/>
            <a:ext cx="7500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 по программе «Разговор о правильном питании» способствует развитию творческих способностей и кругозора у детей, их интересов и познавательных способностей, развитию коммуникативных навыков , умения эффективно взаимодействовать со сверстниками и взрослыми в процессе решения проб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Спасибо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за внимание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40-1m"/>
          <p:cNvPicPr/>
          <p:nvPr/>
        </p:nvPicPr>
        <p:blipFill>
          <a:blip r:embed="rId1"/>
          <a:stretch/>
        </p:blipFill>
        <p:spPr>
          <a:xfrm>
            <a:off x="285840" y="214200"/>
            <a:ext cx="3643200" cy="464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40-2m"/>
          <p:cNvPicPr/>
          <p:nvPr/>
        </p:nvPicPr>
        <p:blipFill>
          <a:blip r:embed="rId2"/>
          <a:stretch/>
        </p:blipFill>
        <p:spPr>
          <a:xfrm>
            <a:off x="3714840" y="3643200"/>
            <a:ext cx="1928880" cy="3214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1239530301"/>
          <p:cNvPicPr/>
          <p:nvPr/>
        </p:nvPicPr>
        <p:blipFill>
          <a:blip r:embed="rId3"/>
          <a:stretch/>
        </p:blipFill>
        <p:spPr>
          <a:xfrm>
            <a:off x="5429160" y="285840"/>
            <a:ext cx="3571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40-3m"/>
          <p:cNvPicPr/>
          <p:nvPr/>
        </p:nvPicPr>
        <p:blipFill>
          <a:blip r:embed="rId1"/>
          <a:stretch/>
        </p:blipFill>
        <p:spPr>
          <a:xfrm>
            <a:off x="642960" y="500040"/>
            <a:ext cx="4214880" cy="5500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40-4m"/>
          <p:cNvPicPr/>
          <p:nvPr/>
        </p:nvPicPr>
        <p:blipFill>
          <a:blip r:embed="rId2"/>
          <a:stretch/>
        </p:blipFill>
        <p:spPr>
          <a:xfrm>
            <a:off x="5286240" y="1285920"/>
            <a:ext cx="3286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40-5m"/>
          <p:cNvPicPr/>
          <p:nvPr/>
        </p:nvPicPr>
        <p:blipFill>
          <a:blip r:embed="rId1"/>
          <a:stretch/>
        </p:blipFill>
        <p:spPr>
          <a:xfrm>
            <a:off x="714240" y="357120"/>
            <a:ext cx="4500720" cy="5857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40-6m"/>
          <p:cNvPicPr/>
          <p:nvPr/>
        </p:nvPicPr>
        <p:blipFill>
          <a:blip r:embed="rId2"/>
          <a:stretch/>
        </p:blipFill>
        <p:spPr>
          <a:xfrm>
            <a:off x="5572080" y="1214280"/>
            <a:ext cx="3143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500040" y="1483920"/>
            <a:ext cx="82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71680" y="647280"/>
            <a:ext cx="807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грам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ается в том, что в настоящее время наблюдается снижение количества здоровых детей, увеличение числа эндокринных заболеваний и заболеваний пищеварительной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ИЗ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граммы заключается в учёте традиций питания, активном вовлечении в работу родителей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4"/>
          <p:cNvSpPr/>
          <p:nvPr/>
        </p:nvSpPr>
        <p:spPr>
          <a:xfrm>
            <a:off x="2714760" y="214200"/>
            <a:ext cx="3643200" cy="15004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принци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14200" y="500040"/>
            <a:ext cx="2305080" cy="1657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85840" y="4857840"/>
            <a:ext cx="2786040" cy="17413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сообр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286080" y="3071880"/>
            <a:ext cx="2714760" cy="35719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екватность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 и мет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сихологи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ям дет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6286680" y="4786200"/>
            <a:ext cx="2662200" cy="17146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я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6643800" y="500040"/>
            <a:ext cx="2305080" cy="1657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влечени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 flipH="1">
            <a:off x="2500200" y="928800"/>
            <a:ext cx="214560" cy="1429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6357960" y="928800"/>
            <a:ext cx="357120" cy="2854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2571840" y="1714680"/>
            <a:ext cx="1643040" cy="3087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4643280" y="1714680"/>
            <a:ext cx="0" cy="13572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5572080" y="1714680"/>
            <a:ext cx="993960" cy="10141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42920" y="500040"/>
            <a:ext cx="2357280" cy="1728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р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2714760"/>
            <a:ext cx="2305080" cy="165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357960" y="2714760"/>
            <a:ext cx="2305080" cy="165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2786040" y="1714680"/>
            <a:ext cx="714240" cy="1071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929120" y="1714680"/>
            <a:ext cx="1500120" cy="3071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252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   </a:t>
            </a: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ЦЕЛЬ ПРОГРАММЫ –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формирование у детей основ культуры питания как составляющей здорового образа жизн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285840"/>
            <a:ext cx="82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  <a:ea typeface="Arial"/>
              </a:rPr>
              <a:t>Задачи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85480" y="92880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формирование и развитие представления  у детей о здоровье как одной из важнейших человеческих ценностей, формирование готовности заботиться и укреплять собственное здоровь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формирование у школьников знаний о правилах рационального  питания, направленных на сохранение и укрепление здоровья, а также  готовности соблюдать эти правил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освоение детьми   практических навыков рационального пита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 формирование навыков правильного питания, как составной части здорового образа  жиз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формирование представления о правилах этикета, связанных с питанием осознание того, что навыки этикета являются неотъемлемой частью общей культуры личност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пробуждение у детей интереса к народным традициям, связанным с питанием и здоровьем, расширение знаний об истории и традициях своего народа и культуре и традициям других народов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развитие творческих способностей и кругозора у детей, их интересов и познавательной деятельност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развитие коммуникативных навыков у школьников, умения эффективно взаимодействовать со сверстниками и взрослыми в процессе решения проблемы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  <a:ea typeface="Arial"/>
              </a:rPr>
              <a:t>- просвещение родителей в вопросах организации рационального питания детей и подростк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21:36Z</dcterms:created>
  <dc:creator>user</dc:creator>
  <dc:description/>
  <dc:language>en-US</dc:language>
  <cp:lastModifiedBy>Я</cp:lastModifiedBy>
  <dcterms:modified xsi:type="dcterms:W3CDTF">2014-11-17T08:36:00Z</dcterms:modified>
  <cp:revision>92</cp:revision>
  <dc:subject/>
  <dc:title>Что такое метод проектов?</dc:title>
</cp:coreProperties>
</file>