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2BC-A408-42BF-BC35-B9FD7545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0A2-A455-480D-AFCC-906CD45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041-2A8D-45E5-8D55-02770E71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8C1-376F-4562-B019-BBFB3195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14F-73DB-4271-9BE9-0BAE94A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FF4-7FF0-4ECA-BE3E-C85EBBE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9C6-54D1-4CED-9184-77CDD14B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C2B-D26B-402B-BF04-B48CB02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D96E-E958-42DB-BEC8-3498080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3B10-80B8-4C70-B704-AC2DB7E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618D-ED84-45F0-8699-8ACC040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3F0-34B4-4C27-85EF-EEB0868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7422-B4A9-4607-9565-C498A10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94E-CD47-44DB-B536-3474FAB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F78E-8D98-4B80-AE59-7ECBF1A2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859-98CE-4C14-AF15-54D0A70C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BB1-51BA-43BA-AF65-CE9F6064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7CE0-DBC7-429F-9164-97EADC3F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B629-2F8D-4ACC-AC8A-742F69EE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D43F-D34B-48A2-B16B-D6EBAD7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67E8-5B14-4188-99B3-2850D16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40ED-4071-4052-9C13-E8488A8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F5B-2122-4382-9A78-71C59E4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B331-0727-420E-AA24-7FAAE7B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7250-B7FC-4C3A-8A2F-9C2E5A2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1454-03B6-419E-9917-81DF906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9A6B-3E66-4871-B320-C00DB2D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8230-8D60-4A17-BCC5-823E543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5DD4-660B-45CE-98FD-571D37E2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7520-82B1-4E84-8139-7354BB9E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83BF-2FE4-4040-BC61-DD83D263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694F-A630-450C-928B-7504C0A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1D20-1B43-4368-B7D0-3B9A8F5A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154-1AC9-4511-8B2B-0EA52F1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9519-C164-4D06-8AB0-22F49D93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892D-5D41-47F6-AE05-190FF721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4813-AF54-4824-9AAA-3D40137A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5523-4FDE-43C5-89F1-1AE0C89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7111-DA41-47CF-8D0C-C4430DE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E6A4-D736-43AD-980F-5BAFB83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A531-EB64-4CB1-AB8C-3659A9C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8C8D-A9CE-4FAE-A2A6-988B5556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30F5-0D77-4BB5-A05A-37FC659D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C27-5304-4412-BC70-40DD3458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9EA-53AB-438D-9716-03E92F8D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DD3-32EE-48F3-9CE8-EEEBE6A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4FD-9B19-4466-840F-CB7C7CF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65C-A563-4951-9EBE-866EA66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7A4-D963-4955-A992-459D86AB47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59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CF44-E59F-49E4-A03F-FCB87F40090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7C0-3E9D-4B8C-9550-7E5108C0CD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1800" y="60840"/>
              <a:ext cx="3628080" cy="6141600"/>
              <a:chOff x="5401800" y="60840"/>
              <a:chExt cx="3628080" cy="614160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960" y="345960"/>
                <a:ext cx="211392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120" y="1964160"/>
                <a:ext cx="905400" cy="8420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4160" y="258984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0760" y="6721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44920" y="265536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31240" y="124524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2080" y="294048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2640" y="280440"/>
              <a:ext cx="893160" cy="824760"/>
              <a:chOff x="5642640" y="280440"/>
              <a:chExt cx="893160" cy="824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4240" y="77436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3120" y="4546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6360" y="380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68760" y="5252040"/>
              <a:ext cx="1059120" cy="829800"/>
              <a:chOff x="968760" y="5252040"/>
              <a:chExt cx="1059120" cy="82980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711080" y="551700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93040" y="572724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60120" y="537660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75840" y="428760"/>
              <a:ext cx="1690200" cy="1146600"/>
              <a:chOff x="375840" y="428760"/>
              <a:chExt cx="1690200" cy="114660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76080" y="10472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22760" y="5724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78640" y="10861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9800" y="3712320"/>
              <a:ext cx="1155600" cy="1607760"/>
              <a:chOff x="7399800" y="3712320"/>
              <a:chExt cx="1155600" cy="160776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45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52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78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0B2-676A-4DF4-9018-77A9E88FAB3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ГРАММА «РАЗГОВОР О ПРАВИЛЬНОМ ПИТАНИИ» -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428480" y="7000560"/>
            <a:ext cx="66294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928800" y="52149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58760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C:\Users\viki\AppData\Local\Microsoft\Windows\Temporary Internet Files\Content.IE5\M8TJYLUS\MCj04381290000[1].wmf"/>
          <p:cNvPicPr/>
          <p:nvPr/>
        </p:nvPicPr>
        <p:blipFill>
          <a:blip r:embed="rId1"/>
          <a:stretch/>
        </p:blipFill>
        <p:spPr>
          <a:xfrm>
            <a:off x="3071880" y="3214800"/>
            <a:ext cx="285732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3499920" y="-32112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детей 6-8 лет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28760" y="-2913480"/>
            <a:ext cx="8215200" cy="86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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тическое планиро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Если хочешь быть здоров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2. Самые полезные продукты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3. Как правильно есть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4. Удивительные превращения пирожка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5. Из чего варят каши и как сделать кашу вкусной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9"/>
          <p:cNvSpPr/>
          <p:nvPr/>
        </p:nvSpPr>
        <p:spPr>
          <a:xfrm>
            <a:off x="0" y="5072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6.Плох обед, если хлеба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214200" y="64296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7. Время есть булочки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8. Пора ужинать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9. На вкус и цвет товарищей нет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0. Как утолить жажду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1.Что надо есть, если хочешь стать сильнее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 Где найти витамины весной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3. Овощи, ягоды и фрукты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4. Всякому овощу -свое врем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Формы обуч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экскурс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наблюде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сюжетно-ролевые игр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игры по правил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мини проек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совместная работа с родител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групповые дискусс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Методы обуч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20" y="15717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исследователь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объяснительно-иллюстратив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ракт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иско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14200" y="651240"/>
            <a:ext cx="87156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ы с прави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-соревнование «Разложи продукты на разноцветные ст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 или 3 команды должны разложить продукты (нарисованные на карточках) на 3 стола, покрытые скатертями трех цв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зеленой (продукты ежедневного рацион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лтой (полезные продукты, используемые достаточно част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сной (продукты, присутствующие на столе изред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бедителем становится команда, первой выполнившая задание прави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214200" y="703080"/>
            <a:ext cx="87156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мическая игра «Поез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 ребёнок исполняет роль светофора. Остальные дети получаю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 одной карточке с рисунками продуктов. Дети образуют «длинный поезд», держа карточки в ру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Едет поезд необыч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 большой и симпатичный (непривычны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 вагонов, нет коле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нем: капуста, мед, ове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Лук, петрушка и укроп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тановк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, стоп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 движется по группе к светофору. По сигналу «Стоп!» на светофоре загорается красный свет (ребенок, исполняющий роль светофора, поднимает красный кружо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колонны выходят дети, в руках которых были карточки с рисун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уктов, которые можно есть лишь изре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 движется дальше и снова по сигналу «Стоп» загорается желтый св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колонны выходят дети, в руках которых карточки с рисунками полез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уктов, которые не следует есть кажд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оставе поезда остаются самые полезные продукты. Каждый ребёнок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ссказывает, чем полезен продукт, изображенный н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500040" y="117504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моги Кубику или Бусин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 столе 4 карточки, на которых нарисованы блюда для завтрака, обеда, полдника и уж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ложите карточки к тем часам, на которых указано время этого приема пищ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285840" y="7304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скажи пословиц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ждая пословица написана на 2-х карточках, надо найти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ол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Кто не умерен в еде - (враг себ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Хочешь есть калачи - (не сиди на печ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Когда я ем - (я глух и не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нег на полях - (хлеб в закрома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428760" y="234720"/>
            <a:ext cx="84294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 «Знато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 столе раскладываются различные колоски. В блюдцах - кру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бятам предлагается по виду колоса определить название растения (пшеница, гречиха, овес...), а затем найти в блюдцах соответствующую крупу и тоже назвать ее (манная, гречневая, овсяна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едует обратить вним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бят на форму крупы, ее размеры, ц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571680" y="29844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 «Поварят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блюдцах насыпаны вперемешку крупы — рисовая, гречневая, пше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 «поварятам» отделить крупы друг от друга и разложить по отдельным кастрюлям. Победителем станет тот, кто быстрее и без ошибок справится с зад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56760" y="566280"/>
            <a:ext cx="800100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грамма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допущена министерством образования Российской Федер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вторами программы являются Безруких М.М., Филиппова Т.А., Макеева А.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грамма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включает в себя три ча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ервая часть программы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, предназначенная для учащихся 1-2 классов, включает в себя 15 занят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торая часть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ве недели в лагере здоровья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состоит из 14 занятий, предназначенных для учеников 3-4 класс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ретья часть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Формула правильного питания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включает в себя 11 занятий, предназначена для учеников 5 класс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каждый комплект входит методическое пособие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ля учителя, рабочая тетрадь для учащегося, плакаты, информационные материалы для родител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57120" y="434880"/>
            <a:ext cx="83581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нок из послов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 заранее готовит макет венка из колосков и отдельные коло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тям предлагается вспомнить и назвать все пословицы о хлебе.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ждой названной пословицы педагог вплетает в венок новый колосок. После окончания игры венок может украсить груп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ушко - пирогу дед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 печки холодно - без хлеба гол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в пору и обед, коли хлеба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шь пироги, а хлеб вперед 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куда есть хлеб да вода, все не 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 хлеба - нет о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ного снега - много хле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жаной хлебушко - калачу дед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на стол - и стол престо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- батюшка-кормил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 хлеба несытно, без него и у воды жить худ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- всему го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се приедается, а хлеб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Ожидаемый результа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полученные знания позволят детям ориентироваться в ассортименте наиболее типичных продуктов питания, сознательно выбирать наиболее полезны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дети смогут оценивать свой рацион и режим питания с точки зрения соответствия требованиям здорового образа жизн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дети получат знания и навыки, связанные с этикетом в области пит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здоровый физически, психически, нравственно, адекватно оценивающий свое место и предназначение в жизни выпускн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785880" y="405000"/>
            <a:ext cx="75009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лезные проду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а этик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роль правильного питания в здоровом образ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блюдать режим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полнять  правила правильного 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бирать в рацион питания полезные прод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714240" y="571680"/>
            <a:ext cx="7500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по программе «Разговор о правильном питании» способствует развитию творческих способностей и кругозора у детей, их интересов и познавательных способностей, развитию коммуникативных навыков , умения эффективно взаимодействовать со сверстниками и взрослыми в процессе решения проб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за внимани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40-1m"/>
          <p:cNvPicPr/>
          <p:nvPr/>
        </p:nvPicPr>
        <p:blipFill>
          <a:blip r:embed="rId1"/>
          <a:stretch/>
        </p:blipFill>
        <p:spPr>
          <a:xfrm>
            <a:off x="285840" y="214200"/>
            <a:ext cx="3643200" cy="464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40-2m"/>
          <p:cNvPicPr/>
          <p:nvPr/>
        </p:nvPicPr>
        <p:blipFill>
          <a:blip r:embed="rId2"/>
          <a:stretch/>
        </p:blipFill>
        <p:spPr>
          <a:xfrm>
            <a:off x="3714840" y="3643200"/>
            <a:ext cx="1928880" cy="3214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1239530301"/>
          <p:cNvPicPr/>
          <p:nvPr/>
        </p:nvPicPr>
        <p:blipFill>
          <a:blip r:embed="rId3"/>
          <a:stretch/>
        </p:blipFill>
        <p:spPr>
          <a:xfrm>
            <a:off x="5429160" y="285840"/>
            <a:ext cx="3571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40-3m"/>
          <p:cNvPicPr/>
          <p:nvPr/>
        </p:nvPicPr>
        <p:blipFill>
          <a:blip r:embed="rId1"/>
          <a:stretch/>
        </p:blipFill>
        <p:spPr>
          <a:xfrm>
            <a:off x="642960" y="500040"/>
            <a:ext cx="4214880" cy="5500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40-4m"/>
          <p:cNvPicPr/>
          <p:nvPr/>
        </p:nvPicPr>
        <p:blipFill>
          <a:blip r:embed="rId2"/>
          <a:stretch/>
        </p:blipFill>
        <p:spPr>
          <a:xfrm>
            <a:off x="5286240" y="1285920"/>
            <a:ext cx="3286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40-5m"/>
          <p:cNvPicPr/>
          <p:nvPr/>
        </p:nvPicPr>
        <p:blipFill>
          <a:blip r:embed="rId1"/>
          <a:stretch/>
        </p:blipFill>
        <p:spPr>
          <a:xfrm>
            <a:off x="714240" y="357120"/>
            <a:ext cx="4500720" cy="5857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40-6m"/>
          <p:cNvPicPr/>
          <p:nvPr/>
        </p:nvPicPr>
        <p:blipFill>
          <a:blip r:embed="rId2"/>
          <a:stretch/>
        </p:blipFill>
        <p:spPr>
          <a:xfrm>
            <a:off x="5572080" y="121428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500040" y="1483920"/>
            <a:ext cx="82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71680" y="647280"/>
            <a:ext cx="807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грам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ается в том, что в настоящее время наблюдается снижение количества здоровых детей, увеличение числа эндокринных заболеваний и заболеваний пищеварительн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ИЗ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граммы заключается в учёте традиций питания, активном вовлечении в работу родителе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2714760" y="214200"/>
            <a:ext cx="3643200" cy="1500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принци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14200" y="500040"/>
            <a:ext cx="2305080" cy="1657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85840" y="4857840"/>
            <a:ext cx="2786040" cy="17413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со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286080" y="3071880"/>
            <a:ext cx="2714760" cy="3571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екватно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 и мет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сихолог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ям де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6286680" y="4786200"/>
            <a:ext cx="2662200" cy="17146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я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6643800" y="500040"/>
            <a:ext cx="2305080" cy="1657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лечен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2500200" y="928800"/>
            <a:ext cx="214560" cy="142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357960" y="928800"/>
            <a:ext cx="357120" cy="285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2571840" y="1714680"/>
            <a:ext cx="1643040" cy="3087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4643280" y="1714680"/>
            <a:ext cx="0" cy="13572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572080" y="1714680"/>
            <a:ext cx="993960" cy="10141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2920" y="500040"/>
            <a:ext cx="2357280" cy="1728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2714760"/>
            <a:ext cx="2305080" cy="165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357960" y="2714760"/>
            <a:ext cx="2305080" cy="165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2786040" y="1714680"/>
            <a:ext cx="714240" cy="1071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929120" y="1714680"/>
            <a:ext cx="1500120" cy="3071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252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ЦЕЛЬ ПРОГРАММЫ –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формирование у детей основ культуры питания как составляющей здорового образа жизн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285840"/>
            <a:ext cx="82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Задачи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85480" y="9288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формирование и развитие представления  у детей о здоровье как одной из важнейших человеческих ценностей, формирование готовности заботиться и укреплять собственное здоровь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формирование у школьников знаний о правилах рационального  питания, направленных на сохранение и укрепление здоровья, а также  готовности соблюдать эти правил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освоение детьми   практических навыков рационального пита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 формирование навыков правильного питания, как составной части здорового образа  жиз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формирование представления о правилах этикета, связанных с питанием осознание того, что навыки этикета являются неотъемлемой частью общей культуры лич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пробуждение у детей интереса к народным традициям, связанным с питанием и здоровьем, расширение знаний об истории и традициях своего народа и культуре и традициям других народов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развитие творческих способностей и кругозора у детей, их интересов и познавательной деятель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развитие коммуникативных навыков у школьников, умения эффективно взаимодействовать со сверстниками и взрослыми в процессе решения проблемы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просвещение родителей в вопросах организации рационального питания детей и подрост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21:36Z</dcterms:created>
  <dc:creator>user</dc:creator>
  <dc:description/>
  <dc:language>en-US</dc:language>
  <cp:lastModifiedBy>Я</cp:lastModifiedBy>
  <dcterms:modified xsi:type="dcterms:W3CDTF">2014-11-17T08:36:00Z</dcterms:modified>
  <cp:revision>92</cp:revision>
  <dc:subject/>
  <dc:title>Что такое метод проектов?</dc:title>
</cp:coreProperties>
</file>