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2AD-C87C-4484-8F6E-7160F29E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83A-0E6A-463A-893E-261FBEA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967-D9D7-4AE4-8301-9859D448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B09-16A5-496A-9FCE-18538E8B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B29-B844-4B85-BB8C-0F3B9AAD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65B-38A8-481B-9BD3-8EF9DCBB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5A8-2445-446F-AEFB-49F8799D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BCF-C616-4C61-B3B0-5BF7A58D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683-3EE9-4121-B009-A49968C2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320-BB98-4FCC-BF05-C346885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E6F-216C-4E79-9D3C-BCF423B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2EB-7136-4FBC-A7E4-79C2DD8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BBC4-81D5-4062-8BC9-0DCA67B0F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lav081.jpg"/>
          <p:cNvPicPr/>
          <p:nvPr/>
        </p:nvPicPr>
        <p:blipFill>
          <a:blip r:embed="rId1"/>
          <a:stretch/>
        </p:blipFill>
        <p:spPr>
          <a:xfrm>
            <a:off x="2000160" y="500040"/>
            <a:ext cx="5100840" cy="36432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157480" y="4565520"/>
            <a:ext cx="51814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://img1.liveinternet.ru/images/attach/b/3/42/27/42027590_hodvm_14.jpg"/>
          <p:cNvPicPr/>
          <p:nvPr/>
        </p:nvPicPr>
        <p:blipFill>
          <a:blip r:embed="rId1"/>
          <a:stretch/>
        </p:blipFill>
        <p:spPr>
          <a:xfrm>
            <a:off x="285840" y="1571760"/>
            <a:ext cx="3643200" cy="29289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463680" y="4552920"/>
            <a:ext cx="7583400" cy="1317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http://www.artandphoto.ru/stock/art2/593/3404.jpg"/>
          <p:cNvPicPr/>
          <p:nvPr/>
        </p:nvPicPr>
        <p:blipFill>
          <a:blip r:embed="rId3"/>
          <a:stretch/>
        </p:blipFill>
        <p:spPr>
          <a:xfrm>
            <a:off x="4857840" y="571680"/>
            <a:ext cx="378612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http://img1.liveinternet.ru/images/attach/c/0/42/307/42307371_SCHrilyov_Mihail_Nikolaevich.jpg"/>
          <p:cNvPicPr/>
          <p:nvPr/>
        </p:nvPicPr>
        <p:blipFill>
          <a:blip r:embed="rId1"/>
          <a:stretch/>
        </p:blipFill>
        <p:spPr>
          <a:xfrm>
            <a:off x="1000080" y="500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2451240" y="4468680"/>
            <a:ext cx="6912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berezka_2_sm_0021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3301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46160" y="719280"/>
            <a:ext cx="3944880" cy="2066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http://img0.liveinternet.ru/images/attach/b/3/19/617/19617788_E.jpg"/>
          <p:cNvPicPr/>
          <p:nvPr/>
        </p:nvPicPr>
        <p:blipFill>
          <a:blip r:embed="rId3"/>
          <a:stretch/>
        </p:blipFill>
        <p:spPr>
          <a:xfrm>
            <a:off x="1071720" y="3071880"/>
            <a:ext cx="303372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vo_pole_beryoza_stoyala.mi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66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http://www.rovesnik-kazan.ru/img/gopak/gopak01_b.jpg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http://verbychenka.org.ua/photo/full_MG_3379.jpg"/>
          <p:cNvPicPr/>
          <p:nvPr/>
        </p:nvPicPr>
        <p:blipFill>
          <a:blip r:embed="rId2"/>
          <a:stretch/>
        </p:blipFill>
        <p:spPr>
          <a:xfrm>
            <a:off x="0" y="0"/>
            <a:ext cx="3309840" cy="267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http://www.rovesnik-kazan.ru/img/gopak/gopak04_b.jpg"/>
          <p:cNvPicPr/>
          <p:nvPr/>
        </p:nvPicPr>
        <p:blipFill>
          <a:blip r:embed="rId3"/>
          <a:stretch/>
        </p:blipFill>
        <p:spPr>
          <a:xfrm>
            <a:off x="2928960" y="1571760"/>
            <a:ext cx="295272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2639880" y="4286160"/>
            <a:ext cx="322452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lyaska.mi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219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history.kantele.ru/razdel4/0038.jpg"/>
          <p:cNvPicPr/>
          <p:nvPr/>
        </p:nvPicPr>
        <p:blipFill>
          <a:blip r:embed="rId1"/>
          <a:stretch/>
        </p:blipFill>
        <p:spPr>
          <a:xfrm>
            <a:off x="500040" y="428760"/>
            <a:ext cx="4214880" cy="564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5072040" y="469800"/>
            <a:ext cx="3432240" cy="1103400"/>
          </a:xfrm>
          <a:prstGeom prst="rect">
            <a:avLst/>
          </a:prstGeom>
          <a:ln w="0">
            <a:noFill/>
          </a:ln>
        </p:spPr>
      </p:pic>
      <p:pic>
        <p:nvPicPr>
          <p:cNvPr id="59" name="kadril_g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30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57:07Z</dcterms:created>
  <dc:creator>Pentium4</dc:creator>
  <dc:description/>
  <dc:language>en-US</dc:language>
  <cp:lastModifiedBy>Pentium4</cp:lastModifiedBy>
  <dcterms:modified xsi:type="dcterms:W3CDTF">2009-11-15T13:56:54Z</dcterms:modified>
  <cp:revision>12</cp:revision>
  <dc:subject/>
  <dc:title>Слайд 1</dc:title>
</cp:coreProperties>
</file>