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82C-BDF0-4A46-9FF1-80C88CF3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0F1-0D1B-4DC8-84AF-2C02AC07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287-E4A0-4BDA-BBBB-5181ECDA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04B-B544-4CCC-BEBD-B93679D3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064-ECEA-4EB8-A115-1996E83B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115-B988-420D-B69F-28F750B9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BEB-3F29-47FF-8194-CC75B385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40C-2B2B-414A-869A-96F845D8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CFF-BC90-4695-8FA4-7C70B112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DCB-6449-44DD-9B09-8AB9EF72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9EB-AE6B-413C-A15D-D5370E36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874-4C79-4D6C-8E16-580AD79C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932F-AF30-4372-A5C2-2316C67F6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lav081.jpg"/>
          <p:cNvPicPr/>
          <p:nvPr/>
        </p:nvPicPr>
        <p:blipFill>
          <a:blip r:embed="rId1"/>
          <a:stretch/>
        </p:blipFill>
        <p:spPr>
          <a:xfrm>
            <a:off x="2000160" y="500040"/>
            <a:ext cx="5100840" cy="36432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2157480" y="4565520"/>
            <a:ext cx="518148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http://img1.liveinternet.ru/images/attach/b/3/42/27/42027590_hodvm_14.jpg"/>
          <p:cNvPicPr/>
          <p:nvPr/>
        </p:nvPicPr>
        <p:blipFill>
          <a:blip r:embed="rId1"/>
          <a:stretch/>
        </p:blipFill>
        <p:spPr>
          <a:xfrm>
            <a:off x="285840" y="1571760"/>
            <a:ext cx="3643200" cy="29289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463680" y="4552920"/>
            <a:ext cx="7583400" cy="13176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http://www.artandphoto.ru/stock/art2/593/3404.jpg"/>
          <p:cNvPicPr/>
          <p:nvPr/>
        </p:nvPicPr>
        <p:blipFill>
          <a:blip r:embed="rId3"/>
          <a:stretch/>
        </p:blipFill>
        <p:spPr>
          <a:xfrm>
            <a:off x="4857840" y="571680"/>
            <a:ext cx="378612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http://img1.liveinternet.ru/images/attach/c/0/42/307/42307371_SCHrilyov_Mihail_Nikolaevich.jpg"/>
          <p:cNvPicPr/>
          <p:nvPr/>
        </p:nvPicPr>
        <p:blipFill>
          <a:blip r:embed="rId1"/>
          <a:stretch/>
        </p:blipFill>
        <p:spPr>
          <a:xfrm>
            <a:off x="1000080" y="5000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2451240" y="4468680"/>
            <a:ext cx="69120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berezka_2_sm_0021.jpg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33019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146160" y="719280"/>
            <a:ext cx="3944880" cy="20667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http://img0.liveinternet.ru/images/attach/b/3/19/617/19617788_E.jpg"/>
          <p:cNvPicPr/>
          <p:nvPr/>
        </p:nvPicPr>
        <p:blipFill>
          <a:blip r:embed="rId3"/>
          <a:stretch/>
        </p:blipFill>
        <p:spPr>
          <a:xfrm>
            <a:off x="1071720" y="3071880"/>
            <a:ext cx="303372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vo_pole_beryoza_stoyala.mid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66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http://www.rovesnik-kazan.ru/img/gopak/gopak01_b.jpg"/>
          <p:cNvPicPr/>
          <p:nvPr/>
        </p:nvPicPr>
        <p:blipFill>
          <a:blip r:embed="rId1"/>
          <a:stretch/>
        </p:blipFill>
        <p:spPr>
          <a:xfrm>
            <a:off x="5572080" y="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http://verbychenka.org.ua/photo/full_MG_3379.jpg"/>
          <p:cNvPicPr/>
          <p:nvPr/>
        </p:nvPicPr>
        <p:blipFill>
          <a:blip r:embed="rId2"/>
          <a:stretch/>
        </p:blipFill>
        <p:spPr>
          <a:xfrm>
            <a:off x="0" y="0"/>
            <a:ext cx="3309840" cy="2671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http://www.rovesnik-kazan.ru/img/gopak/gopak04_b.jpg"/>
          <p:cNvPicPr/>
          <p:nvPr/>
        </p:nvPicPr>
        <p:blipFill>
          <a:blip r:embed="rId3"/>
          <a:stretch/>
        </p:blipFill>
        <p:spPr>
          <a:xfrm>
            <a:off x="2928960" y="1571760"/>
            <a:ext cx="2952720" cy="25714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5" descr=""/>
          <p:cNvPicPr/>
          <p:nvPr/>
        </p:nvPicPr>
        <p:blipFill>
          <a:blip r:embed="rId4"/>
          <a:stretch/>
        </p:blipFill>
        <p:spPr>
          <a:xfrm>
            <a:off x="2639880" y="4286160"/>
            <a:ext cx="322452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plyaska.mid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6219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http://history.kantele.ru/razdel4/0038.jpg"/>
          <p:cNvPicPr/>
          <p:nvPr/>
        </p:nvPicPr>
        <p:blipFill>
          <a:blip r:embed="rId1"/>
          <a:stretch/>
        </p:blipFill>
        <p:spPr>
          <a:xfrm>
            <a:off x="500040" y="428760"/>
            <a:ext cx="4214880" cy="5643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5072040" y="469800"/>
            <a:ext cx="3432240" cy="1103400"/>
          </a:xfrm>
          <a:prstGeom prst="rect">
            <a:avLst/>
          </a:prstGeom>
          <a:ln w="0">
            <a:noFill/>
          </a:ln>
        </p:spPr>
      </p:pic>
      <p:pic>
        <p:nvPicPr>
          <p:cNvPr id="59" name="kadril_g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307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1:57:07Z</dcterms:created>
  <dc:creator>Pentium4</dc:creator>
  <dc:description/>
  <dc:language>en-US</dc:language>
  <cp:lastModifiedBy>Pentium4</cp:lastModifiedBy>
  <dcterms:modified xsi:type="dcterms:W3CDTF">2009-11-15T13:56:54Z</dcterms:modified>
  <cp:revision>12</cp:revision>
  <dc:subject/>
  <dc:title>Слайд 1</dc:title>
</cp:coreProperties>
</file>