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40A-5209-46F2-ADD2-B477D703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621-22C6-45D0-8C22-F2C2814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CA6-0343-42DE-AC48-4DF87AFF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3F0-16F7-4B3C-AF8F-14A79780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2B2-50E6-408A-A03C-1306ECF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210-E35E-483D-BCB4-18744998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86D-4342-46E5-BD8A-1EEDCA9C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645-2873-40A9-AE58-63C1E89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CD0-F299-4CDF-8B27-26C6EB0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F32-38F1-47C4-BC88-E65E599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42A-9DE7-4BBC-8902-FAA389E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80D-1F35-446D-A468-C453A86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3CB-E582-4C6F-BAB4-7E7A56C3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  «ЧТО? ГДЕ? КОГДА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49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0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2000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3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ЧЕРНЫЙ Я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56360" cy="532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48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ПАСИБО ЗА ИГР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1600200"/>
            <a:ext cx="3178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5184720" cy="396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235320" cy="422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3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429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10:50Z</dcterms:created>
  <dc:creator>Customer</dc:creator>
  <dc:description/>
  <dc:language>en-US</dc:language>
  <cp:lastModifiedBy>Customer</cp:lastModifiedBy>
  <dcterms:modified xsi:type="dcterms:W3CDTF">2013-10-20T09:33:44Z</dcterms:modified>
  <cp:revision>2</cp:revision>
  <dc:subject/>
  <dc:title>ИГРА   «ЧТО? ГДЕ? КОГДА?»</dc:title>
</cp:coreProperties>
</file>