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37E-0D49-49E4-A922-8F599954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004-4357-466D-9DB2-0CA57E1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2B1-82E1-4E1F-91E1-5FC1AC5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29F-7DBD-4C81-9AED-FC1C818E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3D5-32C9-4FC9-A57F-984A1F1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70-8925-4DEE-8FAA-633B780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A39-38AB-41C8-9ED4-AE14CA44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244-B732-4D2F-B26E-2479805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FD2-DD9A-405C-9BA8-26E5F596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1B6-81FE-4B18-9338-7DF3BAF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4B4-E530-431D-A08D-E456D92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37F-A662-4B1A-8F5F-CB81F27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178-B3DC-4B95-A0C2-B15F2777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  «ЧТО? ГДЕ? КОГДА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49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0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2000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3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ЧЕРНЫЙ Я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56360" cy="532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48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ПАСИБО ЗА ИГР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1600200"/>
            <a:ext cx="3178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5184720" cy="396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235320" cy="422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3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429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10:50Z</dcterms:created>
  <dc:creator>Customer</dc:creator>
  <dc:description/>
  <dc:language>en-US</dc:language>
  <cp:lastModifiedBy>Customer</cp:lastModifiedBy>
  <dcterms:modified xsi:type="dcterms:W3CDTF">2013-10-20T09:33:44Z</dcterms:modified>
  <cp:revision>2</cp:revision>
  <dc:subject/>
  <dc:title>ИГРА   «ЧТО? ГДЕ? КОГДА?»</dc:title>
</cp:coreProperties>
</file>