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710-3029-4A18-98BA-B305FFBD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50A-AD3C-46BD-94CC-E01CE136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B5C-9914-43B8-A3F5-AE576B58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432-BAA9-465E-9C5E-1C6409FC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648-C06C-485B-B88F-553A91AB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6B4-A094-428B-B727-F4F33EB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E59-1ADB-447D-8ED8-243FE32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3EF1-515E-47CC-B910-E44DBAC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079-31F7-469F-9988-9938730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B816-A521-4F65-A546-C6CAA435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25BB-6158-4069-9D44-DD2BD1C5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13E-2DA5-4184-BBA8-E191F3E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C3D-198E-4E3A-969B-2E6AD45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2F03-385A-4E5F-BA78-F3F2CAC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5DB5-1C77-4DC2-9FE0-E8ADF15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8C1-5C12-441C-BD97-CF44FAF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B79-3315-45C6-A86A-9B0F17EA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0C7-6A5E-49D2-9B2F-C1E5C4CC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0B9-35C3-4D36-B278-7F83B3F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911-2834-4DDA-88F3-9372B8F1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721-8B44-40E4-A1A1-A550399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9A1-7BBE-4D8A-A618-006C68C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B92-1003-4B6B-8AA0-A7A556B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D5B-51E5-4F48-B8FE-425A627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438F-F86D-49F5-AB69-F04D69E8D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67B-174E-49CD-A0F8-24498371D7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85920" y="357120"/>
            <a:ext cx="71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БОУ школа №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Игровые технологи на уроках профессионально-трудового обучения как средство развития познавательной активности у школьников в коррекционной школе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VIII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и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ель ПТО: Мищенко Л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DSC02799"/>
          <p:cNvPicPr/>
          <p:nvPr/>
        </p:nvPicPr>
        <p:blipFill>
          <a:blip r:embed="rId1"/>
          <a:stretch/>
        </p:blipFill>
        <p:spPr>
          <a:xfrm>
            <a:off x="684360" y="3389400"/>
            <a:ext cx="3616200" cy="2709720"/>
          </a:xfrm>
          <a:prstGeom prst="rect">
            <a:avLst/>
          </a:prstGeom>
          <a:ln w="28440">
            <a:solidFill>
              <a:srgbClr val="ff0000"/>
            </a:solidFill>
            <a:prstDash val="dashDot"/>
            <a:miter/>
          </a:ln>
        </p:spPr>
      </p:pic>
      <p:pic>
        <p:nvPicPr>
          <p:cNvPr id="100" name="Picture 8" descr="DSC02840"/>
          <p:cNvPicPr/>
          <p:nvPr/>
        </p:nvPicPr>
        <p:blipFill>
          <a:blip r:embed="rId2"/>
          <a:stretch/>
        </p:blipFill>
        <p:spPr>
          <a:xfrm>
            <a:off x="4716360" y="3382920"/>
            <a:ext cx="3500640" cy="2625840"/>
          </a:xfrm>
          <a:prstGeom prst="rect">
            <a:avLst/>
          </a:prstGeom>
          <a:ln w="28440">
            <a:solidFill>
              <a:srgbClr val="ffff00"/>
            </a:solidFill>
            <a:prstDash val="dashDot"/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Требования к организации дидактических иг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- форма деятельности учащихся, в которой осознаё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иды дидактических иг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 упражн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гры- соревн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143000" y="5335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КА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4876920" y="18288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ШВЕ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295280" y="327672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ТЮ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4952880" y="3657600"/>
            <a:ext cx="3505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юб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533520" y="457200"/>
            <a:ext cx="3695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РОССВОР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10" name="Picture 3" descr="Рисунок1"/>
          <p:cNvPicPr/>
          <p:nvPr/>
        </p:nvPicPr>
        <p:blipFill>
          <a:blip r:embed="rId1"/>
          <a:stretch/>
        </p:blipFill>
        <p:spPr>
          <a:xfrm>
            <a:off x="2438280" y="838080"/>
            <a:ext cx="5735880" cy="54324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>
            <a:off x="5181480" y="2057400"/>
            <a:ext cx="3715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6095880" y="2057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6934320" y="2057400"/>
            <a:ext cx="276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7696080" y="2057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424400" y="3189240"/>
            <a:ext cx="2952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5257800" y="3200400"/>
            <a:ext cx="2761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095880" y="3200400"/>
            <a:ext cx="285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6934320" y="3200400"/>
            <a:ext cx="2952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12"/>
          <p:cNvSpPr txBox="1"/>
          <p:nvPr/>
        </p:nvSpPr>
        <p:spPr>
          <a:xfrm>
            <a:off x="7696080" y="3200400"/>
            <a:ext cx="276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2666880" y="5181480"/>
            <a:ext cx="295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WordArt 14"/>
          <p:cNvSpPr txBox="1"/>
          <p:nvPr/>
        </p:nvSpPr>
        <p:spPr>
          <a:xfrm>
            <a:off x="3276720" y="5181480"/>
            <a:ext cx="3142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3886200" y="5181480"/>
            <a:ext cx="2761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16"/>
          <p:cNvSpPr txBox="1"/>
          <p:nvPr/>
        </p:nvSpPr>
        <p:spPr>
          <a:xfrm>
            <a:off x="4572000" y="5181480"/>
            <a:ext cx="3142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7"/>
          <p:cNvSpPr txBox="1"/>
          <p:nvPr/>
        </p:nvSpPr>
        <p:spPr>
          <a:xfrm>
            <a:off x="5334120" y="5181480"/>
            <a:ext cx="285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18"/>
          <p:cNvSpPr txBox="1"/>
          <p:nvPr/>
        </p:nvSpPr>
        <p:spPr>
          <a:xfrm>
            <a:off x="6095880" y="5181480"/>
            <a:ext cx="2476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WordArt 19"/>
          <p:cNvSpPr txBox="1"/>
          <p:nvPr/>
        </p:nvSpPr>
        <p:spPr>
          <a:xfrm>
            <a:off x="6095880" y="57150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WordArt 20"/>
          <p:cNvSpPr txBox="1"/>
          <p:nvPr/>
        </p:nvSpPr>
        <p:spPr>
          <a:xfrm>
            <a:off x="6095880" y="91440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WordArt 21"/>
          <p:cNvSpPr txBox="1"/>
          <p:nvPr/>
        </p:nvSpPr>
        <p:spPr>
          <a:xfrm>
            <a:off x="6095880" y="1447920"/>
            <a:ext cx="295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WordArt 22"/>
          <p:cNvSpPr txBox="1"/>
          <p:nvPr/>
        </p:nvSpPr>
        <p:spPr>
          <a:xfrm>
            <a:off x="6095880" y="2590920"/>
            <a:ext cx="314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23"/>
          <p:cNvSpPr txBox="1"/>
          <p:nvPr/>
        </p:nvSpPr>
        <p:spPr>
          <a:xfrm>
            <a:off x="6095880" y="3886200"/>
            <a:ext cx="3142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WordArt 24"/>
          <p:cNvSpPr txBox="1"/>
          <p:nvPr/>
        </p:nvSpPr>
        <p:spPr>
          <a:xfrm>
            <a:off x="6095880" y="4495680"/>
            <a:ext cx="2858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25"/>
          <p:cNvSpPr txBox="1"/>
          <p:nvPr/>
        </p:nvSpPr>
        <p:spPr>
          <a:xfrm>
            <a:off x="6858000" y="5105520"/>
            <a:ext cx="2952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4300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КУЛАК-РЕБРО-ЛАДО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3152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3:38:42Z</dcterms:created>
  <dc:creator>Admin</dc:creator>
  <dc:description/>
  <dc:language>en-US</dc:language>
  <cp:lastModifiedBy>Пользователь</cp:lastModifiedBy>
  <dcterms:modified xsi:type="dcterms:W3CDTF">2015-09-03T08:51:43Z</dcterms:modified>
  <cp:revision>12</cp:revision>
  <dc:subject/>
  <dc:title>Слайд 1</dc:title>
</cp:coreProperties>
</file>