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8BF-95B6-4090-A84D-08000036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ED1-86EB-4DF2-83A1-95385FAE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F2F-ADEE-43FC-A726-BF95B409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C67-3C16-4A36-B6D7-9F18C5C6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BC93-D8C5-4429-8894-ADF1D258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911-9F75-4E2B-8F5D-70567F3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14B1-3B54-49BF-BB90-910984E0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9B6F-BA84-4DC0-AA28-0A40514E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4B75-B5E9-4C0B-88F4-55033681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646A-069B-4FF6-B828-2C3F268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4BC2-5714-44EA-A47B-F691E457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B31-BE43-41B5-A36F-5420DE0A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603E-75A5-4477-98A0-25734E23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4C2C-2319-4658-B079-C7E339F4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5C9-6391-4F81-A466-AB97E516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3427-78BF-4F4F-ACEA-C50837D2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75D7-A671-4641-9636-8EFDBA99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548-FC24-43F5-8C77-E1925308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77F-1D72-4AE0-9C76-D7521DFB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478-A4AD-49FE-9D50-A2AAEF2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EC9-720C-481F-B7B0-19B9F107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9FF-A1C6-463A-81CC-AA13DF45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70C-956E-4679-A343-7279879D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0A8-7BDA-40DE-98C1-7E7EFE6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EA7E-E403-4951-8F7D-0CFD9507A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4815-7AED-4119-8054-22DB916039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85920" y="357120"/>
            <a:ext cx="712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БОУ школа №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Игровые технологи на уроках профессионально-трудового обучения как средство развития познавательной активности у школьников в коррекционной школе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VIII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и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читель ПТО: Мищенко Л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DSC02799"/>
          <p:cNvPicPr/>
          <p:nvPr/>
        </p:nvPicPr>
        <p:blipFill>
          <a:blip r:embed="rId1"/>
          <a:stretch/>
        </p:blipFill>
        <p:spPr>
          <a:xfrm>
            <a:off x="684360" y="3389400"/>
            <a:ext cx="3616200" cy="2709720"/>
          </a:xfrm>
          <a:prstGeom prst="rect">
            <a:avLst/>
          </a:prstGeom>
          <a:ln w="28440">
            <a:solidFill>
              <a:srgbClr val="ff0000"/>
            </a:solidFill>
            <a:prstDash val="dashDot"/>
            <a:miter/>
          </a:ln>
        </p:spPr>
      </p:pic>
      <p:pic>
        <p:nvPicPr>
          <p:cNvPr id="100" name="Picture 8" descr="DSC02840"/>
          <p:cNvPicPr/>
          <p:nvPr/>
        </p:nvPicPr>
        <p:blipFill>
          <a:blip r:embed="rId2"/>
          <a:stretch/>
        </p:blipFill>
        <p:spPr>
          <a:xfrm>
            <a:off x="4716360" y="3382920"/>
            <a:ext cx="3500640" cy="2625840"/>
          </a:xfrm>
          <a:prstGeom prst="rect">
            <a:avLst/>
          </a:prstGeom>
          <a:ln w="28440">
            <a:solidFill>
              <a:srgbClr val="ffff00"/>
            </a:solidFill>
            <a:prstDash val="dashDot"/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Требования к организации дидактических иг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- форма деятельности учащихся, в которой осознаё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Виды дидактических иг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гры- упражн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гры- соревн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143000" y="533520"/>
            <a:ext cx="2819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КА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4876920" y="182880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ШВЕ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295280" y="327672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ТЮ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4952880" y="3657600"/>
            <a:ext cx="3505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юб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533520" y="457200"/>
            <a:ext cx="36957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РОССВОР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10" name="Picture 3" descr="Рисунок1"/>
          <p:cNvPicPr/>
          <p:nvPr/>
        </p:nvPicPr>
        <p:blipFill>
          <a:blip r:embed="rId1"/>
          <a:stretch/>
        </p:blipFill>
        <p:spPr>
          <a:xfrm>
            <a:off x="2438280" y="838080"/>
            <a:ext cx="5735880" cy="54324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4"/>
          <p:cNvSpPr txBox="1"/>
          <p:nvPr/>
        </p:nvSpPr>
        <p:spPr>
          <a:xfrm>
            <a:off x="5181480" y="2057400"/>
            <a:ext cx="3715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6095880" y="205740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6934320" y="2057400"/>
            <a:ext cx="276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7696080" y="205740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4424400" y="3189240"/>
            <a:ext cx="2952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5257800" y="3200400"/>
            <a:ext cx="276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6095880" y="3200400"/>
            <a:ext cx="2858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6934320" y="3200400"/>
            <a:ext cx="2952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7696080" y="3200400"/>
            <a:ext cx="276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3"/>
          <p:cNvSpPr txBox="1"/>
          <p:nvPr/>
        </p:nvSpPr>
        <p:spPr>
          <a:xfrm>
            <a:off x="2666880" y="5181480"/>
            <a:ext cx="2955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4"/>
          <p:cNvSpPr txBox="1"/>
          <p:nvPr/>
        </p:nvSpPr>
        <p:spPr>
          <a:xfrm>
            <a:off x="3276720" y="5181480"/>
            <a:ext cx="3142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3886200" y="5181480"/>
            <a:ext cx="2761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6"/>
          <p:cNvSpPr txBox="1"/>
          <p:nvPr/>
        </p:nvSpPr>
        <p:spPr>
          <a:xfrm>
            <a:off x="4572000" y="5181480"/>
            <a:ext cx="3142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7"/>
          <p:cNvSpPr txBox="1"/>
          <p:nvPr/>
        </p:nvSpPr>
        <p:spPr>
          <a:xfrm>
            <a:off x="5334120" y="5181480"/>
            <a:ext cx="2854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8"/>
          <p:cNvSpPr txBox="1"/>
          <p:nvPr/>
        </p:nvSpPr>
        <p:spPr>
          <a:xfrm>
            <a:off x="6095880" y="5181480"/>
            <a:ext cx="2476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9"/>
          <p:cNvSpPr txBox="1"/>
          <p:nvPr/>
        </p:nvSpPr>
        <p:spPr>
          <a:xfrm>
            <a:off x="6095880" y="571500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WordArt 20"/>
          <p:cNvSpPr txBox="1"/>
          <p:nvPr/>
        </p:nvSpPr>
        <p:spPr>
          <a:xfrm>
            <a:off x="6095880" y="91440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WordArt 21"/>
          <p:cNvSpPr txBox="1"/>
          <p:nvPr/>
        </p:nvSpPr>
        <p:spPr>
          <a:xfrm>
            <a:off x="6095880" y="144792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WordArt 22"/>
          <p:cNvSpPr txBox="1"/>
          <p:nvPr/>
        </p:nvSpPr>
        <p:spPr>
          <a:xfrm>
            <a:off x="6095880" y="2590920"/>
            <a:ext cx="3142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WordArt 23"/>
          <p:cNvSpPr txBox="1"/>
          <p:nvPr/>
        </p:nvSpPr>
        <p:spPr>
          <a:xfrm>
            <a:off x="6095880" y="3886200"/>
            <a:ext cx="3142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WordArt 24"/>
          <p:cNvSpPr txBox="1"/>
          <p:nvPr/>
        </p:nvSpPr>
        <p:spPr>
          <a:xfrm>
            <a:off x="6095880" y="4495680"/>
            <a:ext cx="285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6858000" y="5105520"/>
            <a:ext cx="2952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143000" y="838080"/>
            <a:ext cx="7010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КУЛАК-РЕБРО-ЛАДО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3152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3:38:42Z</dcterms:created>
  <dc:creator>Admin</dc:creator>
  <dc:description/>
  <dc:language>en-US</dc:language>
  <cp:lastModifiedBy>Пользователь</cp:lastModifiedBy>
  <dcterms:modified xsi:type="dcterms:W3CDTF">2015-09-03T08:51:43Z</dcterms:modified>
  <cp:revision>12</cp:revision>
  <dc:subject/>
  <dc:title>Слайд 1</dc:title>
</cp:coreProperties>
</file>