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27C-5761-4331-84CD-F9FAB369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9A9-1171-4AAD-AA61-E9E4776E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338-9F39-4D58-9ABD-111848B4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817-4041-429C-B11D-9489E5F8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7AC-5765-45DA-B5E6-8FE88FD2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C184-2887-4232-933B-161FD46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D5FD-579A-4109-84C4-E4DA7C3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ECD-D63D-49DA-85B9-1A34F58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BD9-0596-43FC-A7FB-047EA5C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1B01-CDCA-407B-8EC6-2CA57FC2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C36-9A06-4233-B5C9-CF5A8B0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14E-1F56-4B8C-9417-5DD6EAD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CC1E-3701-4ACE-8158-6C02CD1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A20-7A77-4369-A42F-4FA7200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AE41-3D54-4393-A4E7-DB235C3C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809-0769-42D1-9EAB-1336F625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FF2-92C2-4938-A21E-44FF1DCC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807-9B83-4B5B-B92D-E2B7B23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4E6-CCB8-44CD-947A-5AADE29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5E9-DAF6-4AD5-9E22-476E30D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9AF-1E80-410D-A9AB-AC84F39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EB9-D605-4CF5-9E46-C49D230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9CB-D310-4939-BEE1-BEC3EF9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F0D-5DB4-4FD9-9E5F-EB766AA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992-1179-4810-BD53-E2173519C9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B10-9A2E-4B69-BE1A-E4939F50D8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82072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cc"/>
                </a:solidFill>
                <a:latin typeface="Tahoma"/>
              </a:rPr>
              <a:t>Декоративные растения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РИ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ы ириса имеют приятный аромат и разнообразную окраску: темно-фиолетовую, лазурную, белую, розовую, желтую и другую. Они хороши для срезки, так как в воде распускаются все бутоны. Высаживают их длинными лентами вдоль аллей, дорожек, на бордюрах групп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малую роль играют цветы и в оформлении праздников. Как приятен букет цветов на праздничном столе или подаренный в день рождения! Цветы дополняют и придают законченный вид любой обстанов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ое цветоводство ведет свое начало с глубокой древности. Розы, лилии, фиалки, резеда и многие другие чудесные цветы нашего времени были также любимыми цветами и наших далеких пре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стоящее время цветоводство развито во всех странах мира. Отдельные страны специализируются на выращивании определенных растений. Например, Болгария производит гвоздики, Франция – ро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ые растения широко используются для оформления площадей, улиц, дворов и внутреннего озеленения учреждений. Они обладают многообразием форм, строения листьев, цветов. Эти особенности надо учитывать при оформлении и цветника, и помещения. Умело подбирая растения на участке, можно добиться того, что они будут цвести с ранней весны до поздней ос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НАСТУРЦИЯ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ветет с июня до октября. Используется для оформления балконов, клумб, высаживается на бордюра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58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ФИЗАЛИС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ециально выращивают для зимних букетов. Всю зиму могут стоять в вазе яркие оранжевые фонарики физалиса, напоминая об ушедшем л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2702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ПИОН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оны цветут с конца мая по июнь месяц. Пышность и долговечность куста, нарядность листьев, красота, махровость и душистость пиона делают его любимым цветком для горожан. Он прекрасно сохраняется в буке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321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АСТРЫ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тры цветут с начала августа и до морозов. Цветы имеют самый разнообразный  колер: от голубого до темно-фиолетового, от белого до темно-красного. Используются астры для оформления клумб, низких бордюров, а высокие сорта – на срезку. Срезанные астры очень долго стоят в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103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ГЕОРГИН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Георгины нашли широкое распространение в садах и парках. Благодаря красоте цветов, длинным черешкам, стойкости в букете, георгины хороши для срезки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456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ЛЬ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ы обладают богатейшим колером: фиолетовым, розовым, красным, белым, желтым. Особенно привлекательны мальвы небольшими группами на газоне. Цветы мальв, срезанные в стадии бутонов, хорошо распускаются в воде и с успехом используются для напольных бук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2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ЮТИНЫ ГЛАЗ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ютины глазки цветут с начала лета, длительно, в июле с наступлением жарких дней цветы становятся мелкими. Эти цветы особенно хороши на балконах, в оконных ящичках и для бордюров вдоль дорож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260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56:00Z</dcterms:created>
  <dc:creator>Admin</dc:creator>
  <dc:description/>
  <dc:language>en-US</dc:language>
  <cp:lastModifiedBy>Admin</cp:lastModifiedBy>
  <dcterms:modified xsi:type="dcterms:W3CDTF">2009-01-21T20:19:34Z</dcterms:modified>
  <cp:revision>12</cp:revision>
  <dc:subject/>
  <dc:title>Декоративные растения</dc:title>
</cp:coreProperties>
</file>