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4AC-7CBF-4768-83AE-26F03689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84F-9214-4B98-9DF6-014460FC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A72-820A-4488-A88F-888BA13F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9F0-946E-4BC0-8702-B2421636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01E3-DD2D-4970-A619-ADE8A0E7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EE05-F6AB-499F-9525-64F7703B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FA2B-A673-486F-B0BD-2AD8A3EE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1B1C-3D9A-4093-B201-B0037C74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30D8-EF8D-4735-BDBE-C9DCF216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B785-9319-4052-9740-6C9788D2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D157-595F-46D4-BB40-2D8A11D5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01D-ED69-45FC-8FD2-0567C4AA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BC77-D7BD-4A26-984B-1250592F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057E-FF7A-46AB-8BA6-B3151AD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203E-A026-48FA-9076-1C61C394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8C34-1BE0-40A5-99EE-24E3935C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5262-7949-4E40-8A86-CA081810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287-6167-4975-A2FA-D781726E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F09-2C27-4FA2-AC1E-F466F62F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95F-0D32-4C43-B46A-91455A58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CCD-99C0-44ED-9D34-68E7BA65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36E-1ABC-49A0-B7D2-DBA38426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118-44DC-4224-B10C-2BE22EBA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361-839D-4A42-9AEF-E1017C59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DECC-B809-45EA-B41C-5685D51411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2BE3-D991-4A04-A9FC-AC52796E84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82072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cc"/>
                </a:solidFill>
                <a:latin typeface="Tahoma"/>
              </a:rPr>
              <a:t>Декоративные растения</a:t>
            </a:r>
            <a:endParaRPr b="0" lang="en-US" sz="8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РИ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ы ириса имеют приятный аромат и разнообразную окраску: темно-фиолетовую, лазурную, белую, розовую, желтую и другую. Они хороши для срезки, так как в воде распускаются все бутоны. Высаживают их длинными лентами вдоль аллей, дорожек, на бордюрах групп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малую роль играют цветы и в оформлении праздников. Как приятен букет цветов на праздничном столе или подаренный в день рождения! Цветы дополняют и придают законченный вид любой обстанов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708280"/>
            <a:ext cx="4535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коративное цветоводство ведет свое начало с глубокой древности. Розы, лилии, фиалки, резеда и многие другие чудесные цветы нашего времени были также любимыми цветами и наших далеких пред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настоящее время цветоводство развито во всех странах мира. Отдельные страны специализируются на выращивании определенных растений. Например, Болгария производит гвоздики, Франция – роз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коративные растения широко используются для оформления площадей, улиц, дворов и внутреннего озеленения учреждений. Они обладают многообразием форм, строения листьев, цветов. Эти особенности надо учитывать при оформлении и цветника, и помещения. Умело подбирая растения на участке, можно добиться того, что они будут цвести с ранней весны до поздней ос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НАСТУРЦИЯ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ветет с июня до октября. Используется для оформления балконов, клумб, высаживается на бордюра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02580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ФИЗАЛИС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пециально выращивают для зимних букетов. Всю зиму могут стоять в вазе яркие оранжевые фонарики физалиса, напоминая об ушедшем лет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2702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ПИОН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4005000"/>
            <a:ext cx="822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ионы цветут с конца мая по июнь месяц. Пышность и долговечность куста, нарядность листьев, красота, махровость и душистость пиона делают его любимым цветком для горожан. Он прекрасно сохраняется в буке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321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АСТРЫ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2296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стры цветут с начала августа и до морозов. Цветы имеют самый разнообразный  колер: от голубого до темно-фиолетового, от белого до темно-красного. Используются астры для оформления клумб, низких бордюров, а высокие сорта – на срезку. Срезанные астры очень долго стоят в в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4103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ГЕОРГИН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Георгины нашли широкое распространение в садах и парках. Благодаря красоте цветов, длинным черешкам, стойкости в букете, георгины хороши для срезки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34560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АЛЬ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ы обладают богатейшим колером: фиолетовым, розовым, красным, белым, желтым. Особенно привлекательны мальвы небольшими группами на газоне. Цветы мальв, срезанные в стадии бутонов, хорошо распускаются в воде и с успехом используются для напольных буке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82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НЮТИНЫ ГЛАЗ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ютины глазки цветут с начала лета, длительно, в июле с наступлением жарких дней цветы становятся мелкими. Эти цветы особенно хороши на балконах, в оконных ящичках и для бордюров вдоль дорож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260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6:56:00Z</dcterms:created>
  <dc:creator>Admin</dc:creator>
  <dc:description/>
  <dc:language>en-US</dc:language>
  <cp:lastModifiedBy>Admin</cp:lastModifiedBy>
  <dcterms:modified xsi:type="dcterms:W3CDTF">2009-01-21T20:19:34Z</dcterms:modified>
  <cp:revision>12</cp:revision>
  <dc:subject/>
  <dc:title>Декоративные растения</dc:title>
</cp:coreProperties>
</file>