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7D6-7F40-4B24-A135-84F50DD22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36BC-53F7-4EC3-BA39-24AE83AA1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BAC-1C55-4BC2-8FD1-1CB01430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927-8115-4EBA-9205-89C08944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82849-D808-43E3-93FB-81C35F77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9EA4C-A8A0-4EA0-AED5-F892FC29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E2B0B-30C2-4A7E-A4DC-646B3B0D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F87D2-9C8D-4ED3-BEFD-60106AF3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E4F8F-5015-4B8F-B5D7-32FB2513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EE39F-5D07-4BEC-98A7-D6026E26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FB7F5-F8B5-4770-887A-FFD4EEA9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845CF-8933-4982-93BD-259DC2A2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D311B-1D9B-4A26-8520-DCB2B26C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1A2F6-9A06-4A85-B518-B9FBAC7F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DEA-3E53-4893-A50B-94B9C488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D7776-B675-487C-B1F1-57C1D28A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9F11B-8526-4512-9B14-F495E52E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60ED5-9727-4E0A-BD38-7FFF9359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20567-12F1-49B0-BDDA-4D31A8BF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AD262-5AEC-4B9E-8CAC-6580E49D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6C6BB-3E62-4507-B048-277074B3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81C46-F290-4813-B3DC-51AF4A2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75A2A-06E7-4782-960E-44A35319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5200D-4FAD-40C8-A88F-814896C4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F1E24-3AE7-4F55-A30E-00C0BD6C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9FF-8D8A-425B-9D5E-B6D1862B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7154B-075E-455B-871E-F46A7962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55FFE-8184-4C15-A27A-97BE0B3C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066D9-89C1-41D3-A948-AC31915B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6D3E5-15DA-4F91-AADA-AFD34DFC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80EB6-AC1C-4C3A-8802-347E69EA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DE4CC-525E-44AF-8C7A-E92A16F7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C3C9D-683F-4A5B-9848-5458D2DF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E3F3B-18FC-4FDD-A26B-CCDFF6C5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49924-419D-476E-AEB4-0D456629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FB7D5-3F19-4E24-BB03-CE9F74C1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F4A8-899F-4CAC-86B1-52F381F6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A13F4-A034-47B3-86DC-CA889620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76B1A-A349-4C56-851C-F2EF0ADD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0BB8E-D1FD-4096-A97E-64C8F956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987A9-E586-4A54-8842-3FB0C2F2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119F5-07D2-4657-9467-365491DA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144FB-36FF-4F47-AB7F-CB45C711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B1784-3202-40E4-B169-0EDEDB2D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A5079-788B-4755-8354-0D3F1B9C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85498-B6FF-432C-9C9D-958A992C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4CC0C-1989-49EF-AF70-5B489F0D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A8D6-A4B9-4DD2-9A4E-EC3E7902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0609D-74EF-4C2A-97B0-B666D962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4BCBF-032F-4080-8F00-BC58F7E5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6A033-20F8-483A-916B-158D9FF9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B589D-9ED3-4E73-8251-2ED263E1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AF229-BDD7-4F44-90EB-637EDB38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293A-4CCF-4762-ACE1-E298444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DFC4-A546-428F-8746-87FDFAEB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5B9C-9A52-47DD-B8DE-99E03650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433F-DC6D-4D23-9FB7-EB99E38F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6A79-ED99-46E3-A753-FE7551C3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AF4-B366-455A-AB12-990BF2A4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DF8F-F35C-4CB0-9182-F86FCAB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A945-1BC0-4EFB-A7A8-7B743343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E631-C44E-444E-B227-CFB65E38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3FDB-FEB5-41B2-806C-222C1D50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98B9-7F07-45DF-BEBD-5A59F428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8D99-5C25-4E88-A286-5B50D873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C20F-4960-40DF-AEDF-A9613AC1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74A7-8772-4584-A035-271997D9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F7389-5857-4BD4-B7B2-0BC5ADF5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3898-FA4C-4B49-9C1A-95A2399E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A89-E2B1-4753-BEAF-15426951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CBD0-94E7-47BF-965E-623E2910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6AB9-303A-4813-9D39-BCEA34F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8E75-E154-4AD8-9B52-106C7677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95B2-47B6-40C2-A5FE-419F2847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FA63-A119-4D4D-9D87-BECF4CCF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5A703-0886-414B-8DD4-70168CBA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9F3CE-65A2-43CB-8D7F-09F1D3F3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926E8-E874-4708-88E1-87C56CD3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8B0B-B654-4F6D-9854-D32D5242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51A91-3A36-4967-8AE9-F14E72A1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576-138E-4887-9F3B-660FFE59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E043-660C-419B-8B03-46D8809B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A4EC-EAD7-4066-BDB6-D9A8D58F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78F6-A711-4A56-86C3-33B21C18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4D4E8-07A6-45F0-914E-C74B5138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0181D-FD7E-4898-B9D5-91D3F7B4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4132-A512-49AA-8554-82A9AE93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96C9-4884-4E70-920E-19590EBD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BDF1-0B81-453E-A299-EB9C58D1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63725-5F20-4D5E-A1D0-6C310273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7998-C9AB-41B6-B371-B09D91A3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B85-D1AF-4B3B-A0EE-FB2DA3B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C8008-92EF-447A-8571-DA31AAF1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5B00C-B7CA-4E09-A6DA-35303681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1E6A4-083D-4E9F-8474-C6B3AF2A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AD959-B167-4DD2-B37B-4708AAA6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5DC58-F6F1-491B-BF82-15350C75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0463D-547A-4F8E-9B4B-62B888D8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0B00-5A29-4298-8ED0-A718E34D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FF1F2-854D-42B8-85CD-F4C82E27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033D-1DEE-4E0C-BFA2-47DF52D4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090FD-0E54-4C2B-8B31-0465C11E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E6B-0CE9-4788-8E53-61D20101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2C97-F9A7-4CA3-A627-A9549E56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BAFB1-30FE-4A7F-8DF9-4FE573A6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71EB9-A27B-46EC-AACE-816E3711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9230D-2BE3-4F83-9C03-3B2F69CE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1966E-7D7D-4385-A49D-5CA32EB3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72E99-1977-4F5B-8785-1E72B1E9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C9912-14DD-4672-A136-33130A51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9E0AE-FA53-4DA1-BFAF-C86AF471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48D62-1A7D-4362-BA71-6E8BA74E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B37F7-ED75-48C6-9507-3D0B1114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BD9-C132-4EEC-8C18-4A87F106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26F6B-67E0-4842-B55E-06FA16C7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B4D17-A143-4FD3-B419-A0DB0D48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A8931-D408-4462-B347-B3011719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EBFB-23BF-49E0-8D73-CEDB2374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CCF1D-E05E-423D-BA6E-FEC22E21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303ED-E94B-4CAB-B142-A9C28864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0E223-6AE0-4C11-B6A2-EDB719A8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785ED-6943-47BE-A48F-C6F55059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DCF3A-C82A-400D-9E2C-6B306FC0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A7725-C7CB-46D7-B97C-EF28AAC9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265-073D-42FA-9476-1673967E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336D7-3B90-4F4B-B9EC-11035B8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7D6AD-F48D-429F-8893-77232057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3E6A2-7C50-4C3E-81D9-EA05E502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E1ED3-8174-4992-8591-9556C1DA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13C73-5CFA-424F-8C77-BA1CAED1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733D0-EF34-4809-BAB0-23F7940E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B7648-F0DB-4825-8E6B-B4B21015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F5AB0-2369-40BE-AAA2-666A1ACD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2D75E-E26F-40EB-877B-E5CBCE02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4835F-6844-4F5C-8307-AC4E3280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074-32F8-4C33-B6C5-7E1274AF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D1607-4019-4D49-9C15-D5537421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70F53-BA07-4CBA-917E-F9D31258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BADD1-7130-4068-B07D-67F7A60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BC301-3DF7-4AF3-9852-CFD93E65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7B10B-6FE4-4519-B8E4-84FFD0A3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5A498-4025-4A30-AB99-A73A64DF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EEF75-4B47-4A09-B9B3-A84D67F5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87C5C-72AD-4AF4-94A2-343973F2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E72F9-E614-43A8-9E72-D91BF45F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D3D7D-5437-48F0-BD78-9208264C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01DA-BABC-483C-9D54-9D879F46F5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6AFB-22B2-47B5-B93E-B48B721194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1DDB-4ED2-480D-BEAF-6CB9EA4A9D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5839-04C0-4537-B506-201C405982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82A2-8EFB-4877-BEF5-4A49AECE7A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D44A-B1C8-416E-AA26-9B00857D6F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A5BA-C449-4D04-A7E7-5D648BE2EA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30E7-8534-4448-810B-3B1C894EC0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241C-B84E-42C6-87B8-8FD28137F6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91B5-E7AD-4334-90CA-A91C730C36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6805-352B-43C5-87B7-D87BFF11C8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E299-8ED7-4F65-9435-B57621A6CA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1676520" y="53704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5"/>
          <p:cNvSpPr/>
          <p:nvPr/>
        </p:nvSpPr>
        <p:spPr>
          <a:xfrm>
            <a:off x="3785400" y="59500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Прямоугольник 10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5651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1"/>
          <p:cNvSpPr/>
          <p:nvPr/>
        </p:nvSpPr>
        <p:spPr>
          <a:xfrm>
            <a:off x="952560" y="1467000"/>
            <a:ext cx="72388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Тема классного ча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1332000" y="2973240"/>
            <a:ext cx="7632720" cy="18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..Талант — это вера в себя, в свою силу..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ький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179280" y="4005360"/>
            <a:ext cx="7632720" cy="21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алант является гораздо более ценным, чем день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кольку его нельзя потерять или укра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олеон Х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9" descr="34q58lnmmktql8c7dn4sb32i52"/>
          <p:cNvPicPr/>
          <p:nvPr/>
        </p:nvPicPr>
        <p:blipFill>
          <a:blip r:embed="rId2"/>
          <a:stretch/>
        </p:blipFill>
        <p:spPr>
          <a:xfrm>
            <a:off x="2062080" y="333360"/>
            <a:ext cx="5019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2"/>
          <p:cNvSpPr/>
          <p:nvPr/>
        </p:nvSpPr>
        <p:spPr>
          <a:xfrm>
            <a:off x="468360" y="2060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ений – это 99% труда и только 1% даров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3"/>
          <p:cNvSpPr/>
          <p:nvPr/>
        </p:nvSpPr>
        <p:spPr>
          <a:xfrm>
            <a:off x="118440" y="1159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4"/>
          <p:cNvSpPr/>
          <p:nvPr/>
        </p:nvSpPr>
        <p:spPr>
          <a:xfrm>
            <a:off x="6370200" y="35971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с Эди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2"/>
          <p:cNvSpPr/>
          <p:nvPr/>
        </p:nvSpPr>
        <p:spPr>
          <a:xfrm>
            <a:off x="118440" y="1159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3"/>
          <p:cNvSpPr/>
          <p:nvPr/>
        </p:nvSpPr>
        <p:spPr>
          <a:xfrm>
            <a:off x="539640" y="2585880"/>
            <a:ext cx="82803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талан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ый ли человек талантли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ужно ли совершенствовать свой талан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таланты присущи нашим одноклассн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4"/>
          <p:cNvSpPr/>
          <p:nvPr/>
        </p:nvSpPr>
        <p:spPr>
          <a:xfrm>
            <a:off x="1966320" y="119700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бсуждение темы о тала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3"/>
          <p:cNvSpPr/>
          <p:nvPr/>
        </p:nvSpPr>
        <p:spPr>
          <a:xfrm>
            <a:off x="2875320" y="316080"/>
            <a:ext cx="33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Дискусс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4"/>
          <p:cNvSpPr/>
          <p:nvPr/>
        </p:nvSpPr>
        <p:spPr>
          <a:xfrm>
            <a:off x="118440" y="1159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6"/>
          <p:cNvSpPr/>
          <p:nvPr/>
        </p:nvSpPr>
        <p:spPr>
          <a:xfrm>
            <a:off x="225360" y="995400"/>
            <a:ext cx="63356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классе самым талантливым явля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7"/>
          <p:cNvSpPr/>
          <p:nvPr/>
        </p:nvSpPr>
        <p:spPr>
          <a:xfrm>
            <a:off x="974880" y="1389240"/>
            <a:ext cx="6553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меня приятно удивлял своими возможностями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8"/>
          <p:cNvSpPr/>
          <p:nvPr/>
        </p:nvSpPr>
        <p:spPr>
          <a:xfrm>
            <a:off x="324000" y="1951200"/>
            <a:ext cx="6318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одаренная личность в нашем классе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9"/>
          <p:cNvSpPr/>
          <p:nvPr/>
        </p:nvSpPr>
        <p:spPr>
          <a:xfrm>
            <a:off x="900000" y="25002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х умеет в классе выслушать, понять и поддерж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10"/>
          <p:cNvSpPr/>
          <p:nvPr/>
        </p:nvSpPr>
        <p:spPr>
          <a:xfrm>
            <a:off x="324000" y="3224160"/>
            <a:ext cx="691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классе скучно, то значит, в нем отсутству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11"/>
          <p:cNvSpPr/>
          <p:nvPr/>
        </p:nvSpPr>
        <p:spPr>
          <a:xfrm>
            <a:off x="974880" y="3789360"/>
            <a:ext cx="6841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но наблюдать, как у доски отвеча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12"/>
          <p:cNvSpPr/>
          <p:nvPr/>
        </p:nvSpPr>
        <p:spPr>
          <a:xfrm>
            <a:off x="1009800" y="4673520"/>
            <a:ext cx="6829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мы очень скоро увидим в отличника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13"/>
          <p:cNvSpPr/>
          <p:nvPr/>
        </p:nvSpPr>
        <p:spPr>
          <a:xfrm>
            <a:off x="328680" y="4191120"/>
            <a:ext cx="3535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мне будет снить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4"/>
          <p:cNvSpPr/>
          <p:nvPr/>
        </p:nvSpPr>
        <p:spPr>
          <a:xfrm>
            <a:off x="351360" y="507672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х в классе по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15"/>
          <p:cNvSpPr/>
          <p:nvPr/>
        </p:nvSpPr>
        <p:spPr>
          <a:xfrm>
            <a:off x="478440" y="5886360"/>
            <a:ext cx="2495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х танцу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6"/>
          <p:cNvSpPr/>
          <p:nvPr/>
        </p:nvSpPr>
        <p:spPr>
          <a:xfrm>
            <a:off x="1019160" y="6276960"/>
            <a:ext cx="7105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добрым человеком в классе, можно назв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17"/>
          <p:cNvSpPr/>
          <p:nvPr/>
        </p:nvSpPr>
        <p:spPr>
          <a:xfrm>
            <a:off x="1017360" y="54468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х в классе рис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2"/>
          <p:cNvSpPr/>
          <p:nvPr/>
        </p:nvSpPr>
        <p:spPr>
          <a:xfrm>
            <a:off x="118440" y="1159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4"/>
          <p:cNvSpPr/>
          <p:nvPr/>
        </p:nvSpPr>
        <p:spPr>
          <a:xfrm>
            <a:off x="3482640" y="198360"/>
            <a:ext cx="37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Физминут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5"/>
          <p:cNvSpPr/>
          <p:nvPr/>
        </p:nvSpPr>
        <p:spPr>
          <a:xfrm>
            <a:off x="369360" y="981000"/>
            <a:ext cx="4382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ают все присутств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6"/>
          <p:cNvSpPr/>
          <p:nvPr/>
        </p:nvSpPr>
        <p:spPr>
          <a:xfrm>
            <a:off x="2425680" y="162864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любит игру в шахм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7"/>
          <p:cNvSpPr/>
          <p:nvPr/>
        </p:nvSpPr>
        <p:spPr>
          <a:xfrm>
            <a:off x="360000" y="239220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любит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8"/>
          <p:cNvSpPr/>
          <p:nvPr/>
        </p:nvSpPr>
        <p:spPr>
          <a:xfrm>
            <a:off x="2651400" y="29876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любит п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9"/>
          <p:cNvSpPr/>
          <p:nvPr/>
        </p:nvSpPr>
        <p:spPr>
          <a:xfrm>
            <a:off x="355680" y="479736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хорошо у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10"/>
          <p:cNvSpPr/>
          <p:nvPr/>
        </p:nvSpPr>
        <p:spPr>
          <a:xfrm>
            <a:off x="2674440" y="422100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не любит танце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11"/>
          <p:cNvSpPr/>
          <p:nvPr/>
        </p:nvSpPr>
        <p:spPr>
          <a:xfrm>
            <a:off x="2671200" y="537372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любит выш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2"/>
          <p:cNvSpPr/>
          <p:nvPr/>
        </p:nvSpPr>
        <p:spPr>
          <a:xfrm>
            <a:off x="406440" y="357336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ому нравится играть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3"/>
          <p:cNvSpPr/>
          <p:nvPr/>
        </p:nvSpPr>
        <p:spPr>
          <a:xfrm>
            <a:off x="433080" y="597852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у кого прекрасное 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2"/>
          <p:cNvSpPr/>
          <p:nvPr/>
        </p:nvSpPr>
        <p:spPr>
          <a:xfrm>
            <a:off x="10440" y="21744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"/>
          <p:cNvSpPr/>
          <p:nvPr/>
        </p:nvSpPr>
        <p:spPr>
          <a:xfrm>
            <a:off x="60480" y="1484280"/>
            <a:ext cx="372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ои тал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увл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лучах солнца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http://nachalo4ka.ru/wp-content/uploads/2014/08/solnyishko-03.png"/>
          <p:cNvPicPr/>
          <p:nvPr/>
        </p:nvPicPr>
        <p:blipFill>
          <a:blip r:embed="rId2"/>
          <a:srcRect l="4078" t="5788" r="12506" b="13554"/>
          <a:stretch/>
        </p:blipFill>
        <p:spPr>
          <a:xfrm>
            <a:off x="2944800" y="417600"/>
            <a:ext cx="61992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14:36:50Z</dcterms:created>
  <dc:creator>1</dc:creator>
  <dc:description/>
  <dc:language>en-US</dc:language>
  <cp:lastModifiedBy>Здробилко НА</cp:lastModifiedBy>
  <dcterms:modified xsi:type="dcterms:W3CDTF">2015-09-05T16:54:18Z</dcterms:modified>
  <cp:revision>26</cp:revision>
  <dc:subject/>
  <dc:title>Презентация PowerPoint</dc:title>
</cp:coreProperties>
</file>