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C7C1-2BDB-4CF9-ACBC-7B6A3834B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26E-B444-4FB6-BB5E-37DCB8C34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5F1-6FF8-437D-81C5-A6947749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EAD-FB86-4448-8545-0FC601B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93D6-F539-455A-B56A-F451CED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B0BDB-05BE-46AB-9E1F-18EB570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E9ABF-DD98-4BAF-B22A-2474C52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FA443-CDF4-485D-8B36-1DFBD80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600E1-084A-48BC-96E8-F8A615F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E4507-DD81-40DD-9756-81FA8ADB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AB341-E1CC-4BE0-8BF1-10C67A73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C2A28-CBFA-4DF7-AB6C-51FBC1C0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8E57-7B8A-47BB-A95C-8ED520E6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6A677-50AE-4660-A599-4723D0F1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F4A-A9E3-4749-BAF5-DAABAF9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7997-5BD7-4A1F-85ED-D17F2BD0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5F107-BB40-4653-BB43-31E1E31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56EB4-FBC9-456C-8DD4-8368853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D328-89B0-4B7E-B06C-0D14D1E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255F-7A23-4EF4-95E2-57FC7A4B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7CB7-F77C-4C12-B143-8E523CB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7AECE-2849-451A-92D2-AC9B457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9FC7C-5592-4817-A230-13F5473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43C2-2F7E-47AB-A445-E8B157D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50ACA-BF7B-4E5B-9755-1DE083F6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31D-A87D-4C93-8821-949CC72E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4B751-7BE8-443C-A798-485BEAEB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89233-94D5-4753-91B7-A7D65B69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E0C23-8387-4999-A68A-76D2BBF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6F59C-098F-4B82-BFB8-EE15CADF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BD5FD-3330-4AE5-BCD7-BB0AE35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B7D16-FB90-4D87-9747-E1AC5AF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135EA-F8AA-4080-8A44-0DF2AD0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08EF6-0234-474D-8D6A-1713FBA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F6B69-2F80-4B3B-94D0-8D24962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E821-4F85-4BF7-9EA0-04471E9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29A-B58A-488F-BF05-CB3B59FA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5C2F2-CDD7-4B3B-93CC-5C0AD43E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2EA2A-4D82-4FFC-BD02-2CD5D441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7BF67-92DB-45D5-A5F4-374FD1DA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1623D-1BF0-4471-9B63-7386847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45B0-2691-4CE3-8C1B-6D6D58C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5DDE2-59E9-4FD2-8F02-765266AB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83A94-B815-48F6-8A6B-25616BB7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46A40-A07D-4476-92E9-DB3F986E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8B7EE-2C12-42D5-A155-B4272BA2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FD607-C030-4923-AB1A-A856E845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4378-8BA1-45A9-8148-A9C64D7A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3C87-B05C-4B50-8E0D-97B4966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690E6-E0F3-4085-A549-8D96BDC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1979-8E89-430C-A9DA-2DAA882A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404FB-B04E-4663-88E6-E7ECFB6D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92A98-263A-45DD-A43B-CB87D4A5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8658-91A1-4AAF-8672-8AF21152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8B2-D36F-4988-8E52-84E61A36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6B9-7D56-4E91-B13F-417F838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7427-C30A-443E-873B-6E87C21F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9DC4-2180-422A-97EA-5191D444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91F-0AC4-4B46-967B-346FD5C9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D106-92AC-46C6-B70B-4991820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B05F-D961-4F24-9BD2-7E80126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AC3A-568B-48CB-B47D-3C83B08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D8A8-D86A-44D0-A37B-37C880F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65CA-DCB4-4ED4-86A1-74946E40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F2EC-0767-43A8-983F-FCF70F0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49A4-67E5-46ED-BE42-79497DB8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7E1F-685B-4CBD-A2D2-14CC1B2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3D81-DE12-4422-8EA1-5C8B942C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37DC-0859-4B84-91AB-EE88496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AC3-B42B-43C9-B4BF-8573455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307E-2080-48B1-AF01-BDCA8D9B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B9FC-B6EC-46AA-AD50-7376121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30D8-3578-451F-A577-4B47EA8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8B19-F5A2-484B-8965-FEF2C0B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D317-10FC-41DF-8368-D84A066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4E4F-5945-4090-AFCA-47CE05D6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8F6D-4BC1-4F4B-A1E2-8C32F50B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BC86-A5E5-4E88-B9D7-E4791522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BD46-E1C7-49AE-A11E-29F4B2D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CE3D-E604-405E-8439-D80B32BB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FD-63CB-43F7-8769-F8B1346A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A48D-AEC2-44E2-8F38-4CD6B2C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6013-8F50-4794-BE0C-51AFE0BF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1EE5-9E39-4707-8D8B-19C5E28B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6856-48DE-4154-BC4D-BFF1F8B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59F4-840F-4462-9AEB-91F17EB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A25A-B611-4381-A39D-EA3E33C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FBD8-524A-456B-A605-28A35626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5997-9D20-464F-9D9F-1E5E454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19B3-0798-4B8D-98B8-FC4F6CF2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FEB8-D403-4461-8B17-7CC66A01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599-85CE-405E-A523-CD2E510D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386F-2D83-48AC-87A8-F85F329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8D1F-247B-4F31-9B2F-CA507F0D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019C-E341-48E0-8A05-96FB97EA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5E29-F2DE-478F-A8F3-AD692BD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1BA0-7729-4948-AF56-1318BBB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7D90-0365-43C7-8D9E-9504341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6505-858C-4B1A-8EB2-2BFDC1E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00CC-B3ED-4066-A406-059C1D6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21E9-F2C2-41A1-A15B-D9149F4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60E9-5196-4C17-A46C-BB33EEEA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5FD-ADB4-4F51-919B-3D949A5D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6A9F-173D-4AE2-BA6F-A217F5ED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BD7E-9891-4585-916F-F2650562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AC6A-563B-4448-9A07-B7A2AD6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D942-4CE7-4E4B-8128-1EC543AE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0AF8-FDF9-4B94-AA37-07ABA4D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502BF-6D47-48AE-95A7-96F12FB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DF4C-4AB9-4C52-AFC0-134F0E51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ACC3-5073-42BA-A516-C216B85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4177-6C6A-4B75-99E6-60FE405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6FA4-050E-440E-9921-D99EB0A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841-62B9-4EAE-9979-175F2D7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2ADA-1A5C-4E3E-9FAB-AD4DECC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EFF8-091D-4B8B-ABE2-E52FF4D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1726-70B3-47AA-9449-75E1329E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B8A7E-EA9E-48E7-A13C-FA04916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7EA6-7ACD-448F-8C1B-65A3EC5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D4DB9-8D50-4324-8483-71C395A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72F9B-F546-4047-B11D-F13CB439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81EF-0855-4E30-A0FA-9EB8FC9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2EA42-42AA-4E35-A9BB-933CC21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15EF8-8CD1-4DFD-B874-3009D648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AD3-7D20-4C45-BB31-72A1E19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A836-DAC7-44EC-A955-1F117594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9301-157A-4A6F-9B57-319CB6C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8DD6-CFEF-42A9-8166-31A5EC5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BBD7-8C72-4896-88BE-6E55B2AD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AC3F-4D2D-4EFB-AC7C-4CA0B794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0EAA-5C82-43BF-AFD6-1EA46D44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A550-1ECA-4560-A21C-2407025B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13F5-FA1E-4CAA-82CC-1BDB63D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007C-0AC0-4AFB-ADB1-33D29FF8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E7DA-3524-485F-867C-AA7B7AD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24C-FA7B-45B2-9DC3-78B973F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4DE11-7F8C-44F5-89F2-005A558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7B84B-7370-4284-8B8B-F33E367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EB914-F1DF-4760-BB1C-8C41B29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A07DB-5CDC-45D4-8167-D33DE95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DA29-5242-48A7-8B00-5A15C60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8A13-6B04-403D-B5FF-B8C5FC41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2566-7FA0-48E3-8345-7AC6E3BE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77FBD-FF14-4370-A768-DE6814E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B94E-83E1-4AC9-A969-03BB9077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2C8A-E558-4CA7-A6AE-CCC2A105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A15E-188E-44FB-ACD0-1A838813B7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1EC-B931-4505-9B7C-C9060BBCDD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DDD-78BA-49D1-8C17-CDF861288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C86-B700-4331-8B2B-94D7DB55AE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690-2873-49BC-B509-E143FC62F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4B3-04E0-4A21-A513-E71E32F0A4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D34-168B-4761-8CDF-D48A1B4E5E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EB03-1108-45BB-A311-76DDA0AF2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046E-B25D-476F-B115-0962B7A9D7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78B-812C-45B1-A2BC-7DB9B7C2E5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62DB-CF94-48F8-A2F4-23079DB91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F587-CBF5-493A-B2AB-CD2750B10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1676520" y="53704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785400" y="5950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Прямоугольник 10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565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1"/>
          <p:cNvSpPr/>
          <p:nvPr/>
        </p:nvSpPr>
        <p:spPr>
          <a:xfrm>
            <a:off x="952560" y="1467000"/>
            <a:ext cx="72388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ма классного ча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1332000" y="2973240"/>
            <a:ext cx="7632720" cy="18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Талант — это вера в себя, в свою силу..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ький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179280" y="4005360"/>
            <a:ext cx="763272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алант является гораздо более ценным, чем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его нельзя потерять или укра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леон Х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34q58lnmmktql8c7dn4sb32i52"/>
          <p:cNvPicPr/>
          <p:nvPr/>
        </p:nvPicPr>
        <p:blipFill>
          <a:blip r:embed="rId2"/>
          <a:stretch/>
        </p:blipFill>
        <p:spPr>
          <a:xfrm>
            <a:off x="2062080" y="333360"/>
            <a:ext cx="5019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468360" y="2060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ний – это 99% труда и только 1% дар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3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6370200" y="3597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3"/>
          <p:cNvSpPr/>
          <p:nvPr/>
        </p:nvSpPr>
        <p:spPr>
          <a:xfrm>
            <a:off x="539640" y="2585880"/>
            <a:ext cx="8280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ала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ли человек талантли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но ли совершенствовать свой тала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аланты присущи нашим однокласс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1966320" y="119700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суждение темы о тала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2875320" y="316080"/>
            <a:ext cx="33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Диску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225360" y="995400"/>
            <a:ext cx="63356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классе самым талантливым явля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7"/>
          <p:cNvSpPr/>
          <p:nvPr/>
        </p:nvSpPr>
        <p:spPr>
          <a:xfrm>
            <a:off x="974880" y="1389240"/>
            <a:ext cx="6553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меня приятно удивлял своими возможностями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8"/>
          <p:cNvSpPr/>
          <p:nvPr/>
        </p:nvSpPr>
        <p:spPr>
          <a:xfrm>
            <a:off x="324000" y="1951200"/>
            <a:ext cx="631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одаренная личность в нашем классе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9"/>
          <p:cNvSpPr/>
          <p:nvPr/>
        </p:nvSpPr>
        <p:spPr>
          <a:xfrm>
            <a:off x="900000" y="25002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умеет в классе выслушать, понять и поддерж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0"/>
          <p:cNvSpPr/>
          <p:nvPr/>
        </p:nvSpPr>
        <p:spPr>
          <a:xfrm>
            <a:off x="324000" y="3224160"/>
            <a:ext cx="691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классе скучно, то значит, в нем отсутству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1"/>
          <p:cNvSpPr/>
          <p:nvPr/>
        </p:nvSpPr>
        <p:spPr>
          <a:xfrm>
            <a:off x="974880" y="3789360"/>
            <a:ext cx="68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но наблюдать, как у доски отвеча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2"/>
          <p:cNvSpPr/>
          <p:nvPr/>
        </p:nvSpPr>
        <p:spPr>
          <a:xfrm>
            <a:off x="1009800" y="4673520"/>
            <a:ext cx="6829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мы очень скоро увидим в отличник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3"/>
          <p:cNvSpPr/>
          <p:nvPr/>
        </p:nvSpPr>
        <p:spPr>
          <a:xfrm>
            <a:off x="328680" y="4191120"/>
            <a:ext cx="3535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мне будет снить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4"/>
          <p:cNvSpPr/>
          <p:nvPr/>
        </p:nvSpPr>
        <p:spPr>
          <a:xfrm>
            <a:off x="351360" y="507672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в классе по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478440" y="5886360"/>
            <a:ext cx="2495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танцу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6"/>
          <p:cNvSpPr/>
          <p:nvPr/>
        </p:nvSpPr>
        <p:spPr>
          <a:xfrm>
            <a:off x="1019160" y="6276960"/>
            <a:ext cx="7105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добрым человеком в классе, можно наз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7"/>
          <p:cNvSpPr/>
          <p:nvPr/>
        </p:nvSpPr>
        <p:spPr>
          <a:xfrm>
            <a:off x="1017360" y="54468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х в классе рис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2"/>
          <p:cNvSpPr/>
          <p:nvPr/>
        </p:nvSpPr>
        <p:spPr>
          <a:xfrm>
            <a:off x="118440" y="115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3482640" y="198360"/>
            <a:ext cx="37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Физмину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5"/>
          <p:cNvSpPr/>
          <p:nvPr/>
        </p:nvSpPr>
        <p:spPr>
          <a:xfrm>
            <a:off x="369360" y="981000"/>
            <a:ext cx="4382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се прису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2425680" y="162864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игру в шах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7"/>
          <p:cNvSpPr/>
          <p:nvPr/>
        </p:nvSpPr>
        <p:spPr>
          <a:xfrm>
            <a:off x="360000" y="23922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8"/>
          <p:cNvSpPr/>
          <p:nvPr/>
        </p:nvSpPr>
        <p:spPr>
          <a:xfrm>
            <a:off x="2651400" y="29876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9"/>
          <p:cNvSpPr/>
          <p:nvPr/>
        </p:nvSpPr>
        <p:spPr>
          <a:xfrm>
            <a:off x="355680" y="479736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хорошо 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0"/>
          <p:cNvSpPr/>
          <p:nvPr/>
        </p:nvSpPr>
        <p:spPr>
          <a:xfrm>
            <a:off x="2674440" y="42210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не любит танце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1"/>
          <p:cNvSpPr/>
          <p:nvPr/>
        </p:nvSpPr>
        <p:spPr>
          <a:xfrm>
            <a:off x="2671200" y="53737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то любит выш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2"/>
          <p:cNvSpPr/>
          <p:nvPr/>
        </p:nvSpPr>
        <p:spPr>
          <a:xfrm>
            <a:off x="406440" y="35733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кому нравится играть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3"/>
          <p:cNvSpPr/>
          <p:nvPr/>
        </p:nvSpPr>
        <p:spPr>
          <a:xfrm>
            <a:off x="433080" y="59785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, у кого прекрасное 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7eedcfbb99969dc6004dc001e9ee6a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10440" y="21744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Я талантли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"/>
          <p:cNvSpPr/>
          <p:nvPr/>
        </p:nvSpPr>
        <p:spPr>
          <a:xfrm>
            <a:off x="60480" y="1484280"/>
            <a:ext cx="372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и тал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увл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учах солнц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http://nachalo4ka.ru/wp-content/uploads/2014/08/solnyishko-03.png"/>
          <p:cNvPicPr/>
          <p:nvPr/>
        </p:nvPicPr>
        <p:blipFill>
          <a:blip r:embed="rId2"/>
          <a:srcRect l="4078" t="5788" r="12506" b="13554"/>
          <a:stretch/>
        </p:blipFill>
        <p:spPr>
          <a:xfrm>
            <a:off x="2944800" y="417600"/>
            <a:ext cx="61992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4:36:50Z</dcterms:created>
  <dc:creator>1</dc:creator>
  <dc:description/>
  <dc:language>en-US</dc:language>
  <cp:lastModifiedBy>Здробилко НА</cp:lastModifiedBy>
  <dcterms:modified xsi:type="dcterms:W3CDTF">2015-09-05T16:54:18Z</dcterms:modified>
  <cp:revision>26</cp:revision>
  <dc:subject/>
  <dc:title>Презентация PowerPoint</dc:title>
</cp:coreProperties>
</file>