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14A-BD11-46C1-A4FF-0C13D6E073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718-6ACD-4EEE-95A8-D6E3E60DDC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832-580B-450B-8E14-88B9DB91A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527-1901-4140-8EF8-F91F2FB9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D47-1B94-4A92-81F9-D3BC193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78A-5D5C-4391-BE3A-E34E198B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09F-E16D-46D9-AE85-81977584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FEC1-15E9-4E68-B70E-AA9A3E36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500-F9D8-4A6D-8235-62C4ED8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C4D-8367-474B-ACF7-26868E09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4E15-C60C-4FC5-A1F2-58EE20A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E57-C2FD-450A-BF20-BC83AC53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ED04-8971-4DC3-A4C1-B384403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772-41CB-4D1B-9837-FB28E22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188-9C39-4562-9E78-067E36C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0324-C87B-482E-A520-20C1988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6C65-8631-48CB-8767-C8844C2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0F59-6046-4548-BD22-2C9C3CA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CA40-2D7E-4040-9B11-6E0CE00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046-4E15-45B8-A3A8-D2115670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92A-385D-40E6-A8A5-38C268B9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E8B-55AC-4D9B-A2BD-A70D134C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1E1-EBE6-40EB-960A-8905E29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627-5094-4D4C-8568-7A315096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FA7-B87F-44B8-8C89-FF0CAD8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BD5-9FE5-4256-A244-70300E0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930-182B-4FD5-9409-6C34AE1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D1E1-955D-4B80-B2A7-18CDC616F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291-F151-49C1-BB02-6448EE323D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plus.info/index.php?page=64&amp;photoCategory=36&amp;photoId=1219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Заголовок 6"/>
          <p:cNvSpPr/>
          <p:nvPr/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653760" y="533520"/>
            <a:ext cx="80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АНЯТИЕ КРУЖКА «РИТМ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3707280" y="5105520"/>
            <a:ext cx="542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АПШИН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лена"/>
          <p:cNvPicPr/>
          <p:nvPr/>
        </p:nvPicPr>
        <p:blipFill>
          <a:blip r:embed="rId2"/>
          <a:stretch/>
        </p:blipFill>
        <p:spPr>
          <a:xfrm>
            <a:off x="380880" y="2666880"/>
            <a:ext cx="3040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-u0027Русская кадриль-u0027 - ансамбль народного танца  -u0027Росток-u0027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762120" y="584208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РУССКАЯ КАДРИЛ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737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D:\Флешка\Новая папка\6.jpeg"/>
          <p:cNvPicPr/>
          <p:nvPr/>
        </p:nvPicPr>
        <p:blipFill>
          <a:blip r:embed="rId1"/>
          <a:stretch/>
        </p:blipFill>
        <p:spPr>
          <a:xfrm>
            <a:off x="0" y="0"/>
            <a:ext cx="4724280" cy="3357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D:\Флешка\Новая папка\8.jpeg"/>
          <p:cNvPicPr/>
          <p:nvPr/>
        </p:nvPicPr>
        <p:blipFill>
          <a:blip r:embed="rId2"/>
          <a:stretch/>
        </p:blipFill>
        <p:spPr>
          <a:xfrm>
            <a:off x="4673520" y="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D:\Флешка\Новая папка\7.jpeg"/>
          <p:cNvPicPr/>
          <p:nvPr/>
        </p:nvPicPr>
        <p:blipFill>
          <a:blip r:embed="rId3"/>
          <a:stretch/>
        </p:blipFill>
        <p:spPr>
          <a:xfrm>
            <a:off x="0" y="3352680"/>
            <a:ext cx="4954680" cy="3505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D:\Флешка\Новая папка\5.jpeg"/>
          <p:cNvPicPr/>
          <p:nvPr/>
        </p:nvPicPr>
        <p:blipFill>
          <a:blip r:embed="rId4"/>
          <a:stretch/>
        </p:blipFill>
        <p:spPr>
          <a:xfrm>
            <a:off x="4724280" y="3352680"/>
            <a:ext cx="4672080" cy="3505320"/>
          </a:xfrm>
          <a:prstGeom prst="rect">
            <a:avLst/>
          </a:prstGeom>
          <a:ln w="0">
            <a:noFill/>
          </a:ln>
        </p:spPr>
      </p:pic>
      <p:pic>
        <p:nvPicPr>
          <p:cNvPr id="263" name="gruzinskaya_narodnaya_-_lezginka.mp3" descr=""/>
          <p:cNvPicPr/>
          <p:nvPr/>
        </p:nvPicPr>
        <p:blipFill>
          <a:blip r:embed="rId5"/>
          <a:stretch/>
        </p:blipFill>
        <p:spPr>
          <a:xfrm>
            <a:off x="9677520" y="152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9"/>
          <p:cNvSpPr/>
          <p:nvPr/>
        </p:nvSpPr>
        <p:spPr>
          <a:xfrm>
            <a:off x="1476360" y="2514600"/>
            <a:ext cx="588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ЛЕЗГИНК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31252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D:\Флешка\Новая папка\1.jpeg"/>
          <p:cNvPicPr/>
          <p:nvPr/>
        </p:nvPicPr>
        <p:blipFill>
          <a:blip r:embed="rId1"/>
          <a:stretch/>
        </p:blipFill>
        <p:spPr>
          <a:xfrm>
            <a:off x="0" y="0"/>
            <a:ext cx="6437160" cy="487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D:\Флешка\Новая папка\3.jpeg"/>
          <p:cNvPicPr/>
          <p:nvPr/>
        </p:nvPicPr>
        <p:blipFill>
          <a:blip r:embed="rId2"/>
          <a:stretch/>
        </p:blipFill>
        <p:spPr>
          <a:xfrm>
            <a:off x="3027240" y="2281320"/>
            <a:ext cx="6116760" cy="457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D:\Флешка\Новая папка\4.jpeg"/>
          <p:cNvPicPr/>
          <p:nvPr/>
        </p:nvPicPr>
        <p:blipFill>
          <a:blip r:embed="rId3"/>
          <a:stretch/>
        </p:blipFill>
        <p:spPr>
          <a:xfrm>
            <a:off x="1295280" y="762120"/>
            <a:ext cx="6400800" cy="5290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1146600" y="259092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295280" y="29718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БРЕЙКДАН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D:\Флешка\Новая папка\pic10556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sirtaki_sirtaki.mp3" descr=""/>
          <p:cNvPicPr/>
          <p:nvPr/>
        </p:nvPicPr>
        <p:blipFill>
          <a:blip r:embed="rId2"/>
          <a:stretch/>
        </p:blipFill>
        <p:spPr>
          <a:xfrm>
            <a:off x="107442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2881800" y="0"/>
            <a:ext cx="502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СИРТАК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D:\Флешка\Новая папка\Dq1.jpg"/>
          <p:cNvPicPr/>
          <p:nvPr/>
        </p:nvPicPr>
        <p:blipFill>
          <a:blip r:embed="rId1"/>
          <a:stretch/>
        </p:blipFill>
        <p:spPr>
          <a:xfrm>
            <a:off x="1371600" y="-228600"/>
            <a:ext cx="6478560" cy="7734240"/>
          </a:xfrm>
          <a:prstGeom prst="rect">
            <a:avLst/>
          </a:prstGeom>
          <a:ln w="0">
            <a:noFill/>
          </a:ln>
        </p:spPr>
      </p:pic>
      <p:pic>
        <p:nvPicPr>
          <p:cNvPr id="274" name="s_prokofev_-_balet__romeo_i_djuletta_-_vstuplenie.mp3" descr=""/>
          <p:cNvPicPr/>
          <p:nvPr/>
        </p:nvPicPr>
        <p:blipFill>
          <a:blip r:embed="rId2"/>
          <a:stretch/>
        </p:blipFill>
        <p:spPr>
          <a:xfrm>
            <a:off x="96012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2743200" y="0"/>
            <a:ext cx="366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БАЛЕ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Флешка\Новая папка\70510597_50162461_4a2387fb89be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4218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D:\Флешка\Новая папка\1235334804_7rirryirrye5.jpg"/>
          <p:cNvPicPr/>
          <p:nvPr/>
        </p:nvPicPr>
        <p:blipFill>
          <a:blip r:embed="rId2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D:\Флешка\Новая папка\narodnie-kostyumi.jpg"/>
          <p:cNvPicPr/>
          <p:nvPr/>
        </p:nvPicPr>
        <p:blipFill>
          <a:blip r:embed="rId3"/>
          <a:stretch/>
        </p:blipFill>
        <p:spPr>
          <a:xfrm>
            <a:off x="0" y="3355920"/>
            <a:ext cx="5052960" cy="3502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D:\Флешка\Новая папка\p_F.jpg"/>
          <p:cNvPicPr/>
          <p:nvPr/>
        </p:nvPicPr>
        <p:blipFill>
          <a:blip r:embed="rId4"/>
          <a:stretch/>
        </p:blipFill>
        <p:spPr>
          <a:xfrm>
            <a:off x="4856040" y="0"/>
            <a:ext cx="4287960" cy="3429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D:\Флешка\Новая папка\tanetc-1.jpg"/>
          <p:cNvPicPr/>
          <p:nvPr/>
        </p:nvPicPr>
        <p:blipFill>
          <a:blip r:embed="rId5"/>
          <a:stretch/>
        </p:blipFill>
        <p:spPr>
          <a:xfrm>
            <a:off x="1577880" y="1217520"/>
            <a:ext cx="6257880" cy="41925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7"/>
          <p:cNvSpPr/>
          <p:nvPr/>
        </p:nvSpPr>
        <p:spPr>
          <a:xfrm>
            <a:off x="1692720" y="2057400"/>
            <a:ext cx="62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НАРОДНЫ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АНЦ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"/>
          <p:cNvPicPr/>
          <p:nvPr/>
        </p:nvPicPr>
        <p:blipFill>
          <a:blip r:embed="rId3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"/>
          <p:cNvPicPr/>
          <p:nvPr/>
        </p:nvPicPr>
        <p:blipFill>
          <a:blip r:embed="rId5"/>
          <a:stretch/>
        </p:blipFill>
        <p:spPr>
          <a:xfrm>
            <a:off x="1295280" y="114300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8"/>
          <p:cNvSpPr/>
          <p:nvPr/>
        </p:nvSpPr>
        <p:spPr>
          <a:xfrm>
            <a:off x="1760760" y="5533920"/>
            <a:ext cx="587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ФЛЭШМОБ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1флэш моп.mp3" descr=""/>
          <p:cNvPicPr/>
          <p:nvPr/>
        </p:nvPicPr>
        <p:blipFill>
          <a:blip r:embed="rId2"/>
          <a:stretch/>
        </p:blipFill>
        <p:spPr>
          <a:xfrm>
            <a:off x="9677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Заголовок 6"/>
          <p:cNvSpPr/>
          <p:nvPr/>
        </p:nvSpPr>
        <p:spPr>
          <a:xfrm>
            <a:off x="6094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752480" y="533520"/>
            <a:ext cx="5761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МОЛОДЦЫ!!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Желаю вам крепкого здоровья, отличных оценок, счастья, бодрости и хорошего настроения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2407a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Calibri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Недетское время. Школа-студия TODES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607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D:\Флешка\pic10556.jpg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350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D:\Флешка\tanetc-1.jpg"/>
          <p:cNvPicPr/>
          <p:nvPr/>
        </p:nvPicPr>
        <p:blipFill>
          <a:blip r:embed="rId2"/>
          <a:stretch/>
        </p:blipFill>
        <p:spPr>
          <a:xfrm>
            <a:off x="4140360" y="3505320"/>
            <a:ext cx="5003640" cy="335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D:\Флешка\Dq1.jpg"/>
          <p:cNvPicPr/>
          <p:nvPr/>
        </p:nvPicPr>
        <p:blipFill>
          <a:blip r:embed="rId3"/>
          <a:stretch/>
        </p:blipFill>
        <p:spPr>
          <a:xfrm>
            <a:off x="685800" y="0"/>
            <a:ext cx="3048120" cy="3638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D:\Флешка\8.large.jpg"/>
          <p:cNvPicPr/>
          <p:nvPr/>
        </p:nvPicPr>
        <p:blipFill>
          <a:blip r:embed="rId4"/>
          <a:stretch/>
        </p:blipFill>
        <p:spPr>
          <a:xfrm>
            <a:off x="0" y="3541680"/>
            <a:ext cx="4222800" cy="3316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D:\Флешка\Ohniv-tanec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4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29 апр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Международный День Тан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1982 году Комитет Танца Международного Института Театра при ЮНЕС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Detskaya_tantsevalnaya_muzika_-_Vmeste_veselo_shagat_po_prostoram_._(get-tune.net).mp3" descr=""/>
          <p:cNvPicPr/>
          <p:nvPr/>
        </p:nvPicPr>
        <p:blipFill>
          <a:blip r:embed="rId2"/>
          <a:stretch/>
        </p:blipFill>
        <p:spPr>
          <a:xfrm>
            <a:off x="9753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071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the_lights_butterflies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Detskaya_tantsevalnaya_muzika_-_Mi_tantsuem_bugi-vugi_(get-tune.net).mp3" descr=""/>
          <p:cNvPicPr/>
          <p:nvPr/>
        </p:nvPicPr>
        <p:blipFill>
          <a:blip r:embed="rId2"/>
          <a:stretch/>
        </p:blipFill>
        <p:spPr>
          <a:xfrm>
            <a:off x="9524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76227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Музыкальная зарядк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2416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На закате. &#10; Закаты и рассветы. &#10; Параметры оригинала картинки 1024 X 768 &#10; 247618 by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5105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Релаксац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10-relaksatciya.mp3" descr=""/>
          <p:cNvPicPr/>
          <p:nvPr/>
        </p:nvPicPr>
        <p:blipFill>
          <a:blip r:embed="rId3"/>
          <a:stretch/>
        </p:blipFill>
        <p:spPr>
          <a:xfrm>
            <a:off x="9372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6" descr="D:\Флешка\pic10556.jpg"/>
          <p:cNvPicPr/>
          <p:nvPr/>
        </p:nvPicPr>
        <p:blipFill>
          <a:blip r:embed="rId1"/>
          <a:stretch/>
        </p:blipFill>
        <p:spPr>
          <a:xfrm>
            <a:off x="4444920" y="228600"/>
            <a:ext cx="4699080" cy="3132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D:\Флешка\tanetc-1.jpg"/>
          <p:cNvPicPr/>
          <p:nvPr/>
        </p:nvPicPr>
        <p:blipFill>
          <a:blip r:embed="rId2"/>
          <a:stretch/>
        </p:blipFill>
        <p:spPr>
          <a:xfrm>
            <a:off x="4419720" y="3692520"/>
            <a:ext cx="4724280" cy="3165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D:\Флешка\Dq1.jpg"/>
          <p:cNvPicPr/>
          <p:nvPr/>
        </p:nvPicPr>
        <p:blipFill>
          <a:blip r:embed="rId3"/>
          <a:stretch/>
        </p:blipFill>
        <p:spPr>
          <a:xfrm>
            <a:off x="685800" y="0"/>
            <a:ext cx="3048120" cy="36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D:\Флешка\8.large.jpg"/>
          <p:cNvPicPr/>
          <p:nvPr/>
        </p:nvPicPr>
        <p:blipFill>
          <a:blip r:embed="rId4"/>
          <a:stretch/>
        </p:blipFill>
        <p:spPr>
          <a:xfrm>
            <a:off x="0" y="3541680"/>
            <a:ext cx="4222800" cy="331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2" descr="D:\Флешка\Ohniv-tanec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29 апр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Verdana"/>
                <a:ea typeface="Verdana"/>
              </a:rPr>
              <a:t>Международный День Тан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15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1982 году Комитет Танца Международного Института Театра при ЮНЕС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6" descr="D:\Флешка\Новая папка\13.jpeg"/>
          <p:cNvPicPr/>
          <p:nvPr/>
        </p:nvPicPr>
        <p:blipFill>
          <a:blip r:embed="rId1"/>
          <a:stretch/>
        </p:blipFill>
        <p:spPr>
          <a:xfrm>
            <a:off x="4648320" y="914400"/>
            <a:ext cx="4495680" cy="5915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D:\Флешка\Новая папка\14.jpeg"/>
          <p:cNvPicPr/>
          <p:nvPr/>
        </p:nvPicPr>
        <p:blipFill>
          <a:blip r:embed="rId2"/>
          <a:stretch/>
        </p:blipFill>
        <p:spPr>
          <a:xfrm>
            <a:off x="0" y="838080"/>
            <a:ext cx="4268880" cy="6042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D:\Флешка\Новая папка\12.jpeg"/>
          <p:cNvPicPr/>
          <p:nvPr/>
        </p:nvPicPr>
        <p:blipFill>
          <a:blip r:embed="rId3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255" name="01-valjs.mp3" descr=""/>
          <p:cNvPicPr/>
          <p:nvPr/>
        </p:nvPicPr>
        <p:blipFill>
          <a:blip r:embed="rId4"/>
          <a:stretch/>
        </p:blipFill>
        <p:spPr>
          <a:xfrm>
            <a:off x="9448920" y="380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3"/>
          <p:cNvSpPr/>
          <p:nvPr/>
        </p:nvSpPr>
        <p:spPr>
          <a:xfrm>
            <a:off x="2362320" y="3809880"/>
            <a:ext cx="43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ВАЛЬ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3-04-23T02:11:4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