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CC4-9DFA-42FF-809C-56C5829C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01F-D970-4347-95CA-8C26A863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D11-E260-44AA-A73D-119BB57C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7F6-92E4-46C3-9E49-9F93099F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DF9-06E6-4DFF-A839-4D265773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E6C-FB85-4D8C-B221-7284D1A2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A7A-B0CE-401B-BA04-3E5E0CD4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377-F9F6-457B-BBE6-94CAC70E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088-424D-4385-8EA5-2055EC6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521-94DC-4964-BD88-59C0C28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FD3-DEAF-4124-B69D-DF477031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5A2-997D-4F72-A47D-3C474D0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30EF-02E2-41B1-88B1-6A981ABB1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He Was Not of an Age but for All Time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Benjamin Jonson (1573-16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Monotype Corsiva"/>
              </a:rPr>
              <a:t>Historical play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nry V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Richard 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King Joh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Richard 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nry 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nry 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nry V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Monotype Corsiva"/>
              </a:rPr>
              <a:t>Poem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Venus and Adon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Passionate Pilgr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Rape of Lucre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Phoenix and the Tur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Lover’s Complai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onne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310876-L.jpg"/>
          <p:cNvPicPr/>
          <p:nvPr/>
        </p:nvPicPr>
        <p:blipFill>
          <a:blip r:embed="rId1"/>
          <a:stretch/>
        </p:blipFill>
        <p:spPr>
          <a:xfrm>
            <a:off x="4572000" y="343080"/>
            <a:ext cx="4032360" cy="6400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hakespeare's sonnets are a collection of 154 sonnets, dealing with themes such as the passage of time, love, beauty and mortal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nnet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o is it not with me as with that Mus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tirred by a painted beauty to his ver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ho heaven itself for ornament doth u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nd every fair with his fair doth rehear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aking a couplement of proud comp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 sun and moon, with earth and sea's rich gem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 April's first-born flowers, and all things r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at heaven's air in this huge rondure h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О let me, true in love, but truly writ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nd then believe me, my love is as fai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s any mother's child, though not so brigh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s those gold candles fixed in heaven's ai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et them say more that like of hearsay wel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 will not praise that purpose not to s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nnet 5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О how much more doth beauty beauteous se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y that sweet ornament which truth doth give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e rose looks fair, but fairer we it de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or that sweet odour which doth in it liv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e canker blooms have full as deep a dy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s the perfumed tincture of the ros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ang on such thorns, and play as wantonl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hen summer's breath their masked buds disclose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t, for their virtue only is their show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ey live unwooed, and unrespected fad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ie to themselves. Sweet roses do not s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Of their sweet deaths are sweetest odours mad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nd so of you, beauteous and lovely youth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hen that shall vade, by verse distils your tru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omeo and Juliet 1968 What Is A Youth.avi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39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William Shakespeare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3 April 1564 - 23 April 16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1387293_20110629155200.gif.jpeg"/>
          <p:cNvPicPr/>
          <p:nvPr/>
        </p:nvPicPr>
        <p:blipFill>
          <a:blip r:embed="rId1"/>
          <a:stretch/>
        </p:blipFill>
        <p:spPr>
          <a:xfrm>
            <a:off x="1258920" y="1541520"/>
            <a:ext cx="6958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9669_1.jpg"/>
          <p:cNvPicPr/>
          <p:nvPr/>
        </p:nvPicPr>
        <p:blipFill>
          <a:blip r:embed="rId1"/>
          <a:srcRect l="0" t="3471" r="0" b="3471"/>
          <a:stretch/>
        </p:blipFill>
        <p:spPr>
          <a:xfrm>
            <a:off x="1403280" y="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tratford-on-Av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5311800"/>
            <a:ext cx="5486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shakespeares-birthplace-big.jpg"/>
          <p:cNvPicPr/>
          <p:nvPr/>
        </p:nvPicPr>
        <p:blipFill>
          <a:blip r:embed="rId1"/>
          <a:stretch/>
        </p:blipFill>
        <p:spPr>
          <a:xfrm>
            <a:off x="1116000" y="0"/>
            <a:ext cx="7259760" cy="544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440" y="5516280"/>
            <a:ext cx="54864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Shakespeare’s birthplace in Stratford-on-Av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783px-Tower_of_london_from_swissre.jpg"/>
          <p:cNvPicPr/>
          <p:nvPr/>
        </p:nvPicPr>
        <p:blipFill>
          <a:blip r:embed="rId1"/>
          <a:stretch/>
        </p:blipFill>
        <p:spPr>
          <a:xfrm>
            <a:off x="96840" y="0"/>
            <a:ext cx="895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0530_globe_theatre_london.jpg"/>
          <p:cNvPicPr/>
          <p:nvPr/>
        </p:nvPicPr>
        <p:blipFill>
          <a:blip r:embed="rId1"/>
          <a:stretch/>
        </p:blipFill>
        <p:spPr>
          <a:xfrm>
            <a:off x="250920" y="0"/>
            <a:ext cx="8672400" cy="5929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340000" y="6093000"/>
            <a:ext cx="56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Globe Thea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cc12e4_thumb.jpg"/>
          <p:cNvPicPr/>
          <p:nvPr/>
        </p:nvPicPr>
        <p:blipFill>
          <a:blip r:embed="rId1"/>
          <a:stretch/>
        </p:blipFill>
        <p:spPr>
          <a:xfrm>
            <a:off x="611280" y="246240"/>
            <a:ext cx="810252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Monotype Corsiva"/>
              </a:rPr>
              <a:t>Shakespeare’s comedi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8920" y="1267920"/>
            <a:ext cx="4614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ll’s Well That End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s You Lik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Comedy of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ymb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ove’s Labour’s 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easure for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erchant of Ve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erry Wives of Wind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 Midsummer’s Night D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ch Ado About 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ericles, Prince of Ty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Taming of the Shr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Temp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welfth Night or What You W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Two Gentlemen of Ve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Two Noble Kin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Winter’s 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Monotype Corsiva"/>
              </a:rPr>
              <a:t>Tragedi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itus Andron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Julius Caes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Haml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th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King 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acbe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ntony and Cleopa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oriolan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roilus and Cress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imon of Ath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2:16:31Z</dcterms:created>
  <dc:creator>Юльчик</dc:creator>
  <dc:description/>
  <dc:language>en-US</dc:language>
  <cp:lastModifiedBy>Юльчик</cp:lastModifiedBy>
  <dcterms:modified xsi:type="dcterms:W3CDTF">2012-04-18T19:20:59Z</dcterms:modified>
  <cp:revision>17</cp:revision>
  <dc:subject/>
  <dc:title>“He Was Not of an Age but for All Time”</dc:title>
</cp:coreProperties>
</file>