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CD9-ACF1-4FEA-9B1A-FA01F765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4C0-4EE9-40D0-8531-9B3977E8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F6C-A776-4624-AE13-64AD7CFA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EE7-C120-4DDD-8D56-E51B7EAF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706-AA6F-4B2F-B7B2-AAB62587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C18-F8B3-4FCD-A948-E54CCCB7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3BE-F430-47D3-BF03-2D3660EC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2CB-308B-4701-8361-1849185D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F6C-D775-4F1F-A638-F1335753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6FE5-FDE4-411B-9D9F-7552F689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37A-436E-4DD0-AB93-ABB97C52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844-7FAF-440C-8CA7-1920656A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4FFD-60F4-45D8-BEFD-E33D37B7C6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He Was Not of an Age but for All Time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Benjamin Jonson (1573-163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Monotype Corsiva"/>
              </a:rPr>
              <a:t>Historical play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enry V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Richard I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King Joh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Richard 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enry 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enry 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enry VI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Monotype Corsiva"/>
              </a:rPr>
              <a:t>Poem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Venus and Adon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he Passionate Pilgr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he Rape of Lucre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he Phoenix and the Tur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Lover’s Complai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Sonne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310876-L.jpg"/>
          <p:cNvPicPr/>
          <p:nvPr/>
        </p:nvPicPr>
        <p:blipFill>
          <a:blip r:embed="rId1"/>
          <a:stretch/>
        </p:blipFill>
        <p:spPr>
          <a:xfrm>
            <a:off x="4572000" y="343080"/>
            <a:ext cx="4032360" cy="6400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hakespeare's sonnets are a collection of 154 sonnets, dealing with themes such as the passage of time, love, beauty and mortalit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nnet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o is it not with me as with that Mus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tirred by a painted beauty to his vers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ho heaven itself for ornament doth us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nd every fair with his fair doth rehears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aking a couplement of proud comp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ith sun and moon, with earth and sea's rich gem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ith April's first-born flowers, and all things r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at heaven's air in this huge rondure h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О let me, true in love, but truly writ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nd then believe me, my love is as fai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s any mother's child, though not so brigh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s those gold candles fixed in heaven's ai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et them say more that like of hearsay well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 will not praise that purpose not to s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nnet 5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О how much more doth beauty beauteous se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y that sweet ornament which truth doth give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e rose looks fair, but fairer we it de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or that sweet odour which doth in it liv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e canker blooms have full as deep a dy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s the perfumed tincture of the ros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ang on such thorns, and play as wantonly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hen summer's breath their masked buds disclose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t, for their virtue only is their show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ey live unwooed, and unrespected fad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ie to themselves. Sweet roses do not s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Of their sweet deaths are sweetest odours mad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nd so of you, beauteous and lovely youth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hen that shall vade, by verse distils your trut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omeo and Juliet 1968 What Is A Youth.avi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39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William Shakespeare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3 April 1564 - 23 April 16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1387293_20110629155200.gif.jpeg"/>
          <p:cNvPicPr/>
          <p:nvPr/>
        </p:nvPicPr>
        <p:blipFill>
          <a:blip r:embed="rId1"/>
          <a:stretch/>
        </p:blipFill>
        <p:spPr>
          <a:xfrm>
            <a:off x="1258920" y="1541520"/>
            <a:ext cx="695808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9669_1.jpg"/>
          <p:cNvPicPr/>
          <p:nvPr/>
        </p:nvPicPr>
        <p:blipFill>
          <a:blip r:embed="rId1"/>
          <a:srcRect l="0" t="3471" r="0" b="3471"/>
          <a:stretch/>
        </p:blipFill>
        <p:spPr>
          <a:xfrm>
            <a:off x="1403280" y="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tratford-on-Av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5311800"/>
            <a:ext cx="5486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shakespeares-birthplace-big.jpg"/>
          <p:cNvPicPr/>
          <p:nvPr/>
        </p:nvPicPr>
        <p:blipFill>
          <a:blip r:embed="rId1"/>
          <a:stretch/>
        </p:blipFill>
        <p:spPr>
          <a:xfrm>
            <a:off x="1116000" y="0"/>
            <a:ext cx="7259760" cy="544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440" y="5516280"/>
            <a:ext cx="54864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Shakespeare’s birthplace in Stratford-on-Av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783px-Tower_of_london_from_swissre.jpg"/>
          <p:cNvPicPr/>
          <p:nvPr/>
        </p:nvPicPr>
        <p:blipFill>
          <a:blip r:embed="rId1"/>
          <a:stretch/>
        </p:blipFill>
        <p:spPr>
          <a:xfrm>
            <a:off x="96840" y="0"/>
            <a:ext cx="895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0530_globe_theatre_london.jpg"/>
          <p:cNvPicPr/>
          <p:nvPr/>
        </p:nvPicPr>
        <p:blipFill>
          <a:blip r:embed="rId1"/>
          <a:stretch/>
        </p:blipFill>
        <p:spPr>
          <a:xfrm>
            <a:off x="250920" y="0"/>
            <a:ext cx="8672400" cy="5929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340000" y="6093000"/>
            <a:ext cx="56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he Globe Thea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cc12e4_thumb.jpg"/>
          <p:cNvPicPr/>
          <p:nvPr/>
        </p:nvPicPr>
        <p:blipFill>
          <a:blip r:embed="rId1"/>
          <a:stretch/>
        </p:blipFill>
        <p:spPr>
          <a:xfrm>
            <a:off x="611280" y="246240"/>
            <a:ext cx="810252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Monotype Corsiva"/>
              </a:rPr>
              <a:t>Shakespeare’s comedi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8920" y="1267920"/>
            <a:ext cx="46148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ll’s Well That Ends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s You Lik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Comedy of Er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ymb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ove’s Labour’s L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easure for Mea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erchant of Ve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erry Wives of Wind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 Midsummer’s Night D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196640"/>
            <a:ext cx="44956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uch Ado About No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Pericles, Prince of Ty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Taming of the Shr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Temp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welfth Night or What You W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Two Gentlemen of Ver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Two Noble Kins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Winter’s 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Monotype Corsiva"/>
              </a:rPr>
              <a:t>Tragedi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itus Androni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Romeo and Jul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Julius Caes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Haml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the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King 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acbe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ntony and Cleopa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oriolan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roilus and Cress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imon of Ath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12:16:31Z</dcterms:created>
  <dc:creator>Юльчик</dc:creator>
  <dc:description/>
  <dc:language>en-US</dc:language>
  <cp:lastModifiedBy>Юльчик</cp:lastModifiedBy>
  <dcterms:modified xsi:type="dcterms:W3CDTF">2012-04-18T19:20:59Z</dcterms:modified>
  <cp:revision>17</cp:revision>
  <dc:subject/>
  <dc:title>“He Was Not of an Age but for All Time”</dc:title>
</cp:coreProperties>
</file>