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EA09-AB09-4BF1-8ECE-B1F09D7B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4C64-ACEE-4F45-9045-BAA020F7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7B68-FFE7-4ADD-8EAE-54B28081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6A18-71D2-48EB-BAA3-EC1CC318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09A2-D3B4-4E6A-9DF8-F071B1E8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F84E-E88F-4F59-A81E-95491FEF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4606-8881-41B8-9CDE-77A0872C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44E3-761A-4F65-AA98-4B013F82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0586-B8BB-4012-BFEA-6105CD50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0625-909C-4D46-B774-2CBE305D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6F80-93BA-49B4-98E2-4AE3689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AA9C-0184-4F37-A5FA-1F9F0DF3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D28B-9C9A-4C3C-A35A-55058FA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D41D-0FE1-40E5-93DC-983F28D3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C77C-9850-4E0B-9445-E87483AD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38C8-EFA1-4000-B5B5-10F0E855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3508-229B-4D08-BCF9-D9FC18EF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61AC-15C4-4231-8147-111CAB7F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6BC1-8D7D-4622-A2BF-69333639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3DD1-1D84-4E86-ABE4-32BB8D34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9EC6-BD6D-410D-8DE6-58EF4874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34FC-4CEB-4C74-88EA-619DBCF7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4D087-D5F0-4923-B4A4-7FF88CBE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7A37-F5FD-4B1E-B31D-1A3B9214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9EAF-E60F-434C-9458-01383C477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4BD2-EDBF-4A97-A45A-9DED72AE0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иатлон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авлов Максим,3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й любимый вид спорта это биатлон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атлон — зимний олимпийский вид спорта, сочетающий лыжную гонку со стрельбой из винт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гонка, которая отдалённо напоминала биатлон, прошла в ещё в 1767 году. Её организовали пограничники на шведско-норвежской границ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вид спорта биатлон появился в XIX веке в Норвегии в качестве упражнения для солдат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98680" y="717480"/>
            <a:ext cx="63561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3529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4300560"/>
            <a:ext cx="76932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годня биатлоном занимаются и мужчины, и женщины.  Наиболее популярен этот вид спорта в Германии, России и Норвегии, а всего в международных соревнованиях принимают участие спортсмены более чем из 40 стра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биатлоне используется свободный (то есть коньковый) стиль передвижения на лыжах. В биатлоне используются обычные лыжи и лыжные палки для лыжных гонок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трельбы применяются винтовки с минимальным весом 3,5 кг, которые во время гонки располагаются на спин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8520" y="856800"/>
            <a:ext cx="8189280" cy="37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иатлоне есть несколько видов гон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59752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ческая индивидуальная го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была самой первой дисциплиной биатло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ременная  гонка представляет собой 20-ти километровую гонку для мужчин и 15-ти  километровую - для женщин, состоящую из 5 кругов со стрельбами между кругами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смены стартуют отдельно, один за другим, с интервалом в 30 секунд. Спортсмен, пробежавший круг, стреляет и бежит на следующий круг, после которого опять стреляет... За каждый промах ко времени прохождения спортсменом дистанции прибавляется одна мин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прин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Гонка на 10 км для мужчин и 7,5 км  для женщин с двумя огневыми рубежами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смены стартуют раздельно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каждый промах предусмотрено прохождение спортсменом «штрафного круга» – дополнительного отрезка дистанции, равного 150 мет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43640" y="1844640"/>
            <a:ext cx="229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5770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онка с общего ста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ли «масс-старт». Гонка на 15 км для мужчин и 12,5 км для женщин состоит из 5 кругов с 4 огневыми рубеж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ка с общего старта — один из новейших видов состязаний. В ней принимают участие 30 сильнейших спортсменов по итогам прошедших соревн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туют все спортсмены одновременно. За каждый промах предусмотрено прохождение спортсменом штрафного отрезка дистанции, равного 150 мет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стафе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Эстафета состоит из 4-х (в некоторых случаях 3) этапов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оманды стартуют одновремен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этап бежит отдельный спортсмен, который затем передаёт эстафету биатлонисту, бегущему следующий этап. Бегущий последний этап финишир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портсмен не смог закрыть 5 мишеней 8 патронами, то за каждую незакрытую мишень предусмотрено прохождение спортсменом штрафного отрезка дистанции, равного 150 мет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1773360"/>
            <a:ext cx="23860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мешанная эстафет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 этой эстафете принимают участие и мужчины, и женщины. Первый и второй этапы проходят женщины, третий и четвёртый – мужчины. Правила стрельбы аналогичны «классической» эстафет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ешанная эстафета – командное состязание в биатлоне. Команда состоит из 4 спортсменов – представителей одной страны. По одному представителю от каждой страны стартуют одновременно и, пробежав свой этап, передают эстафету следующему биатлонисту из своей команды. Смешанная эстафета — самый молодой вид биатлонных состязаний, который проводится в рамках чемпионатов мира и Кубка 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333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5:08:21Z</dcterms:created>
  <dc:creator>Sveta</dc:creator>
  <dc:description/>
  <dc:language>en-US</dc:language>
  <cp:lastModifiedBy>Sveta</cp:lastModifiedBy>
  <dcterms:modified xsi:type="dcterms:W3CDTF">2014-11-24T15:25:13Z</dcterms:modified>
  <cp:revision>4</cp:revision>
  <dc:subject/>
  <dc:title>Биатлон</dc:title>
</cp:coreProperties>
</file>