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5A45-6BA1-442B-9813-F2F21E7B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BF2BE-B216-4078-85F6-4084FEE5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4B1DD-0D33-4441-8CE9-F4E2AC63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373D1-E661-473E-944A-7CDF53E9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061D-554B-4190-B0E2-7BB337E1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695F-3A73-456C-A376-890B5F1F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9729-355F-4468-B5C5-84941057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6B2F-01AE-442B-B454-FBA1C36F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6BF6-B38B-446D-A8BC-1B6EA848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2D56-9461-48FE-9987-26D08899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72D9-D883-43AC-BFF9-3713D04B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7BED0-34C0-4C4A-8B03-332C3ADC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B4B1-1AB8-480C-A9DC-494E37B0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BEE7-50D7-4D41-A52F-FC82067E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2752-F876-4558-815F-2B3854F2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5896-80A0-41AA-AC93-0EB29424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2EC3-E3D8-48FC-9CD3-BAFD48EE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5267A-D4AD-4B7B-A909-0279DD64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7E27-3552-4DE0-811B-49C72C7D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F14D4-D3CF-4795-930B-AB8F25D9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25E3-E1D4-40C7-BD57-057236D3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BEAD3-0C77-4977-AA59-89261BBD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F0990-C3F4-4774-9C4B-10FD3A03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C3D1C-87FE-4398-A8AB-24CC2DF2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3500-1AB0-4F0D-8AA8-0ED4502E6D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B0D4-38E4-4E08-9430-2524F38887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Биатлон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авлов Максим,3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й любимый вид спорта это биатлон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атлон — зимний олимпийский вид спорта, сочетающий лыжную гонку со стрельбой из винт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гонка, которая отдалённо напоминала биатлон, прошла в ещё в 1767 году. Её организовали пограничники на шведско-норвежской границ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вид спорта биатлон появился в XIX веке в Норвегии в качестве упражнения для солдат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98680" y="717480"/>
            <a:ext cx="63561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88360" cy="3529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4300560"/>
            <a:ext cx="76932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годня биатлоном занимаются и мужчины, и женщины.  Наиболее популярен этот вид спорта в Германии, России и Норвегии, а всего в международных соревнованиях принимают участие спортсмены более чем из 40 стра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биатлоне используется свободный (то есть коньковый) стиль передвижения на лыжах. В биатлоне используются обычные лыжи и лыжные палки для лыжных гонок.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стрельбы применяются винтовки с минимальным весом 3,5 кг, которые во время гонки располагаются на спин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88520" y="856800"/>
            <a:ext cx="8189280" cy="37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биатлоне есть несколько видов гон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597528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лассическая индивидуальная гон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была самой первой дисциплиной биатло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ременная  гонка представляет собой 20-ти километровую гонку для мужчин и 15-ти  километровую - для женщин, состоящую из 5 кругов со стрельбами между кругами.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ртсмены стартуют отдельно, один за другим, с интервалом в 30 секунд. Спортсмен, пробежавший круг, стреляет и бежит на следующий круг, после которого опять стреляет... За каждый промах ко времени прохождения спортсменом дистанции прибавляется одна мину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прин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Гонка на 10 км для мужчин и 7,5 км  для женщин с двумя огневыми рубежами.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ртсмены стартуют раздельно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каждый промах предусмотрено прохождение спортсменом «штрафного круга» – дополнительного отрезка дистанции, равного 150 мет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43640" y="1844640"/>
            <a:ext cx="2290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5770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онка с общего стар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ли «масс-старт». Гонка на 15 км для мужчин и 12,5 км для женщин состоит из 5 кругов с 4 огневыми рубеж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ка с общего старта — один из новейших видов состязаний. В ней принимают участие 30 сильнейших спортсменов по итогам прошедших соревн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туют все спортсмены одновременно. За каждый промах предусмотрено прохождение спортсменом штрафного отрезка дистанции, равного 150 мет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стафе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Эстафета состоит из 4-х (в некоторых случаях 3) этапов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команды стартуют одновремен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этап бежит отдельный спортсмен, который затем передаёт эстафету биатлонисту, бегущему следующий этап. Бегущий последний этап финишир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портсмен не смог закрыть 5 мишеней 8 патронами, то за каждую незакрытую мишень предусмотрено прохождение спортсменом штрафного отрезка дистанции, равного 150 мет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00720" y="1773360"/>
            <a:ext cx="238608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764640"/>
            <a:ext cx="4978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мешанная эстафет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В этой эстафете принимают участие и мужчины, и женщины. Первый и второй этапы проходят женщины, третий и четвёртый – мужчины. Правила стрельбы аналогичны «классической» эстафет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ешанная эстафета – командное состязание в биатлоне. Команда состоит из 4 спортсменов – представителей одной страны. По одному представителю от каждой страны стартуют одновременно и, пробежав свой этап, передают эстафету следующему биатлонисту из своей команды. Смешанная эстафета — самый молодой вид биатлонных состязаний, который проводится в рамках чемпионатов мира и Кубка м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3333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15:08:21Z</dcterms:created>
  <dc:creator>Sveta</dc:creator>
  <dc:description/>
  <dc:language>en-US</dc:language>
  <cp:lastModifiedBy>Sveta</cp:lastModifiedBy>
  <dcterms:modified xsi:type="dcterms:W3CDTF">2014-11-24T15:25:13Z</dcterms:modified>
  <cp:revision>4</cp:revision>
  <dc:subject/>
  <dc:title>Биатлон</dc:title>
</cp:coreProperties>
</file>