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8D9-A6DA-4A99-BC33-F112C5C8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A30-541A-4B07-9B8C-AF808F97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8FD-39C9-40B2-A8F2-5C231251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7D7-DD04-44BF-9C05-A4C8034A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73E9-7813-4558-BEE0-ACFBF6F9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C317-6FBF-4AE0-AC8F-0B033A18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41FA-4CA0-42E9-9DB8-C6CFB786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D773-2D12-4DC7-9D23-C7C60565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DF7A-C16B-437D-94BD-FE16BB69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1F4F-655C-4738-B178-D93C41D1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0FC2-90DE-47C9-8822-6B6E6B8E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DE5-D70E-493B-B7A9-469330CA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3CF-754F-4586-852A-D3CC95B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2069-F35D-4971-8326-77135B92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036C-A3F3-4009-B28F-4B69A17B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205E-3174-402C-B04F-2A510B10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0411-66CC-48BD-A50E-2CC17C73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F76-1AE5-4E6C-A5EB-4A80D2E2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FDF-6767-4721-9E39-8C4AC1A3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139-AEDB-4E73-92E5-E55CA2AB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049-5654-40F6-968F-63299247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5BC-FA60-4AEC-9EE5-5A82AD7E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8EB-422C-456D-9F98-A882ECF4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ABA-3B52-4DAB-91CB-880E62C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B25E6A-CBBF-49E1-917C-3F635D86F9F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89B58F-A441-4561-99C8-5710FE217A6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870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Урок 1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Этот удивительный мир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5080" y="343512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47ffd1"/>
                </a:solidFill>
                <a:latin typeface="Times New Roman"/>
              </a:rPr>
              <a:t>Что такое </a:t>
            </a:r>
            <a:br>
              <a:rPr sz="5400"/>
            </a:br>
            <a:r>
              <a:rPr b="1" lang="en-GB" sz="5400" spc="-1" strike="noStrike">
                <a:solidFill>
                  <a:srgbClr val="47ffd1"/>
                </a:solidFill>
                <a:latin typeface="Times New Roman"/>
              </a:rPr>
              <a:t>окружающий мир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«Окружающий мир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640" y="620280"/>
            <a:ext cx="4968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Мир природ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96720" y="40766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9640" y="4005360"/>
            <a:ext cx="8172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Мир вещей         Мир люде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01920" y="41497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4484520" y="2700360"/>
            <a:ext cx="4335480" cy="3240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400" y="590400"/>
            <a:ext cx="82296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р приро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9720" y="1409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ЖИВАЯ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       НЕЖИВ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250920" y="2700360"/>
            <a:ext cx="380988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ПРИЗНАКИ ЖИВОЙ ПРИРОД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РО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ДЫХ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РО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ДВИ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СТАР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УМИР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640560" y="1571760"/>
            <a:ext cx="1819080" cy="166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3419640" y="3419640"/>
            <a:ext cx="414000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НЕЖИВАЯ ПРИРО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КАМ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ЛУ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19280" y="2519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5400720" y="4319640"/>
            <a:ext cx="3060720" cy="235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5400720" y="1440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р вещ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Объект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768400" cy="2766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2862360" cy="2925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7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633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р люд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GB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2660760" cy="2438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432320" cy="2722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делим главно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000" y="1380600"/>
            <a:ext cx="8227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кружающий мир- это то, что находится вокруг нас: природа, люди и всё, что создано человек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Рисунок 5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47404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lya</cp:lastModifiedBy>
  <dcterms:modified xsi:type="dcterms:W3CDTF">2015-09-06T16:54:55Z</dcterms:modified>
  <cp:revision>7</cp:revision>
  <dc:subject/>
  <dc:title>Что такое  окружающий мир?</dc:title>
</cp:coreProperties>
</file>