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2B7-C19C-4D91-84D1-548894BF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365-B5CD-4D51-8BDE-191B6FD7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FBE-4474-4860-AF2F-6322E598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C73-8F27-4EC1-9AE2-B0E0FE12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522D-377B-463D-9432-66D207E8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2AC7-2CF0-459D-9267-9BBE6F34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5D75-479A-49ED-A04F-64CCF3C3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430C-8FDA-4CE1-A8D2-54B0A2A0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D4B4-CDAB-42A4-BD52-C9E43D81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191D-9C52-4CC8-BE65-E201ADD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49BE-47A0-4A26-ADB2-48802732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1CE-647F-4C36-957D-D7D02781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B527-DDF8-4FE7-BC87-7EC30BD1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01A1-2EEC-49F1-882D-CC7E4EA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2DB3-451F-4EC8-AA86-1329AF44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3C31-AB81-4A4A-B074-8585AC6E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7D25-2BAA-42DB-9942-29B4F85E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6D6-1E5A-42D4-BBB5-D565E765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43A-CE7A-4177-8D1B-FDC03551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46D-A1D9-4B28-8AAD-7A922925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24B-F2B8-4EDF-AAAC-2799F33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E5F-78E8-47AB-9D1D-A129812B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CA9-F4AD-4FA9-A336-B2938E4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5A8-842B-44EA-87AE-7AC60ADB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209A76-542C-4BF4-8024-32708B8D3F7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C5BF71-444D-48E8-ADDE-D6FE39DDA7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870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Урок 1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Этот удивительный мир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5080" y="343512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47ffd1"/>
                </a:solidFill>
                <a:latin typeface="Times New Roman"/>
              </a:rPr>
              <a:t>Что такое </a:t>
            </a:r>
            <a:br>
              <a:rPr sz="5400"/>
            </a:br>
            <a:r>
              <a:rPr b="1" lang="en-GB" sz="5400" spc="-1" strike="noStrike">
                <a:solidFill>
                  <a:srgbClr val="47ffd1"/>
                </a:solidFill>
                <a:latin typeface="Times New Roman"/>
              </a:rPr>
              <a:t>окружающий мир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«Окружающий мир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640" y="620280"/>
            <a:ext cx="4968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Мир природ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96720" y="40766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9640" y="4005360"/>
            <a:ext cx="8172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Мир вещей         Мир люде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01920" y="41497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4484520" y="2700360"/>
            <a:ext cx="4335480" cy="3240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400" y="590400"/>
            <a:ext cx="82296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р приро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9720" y="1409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ЖИВАЯ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       НЕЖИВ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250920" y="2700360"/>
            <a:ext cx="380988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ПРИЗНАКИ ЖИВОЙ ПРИРОД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РО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ДЫХ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РО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ДВИ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СТАР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УМИР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640560" y="1571760"/>
            <a:ext cx="1819080" cy="166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3419640" y="3419640"/>
            <a:ext cx="414000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НЕЖИВАЯ ПРИРО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КАМ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ЛУ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19280" y="2519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5400720" y="4319640"/>
            <a:ext cx="3060720" cy="235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5400720" y="1440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р вещ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Объект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768400" cy="2766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2862360" cy="2925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7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633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р люд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GB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2660760" cy="2438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432320" cy="2722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делим главно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000" y="1380600"/>
            <a:ext cx="8227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кружающий мир- это то, что находится вокруг нас: природа, люди и всё, что создано человек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Рисунок 5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47404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lya</cp:lastModifiedBy>
  <dcterms:modified xsi:type="dcterms:W3CDTF">2015-09-06T16:54:55Z</dcterms:modified>
  <cp:revision>7</cp:revision>
  <dc:subject/>
  <dc:title>Что такое  окружающий мир?</dc:title>
</cp:coreProperties>
</file>