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6A0-A7EC-43B0-B2BE-EB9CF724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D22-ED32-4D8A-99D6-B77B88B2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382-72C8-44B4-9833-64660B9F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E48-C3EA-491E-A9C0-F27157DC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C9E-161D-46F2-BED8-EC201C89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C67-D886-4765-AC4A-BED82B5A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77E-7E16-4F8C-AEC3-2EAFC7AF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D73-8B01-4FBF-998D-4EB243F6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262-4B42-4208-8EA8-F3DFEAA9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745-C27D-4D91-BDC0-B1C34A3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668-C457-45AA-8FF7-BB89D689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195-9894-401D-BC1C-540BF006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D4BA-8A46-4552-9DF6-3E46B58C7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бы я был волшебник чтоб я сделал для Мос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3 класс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 № 6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лгаков Дамир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бы я был волшебником, я бы сделал так, чтобы на земле был мир, чтобы люди разных национальностей не убивали друг друга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бы сделал наш город красивым и чистым; бродячие собаки и кошки имели свои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ёра, реки и моря были полны рыбой, в лесах водилось много зверей, а в недрах не уменьшались запасы полезных ископаемых: руды, нефти, драгоценных камней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гда была бы хорошая погода и люди больше улыбались друг друг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и и взрослые заботились бы о пожилых, и тогда наши дедушки и бабушки стали бы жить д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бы сделал всех детей-инвалидов здоров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агазинах стало много продукто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все люди будут делать только добрые дела, то мир станет волшебны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96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1:08:51Z</dcterms:created>
  <dc:creator>Гульмурат</dc:creator>
  <dc:description/>
  <dc:language>en-US</dc:language>
  <cp:lastModifiedBy>Гульмурат</cp:lastModifiedBy>
  <dcterms:modified xsi:type="dcterms:W3CDTF">2014-03-24T22:06:33Z</dcterms:modified>
  <cp:revision>2</cp:revision>
  <dc:subject/>
  <dc:title>Сочинение</dc:title>
</cp:coreProperties>
</file>