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5C2-CACA-4948-B67C-ADD46E6D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DB1-A76F-47F1-9F8B-0DB6AFF4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F0B-5E2B-4DA0-9E46-012E6FE8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732-513F-46B4-9633-A3DF4FCE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9F9-AEBF-4892-9116-777D1BF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F74-1CAC-4CED-AEFB-C8054740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48F-A711-46CC-8819-4401099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6BB-A939-4172-9817-6F739E5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0C4-10F9-411A-88FF-F89DDD4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A6E-F172-4E91-B0D8-709FC46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CA4-CC2C-4278-A21B-7FD2CB9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113-4572-4E4F-930B-2956FEA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7FFC-0192-4E82-A432-215B1DA6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бы я был волшебник чтоб я сделал для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3 класс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№ 6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лгаков Дамир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я был волшебником, я бы сделал так, чтобы на земле был мир, чтобы люди разных национальностей не убивали друг друг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бы сделал наш город красивым и чистым; бродячие собаки и кошки имели сво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ёра, реки и моря были полны рыбой, в лесах водилось много зверей, а в недрах не уменьшались запасы полезных ископаемых: руды, нефти, драгоценных камней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да была бы хорошая погода и люди больше улыбались друг дру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и взрослые заботились бы о пожилых, и тогда наши дедушки и бабушки стали бы жить д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ы сделал всех детей-инвалидов здоров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газинах стало много продукт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се люди будут делать только добрые дела, то мир станет волшебны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96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1:08:51Z</dcterms:created>
  <dc:creator>Гульмурат</dc:creator>
  <dc:description/>
  <dc:language>en-US</dc:language>
  <cp:lastModifiedBy>Гульмурат</cp:lastModifiedBy>
  <dcterms:modified xsi:type="dcterms:W3CDTF">2014-03-24T22:06:33Z</dcterms:modified>
  <cp:revision>2</cp:revision>
  <dc:subject/>
  <dc:title>Сочинение</dc:title>
</cp:coreProperties>
</file>