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30.wmf" ContentType="image/x-wmf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41.jpeg" ContentType="image/jpeg"/>
  <Override PartName="/ppt/media/image14.jpeg" ContentType="image/jpeg"/>
  <Override PartName="/ppt/media/image45.jpeg" ContentType="image/jpeg"/>
  <Override PartName="/ppt/media/image70.wmf" ContentType="image/x-wmf"/>
  <Override PartName="/ppt/media/image60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9.png" ContentType="image/pn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65.jpeg" ContentType="image/jpeg"/>
  <Override PartName="/ppt/media/image8.jpeg" ContentType="image/jpeg"/>
  <Override PartName="/ppt/media/image19.jpeg" ContentType="image/jpeg"/>
  <Override PartName="/ppt/media/image63.jpeg" ContentType="image/jpeg"/>
  <Override PartName="/ppt/media/image61.wmf" ContentType="image/x-wmf"/>
  <Override PartName="/ppt/media/image64.jpeg" ContentType="image/jpeg"/>
  <Override PartName="/ppt/media/image31.wmf" ContentType="image/x-wmf"/>
  <Override PartName="/ppt/media/image38.jpeg" ContentType="image/jpeg"/>
  <Override PartName="/ppt/media/image16.wmf" ContentType="image/x-wmf"/>
  <Override PartName="/ppt/media/image66.jpeg" ContentType="image/jpeg"/>
  <Override PartName="/ppt/media/image51.jpeg" ContentType="image/jpeg"/>
  <Override PartName="/ppt/media/image69.jpeg" ContentType="image/jpeg"/>
  <Override PartName="/ppt/media/image62.wmf" ContentType="image/x-wmf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26.jpeg" ContentType="image/jpeg"/>
  <Override PartName="/ppt/media/image7.gif" ContentType="image/gif"/>
  <Override PartName="/ppt/media/image33.wmf" ContentType="image/x-wmf"/>
  <Override PartName="/ppt/media/image1.png" ContentType="image/pn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4.wmf" ContentType="image/x-wmf"/>
  <Override PartName="/ppt/media/image10.png" ContentType="image/png"/>
  <Override PartName="/ppt/media/image36.jpeg" ContentType="image/jpeg"/>
  <Override PartName="/ppt/media/image29.jpeg" ContentType="image/jpeg"/>
  <Override PartName="/ppt/media/image12.jpeg" ContentType="image/jpeg"/>
  <Override PartName="/ppt/media/image37.wmf" ContentType="image/x-wmf"/>
  <Override PartName="/ppt/media/image44.jpeg" ContentType="image/jpeg"/>
  <Override PartName="/ppt/media/image46.jpeg" ContentType="image/jpeg"/>
  <Override PartName="/ppt/media/image47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  <p:sldId id="316" r:id="rId88"/>
    <p:sldId id="317" r:id="rId89"/>
    <p:sldId id="318" r:id="rId90"/>
    <p:sldId id="319" r:id="rId91"/>
    <p:sldId id="320" r:id="rId92"/>
    <p:sldId id="321" r:id="rId93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slide" Target="slides/slide61.xml"/><Relationship Id="rId89" Type="http://schemas.openxmlformats.org/officeDocument/2006/relationships/slide" Target="slides/slide62.xml"/><Relationship Id="rId90" Type="http://schemas.openxmlformats.org/officeDocument/2006/relationships/slide" Target="slides/slide63.xml"/><Relationship Id="rId91" Type="http://schemas.openxmlformats.org/officeDocument/2006/relationships/slide" Target="slides/slide64.xml"/><Relationship Id="rId92" Type="http://schemas.openxmlformats.org/officeDocument/2006/relationships/slide" Target="slides/slide65.xml"/><Relationship Id="rId93" Type="http://schemas.openxmlformats.org/officeDocument/2006/relationships/slide" Target="slides/slide66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dt" idx="73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ftr" idx="74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 type="sldNum" idx="75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FA8A-A3C2-42FB-94E9-D7288D737A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D22-44F4-4327-9C02-64B6BE4C14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CB82-D3B0-4894-A456-A7FEC2AF1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B5C12-D936-4A2A-8B7C-A560051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0E13-D432-48A6-96A3-0E8E512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ACB15-5CEC-452A-B951-EF6C4C2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FCC5C-4CDD-4934-840D-25317B4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781AA-D835-4E85-9F9B-29C54E9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50E7E-0FD9-43F2-8EA3-D9FAC0F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2CFE-2203-4207-A98C-15EFA4C9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78DC1-A515-4C15-934E-519466AC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D1F6-FAEB-491A-A7D3-CA35951D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5118E-E210-4829-89B0-F7DF56F5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5599D-E94E-40FA-B4BE-83D819B4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AF2A7-649B-4809-BB05-7CE896BF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57E47-6BBB-4A95-BE12-5DBE32F4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48351-F86A-41A8-A690-B932621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12D66-7C22-4136-8272-A76B4F0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CFA15-EAD0-4424-8A0D-D666AEB1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A5996-6380-4F45-B21A-FBDD8D4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3545A-7838-46E1-ADAF-A8878BA7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CCE39-150A-412E-853A-AE371C6A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9476E-2C82-404B-A3F0-1FBDDDDD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A5B59-BBA8-4C51-B222-974FF546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0824A-5D48-4EBF-988C-E44FE8DF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7D8F8-2350-4D8D-B0D2-33B4100E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ABD1C-EFD2-47AE-8699-78DB5316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C451-DE03-4FA6-A06A-7401830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805AD-5E17-4653-B006-ECA1D2DD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91508-6C36-434F-BB64-4F778645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AE8E2-8725-48DF-BA33-7A3DAFA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218C-A954-457F-B25A-CAC7DDC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C4325-C835-4377-8D9E-9C94867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662-FDFA-4992-B920-69CB4CF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48BAB-AD25-4D0F-867C-BA7C8AA7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CCF1C-51D6-4B4D-847D-745A04E2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FA031-42A2-48A9-A6ED-40072C4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AE212-6BDB-411C-B07C-AE40446D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7A22D-793B-48D5-B0FC-9F2B1ED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65AA0-B785-4994-AD07-B54BDA37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31FF1-061E-4641-8ACD-5A56CD3C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EC1A-2B06-4E4D-A46B-FA89ADE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26AB5-D5F0-4E80-AE2B-8F0E0828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4D2E6-329E-472E-93DA-17DFCB7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793-BD5D-4628-9E05-F5A62777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B5E0-A338-4D06-870D-C1276BE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85299-A116-4DEC-83A5-5AA801E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A83BD-05C4-4AA8-88CD-01F99946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B0D02-09D0-40EC-83B6-C00E8D7A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6F089-8A69-4117-877D-A6BC944D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19988-6D7D-46AC-88E8-334FCF99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6D7B6-5E29-4009-BC9E-A9DA1E8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EFC2E-F713-4EF7-8A9A-139A3D74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AE337-4523-49E6-ACC9-E9C1822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DDA7C-0293-47EC-A3C6-3B2C10C4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8C8-5539-408D-B424-64B37B66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3B548-FC4B-45B8-9597-62333F49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021FC-4ECF-482D-A1F5-3A30D66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3EFD8-AC6D-4138-BA21-854EB93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29FBD-3ECB-458B-ACB5-A0DA7F7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D4631-9EE5-48F3-822E-9E003FD7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E343E-31FA-4ADB-88C4-B3A99772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57BCF-0E0E-41E8-B570-974987EA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14CBC-4C3E-4DB5-84D9-DDEEA454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B8531-ADC7-4D5A-80FB-EFA8E34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EEF51-584A-4A1D-A138-A222951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DBB-1A4B-4106-AC71-C0FE768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D53D1-EB4A-4820-8910-24EE323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AF279-7008-4CBD-BBBE-BA8DA3D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8F5AF-5089-4821-8C92-6FADA8F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E9188-4981-4A12-93D6-7C8EC05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0D2C1-2522-4252-A873-5966319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46D25-0748-4CEF-9AE0-4B741AF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46E56-6425-48E6-A4C3-E1E23A3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707C1-CA01-4D84-88F0-A179BF10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9F4BE-E08D-4DBF-937E-C1D9E44F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77BE4-8341-419D-BE4F-7B3FF977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5FA-2F5B-4B1D-9813-C09AC65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1BB8C-C87D-4619-B3DF-D314763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4767F-7C6D-4195-98F8-6BB398D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03E8D-C9CF-4CBE-AD50-79F0A45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BC1E9-D8DD-4B06-8A78-1097F6A3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C0CC0-A9F2-41AF-8A6E-B5B626F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92FB3-DA61-4398-88E3-CC40FA8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75D76-F6B4-45AE-A765-D57CB3D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63D80-8F26-458D-8FA0-FB02A0A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CF9AD-C01A-4A8C-A2C4-0D5E9DD5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A3C8C-560A-4EBD-9044-485FAF8D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46F-F215-4955-A493-C78711D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FCC38-EE9B-4DB8-A6B4-FCD03747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94222-A9B4-4C53-B6B6-890182B8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6175A-591A-43DB-A25E-BD5FB07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F8FB7-30E0-447D-85C0-AEABA4C4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0AE8D-DDE5-438F-BD2E-FFD1A4CB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1A5B0-66CF-4DEF-AF2C-83ADC19C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752E4-8087-4C50-BF94-8740E20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7954F-BF56-4C9F-A008-D2FF4F7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C9F1E-783F-4828-8BF6-ECE3DC0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12F8B-7340-4D5F-BBF3-4E5F58C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0D3-ED7F-40E3-B355-9C734F47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3C03B-7F2B-4DF9-BDC1-C90A9FB7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3E3E5-34E1-46B9-83D5-7A05516A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F4215-6EAA-4D45-8C4A-0166347A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1AB8D-2F75-4433-8C84-2D35D20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46392-30CB-4531-80F5-6FA0440B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26658-C3BA-4991-8846-4D80A708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CA21D-629A-4DB2-8349-60D4EF4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F383E-5237-4A5C-B844-9D1D0B4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B3AE0-BA1E-4522-92D4-A4649AB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CA240-A6FB-4549-B67C-59CC541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2AA-D7C5-4671-90D4-DF42BCE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38D23-0510-49DB-85CE-4722BC3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D8587-67A5-4994-A597-706C56E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5F160-1277-43C1-BDE2-01E04618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6B1C4-E220-4063-BE74-E1FBFE2B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9514E-4681-444E-8B0B-EE32A8C1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E69E1-4D54-4248-AFA5-E479FB80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CE1D4-6F39-4033-9FC5-44C87B2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95A10-A347-4997-B229-A763838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2FBA4-9CB4-4094-981A-B8A8FA8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03DAB-2806-4A00-A520-5B8CFFB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8AD-4042-41E1-918E-5E61E29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1D962-7CF5-4F89-9E60-E8D1B493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58EC6-2384-40B9-BB84-A2D665D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D1DE3-E4C1-475A-9B36-DFC5580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E68C6-FEB2-478B-B671-3FCE2A4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55A20-1901-49D5-86B5-72B7DB93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5F7F8-0C0F-4579-87DC-0E2502A8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B44C2-8386-406C-9305-3821DD3C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48D49-9344-4D91-A6B6-2F093230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2E248-700E-4907-A19E-5DF92513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B364D-13EA-4D95-9471-A0574559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970-D6B5-4DC8-96DD-D6AF0FD9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8BB71-AABA-43FA-8E89-F940F01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7E34B-C404-41F6-A363-2AC105E4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90EA1-F52C-4AAC-AE3B-CC0E360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83389-F688-417B-A39B-E083902B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120EB-092B-4162-A24A-7071447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DB214-1A6D-44DE-BFBE-999CFA4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4EBE2-9E4F-4451-8DBF-DF5859D7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677BF-292F-4F97-B54A-CD84F730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4C9B7-558C-4CD3-985A-0E28728D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519EE-7863-4DC0-9C95-96D10233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E72-B05A-4696-A2C9-CE90B7E3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FD9EF-0894-4FA4-BFBB-922A27B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C7A3A-975E-471A-9CA7-CBAAA348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E098F-12A8-4CDC-8C7F-3E34B754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6E3AE-1BC1-4F7F-BA44-D2031276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5CE31-80EA-4115-AB9C-057ADEB6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CACE5-275C-4B95-9FEF-4564D0A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279C3-E97D-4865-A608-62FA62C9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34453-6E58-45BE-9306-4FDE0DB8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CB949-FCFE-438B-9024-7C17BB5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5D797-6197-4FA0-A93A-16867C1A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943-97FD-482B-88B3-8CDC686E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49747-D916-4F8A-92A5-FD090AC5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BEE9A0-BEA9-4CCB-8A35-5BE29ADF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CB608-CD82-44D7-A4BD-84031C4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B18C5-803F-42E5-8824-79291D9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7EBBC-47B4-43D0-8A42-18F8FF35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EC1ED-0BA9-4CCE-BBA3-C7A69375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35D98-570C-452F-A6B9-8449D19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55AF8-F75B-4401-9E61-0B6BBEE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235FC-BADF-44C5-B5A7-8582A452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7D2AB-5084-4037-B08F-613355D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E31E-291C-48D5-8737-FBF0DFF8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892FB-08B7-4EC4-8CE5-AC18E555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70B7E-B90B-4CE4-B70F-96964176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2D112-4576-46E6-BD0E-F90BAA09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6982A-49DB-4B4B-A86B-0B59BE39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2F06D-2251-4734-9C82-D6F0390B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95AA5-986A-4D06-BA9C-DC4ED72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35474-6EE5-4CB8-8893-221D55D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38092-D8EE-405E-B078-1BA9AC7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B3C99-D352-4DA6-92DA-60A6EA9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43F0AE-69C2-48D1-B634-ECA84E2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6C60-5CA6-413F-9944-2031ABB9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AEAC3-6851-4995-AF02-3648058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BDA20-75C8-4006-A48A-ACCD0A63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19B5E-74FC-4F0F-908D-43151824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710D1A-C955-41E6-A93E-12D8B5A8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7289E-051F-46A2-A288-D717D5DF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60E37-FA9C-4097-A293-9B8D920A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B16E0A-FEB5-41FE-B231-7E6A915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3A4E29-98C5-420E-986B-864B69F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704362-0344-434F-A013-0DD2863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501ACC-8E70-4AB8-8BB0-E23F286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8B8B-EA11-48D9-9231-71E8084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395747-FCC9-4D0B-8AB2-FE728D65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631B7A-8248-401B-9133-08AC216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058EEC-4B26-43C1-874A-313C9CA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02B1FB-1068-4F6D-898E-F3D7239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B8788C-A7E1-4239-B349-2797ED8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094B30-7787-4C1C-A994-9ACEDD07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DF1B3-D514-4620-9BCD-CCB972EE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11C579-A4DF-41F9-B849-508B3FA7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D4CD5-42D9-4993-A975-C7E375C0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E2A30-5EC8-41DA-9DC1-9069A30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C052-C717-4762-82DF-7A1AD016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3F0A6-F484-4FC8-BDCD-741870C3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8B6EB6-FD0D-4E79-9E42-28FF993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7FAAC-4119-4C6D-81D2-7CACD5C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A77B1-91D4-4F46-A806-B1160420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35F6EC-47ED-47DE-A9BE-A7386803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6D9A2F-6F34-4458-9A02-930EE86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B5EAA-272C-406C-87F2-FCBEB09F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42CCB3-7520-4C24-8276-7B76B8E5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CA5F1-D689-47C3-A936-27C3D0E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C748F9-3FB0-46E5-A25E-5050304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2DB-DD0B-4EE1-B2E2-0BDCA81C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E905AA-D4C4-4B95-B698-0259CEC4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38377A-079F-4495-BB51-D0FB211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B06A28-395F-4C1B-A742-0E5BB23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34F604-9F24-4CC8-A798-8D08CE50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EB96CD-642E-4563-AB9A-10CC0E93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775650-5830-4D8A-A236-415CB4B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7A81F9-BB8F-40DA-BBF4-65FAD16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520F14-6A6F-49C5-BD45-8D269E6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16CA32-5778-493A-98EC-D88ADA6E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539C32-CE22-46D3-8024-001D641B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F2CE-0209-4DF2-BD31-E16E993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E13785-35F8-4FEF-80D2-50E36A76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9EDD-4A0D-4E73-A3C9-DCCFB91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4BC6-01E8-4DA3-9A7F-E55C8EE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F86A-D636-484D-AAC9-611E3A3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8C01-0678-4931-9BD3-E768381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0FA-DA85-4811-AF1C-4F04CBE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F1A2-B200-42AC-99B4-71806F97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33EF-A87C-405A-8F12-50F3D127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0B77-7F31-4E62-B883-3E5EC10D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DF60-8E73-48B4-B274-88F5FBE1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8607-D5D6-4844-98EC-25F54CE1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1AA1-7918-4BF1-B139-39EC7A4D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BE4F-4C79-4678-B76B-A9B16E1A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EAEB-A6BC-4EB3-B0AD-1EB8D40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4BAE-FFD0-450A-891B-FF930D8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7072-F015-4576-B0CA-A0B0E8A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F1D7-0A59-447A-841C-847AA6A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71BE-816E-41DD-A57D-1D45F3F3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7E40-07BE-4393-9C56-C86E564A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3F4D-892D-46E5-B01A-D60E4844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78F6-19BC-44A8-98F3-7ABBC0C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9014-8370-470E-9DFB-C87EA77A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B111-E5F7-43DD-946F-A238E5E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5213-C654-40F1-A2DD-C4AE7E62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9C23-1275-4BBE-9107-C50488A2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9C42-485A-4461-B03C-2BC67DAC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DCDD-5111-4AA9-84C6-0BD9E70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28A3-2F14-46F9-905C-3D835451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17E2-E8BA-47F3-ACBB-4A0ACA24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3BAA-EFC3-43EC-8B4C-CA25AA53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AF28-B922-4C4D-93DA-6D4DA51A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7BA3-FA71-4529-9E5D-0AC2A793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6381C-FE9A-4BE3-8EB8-158B91A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18722-7B93-4139-BC57-07F4E30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1AEF-4C67-42B8-B8F4-451F419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F9BE-2D86-4D0D-90F3-8C0BA23C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0132-E74B-4A0A-88D5-3D946588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4B92-915E-43D3-AFCB-D0FFA59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87079-2492-49E5-8C43-F114AD11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2914-9157-40E4-9ACC-70A4F869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9A76-1F2F-4745-ACF2-23D543B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0E63-1DCB-4FD2-B69C-23E740C6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4CCC-E95D-40FF-BAA8-3498C29B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7BD2-E29F-46B5-9794-45498104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2037-4585-4918-A790-97CC526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19273-48C3-434B-A134-11F23643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6E65-2C0E-489C-8DF5-94080AA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336DA-8D09-4D28-814A-21FA2560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1BB5-4D0C-4BAC-AE69-C4D01CA7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6D52C-0BF6-4EE9-B600-6B33CE0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8B4A-0CAA-43A6-8CE8-BDA7BFB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20C9-5250-4053-951F-256FF7CB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B62C-8BD9-420B-A21E-5A39610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1762-21E2-4D3D-BC6B-6B1C1E8B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4721F-212A-41D2-8FAD-C9706D85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1596-45BA-4766-A4ED-ADA19A51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22D9-A18D-492E-8B41-209678B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1296-2BE9-46E1-9CA4-B8BF9BD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FDB27-99AA-4DEB-89D7-1D908CD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3EE27-C626-43DF-9D14-889A270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CB1A8-F16F-450A-83C3-1C44A116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DCA67-B846-4C48-A4B7-FB40413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30F89-0C3D-471F-917F-E5A4949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ED85-5AE9-4EC4-8B35-66FDC09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A5E4-C8FD-4EFE-B2EA-FADCC97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A135-9575-4430-AC19-3433B728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849C9-B9C5-4DB6-8D5E-151303EC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051D0-42F7-47D5-80E3-5E172D5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B836-9752-4F95-8E8D-B325370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C8E17-AF94-40E5-9EC3-2F3FA22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3F48-D60C-4679-8725-2CCBCBCC0C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7E7-C5B3-4C6C-B1AF-3C64A7A89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05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785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791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f1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e39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7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005-5457-4E13-BF80-319CEFAE2D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850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851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52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858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864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870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76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1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2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83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886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889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892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895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898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01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904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5F8-87AF-46B0-A606-133CDA3B7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948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949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950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56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962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968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974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9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980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981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84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87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90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993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996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99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002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3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3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3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9F5-AEC0-4C45-9ADB-A8C6641D5C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6D86-E72E-472E-B898-CCA044A087A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4992-D93A-402D-8873-1D51E46CF76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0A4-F940-4B50-85A6-2B14A807582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687C-B592-4D3F-AAF5-D527D3A2A91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ABFC-8404-4A1B-B71C-2F4EF141524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256-4F44-478C-992B-E7B18740E9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37D6-D05A-4D95-9794-F5D9866EF8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47E8-30B2-446A-BA03-ED40286DA3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AAD-8C3C-4C18-82BA-DF3D83FF8BB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DF65-20C7-4A6A-BA31-F3A6D4DF97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D550-BE37-44D9-A100-72DE6BAB356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23D-CDDA-4258-99E8-A27B536FC96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F590-3D66-4B19-8CDE-AF4202E98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1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ece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ece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3999b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1d3c1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8225-E747-4CC1-A9CD-E5EB06F576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54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55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56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62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68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74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80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86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87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90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93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96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99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02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05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08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f1d3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e399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8EC-A6D8-4036-A80D-2514B0983B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97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304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307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310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313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170A-FBD6-449C-AF8D-ED1EF0738A0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7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364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367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370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373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FC4A-8B4A-4875-BEB9-6F562B82E9B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2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CB8D-9454-4428-940E-B616CF3523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21a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6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6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f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f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4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FBF-C5CB-49F3-B2DD-4A7A09C9C6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8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8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8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8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8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8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8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8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8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8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8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8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8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8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8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8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8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8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8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8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8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8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24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00-144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3" name="Picture 5" descr="http://im1-tub-ru.yandex.net/i?id=435152348-09-72&amp;n=21"/>
          <p:cNvPicPr/>
          <p:nvPr/>
        </p:nvPicPr>
        <p:blipFill>
          <a:blip r:embed="rId1"/>
          <a:stretch/>
        </p:blipFill>
        <p:spPr>
          <a:xfrm>
            <a:off x="900000" y="2708280"/>
            <a:ext cx="3527640" cy="338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усский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язы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ость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ольствие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— 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воли — 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устремленность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сть —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сть — 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6" name="Picture 5" descr="http://im0-tub-ru.yandex.net/i?id=219398535-21-72&amp;n=21"/>
          <p:cNvPicPr/>
          <p:nvPr/>
        </p:nvPicPr>
        <p:blipFill>
          <a:blip r:embed="rId1"/>
          <a:stretch/>
        </p:blipFill>
        <p:spPr>
          <a:xfrm>
            <a:off x="5076720" y="3789360"/>
            <a:ext cx="3598920" cy="266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дрость — Глупос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бода — Зависимос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овольствие — Боль, страдание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доровье — Болезн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стоятельность — Зависимость 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воли — Безволи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еустремленность — Бесцельнос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елость — Трусость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вердость — Неуверен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ражается у курильщика прежде всег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1" name="Picture 5" descr="http://im6-tub-ru.yandex.net/i?id=296633331-69-72&amp;n=21"/>
          <p:cNvPicPr/>
          <p:nvPr/>
        </p:nvPicPr>
        <p:blipFill>
          <a:blip r:embed="rId1"/>
          <a:stretch/>
        </p:blipFill>
        <p:spPr>
          <a:xfrm>
            <a:off x="2843280" y="3213000"/>
            <a:ext cx="4249800" cy="265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4" name="Picture 5" descr="http://im2-tub-ru.yandex.net/i?id=242098505-59-72&amp;n=21"/>
          <p:cNvPicPr/>
          <p:nvPr/>
        </p:nvPicPr>
        <p:blipFill>
          <a:blip r:embed="rId1"/>
          <a:stretch/>
        </p:blipFill>
        <p:spPr>
          <a:xfrm>
            <a:off x="2700360" y="2492280"/>
            <a:ext cx="345600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лёгких у курящих встречается чаще, чем у некурящих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7" name="Picture 5" descr="http://im7-tub-ru.yandex.net/i?id=263580241-22-72&amp;n=21"/>
          <p:cNvPicPr/>
          <p:nvPr/>
        </p:nvPicPr>
        <p:blipFill>
          <a:blip r:embed="rId1"/>
          <a:stretch/>
        </p:blipFill>
        <p:spPr>
          <a:xfrm>
            <a:off x="6156360" y="450864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-30 ра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0" name="Picture 5" descr="http://im6-tub-ru.yandex.net/i?id=288007475-58-72&amp;n=21"/>
          <p:cNvPicPr/>
          <p:nvPr/>
        </p:nvPicPr>
        <p:blipFill>
          <a:blip r:embed="rId1"/>
          <a:stretch/>
        </p:blipFill>
        <p:spPr>
          <a:xfrm>
            <a:off x="971640" y="3213000"/>
            <a:ext cx="504036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при курении повышае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3" name="Picture 5" descr="http://im5-tub-ru.yandex.net/i?id=252252926-33-72&amp;n=21"/>
          <p:cNvPicPr/>
          <p:nvPr/>
        </p:nvPicPr>
        <p:blipFill>
          <a:blip r:embed="rId1"/>
          <a:stretch/>
        </p:blipFill>
        <p:spPr>
          <a:xfrm>
            <a:off x="4427640" y="3573360"/>
            <a:ext cx="388944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альное дав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6" name="Picture 5" descr="http://im1-tub-ru.yandex.net/i?id=442050633-56-72&amp;n=21"/>
          <p:cNvPicPr/>
          <p:nvPr/>
        </p:nvPicPr>
        <p:blipFill>
          <a:blip r:embed="rId1"/>
          <a:stretch/>
        </p:blipFill>
        <p:spPr>
          <a:xfrm>
            <a:off x="5003640" y="2708280"/>
            <a:ext cx="367200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заядлых курильщиков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57120" y="1197000"/>
            <a:ext cx="84297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ение или здоровье – выбирайте сами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2.2014 г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1" name="Picture 5" descr="http://im1-tub-ru.yandex.net/i?id=378379759-29-72&amp;n=21"/>
          <p:cNvPicPr/>
          <p:nvPr/>
        </p:nvPicPr>
        <p:blipFill>
          <a:blip r:embed="rId1"/>
          <a:stretch/>
        </p:blipFill>
        <p:spPr>
          <a:xfrm>
            <a:off x="2627280" y="314172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 всегда задержива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4" name="Picture 5" descr="http://im0-tub-ru.yandex.net/i?id=32019160-14-72&amp;n=21"/>
          <p:cNvPicPr/>
          <p:nvPr/>
        </p:nvPicPr>
        <p:blipFill>
          <a:blip r:embed="rId1"/>
          <a:stretch/>
        </p:blipFill>
        <p:spPr>
          <a:xfrm>
            <a:off x="4859280" y="3357720"/>
            <a:ext cx="3384720" cy="24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39528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7" name="Picture 4" descr="pic_8[1]"/>
          <p:cNvPicPr/>
          <p:nvPr/>
        </p:nvPicPr>
        <p:blipFill>
          <a:blip r:embed="rId1"/>
          <a:stretch/>
        </p:blipFill>
        <p:spPr>
          <a:xfrm>
            <a:off x="3492360" y="2708280"/>
            <a:ext cx="388800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, из семейства пасленовых, являются родственниками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0" name="Picture 5" descr="iCA6FUNGU"/>
          <p:cNvPicPr/>
          <p:nvPr/>
        </p:nvPicPr>
        <p:blipFill>
          <a:blip r:embed="rId1"/>
          <a:stretch/>
        </p:blipFill>
        <p:spPr>
          <a:xfrm>
            <a:off x="5143680" y="3143160"/>
            <a:ext cx="3527280" cy="34243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ие родственники табака: картофель, томат, баклажаны, красный пере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3" name="Picture 5" descr="g0102966"/>
          <p:cNvPicPr/>
          <p:nvPr/>
        </p:nvPicPr>
        <p:blipFill>
          <a:blip r:embed="rId1"/>
          <a:stretch/>
        </p:blipFill>
        <p:spPr>
          <a:xfrm>
            <a:off x="1214280" y="3286080"/>
            <a:ext cx="3171960" cy="2808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674" name="Picture 4" descr="g0214767"/>
          <p:cNvPicPr/>
          <p:nvPr/>
        </p:nvPicPr>
        <p:blipFill>
          <a:blip r:embed="rId2"/>
          <a:stretch/>
        </p:blipFill>
        <p:spPr>
          <a:xfrm>
            <a:off x="5000760" y="4857840"/>
            <a:ext cx="3786120" cy="1706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675" name="Picture 6" descr="g0214736"/>
          <p:cNvPicPr/>
          <p:nvPr/>
        </p:nvPicPr>
        <p:blipFill>
          <a:blip r:embed="rId3"/>
          <a:stretch/>
        </p:blipFill>
        <p:spPr>
          <a:xfrm>
            <a:off x="5072040" y="2571840"/>
            <a:ext cx="3672000" cy="18604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урение влияет на работу сердц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8" name="Picture 5" descr=""/>
          <p:cNvPicPr/>
          <p:nvPr/>
        </p:nvPicPr>
        <p:blipFill>
          <a:blip r:embed="rId1"/>
          <a:stretch/>
        </p:blipFill>
        <p:spPr>
          <a:xfrm>
            <a:off x="5429160" y="3000240"/>
            <a:ext cx="3218040" cy="358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ловек выкуривает ежедневно 20 сигарет, то его сердце около 10 часов работает в ускоренном темп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1" name="Picture 6" descr="PE15486"/>
          <p:cNvPicPr/>
          <p:nvPr/>
        </p:nvPicPr>
        <p:blipFill>
          <a:blip r:embed="rId1"/>
          <a:stretch/>
        </p:blipFill>
        <p:spPr>
          <a:xfrm>
            <a:off x="1714680" y="3357720"/>
            <a:ext cx="585756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иолог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зывает у человека смола, образующаяся при сгорании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4" name="Picture 7" descr="iCAFQG82L"/>
          <p:cNvPicPr/>
          <p:nvPr/>
        </p:nvPicPr>
        <p:blipFill>
          <a:blip r:embed="rId1"/>
          <a:stretch/>
        </p:blipFill>
        <p:spPr>
          <a:xfrm>
            <a:off x="4141800" y="3068640"/>
            <a:ext cx="2587680" cy="355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качественные опухо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7" name="Рисунок 5" descr="a3697f3cdd00.jpg"/>
          <p:cNvPicPr/>
          <p:nvPr/>
        </p:nvPicPr>
        <p:blipFill>
          <a:blip r:embed="rId1"/>
          <a:stretch/>
        </p:blipFill>
        <p:spPr>
          <a:xfrm>
            <a:off x="3780000" y="2778120"/>
            <a:ext cx="4103640" cy="316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еограф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трана является родиной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0" name="Picture 7" descr="HH05170"/>
          <p:cNvPicPr/>
          <p:nvPr/>
        </p:nvPicPr>
        <p:blipFill>
          <a:blip r:embed="rId1"/>
          <a:stretch/>
        </p:blipFill>
        <p:spPr>
          <a:xfrm>
            <a:off x="5857920" y="3000240"/>
            <a:ext cx="3021120" cy="3578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ак завоевывает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2" descr="https://encrypted-tbn0.gstatic.com/images?q=tbn:ANd9GcTQGgpyOpWxyW-RkW-CPKd3HmCo08yI0KM684S1F8b89b2Llvw4GA"/>
          <p:cNvPicPr/>
          <p:nvPr/>
        </p:nvPicPr>
        <p:blipFill>
          <a:blip r:embed="rId2"/>
          <a:stretch/>
        </p:blipFill>
        <p:spPr>
          <a:xfrm>
            <a:off x="1071720" y="2643120"/>
            <a:ext cx="70722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табака – Южная Амер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3" name="Picture 4" descr="iCAGEFE0D"/>
          <p:cNvPicPr/>
          <p:nvPr/>
        </p:nvPicPr>
        <p:blipFill>
          <a:blip r:embed="rId1"/>
          <a:stretch/>
        </p:blipFill>
        <p:spPr>
          <a:xfrm>
            <a:off x="4929120" y="2500200"/>
            <a:ext cx="3581640" cy="358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закону в России запрещена розничная торговля табачных изделий лицам, не достигши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6" name="Picture 5" descr="http://im7-tub-ru.yandex.net/i?id=475099788-12-72&amp;n=21"/>
          <p:cNvPicPr/>
          <p:nvPr/>
        </p:nvPicPr>
        <p:blipFill>
          <a:blip r:embed="rId1"/>
          <a:stretch/>
        </p:blipFill>
        <p:spPr>
          <a:xfrm>
            <a:off x="2627280" y="378936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л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9" name="Picture 5" descr="http://im0-tub-ru.yandex.net/i?id=229891646-12-72&amp;n=21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стране заживо замуровали в стену пятерых монахов за то, что они курили таба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2" name="Picture 5" descr="http://im6-tub-ru.yandex.net/i?id=272391940-03-72&amp;n=21"/>
          <p:cNvPicPr/>
          <p:nvPr/>
        </p:nvPicPr>
        <p:blipFill>
          <a:blip r:embed="rId1"/>
          <a:stretch/>
        </p:blipFill>
        <p:spPr>
          <a:xfrm>
            <a:off x="2700360" y="3573360"/>
            <a:ext cx="5472000" cy="295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5" name="Picture 5" descr="http://im1-tub-ru.yandex.net/i?id=641577-48-72&amp;n=21"/>
          <p:cNvPicPr/>
          <p:nvPr/>
        </p:nvPicPr>
        <p:blipFill>
          <a:blip r:embed="rId1"/>
          <a:stretch/>
        </p:blipFill>
        <p:spPr>
          <a:xfrm>
            <a:off x="4427640" y="1989000"/>
            <a:ext cx="27604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казание для курильщиков существовало в России при царе Михаиле Романов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8" name="Picture 5" descr="http://im6-tub-ru.yandex.net/i?id=34397179-18-72&amp;n=21"/>
          <p:cNvPicPr/>
          <p:nvPr/>
        </p:nvPicPr>
        <p:blipFill>
          <a:blip r:embed="rId1"/>
          <a:stretch/>
        </p:blipFill>
        <p:spPr>
          <a:xfrm>
            <a:off x="6227640" y="3357720"/>
            <a:ext cx="2305080" cy="29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али нос и уш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Российский царь обязал своих подданных курить трубки, а курение табака стало косвенной причиной его смер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3" name="Picture 5" descr="http://im4-tub-ru.yandex.net/i?id=32348260-09-72&amp;n=21"/>
          <p:cNvPicPr/>
          <p:nvPr/>
        </p:nvPicPr>
        <p:blipFill>
          <a:blip r:embed="rId1"/>
          <a:stretch/>
        </p:blipFill>
        <p:spPr>
          <a:xfrm>
            <a:off x="4500720" y="3573360"/>
            <a:ext cx="3600360" cy="25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6" name="Picture 5" descr="http://im6-tub-ru.yandex.net/i?id=420022173-12-72&amp;n=21"/>
          <p:cNvPicPr/>
          <p:nvPr/>
        </p:nvPicPr>
        <p:blipFill>
          <a:blip r:embed="rId1"/>
          <a:stretch/>
        </p:blipFill>
        <p:spPr>
          <a:xfrm>
            <a:off x="2700360" y="2276640"/>
            <a:ext cx="360036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стране курильщиков приравнивали к ворам и водили по улице с веревкой на ше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9" name="Picture 5" descr="http://im3-tub-ru.yandex.net/i?id=238271538-31-72&amp;n=21"/>
          <p:cNvPicPr/>
          <p:nvPr/>
        </p:nvPicPr>
        <p:blipFill>
          <a:blip r:embed="rId1"/>
          <a:stretch/>
        </p:blipFill>
        <p:spPr>
          <a:xfrm>
            <a:off x="5508720" y="3429000"/>
            <a:ext cx="331128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ак и здоров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6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10" descr="https://encrypted-tbn3.gstatic.com/images?q=tbn:ANd9GcTUxgCtmKdjTaY_8I2YUEdttkuMubpyd8bHpzVtHXOKk2ehpqnq"/>
          <p:cNvPicPr/>
          <p:nvPr/>
        </p:nvPicPr>
        <p:blipFill>
          <a:blip r:embed="rId2"/>
          <a:stretch/>
        </p:blipFill>
        <p:spPr>
          <a:xfrm>
            <a:off x="1500120" y="2286000"/>
            <a:ext cx="6357960" cy="38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2" name="Picture 7" descr="http://im3-tub-ru.yandex.net/i?id=134339223-22-72&amp;n=21"/>
          <p:cNvPicPr/>
          <p:nvPr/>
        </p:nvPicPr>
        <p:blipFill>
          <a:blip r:embed="rId1"/>
          <a:stretch/>
        </p:blipFill>
        <p:spPr>
          <a:xfrm>
            <a:off x="1116000" y="3068640"/>
            <a:ext cx="33116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русских правителей запретил кур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Михаил Фёдорови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7" name="Picture 4" descr="i"/>
          <p:cNvPicPr/>
          <p:nvPr/>
        </p:nvPicPr>
        <p:blipFill>
          <a:blip r:embed="rId1"/>
          <a:stretch/>
        </p:blipFill>
        <p:spPr>
          <a:xfrm>
            <a:off x="5143680" y="2286000"/>
            <a:ext cx="3003480" cy="37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тмечается Всемирный день без таб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0" name="Picture 7" descr="iCARCV9BE"/>
          <p:cNvPicPr/>
          <p:nvPr/>
        </p:nvPicPr>
        <p:blipFill>
          <a:blip r:embed="rId1"/>
          <a:stretch/>
        </p:blipFill>
        <p:spPr>
          <a:xfrm>
            <a:off x="1285920" y="3000240"/>
            <a:ext cx="6215040" cy="350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м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3" name="Picture 8" descr="f_15420674"/>
          <p:cNvPicPr/>
          <p:nvPr/>
        </p:nvPicPr>
        <p:blipFill>
          <a:blip r:embed="rId1"/>
          <a:stretch/>
        </p:blipFill>
        <p:spPr>
          <a:xfrm>
            <a:off x="2143080" y="2500200"/>
            <a:ext cx="496260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№ 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, кем и откуда был впервые завезен табак в Европ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6" name="Picture 5" descr="http://im3-tub-ru.yandex.net/i?id=500249628-24-72&amp;n=21"/>
          <p:cNvPicPr/>
          <p:nvPr/>
        </p:nvPicPr>
        <p:blipFill>
          <a:blip r:embed="rId1"/>
          <a:stretch/>
        </p:blipFill>
        <p:spPr>
          <a:xfrm>
            <a:off x="2987640" y="3860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 испанцами – из Амер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9" name="Picture 5" descr="Корлумиб1"/>
          <p:cNvPicPr/>
          <p:nvPr/>
        </p:nvPicPr>
        <p:blipFill>
          <a:blip r:embed="rId1"/>
          <a:stretch/>
        </p:blipFill>
        <p:spPr>
          <a:xfrm>
            <a:off x="4357800" y="2786040"/>
            <a:ext cx="3517920" cy="3786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№ 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известный мореплаватель первым завез табак в Европ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2" name="Picture 5" descr="http://im0-tub-ru.yandex.net/i?id=62875164-59-72&amp;n=21"/>
          <p:cNvPicPr/>
          <p:nvPr/>
        </p:nvPicPr>
        <p:blipFill>
          <a:blip r:embed="rId1"/>
          <a:stretch/>
        </p:blipFill>
        <p:spPr>
          <a:xfrm>
            <a:off x="5364000" y="3573360"/>
            <a:ext cx="2232360" cy="21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ристофор Колум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5" name="Picture 4" descr="iCARN0YII"/>
          <p:cNvPicPr/>
          <p:nvPr/>
        </p:nvPicPr>
        <p:blipFill>
          <a:blip r:embed="rId1"/>
          <a:stretch/>
        </p:blipFill>
        <p:spPr>
          <a:xfrm>
            <a:off x="5143680" y="1785960"/>
            <a:ext cx="3240000" cy="4467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, обществозн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 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м Царе в России появился таба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8" name="Picture 5" descr="http://im0-tub-ru.yandex.net/i?id=661388797-36-72&amp;n=21"/>
          <p:cNvPicPr/>
          <p:nvPr/>
        </p:nvPicPr>
        <p:blipFill>
          <a:blip r:embed="rId1"/>
          <a:stretch/>
        </p:blipFill>
        <p:spPr>
          <a:xfrm>
            <a:off x="6084720" y="3573360"/>
            <a:ext cx="266400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ифы о курен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6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4" name="Picture 6" descr="https://encrypted-tbn3.gstatic.com/images?q=tbn:ANd9GcQU06rRib47yzRHnRGEecPlxBRnm5sBg-ewBVtwY6epJ5kqguRcOw"/>
          <p:cNvPicPr/>
          <p:nvPr/>
        </p:nvPicPr>
        <p:blipFill>
          <a:blip r:embed="rId2"/>
          <a:stretch/>
        </p:blipFill>
        <p:spPr>
          <a:xfrm>
            <a:off x="1285920" y="2571840"/>
            <a:ext cx="664380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Иван Гроз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1" name="Picture 4" descr="iCATLNFH3"/>
          <p:cNvPicPr/>
          <p:nvPr/>
        </p:nvPicPr>
        <p:blipFill>
          <a:blip r:embed="rId1"/>
          <a:stretch/>
        </p:blipFill>
        <p:spPr>
          <a:xfrm>
            <a:off x="4929120" y="2071800"/>
            <a:ext cx="2979720" cy="41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итерату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..и вдруг я вспомнил, что жители Бразилии от всех почти болезней лечатся табаком; между тем в одном из моих сундуков лежало несколько пачек: одна большая пачка готового табаку, а остальные листового. &lt;...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, как применяется табак против болезней, не знал даже, помогает ли он от лихо­радки; поэтому я произвел несколько опытов в надежде, что так или иначе действие его должно   проявиться. Прежде  всего я отделил из пачки один лист, положил его в рот и разжевал. Табак был еще зеленый, очень крепкий; вдобавок я к нему не привык, так что сначала он почти одурманил меня. Затем я положил немного табаку в ром и настаивал его час или два, с тем, чтобы выпить эту настойку перед сном. Наконец я сжег не­много табаку в жаровне и втяги­вал носом дым до тех пор, пока не начинал задыхаться; я повто­рил эту операцию несколько раз. &lt;...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ечение табаком, вероятно, никогда еще до сих пор не применялось против лихорадки; испытав на себе, я не решусь никому рекомендовать его. Правда, оно остановило лихорадку, но вместе с тем страшно ослаби­ло меня, и в течение некоторого времени я страдал судорогами во всем теле и нервною дрожью"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ель Дефо «Робинзон Крузо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6" name="Picture 5" descr="http://im2-tub-ru.yandex.net/i?id=87510911-06-72&amp;n=21"/>
          <p:cNvPicPr/>
          <p:nvPr/>
        </p:nvPicPr>
        <p:blipFill>
          <a:blip r:embed="rId1"/>
          <a:stretch/>
        </p:blipFill>
        <p:spPr>
          <a:xfrm>
            <a:off x="900000" y="2852640"/>
            <a:ext cx="2735280" cy="331308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7" descr="http://im7-tub-ru.yandex.net/i?id=236309757-37-72&amp;n=21"/>
          <p:cNvPicPr/>
          <p:nvPr/>
        </p:nvPicPr>
        <p:blipFill>
          <a:blip r:embed="rId2"/>
          <a:stretch/>
        </p:blipFill>
        <p:spPr>
          <a:xfrm>
            <a:off x="565164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ец. кур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№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апля никотина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0" name="Picture 5" descr="http://im7-tub-ru.yandex.net/i?id=349175380-51-72&amp;n=21"/>
          <p:cNvPicPr/>
          <p:nvPr/>
        </p:nvPicPr>
        <p:blipFill>
          <a:blip r:embed="rId1"/>
          <a:stretch/>
        </p:blipFill>
        <p:spPr>
          <a:xfrm>
            <a:off x="4140360" y="2637000"/>
            <a:ext cx="107604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апля никотина – убивает лошадь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3" name="Picture 5" descr="http://im1-tub-ru.yandex.net/i?id=508336355-08-72&amp;n=21"/>
          <p:cNvPicPr/>
          <p:nvPr/>
        </p:nvPicPr>
        <p:blipFill>
          <a:blip r:embed="rId1"/>
          <a:stretch/>
        </p:blipFill>
        <p:spPr>
          <a:xfrm>
            <a:off x="1979640" y="2852640"/>
            <a:ext cx="5688000" cy="338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№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фразу: «Человек живет столько, сколько живет его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6" name="Picture 5" descr="g0417732"/>
          <p:cNvPicPr/>
          <p:nvPr/>
        </p:nvPicPr>
        <p:blipFill>
          <a:blip r:embed="rId1"/>
          <a:stretch/>
        </p:blipFill>
        <p:spPr>
          <a:xfrm>
            <a:off x="4500720" y="2428920"/>
            <a:ext cx="2500200" cy="42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живет столько, сколько живет его сердц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9" name="Picture 4" descr="HM11966"/>
          <p:cNvPicPr/>
          <p:nvPr/>
        </p:nvPicPr>
        <p:blipFill>
          <a:blip r:embed="rId1"/>
          <a:stretch/>
        </p:blipFill>
        <p:spPr>
          <a:xfrm>
            <a:off x="1785960" y="2643120"/>
            <a:ext cx="535788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быта, предназначенный для хранения табака, распространенный в среде придворной знати в XVII-XVIII в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кер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4" name="Picture 5" descr="http://im2-tub-ru.yandex.net/i?id=262408674-41-72&amp;n=21"/>
          <p:cNvPicPr/>
          <p:nvPr/>
        </p:nvPicPr>
        <p:blipFill>
          <a:blip r:embed="rId1"/>
          <a:stretch/>
        </p:blipFill>
        <p:spPr>
          <a:xfrm>
            <a:off x="3708360" y="321300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, по которой в России XVII в. было запрещено кур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7" name="Picture 5" descr="http://im6-tub-ru.yandex.net/i?id=211781258-01-72&amp;n=21"/>
          <p:cNvPicPr/>
          <p:nvPr/>
        </p:nvPicPr>
        <p:blipFill>
          <a:blip r:embed="rId1"/>
          <a:stretch/>
        </p:blipFill>
        <p:spPr>
          <a:xfrm>
            <a:off x="4788000" y="2997360"/>
            <a:ext cx="316872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урение и зак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6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8" descr="https://encrypted-tbn2.gstatic.com/images?q=tbn:ANd9GcRKKRJFVFlk6ZsZDE7PR27dXE5lBWoHkhenb2AprtMorQ9S5V_2"/>
          <p:cNvPicPr/>
          <p:nvPr/>
        </p:nvPicPr>
        <p:blipFill>
          <a:blip r:embed="rId2"/>
          <a:stretch/>
        </p:blipFill>
        <p:spPr>
          <a:xfrm>
            <a:off x="857160" y="2714760"/>
            <a:ext cx="2571840" cy="321444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10" descr="https://encrypted-tbn0.gstatic.com/images?q=tbn:ANd9GcQAiogzyjV_gY6CAQdxqcp-4bL1m6xhH-WO-bEpsjQgW15rEO8"/>
          <p:cNvPicPr/>
          <p:nvPr/>
        </p:nvPicPr>
        <p:blipFill>
          <a:blip r:embed="rId3"/>
          <a:stretch/>
        </p:blipFill>
        <p:spPr>
          <a:xfrm>
            <a:off x="5143680" y="271476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0" name="Picture 5" descr="http://im4-tub-ru.yandex.net/i?id=300285367-48-72&amp;n=21"/>
          <p:cNvPicPr/>
          <p:nvPr/>
        </p:nvPicPr>
        <p:blipFill>
          <a:blip r:embed="rId1"/>
          <a:stretch/>
        </p:blipFill>
        <p:spPr>
          <a:xfrm>
            <a:off x="2484360" y="2637000"/>
            <a:ext cx="4751640" cy="367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, от названия которого произошло слово "табак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3" name="Picture 5" descr="http://im5-tub-ru.yandex.net/i?id=396636096-13-72&amp;n=21"/>
          <p:cNvPicPr/>
          <p:nvPr/>
        </p:nvPicPr>
        <p:blipFill>
          <a:blip r:embed="rId1"/>
          <a:stretch/>
        </p:blipFill>
        <p:spPr>
          <a:xfrm>
            <a:off x="3851280" y="3860640"/>
            <a:ext cx="42498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а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6" name="Picture 5" descr="http://im6-tub-ru.yandex.net/i?id=167982053-60-72&amp;n=21"/>
          <p:cNvPicPr/>
          <p:nvPr/>
        </p:nvPicPr>
        <p:blipFill>
          <a:blip r:embed="rId1"/>
          <a:stretch/>
        </p:blipFill>
        <p:spPr>
          <a:xfrm>
            <a:off x="2268360" y="3357720"/>
            <a:ext cx="453564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прос № 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устя какое время после курения сигареты никотин попадает в мозг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9" name="Picture 2" descr="http://im6-tub-ru.yandex.net/i?id=700834858-19-72&amp;n=21"/>
          <p:cNvPicPr/>
          <p:nvPr/>
        </p:nvPicPr>
        <p:blipFill>
          <a:blip r:embed="rId1"/>
          <a:stretch/>
        </p:blipFill>
        <p:spPr>
          <a:xfrm>
            <a:off x="5940360" y="2708280"/>
            <a:ext cx="21909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с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2" name="Picture 2" descr="http://im0-tub-ru.yandex.net/i?id=386519705-13-72&amp;n=21"/>
          <p:cNvPicPr/>
          <p:nvPr/>
        </p:nvPicPr>
        <p:blipFill>
          <a:blip r:embed="rId1"/>
          <a:stretch/>
        </p:blipFill>
        <p:spPr>
          <a:xfrm>
            <a:off x="3203640" y="2492280"/>
            <a:ext cx="316872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WordArt 6"/>
          <p:cNvSpPr txBox="1"/>
          <p:nvPr/>
        </p:nvSpPr>
        <p:spPr>
          <a:xfrm>
            <a:off x="1042920" y="1125360"/>
            <a:ext cx="712944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одведение итогов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4" name="Picture 7" descr="ED07706"/>
          <p:cNvPicPr/>
          <p:nvPr/>
        </p:nvPicPr>
        <p:blipFill>
          <a:blip r:embed="rId1"/>
          <a:stretch/>
        </p:blipFill>
        <p:spPr>
          <a:xfrm>
            <a:off x="2556000" y="2924280"/>
            <a:ext cx="429876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714240" y="1196640"/>
            <a:ext cx="8429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- виктори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ьные учебники против курения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23" name="Picture 7" descr="XM24"/>
          <p:cNvPicPr/>
          <p:nvPr/>
        </p:nvPicPr>
        <p:blipFill>
          <a:blip r:embed="rId1"/>
          <a:stretch/>
        </p:blipFill>
        <p:spPr>
          <a:xfrm>
            <a:off x="1928880" y="3000240"/>
            <a:ext cx="5572080" cy="3357720"/>
          </a:xfrm>
          <a:prstGeom prst="rect">
            <a:avLst/>
          </a:prstGeom>
          <a:ln w="0">
            <a:noFill/>
          </a:ln>
        </p:spPr>
      </p:pic>
      <p:sp>
        <p:nvSpPr>
          <p:cNvPr id="1624" name="Text Box 8"/>
          <p:cNvSpPr/>
          <p:nvPr/>
        </p:nvSpPr>
        <p:spPr>
          <a:xfrm>
            <a:off x="1116000" y="785880"/>
            <a:ext cx="72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 № 2 р. п. Самойло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тематик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усский язык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иолог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еограф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тория, обществознани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итератур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пец. курс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тема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68360" y="1803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человека бьется с частотой 70 ударов  в минуту, сердце курящего вынуждено делать на 5-10 ударов в минуту больше. Сколько дополнительных ударов приходится делать сердцу курильщика за сутк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0" name="Picture 5" descr="http://im5-tub-ru.yandex.net/i?id=198339753-32-72&amp;n=21"/>
          <p:cNvPicPr/>
          <p:nvPr/>
        </p:nvPicPr>
        <p:blipFill>
          <a:blip r:embed="rId1"/>
          <a:stretch/>
        </p:blipFill>
        <p:spPr>
          <a:xfrm>
            <a:off x="5435640" y="4005360"/>
            <a:ext cx="2881440" cy="209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3:59:59Z</dcterms:created>
  <dc:creator>ната</dc:creator>
  <dc:description/>
  <dc:language>en-US</dc:language>
  <cp:lastModifiedBy>Ирина</cp:lastModifiedBy>
  <dcterms:modified xsi:type="dcterms:W3CDTF">2014-02-25T02:32:03Z</dcterms:modified>
  <cp:revision>407</cp:revision>
  <dc:subject/>
  <dc:title>СВОЯ ИГРА</dc:title>
</cp:coreProperties>
</file>