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30.wmf" ContentType="image/x-wmf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41.jpeg" ContentType="image/jpeg"/>
  <Override PartName="/ppt/media/image14.jpeg" ContentType="image/jpeg"/>
  <Override PartName="/ppt/media/image45.jpeg" ContentType="image/jpeg"/>
  <Override PartName="/ppt/media/image70.wmf" ContentType="image/x-wmf"/>
  <Override PartName="/ppt/media/image60.jpeg" ContentType="image/jpeg"/>
  <Override PartName="/ppt/media/image15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32.wmf" ContentType="image/x-wmf"/>
  <Override PartName="/ppt/media/image22.jpeg" ContentType="image/jpeg"/>
  <Override PartName="/ppt/media/image9.png" ContentType="image/png"/>
  <Override PartName="/ppt/media/image68.jpeg" ContentType="image/jpeg"/>
  <Override PartName="/ppt/media/image24.jpeg" ContentType="image/jpeg"/>
  <Override PartName="/ppt/media/image67.jpeg" ContentType="image/jpeg"/>
  <Override PartName="/ppt/media/image23.jpeg" ContentType="image/jpeg"/>
  <Override PartName="/ppt/media/image65.jpeg" ContentType="image/jpeg"/>
  <Override PartName="/ppt/media/image8.jpeg" ContentType="image/jpeg"/>
  <Override PartName="/ppt/media/image19.jpeg" ContentType="image/jpeg"/>
  <Override PartName="/ppt/media/image63.jpeg" ContentType="image/jpeg"/>
  <Override PartName="/ppt/media/image61.wmf" ContentType="image/x-wmf"/>
  <Override PartName="/ppt/media/image64.jpeg" ContentType="image/jpeg"/>
  <Override PartName="/ppt/media/image31.wmf" ContentType="image/x-wmf"/>
  <Override PartName="/ppt/media/image38.jpeg" ContentType="image/jpeg"/>
  <Override PartName="/ppt/media/image16.wmf" ContentType="image/x-wmf"/>
  <Override PartName="/ppt/media/image66.jpeg" ContentType="image/jpeg"/>
  <Override PartName="/ppt/media/image51.jpeg" ContentType="image/jpeg"/>
  <Override PartName="/ppt/media/image69.jpeg" ContentType="image/jpeg"/>
  <Override PartName="/ppt/media/image62.wmf" ContentType="image/x-wmf"/>
  <Override PartName="/ppt/media/image25.jpeg" ContentType="image/jpeg"/>
  <Override PartName="/ppt/media/image2.png" ContentType="image/png"/>
  <Override PartName="/ppt/media/image4.jpeg" ContentType="image/jpeg"/>
  <Override PartName="/ppt/media/image27.jpeg" ContentType="image/jpeg"/>
  <Override PartName="/ppt/media/image50.jpeg" ContentType="image/jpeg"/>
  <Override PartName="/ppt/media/image35.jpeg" ContentType="image/jpeg"/>
  <Override PartName="/ppt/media/image26.jpeg" ContentType="image/jpeg"/>
  <Override PartName="/ppt/media/image7.gif" ContentType="image/gif"/>
  <Override PartName="/ppt/media/image33.wmf" ContentType="image/x-wmf"/>
  <Override PartName="/ppt/media/image1.png" ContentType="image/pn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4.wmf" ContentType="image/x-wmf"/>
  <Override PartName="/ppt/media/image10.png" ContentType="image/png"/>
  <Override PartName="/ppt/media/image36.jpeg" ContentType="image/jpeg"/>
  <Override PartName="/ppt/media/image29.jpeg" ContentType="image/jpeg"/>
  <Override PartName="/ppt/media/image12.jpeg" ContentType="image/jpeg"/>
  <Override PartName="/ppt/media/image37.wmf" ContentType="image/x-wmf"/>
  <Override PartName="/ppt/media/image44.jpeg" ContentType="image/jpeg"/>
  <Override PartName="/ppt/media/image46.jpeg" ContentType="image/jpeg"/>
  <Override PartName="/ppt/media/image47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  <p:sldId id="282" r:id="rId54"/>
    <p:sldId id="283" r:id="rId55"/>
    <p:sldId id="284" r:id="rId56"/>
    <p:sldId id="285" r:id="rId57"/>
    <p:sldId id="286" r:id="rId58"/>
    <p:sldId id="287" r:id="rId59"/>
    <p:sldId id="288" r:id="rId60"/>
    <p:sldId id="289" r:id="rId61"/>
    <p:sldId id="290" r:id="rId62"/>
    <p:sldId id="291" r:id="rId63"/>
    <p:sldId id="292" r:id="rId64"/>
    <p:sldId id="293" r:id="rId65"/>
    <p:sldId id="294" r:id="rId66"/>
    <p:sldId id="295" r:id="rId67"/>
    <p:sldId id="296" r:id="rId68"/>
    <p:sldId id="297" r:id="rId69"/>
    <p:sldId id="298" r:id="rId70"/>
    <p:sldId id="299" r:id="rId71"/>
    <p:sldId id="300" r:id="rId72"/>
    <p:sldId id="301" r:id="rId73"/>
    <p:sldId id="302" r:id="rId74"/>
    <p:sldId id="303" r:id="rId75"/>
    <p:sldId id="304" r:id="rId76"/>
    <p:sldId id="305" r:id="rId77"/>
    <p:sldId id="306" r:id="rId78"/>
    <p:sldId id="307" r:id="rId79"/>
    <p:sldId id="308" r:id="rId80"/>
    <p:sldId id="309" r:id="rId81"/>
    <p:sldId id="310" r:id="rId82"/>
    <p:sldId id="311" r:id="rId83"/>
    <p:sldId id="312" r:id="rId84"/>
    <p:sldId id="313" r:id="rId85"/>
    <p:sldId id="314" r:id="rId86"/>
    <p:sldId id="315" r:id="rId87"/>
    <p:sldId id="316" r:id="rId88"/>
    <p:sldId id="317" r:id="rId89"/>
    <p:sldId id="318" r:id="rId90"/>
    <p:sldId id="319" r:id="rId91"/>
    <p:sldId id="320" r:id="rId92"/>
    <p:sldId id="321" r:id="rId93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slide" Target="slides/slide27.xml"/><Relationship Id="rId55" Type="http://schemas.openxmlformats.org/officeDocument/2006/relationships/slide" Target="slides/slide28.xml"/><Relationship Id="rId56" Type="http://schemas.openxmlformats.org/officeDocument/2006/relationships/slide" Target="slides/slide29.xml"/><Relationship Id="rId57" Type="http://schemas.openxmlformats.org/officeDocument/2006/relationships/slide" Target="slides/slide30.xml"/><Relationship Id="rId58" Type="http://schemas.openxmlformats.org/officeDocument/2006/relationships/slide" Target="slides/slide31.xml"/><Relationship Id="rId59" Type="http://schemas.openxmlformats.org/officeDocument/2006/relationships/slide" Target="slides/slide32.xml"/><Relationship Id="rId60" Type="http://schemas.openxmlformats.org/officeDocument/2006/relationships/slide" Target="slides/slide33.xml"/><Relationship Id="rId61" Type="http://schemas.openxmlformats.org/officeDocument/2006/relationships/slide" Target="slides/slide34.xml"/><Relationship Id="rId62" Type="http://schemas.openxmlformats.org/officeDocument/2006/relationships/slide" Target="slides/slide35.xml"/><Relationship Id="rId63" Type="http://schemas.openxmlformats.org/officeDocument/2006/relationships/slide" Target="slides/slide36.xml"/><Relationship Id="rId64" Type="http://schemas.openxmlformats.org/officeDocument/2006/relationships/slide" Target="slides/slide37.xml"/><Relationship Id="rId65" Type="http://schemas.openxmlformats.org/officeDocument/2006/relationships/slide" Target="slides/slide38.xml"/><Relationship Id="rId66" Type="http://schemas.openxmlformats.org/officeDocument/2006/relationships/slide" Target="slides/slide39.xml"/><Relationship Id="rId67" Type="http://schemas.openxmlformats.org/officeDocument/2006/relationships/slide" Target="slides/slide40.xml"/><Relationship Id="rId68" Type="http://schemas.openxmlformats.org/officeDocument/2006/relationships/slide" Target="slides/slide41.xml"/><Relationship Id="rId69" Type="http://schemas.openxmlformats.org/officeDocument/2006/relationships/slide" Target="slides/slide42.xml"/><Relationship Id="rId70" Type="http://schemas.openxmlformats.org/officeDocument/2006/relationships/slide" Target="slides/slide43.xml"/><Relationship Id="rId71" Type="http://schemas.openxmlformats.org/officeDocument/2006/relationships/slide" Target="slides/slide44.xml"/><Relationship Id="rId72" Type="http://schemas.openxmlformats.org/officeDocument/2006/relationships/slide" Target="slides/slide45.xml"/><Relationship Id="rId73" Type="http://schemas.openxmlformats.org/officeDocument/2006/relationships/slide" Target="slides/slide46.xml"/><Relationship Id="rId74" Type="http://schemas.openxmlformats.org/officeDocument/2006/relationships/slide" Target="slides/slide47.xml"/><Relationship Id="rId75" Type="http://schemas.openxmlformats.org/officeDocument/2006/relationships/slide" Target="slides/slide48.xml"/><Relationship Id="rId76" Type="http://schemas.openxmlformats.org/officeDocument/2006/relationships/slide" Target="slides/slide49.xml"/><Relationship Id="rId77" Type="http://schemas.openxmlformats.org/officeDocument/2006/relationships/slide" Target="slides/slide50.xml"/><Relationship Id="rId78" Type="http://schemas.openxmlformats.org/officeDocument/2006/relationships/slide" Target="slides/slide51.xml"/><Relationship Id="rId79" Type="http://schemas.openxmlformats.org/officeDocument/2006/relationships/slide" Target="slides/slide52.xml"/><Relationship Id="rId80" Type="http://schemas.openxmlformats.org/officeDocument/2006/relationships/slide" Target="slides/slide53.xml"/><Relationship Id="rId81" Type="http://schemas.openxmlformats.org/officeDocument/2006/relationships/slide" Target="slides/slide54.xml"/><Relationship Id="rId82" Type="http://schemas.openxmlformats.org/officeDocument/2006/relationships/slide" Target="slides/slide55.xml"/><Relationship Id="rId83" Type="http://schemas.openxmlformats.org/officeDocument/2006/relationships/slide" Target="slides/slide56.xml"/><Relationship Id="rId84" Type="http://schemas.openxmlformats.org/officeDocument/2006/relationships/slide" Target="slides/slide57.xml"/><Relationship Id="rId85" Type="http://schemas.openxmlformats.org/officeDocument/2006/relationships/slide" Target="slides/slide58.xml"/><Relationship Id="rId86" Type="http://schemas.openxmlformats.org/officeDocument/2006/relationships/slide" Target="slides/slide59.xml"/><Relationship Id="rId87" Type="http://schemas.openxmlformats.org/officeDocument/2006/relationships/slide" Target="slides/slide60.xml"/><Relationship Id="rId88" Type="http://schemas.openxmlformats.org/officeDocument/2006/relationships/slide" Target="slides/slide61.xml"/><Relationship Id="rId89" Type="http://schemas.openxmlformats.org/officeDocument/2006/relationships/slide" Target="slides/slide62.xml"/><Relationship Id="rId90" Type="http://schemas.openxmlformats.org/officeDocument/2006/relationships/slide" Target="slides/slide63.xml"/><Relationship Id="rId91" Type="http://schemas.openxmlformats.org/officeDocument/2006/relationships/slide" Target="slides/slide64.xml"/><Relationship Id="rId92" Type="http://schemas.openxmlformats.org/officeDocument/2006/relationships/slide" Target="slides/slide65.xml"/><Relationship Id="rId93" Type="http://schemas.openxmlformats.org/officeDocument/2006/relationships/slide" Target="slides/slide66.xml"/><Relationship Id="rId9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dt" idx="73"/>
          </p:nvPr>
        </p:nvSpPr>
        <p:spPr>
          <a:xfrm>
            <a:off x="381744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 type="ftr" idx="74"/>
          </p:nvPr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 type="sldNum" idx="75"/>
          </p:nvPr>
        </p:nvSpPr>
        <p:spPr>
          <a:xfrm>
            <a:off x="381744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FE2C-9520-4D58-956D-50A6D5B066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Rectangle 7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A439-8F87-47A2-8B88-8770D7DC93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C31E-AE0E-4034-92C3-BE739331D2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DD415-AF16-40D5-BD1D-A228AEA4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3EFD3-D080-4209-BB8C-D691564F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2CCAC-4E49-488F-86F6-FDC2FA88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621A8-C4FE-4043-9B0A-3C6FA632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1694E-FDC0-42E4-8E86-33FC38EC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ADC17-CD5C-4151-B143-2629E7E4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203AA-7B17-43C3-A1C1-3A10D82B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9030A-C6D8-481F-9622-025E24E3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A654E-BEBC-4F08-BB8D-37A9FCF2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37A1B-B156-4050-8CC2-C29AD389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4E9F9-74E3-463C-9D29-482DEAE1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15C21-87E3-4404-8154-050A2C4F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4C48B-E9AD-4E4D-9389-C8D3B178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45DEA-A1BB-4106-9AD7-97DBCFF5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5864A-77DF-47F0-9419-644270AA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332B9-6B5E-41C1-8C81-D55FF70B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85078-7569-4689-B34F-7720605D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760B0-F070-4888-9041-A81D7E50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D43BE-7C28-4E89-9694-83D04951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989DA-AB7D-4A2F-93C7-7B22CA13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C2EE2-6401-4E66-90C7-5C3A3618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D8C08-125D-4E94-8B5E-16945297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80943-B233-4731-B997-0A056F21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EA244-577F-4DAB-9765-C54F109D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D88ED-4B80-4F5E-A566-E81E2460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20D9E-C493-4265-81BA-E4DC4912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E4F50-A921-4242-81AD-1210F760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326D3-963B-4387-B1DA-0BF8F4A7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A3693-C262-4CCA-BFE3-EA3AE032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4A120-9D69-43F6-B5C0-CAA09247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0F1-0155-49E2-8546-4C3EBDC9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8280C-21FF-4203-860B-DA3A1CB7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4E723-62C8-4CFC-BD88-3C1EF1ED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054E1-D3EC-42C7-9CCE-49576333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4DBDF-FA2C-468A-9D91-3748B092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D82E2-B2CA-4D3C-96D3-D7ECA45C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ED952-DFBE-4D02-A4B0-462CEC69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65D24-F91B-4CFE-9B08-9112C0C2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28CC9-A3BC-439F-8A26-AB872FD3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92DB0-D803-4769-B548-7A3CDFA4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4C956-0CF7-484E-9281-7B45BD4A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0461-795B-4B73-A2D7-A599D1A4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98B64-89D2-48F0-B353-8AD5A2DB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CD6EE-BE72-4496-A037-7DCF0841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37548-5C9A-4776-A846-7F732566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06E43-1DE7-4FF7-9191-DCC7E32D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9C4A4-832B-4CAB-9AD8-79389C4F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76D1F-3316-4252-BB14-6180D434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82CF2-3276-49B9-9A48-C42E1340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DCC40-5CA7-4B9F-A987-FC992C60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320E3-58AE-4FA6-882D-C38A7036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D5C0A-8FDC-4AA5-9EAA-AEF26FBE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60D-267B-46B1-BF44-90E3407E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7BBA6-C4C4-4C65-816D-F0022775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8CC11-F1B2-4B50-B829-65830663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D06E6-E13A-4130-82ED-AFA6EE56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B9498-B3D8-428F-B6B1-6E561722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21CDA-2C95-4EA8-968C-CDBD9C7B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421CC-F216-48A8-92C9-7D8C8411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00DD2-C7EE-4AC1-BFBC-8010121F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E25A0-9DC0-4CA8-93D8-E88973EF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CFA5A9-E314-44B9-B561-C4761F46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6EBFA5-E170-4372-8424-0C892C26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40C-3E25-49C5-8C71-04386347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151D00-C168-4AD4-B608-FE8D543B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525EA-2367-4CE1-9DBD-B21F15DD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69916-A3C6-47BE-ADD2-3F855FF8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90C24A-A28F-44BA-A92E-D1960344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F1B63-729F-4799-81EB-6E341C17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728EA-AFD2-4D8B-A83F-61956B3C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09883-E8E0-48F0-A61B-4E3D7DD6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1E0AB-0A4A-41AF-B4B5-426619E0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85BBC-4742-42B0-96B2-931BDCDF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70155D-55ED-4926-AE14-EF44826F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77D-E117-4900-9857-733AFE20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B631A-A0A7-4F0F-9BD2-794133DE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57D4B9-D447-4D93-AD77-5D82C13B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D620E5-74A4-402E-B02E-88944D5E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E36247-9C39-479E-8E29-C50F8C59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71B119-3BE3-4E78-BBCC-1EE00749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C4484-D864-4DFC-BC14-41A5DA85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4C260-429A-4411-A5DE-CA5959A5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3879F1-7AE0-4F4B-9CDC-B02FCAFF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FCAC95-3E61-4DAC-94F8-AEE7D5C1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8BFFF-AEF5-4555-9072-81546E93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20AD-EA29-498D-9C92-5066FE14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8B1C4E-412D-4657-BBCB-FA4B90A6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9D20BB-468F-4521-A6C2-B42B31DE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3CFB2D-9316-4FCA-8C31-11178F33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785040-62F4-4C7F-ACBF-177A0A45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26B8CA-E602-4566-894F-879D5D00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D910BF-3B4D-40F4-80E7-B27890C7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DEDE46-2E63-4B09-B179-82313AC7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CAAD48-DDE3-4F8D-BC12-A9611634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99B6E6-AAD8-4968-B665-7A6FABA4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B30916-8FF5-46C6-98A1-3B008149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7F17-7CD2-4A22-935C-863DE33A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2A5D57-4F92-45D7-B240-C1E37BF2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C1BE8-C375-4D2E-A7AD-A4EFEA8F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12AB97-5A55-4016-8886-4A294CD7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73BA9B-00C6-40D1-992E-B767EDF9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AF4A51-3A10-40C5-899B-6CF06FB9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374FC3-5949-43C9-B61A-1755C1AD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7E454B-ACC0-428C-B483-43F4F758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D50F6A-0A96-4F5F-B024-582E1FCC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255486-94BC-4284-965D-95C9E6FA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262D76-E2AB-4249-BBD0-7058DCF2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BC8D-8784-4E1C-8E14-6DB93F81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8BAC9-EEB7-42C8-AC59-9B7AFB8B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AC77B5-0EA5-4382-B4FF-905188F0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3E3019-6524-4380-9EDF-C083F0E1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019922-1B2C-417A-AF51-50AA41EB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DF2233-4553-44AB-B5DD-54B9EF47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787AAA-B087-4136-8AC7-FF596F75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D14A72-88FC-4811-8962-579B691E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B86ED6-530D-4059-8DF9-927CA5AA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ACA7F0-B606-400A-AF2D-CAF0F572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2F5BEF-909A-4AFB-9D78-668FDD23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BA5-9B4B-491B-9104-76163EED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D614A1-5808-4B57-8C2C-88D3769B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1E781B-89F3-456D-8F47-89A210A1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5DBD0B-F90B-4558-8C69-7E69D889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598F5A-1113-4B6C-9C6F-97464E37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390098-F072-4D9A-A21B-09A96513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6334F4-B028-4CF9-A5CD-083CAB12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E47610-54FA-4BA0-8FEF-9FE1E3BA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7BC939-A58D-4B69-AC07-02473D6A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3FD3E3-8B06-461A-B44E-B680E8C9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6F62AD-8170-402E-ACEB-6D281758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033-4DEB-4604-8D47-E3709A2D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F98851-60B3-468F-B4AE-D1AAAF05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22EED4-7F34-4CA3-96D0-A8C13360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C7F594-251B-4B47-90A3-D6B52AAD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45189-33C5-40F6-8202-12FDA03B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CCB42A-0528-41D9-9C92-89ABAE9D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16CE94-1F3C-454F-98FE-F04C92EB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6A1261-F1A1-42B0-AF21-73AD818F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4ACE39-3793-4D14-9F4A-4EA2CE70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41527D-3F77-4F16-A832-B62A5067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D06FA0-8AB1-442C-85C8-467534BA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D9CA-1749-426F-80E0-5803FEE1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ABC196-0C30-4554-9917-147E90ED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0F2239-D8B0-4E32-8B26-0489DA7A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6D4802-09C2-49FE-91A9-F31C299D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EAD91E-DD20-4B24-A05B-8C707B18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398D1F-1A88-4536-8190-DE0C3721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3E82F9-72A7-4DC0-9598-12D96165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D59355-1B6B-4CF3-AD03-D58992EA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53EC3E-BBED-48B1-8A3F-5F9A1F53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95F704-75DB-4584-9586-2F330B79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928C75-E6E6-4901-88C1-91E15D2A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4C61-2264-48B6-8D9E-19BE76F5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A369E0-37EB-43CB-939C-86AF7A62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C9A6D0-4CC3-414B-8F39-FEF7F100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F95DBF-5145-4F0B-98E0-BEBA69D5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C0B9D4-FEF7-4762-B87C-0BC56594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AD810C-A896-4401-9433-E56FF713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B92100-15F0-4046-82BF-B143C741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20A6C4-FC72-4299-B4F1-A91D50B4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B2A278-CA44-4B1C-8B8A-8E8C9A6F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B7102E-CD8E-43E3-B888-6405BDB4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A3CF7C-3C41-4A1C-9CFF-BE27E0F2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E39A-F630-4DA5-8E10-69E9B991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7B4758-5564-41DB-9947-11C9CD45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C5C899-7F7F-482D-8F91-57C6F73C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1E97C6-9585-43E6-8FE5-7FE3D418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FA42D7-14E0-468D-B685-54B547ED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677A5D-9286-4443-B783-F3B5C358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198DD6-CE55-4757-8CFE-F0FE14D5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425E79-214F-42FC-BD47-F7379EC4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DEBD3C-F01E-4A5F-ACA3-384EA5E2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7EDF16-965F-4E4B-873F-F09E35FA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090E9B-50A0-45C3-8862-DF1D14C6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915E-9649-4E04-98D1-089170E5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149ABC-1FCE-4045-9C3B-F793F089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BA7972-D537-4FE9-837F-BB1C020E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5E24D2-F301-4FB4-88D4-C71E839A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C5A537-3B29-42EB-9616-FD2BC535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32D4E5-5671-49D5-9061-007D4A93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A2D359-5FBD-4268-9E43-317038F1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62307C-785B-4418-9E28-3976915C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32217A-80DF-4EEB-A2ED-F6CFDBE8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23F900-5391-449A-BB6C-E5417D69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391907-2406-4A1C-AEEA-54AF7D0E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2EC3-7FCE-4A23-A4B6-C9890E89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9F0755-171E-4700-A9A8-71AE03E1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D260FD-9D45-4007-98DF-FD9F7A58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692A69-72D6-4F40-8DB4-07EB8A77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96020C-1E84-41BC-AF64-DCB25175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37CE38-42A3-41E4-818C-CAB4D486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997D85-70D4-4057-AD3E-FA84E646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A25FD7-EC02-467A-8E33-E1BC7EF5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271795-6519-4C4B-ABEA-160E29E8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FDF9A7-AE94-4FB0-B127-26227529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B8C9F6-88F5-4364-B035-20B893B4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4DE0-F29A-4171-B27B-44670627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CEC32A-883C-4704-A99F-350E44D8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CBA867-5157-4F9A-BC45-C50E2C90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A5FF71-7B77-406F-A002-B734ADDA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215957-A8E5-495F-A4EC-8BF28160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C2C790-854A-4C75-B32D-2C49907D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0B492A-188F-4550-806D-FC7BA5AC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E3122F-CD99-4A38-B549-B8649A31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11977D-9537-4310-BAE0-F70499C7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9A9020-0B00-4D75-9686-4BE37073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C8ED33-EA4D-4038-B3FE-C5022BD5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2851-3231-4032-9D49-A86F9312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BC7D0E-2A38-4C04-AB5B-175434AB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22AA13-B561-460A-8C89-92874CA8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BA8907-2F91-46DD-9682-D9978D3F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031B0D-5FF4-4420-A460-0AFC7EDD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93D62A-03F9-415C-A981-7ABD7E15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D1A2FD-91A1-44BC-A4B6-47851D4E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626B2A-A1AB-4DBF-9283-393F8E06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C88BEC-BAA7-4DE6-9EB8-F4D70E45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071861-58FA-4027-9A30-33A07B13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1BA13E-2A6A-41B1-AB57-6FB06CBB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7FD0-82B9-4E21-BD1D-70DEC85D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2BB767-0AB2-4EBD-BA36-916E9DD6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1553-D0CC-4E93-8DF2-C1B65190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CF8C-5185-4708-A65D-266A47D0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9262-445A-43CE-A1F5-7B67719E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EA67-16F7-4A5A-9386-8457BE79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DF31-AE34-4CD4-866B-52B4E244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5302-79D6-42A5-BE65-C6A0F585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EB63C-57A4-42CB-9E5A-DBA03285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F5665-9189-40F6-B073-0010006F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1C04E-6E06-4C03-9766-1E239F40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70771-188C-4E51-81DA-696E5B8C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B183E-93AE-4132-A3C1-510C749C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D52E9-0215-4274-BDF0-A14A24F5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401C2-1159-4D17-90E2-F03E9403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5C560-9B06-4AF1-83C2-6EFA488D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3F951-9FB1-4225-A5DE-5F9BFC04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4A404-AE68-4189-ABF3-455DA3D0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050E7-9997-46C5-AEFD-6F3F4CB5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5A256-A878-4B93-99B6-38B3E016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A6E81-FAE5-4A35-8A22-8C039351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92438-DF6A-4B32-A4B4-ADB4CEA2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E454A-B8C8-469B-AEE1-0DB60B8D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2C87A-F841-48D4-B76A-607B1C5C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606DA-FC8A-4E13-B479-011D20B9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6500C-C525-4F10-9AC9-C6F028BD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648CE-A7A8-4E4A-B4A5-30155B21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2A173-1697-4493-B259-000087D9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89924-50EA-4225-9CD0-172D1800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9E409-C03D-4B60-9A3C-0E99F905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FCB16-8BB2-4156-8C41-5D74AF53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6F74B-DC5E-45E5-BE8B-77370D9B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37E51-674C-4BD3-A8DE-FA9C254B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18D26-01C3-4BE6-825C-EB7BBF2E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C1619-5A68-47A5-BC37-9A7CA928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3192D-59C7-4958-8A84-4030D74D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020B3-F376-4E4D-8BA0-B3A3E2F3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BE30D-05F2-4448-B54D-55470F4C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19EBF-EE84-4777-82FE-B32FF438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B9D89-7C1C-4844-9BC4-D4556D8D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DE670-A318-4828-A46F-8E7DB00B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8EBB4-1805-403C-8418-6BF723BC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40D94-DA43-4951-9532-401184D7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21579-90A3-4EA1-8892-3809AED2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533F0-23CA-4D51-AE57-66D4DFC6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91484-A407-4F9E-8554-D089F182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EF8A3-A793-45E0-84B2-50B871F3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298C7-4320-4A2A-B1CC-623D09C7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1A7EB-8821-40B6-8EC1-A56F9695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AE532-6F7C-4043-B5CC-4792D1AA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1E473-8943-40EF-921B-0591C87D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7AC1B-6055-4BFA-A584-5F53A70B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D747E-9664-4484-BEED-EDF138E8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BA679-00DD-444F-9AC9-BA862638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C45B4-992B-40AA-AD1C-CCCA323D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665EB-B008-465C-88A5-AD7DF81C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DFA90-6871-429B-8549-E5535624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9D296-C658-4643-B56A-F29D665F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45DD3-1E71-4B8D-A082-5E5ED052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38643-C5EA-4415-B793-CC92A359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FA501-2B9B-444C-A534-F39D90CE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845C3-F5AC-4719-862C-8BBC741F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C29B5-2C16-45D2-AE69-DB04B742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FFE9B-9780-4F6D-8C9A-1E013DD5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AF7D2-AD43-4D67-8103-5F7872D9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004F6-F5EF-41CB-B374-4FB814B8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68806-74F3-4E09-B627-B4E1C7AC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5EBB6-B2D8-46A6-9B28-E904AFCA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CF6D1-D7A2-407A-A9CD-FBD37B61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6265D-AD9A-4C13-A695-07341AAE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A9945-D1A2-4067-A0B7-3F87BA47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1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ef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f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aeae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ff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eff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5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6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27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D876-B17D-4DE2-8966-23D79DA8D9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28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29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0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76C9-1694-4413-B3C4-065506D60C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605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785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f1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e39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f1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e39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791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e39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f1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f1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e39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e39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f1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f1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e39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e39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f1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f1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e39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e39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f1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f1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e39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7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ece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8ece4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3999b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1d3c1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1d3c1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BD41-8857-407B-865E-A3EF6714F0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850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851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52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7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858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3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864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9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870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5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876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1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882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883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5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886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8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889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892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4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895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7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898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0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901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3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904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ece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8ece4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3999b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1d3c1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1d3c1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3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3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3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617F-A4DB-4D3D-AFFB-913EA564E6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948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949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950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5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56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962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7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968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3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974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9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980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981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3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984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6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987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9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990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2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993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5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996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999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1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002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ece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8ece4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3999b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1d3c1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1d3c1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dt" idx="3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 type="ftr" idx="3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 type="sldNum" idx="3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BC37-E8D9-4272-BA4E-AD0EC72F94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503C-5C29-4166-898E-28763DBA968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1E12-3F7A-498D-AFDB-2F7C337EFC1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1C3B-67B3-423C-AA51-B2464746A9F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 type="sldNum" idx="5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A059-AFE3-46DA-956D-C8658BF1F34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 type="sldNum" idx="5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9E34-184D-4BA1-96E9-1F36A9C6280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ef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f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aeae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ff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eff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F108-B13C-4ED5-922D-6D9F25FF81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2B41-6871-41C6-AD27-54AD1F31252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 type="sldNum" idx="6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2CFE-1D22-4037-9DB9-CA000250631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 type="sldNum" idx="6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D654-C6C8-4E90-A079-F3616DD1253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 type="sldNum" idx="6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4D96-5635-4F45-9091-016CC784498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C734-542F-4043-8752-FF893A044EF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4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7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21BA-F32A-4854-9C1D-024431BC813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6E2F-A0B4-41C9-B9E5-A02F8CCDE0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110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ece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8ece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3999b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1d3c1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1d3c1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F275-EA12-47FA-A104-D8257B32D2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54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55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56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62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68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174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180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186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187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190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193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196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99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202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205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208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5DD2-24C0-4D40-9C49-DFE8CD72712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97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304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307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310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313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4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5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3455-FB92-4DE2-BDD0-C40F0BF23EF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7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364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367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370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373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6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17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18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D12E-AE6A-4E72-B305-E6EE77F4EB3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ef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42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f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aeae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ff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eff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9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0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2FE6-20BD-424B-97FD-39E3CB3925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6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ef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6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f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aeae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ff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eff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2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3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4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1888-0105-46E3-9102-0D418D45A7C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8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8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8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8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8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8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8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8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8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8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8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8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8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8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8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8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8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8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8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8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8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8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8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8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8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8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8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8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8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8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8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8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8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8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8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8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24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00-144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33" name="Picture 5" descr="http://im1-tub-ru.yandex.net/i?id=435152348-09-72&amp;n=21"/>
          <p:cNvPicPr/>
          <p:nvPr/>
        </p:nvPicPr>
        <p:blipFill>
          <a:blip r:embed="rId1"/>
          <a:stretch/>
        </p:blipFill>
        <p:spPr>
          <a:xfrm>
            <a:off x="900000" y="2708280"/>
            <a:ext cx="3527640" cy="3384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усский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язы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дрость — …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а — …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ольствие — …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— …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ь — …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воли — …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устремленность — …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лость — …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ость — 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36" name="Picture 5" descr="http://im0-tub-ru.yandex.net/i?id=219398535-21-72&amp;n=21"/>
          <p:cNvPicPr/>
          <p:nvPr/>
        </p:nvPicPr>
        <p:blipFill>
          <a:blip r:embed="rId1"/>
          <a:stretch/>
        </p:blipFill>
        <p:spPr>
          <a:xfrm>
            <a:off x="5076720" y="3789360"/>
            <a:ext cx="3598920" cy="2664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удрость — Глупость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обода — Зависимость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довольствие — Боль, страдание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доровье — Болезнь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мостоятельность — Зависимость 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ла воли — Безволие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елеустремленность — Бесцельность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мелость — Трусость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вердость — Неуверен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иолог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ражается у курильщика прежде всего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41" name="Picture 5" descr="http://im6-tub-ru.yandex.net/i?id=296633331-69-72&amp;n=21"/>
          <p:cNvPicPr/>
          <p:nvPr/>
        </p:nvPicPr>
        <p:blipFill>
          <a:blip r:embed="rId1"/>
          <a:stretch/>
        </p:blipFill>
        <p:spPr>
          <a:xfrm>
            <a:off x="2843280" y="3213000"/>
            <a:ext cx="4249800" cy="2652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ёгк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44" name="Picture 5" descr="http://im2-tub-ru.yandex.net/i?id=242098505-59-72&amp;n=21"/>
          <p:cNvPicPr/>
          <p:nvPr/>
        </p:nvPicPr>
        <p:blipFill>
          <a:blip r:embed="rId1"/>
          <a:stretch/>
        </p:blipFill>
        <p:spPr>
          <a:xfrm>
            <a:off x="2700360" y="2492280"/>
            <a:ext cx="3456000" cy="3313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иолог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лёгких у курящих встречается чаще, чем у некурящих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47" name="Picture 5" descr="http://im7-tub-ru.yandex.net/i?id=263580241-22-72&amp;n=21"/>
          <p:cNvPicPr/>
          <p:nvPr/>
        </p:nvPicPr>
        <p:blipFill>
          <a:blip r:embed="rId1"/>
          <a:stretch/>
        </p:blipFill>
        <p:spPr>
          <a:xfrm>
            <a:off x="6156360" y="450864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-30 ра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50" name="Picture 5" descr="http://im6-tub-ru.yandex.net/i?id=288007475-58-72&amp;n=21"/>
          <p:cNvPicPr/>
          <p:nvPr/>
        </p:nvPicPr>
        <p:blipFill>
          <a:blip r:embed="rId1"/>
          <a:stretch/>
        </p:blipFill>
        <p:spPr>
          <a:xfrm>
            <a:off x="971640" y="3213000"/>
            <a:ext cx="5040360" cy="2808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иолог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при курении повышает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53" name="Picture 5" descr="http://im5-tub-ru.yandex.net/i?id=252252926-33-72&amp;n=21"/>
          <p:cNvPicPr/>
          <p:nvPr/>
        </p:nvPicPr>
        <p:blipFill>
          <a:blip r:embed="rId1"/>
          <a:stretch/>
        </p:blipFill>
        <p:spPr>
          <a:xfrm>
            <a:off x="4427640" y="3573360"/>
            <a:ext cx="3889440" cy="237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альное давл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56" name="Picture 5" descr="http://im1-tub-ru.yandex.net/i?id=442050633-56-72&amp;n=21"/>
          <p:cNvPicPr/>
          <p:nvPr/>
        </p:nvPicPr>
        <p:blipFill>
          <a:blip r:embed="rId1"/>
          <a:stretch/>
        </p:blipFill>
        <p:spPr>
          <a:xfrm>
            <a:off x="5003640" y="2708280"/>
            <a:ext cx="3672000" cy="2665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иолог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заядлых курильщиков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357120" y="1197000"/>
            <a:ext cx="8429760" cy="5232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урение или здоровье – выбирайте сами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.02.2014 г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и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61" name="Picture 5" descr="http://im1-tub-ru.yandex.net/i?id=378379759-29-72&amp;n=21"/>
          <p:cNvPicPr/>
          <p:nvPr/>
        </p:nvPicPr>
        <p:blipFill>
          <a:blip r:embed="rId1"/>
          <a:stretch/>
        </p:blipFill>
        <p:spPr>
          <a:xfrm>
            <a:off x="2627280" y="3141720"/>
            <a:ext cx="4032360" cy="3095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иолог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 всегда задерживае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64" name="Picture 5" descr="http://im0-tub-ru.yandex.net/i?id=32019160-14-72&amp;n=21"/>
          <p:cNvPicPr/>
          <p:nvPr/>
        </p:nvPicPr>
        <p:blipFill>
          <a:blip r:embed="rId1"/>
          <a:stretch/>
        </p:blipFill>
        <p:spPr>
          <a:xfrm>
            <a:off x="4859280" y="3357720"/>
            <a:ext cx="3384720" cy="24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6" name=""/>
          <p:cNvSpPr txBox="1"/>
          <p:nvPr/>
        </p:nvSpPr>
        <p:spPr>
          <a:xfrm>
            <a:off x="395280" y="2060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67" name="Picture 4" descr="pic_8[1]"/>
          <p:cNvPicPr/>
          <p:nvPr/>
        </p:nvPicPr>
        <p:blipFill>
          <a:blip r:embed="rId1"/>
          <a:stretch/>
        </p:blipFill>
        <p:spPr>
          <a:xfrm>
            <a:off x="3492360" y="2708280"/>
            <a:ext cx="3888000" cy="3313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иолог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растения, из семейства пасленовых, являются родственниками табак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70" name="Picture 5" descr="iCA6FUNGU"/>
          <p:cNvPicPr/>
          <p:nvPr/>
        </p:nvPicPr>
        <p:blipFill>
          <a:blip r:embed="rId1"/>
          <a:stretch/>
        </p:blipFill>
        <p:spPr>
          <a:xfrm>
            <a:off x="5143680" y="3143160"/>
            <a:ext cx="3527280" cy="34243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жайшие родственники табака: картофель, томат, баклажаны, красный перец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73" name="Picture 5" descr="g0102966"/>
          <p:cNvPicPr/>
          <p:nvPr/>
        </p:nvPicPr>
        <p:blipFill>
          <a:blip r:embed="rId1"/>
          <a:stretch/>
        </p:blipFill>
        <p:spPr>
          <a:xfrm>
            <a:off x="1214280" y="3286080"/>
            <a:ext cx="3171960" cy="280836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1674" name="Picture 4" descr="g0214767"/>
          <p:cNvPicPr/>
          <p:nvPr/>
        </p:nvPicPr>
        <p:blipFill>
          <a:blip r:embed="rId2"/>
          <a:stretch/>
        </p:blipFill>
        <p:spPr>
          <a:xfrm>
            <a:off x="5000760" y="4857840"/>
            <a:ext cx="3786120" cy="17064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1675" name="Picture 6" descr="g0214736"/>
          <p:cNvPicPr/>
          <p:nvPr/>
        </p:nvPicPr>
        <p:blipFill>
          <a:blip r:embed="rId3"/>
          <a:stretch/>
        </p:blipFill>
        <p:spPr>
          <a:xfrm>
            <a:off x="5072040" y="2571840"/>
            <a:ext cx="3672000" cy="18604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иолог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курение влияет на работу сердц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78" name="Picture 5" descr=""/>
          <p:cNvPicPr/>
          <p:nvPr/>
        </p:nvPicPr>
        <p:blipFill>
          <a:blip r:embed="rId1"/>
          <a:stretch/>
        </p:blipFill>
        <p:spPr>
          <a:xfrm>
            <a:off x="5429160" y="3000240"/>
            <a:ext cx="3218040" cy="3581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еловек выкуривает ежедневно 20 сигарет, то его сердце около 10 часов работает в ускоренном темп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81" name="Picture 6" descr="PE15486"/>
          <p:cNvPicPr/>
          <p:nvPr/>
        </p:nvPicPr>
        <p:blipFill>
          <a:blip r:embed="rId1"/>
          <a:stretch/>
        </p:blipFill>
        <p:spPr>
          <a:xfrm>
            <a:off x="1714680" y="3357720"/>
            <a:ext cx="5857560" cy="2786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иолог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ызывает у человека смола, образующаяся при сгорании табак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84" name="Picture 7" descr="iCAFQG82L"/>
          <p:cNvPicPr/>
          <p:nvPr/>
        </p:nvPicPr>
        <p:blipFill>
          <a:blip r:embed="rId1"/>
          <a:stretch/>
        </p:blipFill>
        <p:spPr>
          <a:xfrm>
            <a:off x="4141800" y="3068640"/>
            <a:ext cx="2587680" cy="3557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качественные опухол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87" name="Рисунок 5" descr="a3697f3cdd00.jpg"/>
          <p:cNvPicPr/>
          <p:nvPr/>
        </p:nvPicPr>
        <p:blipFill>
          <a:blip r:embed="rId1"/>
          <a:stretch/>
        </p:blipFill>
        <p:spPr>
          <a:xfrm>
            <a:off x="3780000" y="2778120"/>
            <a:ext cx="4103640" cy="3160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Географ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страна является родиной табак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90" name="Picture 7" descr="HH05170"/>
          <p:cNvPicPr/>
          <p:nvPr/>
        </p:nvPicPr>
        <p:blipFill>
          <a:blip r:embed="rId1"/>
          <a:stretch/>
        </p:blipFill>
        <p:spPr>
          <a:xfrm>
            <a:off x="5857920" y="3000240"/>
            <a:ext cx="3021120" cy="3578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ак завоевывает ми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0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602" name="Picture 2" descr="https://encrypted-tbn0.gstatic.com/images?q=tbn:ANd9GcTQGgpyOpWxyW-RkW-CPKd3HmCo08yI0KM684S1F8b89b2Llvw4GA"/>
          <p:cNvPicPr/>
          <p:nvPr/>
        </p:nvPicPr>
        <p:blipFill>
          <a:blip r:embed="rId2"/>
          <a:stretch/>
        </p:blipFill>
        <p:spPr>
          <a:xfrm>
            <a:off x="1071720" y="2643120"/>
            <a:ext cx="7072200" cy="3429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табака – Южная Амери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93" name="Picture 4" descr="iCAGEFE0D"/>
          <p:cNvPicPr/>
          <p:nvPr/>
        </p:nvPicPr>
        <p:blipFill>
          <a:blip r:embed="rId1"/>
          <a:stretch/>
        </p:blipFill>
        <p:spPr>
          <a:xfrm>
            <a:off x="4929120" y="2500200"/>
            <a:ext cx="3581640" cy="3581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стор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, обществозн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закону в России запрещена розничная торговля табачных изделий лицам, не достигшим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96" name="Picture 5" descr="http://im7-tub-ru.yandex.net/i?id=475099788-12-72&amp;n=21"/>
          <p:cNvPicPr/>
          <p:nvPr/>
        </p:nvPicPr>
        <p:blipFill>
          <a:blip r:embed="rId1"/>
          <a:stretch/>
        </p:blipFill>
        <p:spPr>
          <a:xfrm>
            <a:off x="2627280" y="3789360"/>
            <a:ext cx="4032360" cy="259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л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99" name="Picture 5" descr="http://im0-tub-ru.yandex.net/i?id=229891646-12-72&amp;n=21"/>
          <p:cNvPicPr/>
          <p:nvPr/>
        </p:nvPicPr>
        <p:blipFill>
          <a:blip r:embed="rId1"/>
          <a:stretch/>
        </p:blipFill>
        <p:spPr>
          <a:xfrm>
            <a:off x="1979640" y="1916280"/>
            <a:ext cx="5329080" cy="4105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стор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, обществозн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й стране заживо замуровали в стену пятерых монахов за то, что они курили таба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02" name="Picture 5" descr="http://im6-tub-ru.yandex.net/i?id=272391940-03-72&amp;n=21"/>
          <p:cNvPicPr/>
          <p:nvPr/>
        </p:nvPicPr>
        <p:blipFill>
          <a:blip r:embed="rId1"/>
          <a:stretch/>
        </p:blipFill>
        <p:spPr>
          <a:xfrm>
            <a:off x="2700360" y="3573360"/>
            <a:ext cx="5472000" cy="295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05" name="Picture 5" descr="http://im1-tub-ru.yandex.net/i?id=641577-48-72&amp;n=21"/>
          <p:cNvPicPr/>
          <p:nvPr/>
        </p:nvPicPr>
        <p:blipFill>
          <a:blip r:embed="rId1"/>
          <a:stretch/>
        </p:blipFill>
        <p:spPr>
          <a:xfrm>
            <a:off x="4427640" y="1989000"/>
            <a:ext cx="276048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стор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, обществозн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наказание для курильщиков существовало в России при царе Михаиле Романов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08" name="Picture 5" descr="http://im6-tub-ru.yandex.net/i?id=34397179-18-72&amp;n=21"/>
          <p:cNvPicPr/>
          <p:nvPr/>
        </p:nvPicPr>
        <p:blipFill>
          <a:blip r:embed="rId1"/>
          <a:stretch/>
        </p:blipFill>
        <p:spPr>
          <a:xfrm>
            <a:off x="6227640" y="3357720"/>
            <a:ext cx="2305080" cy="29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али нос и уш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стор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, обществозн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Российский царь обязал своих подданных курить трубки, а курение табака стало косвенной причиной его смерт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13" name="Picture 5" descr="http://im4-tub-ru.yandex.net/i?id=32348260-09-72&amp;n=21"/>
          <p:cNvPicPr/>
          <p:nvPr/>
        </p:nvPicPr>
        <p:blipFill>
          <a:blip r:embed="rId1"/>
          <a:stretch/>
        </p:blipFill>
        <p:spPr>
          <a:xfrm>
            <a:off x="4500720" y="3573360"/>
            <a:ext cx="3600360" cy="25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16" name="Picture 5" descr="http://im6-tub-ru.yandex.net/i?id=420022173-12-72&amp;n=21"/>
          <p:cNvPicPr/>
          <p:nvPr/>
        </p:nvPicPr>
        <p:blipFill>
          <a:blip r:embed="rId1"/>
          <a:stretch/>
        </p:blipFill>
        <p:spPr>
          <a:xfrm>
            <a:off x="2700360" y="2276640"/>
            <a:ext cx="3600360" cy="3384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стор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, обществозн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й стране курильщиков приравнивали к ворам и водили по улице с веревкой на ше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19" name="Picture 5" descr="http://im3-tub-ru.yandex.net/i?id=238271538-31-72&amp;n=21"/>
          <p:cNvPicPr/>
          <p:nvPr/>
        </p:nvPicPr>
        <p:blipFill>
          <a:blip r:embed="rId1"/>
          <a:stretch/>
        </p:blipFill>
        <p:spPr>
          <a:xfrm>
            <a:off x="5508720" y="3429000"/>
            <a:ext cx="3311280" cy="302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ак и здоровь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0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16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9" name="Picture 10" descr="https://encrypted-tbn3.gstatic.com/images?q=tbn:ANd9GcTUxgCtmKdjTaY_8I2YUEdttkuMubpyd8bHpzVtHXOKk2ehpqnq"/>
          <p:cNvPicPr/>
          <p:nvPr/>
        </p:nvPicPr>
        <p:blipFill>
          <a:blip r:embed="rId2"/>
          <a:stretch/>
        </p:blipFill>
        <p:spPr>
          <a:xfrm>
            <a:off x="1500120" y="2286000"/>
            <a:ext cx="6357960" cy="38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22" name="Picture 7" descr="http://im3-tub-ru.yandex.net/i?id=134339223-22-72&amp;n=21"/>
          <p:cNvPicPr/>
          <p:nvPr/>
        </p:nvPicPr>
        <p:blipFill>
          <a:blip r:embed="rId1"/>
          <a:stretch/>
        </p:blipFill>
        <p:spPr>
          <a:xfrm>
            <a:off x="1116000" y="3068640"/>
            <a:ext cx="3311640" cy="2808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стория, обществозн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из русских правителей запретил курен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ь Михаил Фёдорови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27" name="Picture 4" descr="i"/>
          <p:cNvPicPr/>
          <p:nvPr/>
        </p:nvPicPr>
        <p:blipFill>
          <a:blip r:embed="rId1"/>
          <a:stretch/>
        </p:blipFill>
        <p:spPr>
          <a:xfrm>
            <a:off x="5143680" y="2286000"/>
            <a:ext cx="3003480" cy="370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стор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, обществозн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9" name=""/>
          <p:cNvSpPr txBox="1"/>
          <p:nvPr/>
        </p:nvSpPr>
        <p:spPr>
          <a:xfrm>
            <a:off x="42876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отмечается Всемирный день без табак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30" name="Picture 7" descr="iCARCV9BE"/>
          <p:cNvPicPr/>
          <p:nvPr/>
        </p:nvPicPr>
        <p:blipFill>
          <a:blip r:embed="rId1"/>
          <a:stretch/>
        </p:blipFill>
        <p:spPr>
          <a:xfrm>
            <a:off x="1285920" y="3000240"/>
            <a:ext cx="6215040" cy="350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м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33" name="Picture 8" descr="f_15420674"/>
          <p:cNvPicPr/>
          <p:nvPr/>
        </p:nvPicPr>
        <p:blipFill>
          <a:blip r:embed="rId1"/>
          <a:stretch/>
        </p:blipFill>
        <p:spPr>
          <a:xfrm>
            <a:off x="2143080" y="2500200"/>
            <a:ext cx="4962600" cy="3436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стор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, обществозн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 № 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гда, кем и откуда был впервые завезен табак в Европу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36" name="Picture 5" descr="http://im3-tub-ru.yandex.net/i?id=500249628-24-72&amp;n=21"/>
          <p:cNvPicPr/>
          <p:nvPr/>
        </p:nvPicPr>
        <p:blipFill>
          <a:blip r:embed="rId1"/>
          <a:stretch/>
        </p:blipFill>
        <p:spPr>
          <a:xfrm>
            <a:off x="2987640" y="3860640"/>
            <a:ext cx="3240000" cy="2305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е испанцами – из Амери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39" name="Picture 5" descr="Корлумиб1"/>
          <p:cNvPicPr/>
          <p:nvPr/>
        </p:nvPicPr>
        <p:blipFill>
          <a:blip r:embed="rId1"/>
          <a:stretch/>
        </p:blipFill>
        <p:spPr>
          <a:xfrm>
            <a:off x="4357800" y="2786040"/>
            <a:ext cx="3517920" cy="3786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wipe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стория, обществозн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 № 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й известный мореплаватель первым завез табак в Европу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42" name="Picture 5" descr="http://im0-tub-ru.yandex.net/i?id=62875164-59-72&amp;n=21"/>
          <p:cNvPicPr/>
          <p:nvPr/>
        </p:nvPicPr>
        <p:blipFill>
          <a:blip r:embed="rId1"/>
          <a:stretch/>
        </p:blipFill>
        <p:spPr>
          <a:xfrm>
            <a:off x="5364000" y="3573360"/>
            <a:ext cx="2232360" cy="2159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ристофор Колум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45" name="Picture 4" descr="iCARN0YII"/>
          <p:cNvPicPr/>
          <p:nvPr/>
        </p:nvPicPr>
        <p:blipFill>
          <a:blip r:embed="rId1"/>
          <a:stretch/>
        </p:blipFill>
        <p:spPr>
          <a:xfrm>
            <a:off x="5143680" y="1785960"/>
            <a:ext cx="3240000" cy="44672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ipe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стория, обществозн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1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аком Царе в России появился таба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48" name="Picture 5" descr="http://im0-tub-ru.yandex.net/i?id=661388797-36-72&amp;n=21"/>
          <p:cNvPicPr/>
          <p:nvPr/>
        </p:nvPicPr>
        <p:blipFill>
          <a:blip r:embed="rId1"/>
          <a:stretch/>
        </p:blipFill>
        <p:spPr>
          <a:xfrm>
            <a:off x="6084720" y="3573360"/>
            <a:ext cx="2664000" cy="237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ифы о курен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1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161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4" name="Picture 6" descr="https://encrypted-tbn3.gstatic.com/images?q=tbn:ANd9GcQU06rRib47yzRHnRGEecPlxBRnm5sBg-ewBVtwY6epJ5kqguRcOw"/>
          <p:cNvPicPr/>
          <p:nvPr/>
        </p:nvPicPr>
        <p:blipFill>
          <a:blip r:embed="rId2"/>
          <a:stretch/>
        </p:blipFill>
        <p:spPr>
          <a:xfrm>
            <a:off x="1285920" y="2571840"/>
            <a:ext cx="6643800" cy="364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ь Иван Гроз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51" name="Picture 4" descr="iCATLNFH3"/>
          <p:cNvPicPr/>
          <p:nvPr/>
        </p:nvPicPr>
        <p:blipFill>
          <a:blip r:embed="rId1"/>
          <a:stretch/>
        </p:blipFill>
        <p:spPr>
          <a:xfrm>
            <a:off x="4929120" y="2071800"/>
            <a:ext cx="2979720" cy="417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wipe dir="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Литерату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...и вдруг я вспомнил, что жители Бразилии от всех почти болезней лечатся табаком; между тем в одном из моих сундуков лежало несколько пачек: одна большая пачка готового табаку, а остальные листового. &lt;...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знал, как применяется табак против болезней, не знал даже, помогает ли он от лихо­радки; поэтому я произвел несколько опытов в надежде, что так или иначе действие его должно   проявиться. Прежде  всего я отделил из пачки один лист, положил его в рот и разжевал. Табак был еще зеленый, очень крепкий; вдобавок я к нему не привык, так что сначала он почти одурманил меня. Затем я положил немного табаку в ром и настаивал его час или два, с тем, чтобы выпить эту настойку перед сном. Наконец я сжег не­много табаку в жаровне и втяги­вал носом дым до тех пор, пока не начинал задыхаться; я повто­рил эту операцию несколько раз. &lt;...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 лечение табаком, вероятно, никогда еще до сих пор не применялось против лихорадки; испытав на себе, я не решусь никому рекомендовать его. Правда, оно остановило лихорадку, но вместе с тем страшно ослаби­ло меня, и в течение некоторого времени я страдал судорогами во всем теле и нервною дрожью"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иель Дефо «Робинзон Крузо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56" name="Picture 5" descr="http://im2-tub-ru.yandex.net/i?id=87510911-06-72&amp;n=21"/>
          <p:cNvPicPr/>
          <p:nvPr/>
        </p:nvPicPr>
        <p:blipFill>
          <a:blip r:embed="rId1"/>
          <a:stretch/>
        </p:blipFill>
        <p:spPr>
          <a:xfrm>
            <a:off x="900000" y="2852640"/>
            <a:ext cx="2735280" cy="3313080"/>
          </a:xfrm>
          <a:prstGeom prst="rect">
            <a:avLst/>
          </a:prstGeom>
          <a:ln w="0">
            <a:noFill/>
          </a:ln>
        </p:spPr>
      </p:pic>
      <p:pic>
        <p:nvPicPr>
          <p:cNvPr id="1757" name="Picture 7" descr="http://im7-tub-ru.yandex.net/i?id=236309757-37-72&amp;n=21"/>
          <p:cNvPicPr/>
          <p:nvPr/>
        </p:nvPicPr>
        <p:blipFill>
          <a:blip r:embed="rId2"/>
          <a:stretch/>
        </p:blipFill>
        <p:spPr>
          <a:xfrm>
            <a:off x="5651640" y="364500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пец. кур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 №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Капля никотина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60" name="Picture 5" descr="http://im7-tub-ru.yandex.net/i?id=349175380-51-72&amp;n=21"/>
          <p:cNvPicPr/>
          <p:nvPr/>
        </p:nvPicPr>
        <p:blipFill>
          <a:blip r:embed="rId1"/>
          <a:stretch/>
        </p:blipFill>
        <p:spPr>
          <a:xfrm>
            <a:off x="4140360" y="2637000"/>
            <a:ext cx="1076040" cy="142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Капля никотина – убивает лошадь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63" name="Picture 5" descr="http://im1-tub-ru.yandex.net/i?id=508336355-08-72&amp;n=21"/>
          <p:cNvPicPr/>
          <p:nvPr/>
        </p:nvPicPr>
        <p:blipFill>
          <a:blip r:embed="rId1"/>
          <a:stretch/>
        </p:blipFill>
        <p:spPr>
          <a:xfrm>
            <a:off x="1979640" y="2852640"/>
            <a:ext cx="5688000" cy="3384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№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 фразу: «Человек живет столько, сколько живет его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66" name="Picture 5" descr="g0417732"/>
          <p:cNvPicPr/>
          <p:nvPr/>
        </p:nvPicPr>
        <p:blipFill>
          <a:blip r:embed="rId1"/>
          <a:stretch/>
        </p:blipFill>
        <p:spPr>
          <a:xfrm>
            <a:off x="4500720" y="2428920"/>
            <a:ext cx="2500200" cy="4214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живет столько, сколько живет его сердц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69" name="Picture 4" descr="HM11966"/>
          <p:cNvPicPr/>
          <p:nvPr/>
        </p:nvPicPr>
        <p:blipFill>
          <a:blip r:embed="rId1"/>
          <a:stretch/>
        </p:blipFill>
        <p:spPr>
          <a:xfrm>
            <a:off x="1785960" y="2643120"/>
            <a:ext cx="5357880" cy="3929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прос № 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быта, предназначенный для хранения табака, распространенный в среде придворной знати в XVII-XVIII в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3" name=""/>
          <p:cNvSpPr txBox="1"/>
          <p:nvPr/>
        </p:nvSpPr>
        <p:spPr>
          <a:xfrm>
            <a:off x="39528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акер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74" name="Picture 5" descr="http://im2-tub-ru.yandex.net/i?id=262408674-41-72&amp;n=21"/>
          <p:cNvPicPr/>
          <p:nvPr/>
        </p:nvPicPr>
        <p:blipFill>
          <a:blip r:embed="rId1"/>
          <a:stretch/>
        </p:blipFill>
        <p:spPr>
          <a:xfrm>
            <a:off x="3708360" y="3213000"/>
            <a:ext cx="4319640" cy="2808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прос № 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, по которой в России XVII в. было запрещено кур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77" name="Picture 5" descr="http://im6-tub-ru.yandex.net/i?id=211781258-01-72&amp;n=21"/>
          <p:cNvPicPr/>
          <p:nvPr/>
        </p:nvPicPr>
        <p:blipFill>
          <a:blip r:embed="rId1"/>
          <a:stretch/>
        </p:blipFill>
        <p:spPr>
          <a:xfrm>
            <a:off x="4788000" y="2997360"/>
            <a:ext cx="3168720" cy="2735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урение и зако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1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161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0" name="Picture 8" descr="https://encrypted-tbn2.gstatic.com/images?q=tbn:ANd9GcRKKRJFVFlk6ZsZDE7PR27dXE5lBWoHkhenb2AprtMorQ9S5V_2"/>
          <p:cNvPicPr/>
          <p:nvPr/>
        </p:nvPicPr>
        <p:blipFill>
          <a:blip r:embed="rId2"/>
          <a:stretch/>
        </p:blipFill>
        <p:spPr>
          <a:xfrm>
            <a:off x="857160" y="2714760"/>
            <a:ext cx="2571840" cy="3214440"/>
          </a:xfrm>
          <a:prstGeom prst="rect">
            <a:avLst/>
          </a:prstGeom>
          <a:ln w="0">
            <a:noFill/>
          </a:ln>
        </p:spPr>
      </p:pic>
      <p:pic>
        <p:nvPicPr>
          <p:cNvPr id="1621" name="Picture 10" descr="https://encrypted-tbn0.gstatic.com/images?q=tbn:ANd9GcQAiogzyjV_gY6CAQdxqcp-4bL1m6xhH-WO-bEpsjQgW15rEO8"/>
          <p:cNvPicPr/>
          <p:nvPr/>
        </p:nvPicPr>
        <p:blipFill>
          <a:blip r:embed="rId3"/>
          <a:stretch/>
        </p:blipFill>
        <p:spPr>
          <a:xfrm>
            <a:off x="5143680" y="2714760"/>
            <a:ext cx="2857320" cy="3143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39528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80" name="Picture 5" descr="http://im4-tub-ru.yandex.net/i?id=300285367-48-72&amp;n=21"/>
          <p:cNvPicPr/>
          <p:nvPr/>
        </p:nvPicPr>
        <p:blipFill>
          <a:blip r:embed="rId1"/>
          <a:stretch/>
        </p:blipFill>
        <p:spPr>
          <a:xfrm>
            <a:off x="2484360" y="2637000"/>
            <a:ext cx="4751640" cy="3671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прос № 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в, от названия которого произошло слово "табак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83" name="Picture 5" descr="http://im5-tub-ru.yandex.net/i?id=396636096-13-72&amp;n=21"/>
          <p:cNvPicPr/>
          <p:nvPr/>
        </p:nvPicPr>
        <p:blipFill>
          <a:blip r:embed="rId1"/>
          <a:stretch/>
        </p:blipFill>
        <p:spPr>
          <a:xfrm>
            <a:off x="3851280" y="3860640"/>
            <a:ext cx="424980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аг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86" name="Picture 5" descr="http://im6-tub-ru.yandex.net/i?id=167982053-60-72&amp;n=21"/>
          <p:cNvPicPr/>
          <p:nvPr/>
        </p:nvPicPr>
        <p:blipFill>
          <a:blip r:embed="rId1"/>
          <a:stretch/>
        </p:blipFill>
        <p:spPr>
          <a:xfrm>
            <a:off x="2268360" y="3357720"/>
            <a:ext cx="4535640" cy="273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прос № 6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устя какое время после курения сигареты никотин попадает в мозг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89" name="Picture 2" descr="http://im6-tub-ru.yandex.net/i?id=700834858-19-72&amp;n=21"/>
          <p:cNvPicPr/>
          <p:nvPr/>
        </p:nvPicPr>
        <p:blipFill>
          <a:blip r:embed="rId1"/>
          <a:stretch/>
        </p:blipFill>
        <p:spPr>
          <a:xfrm>
            <a:off x="5940360" y="2708280"/>
            <a:ext cx="219096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се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2" name="Picture 2" descr="http://im0-tub-ru.yandex.net/i?id=386519705-13-72&amp;n=21"/>
          <p:cNvPicPr/>
          <p:nvPr/>
        </p:nvPicPr>
        <p:blipFill>
          <a:blip r:embed="rId1"/>
          <a:stretch/>
        </p:blipFill>
        <p:spPr>
          <a:xfrm>
            <a:off x="3203640" y="2492280"/>
            <a:ext cx="316872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WordArt 6"/>
          <p:cNvSpPr txBox="1"/>
          <p:nvPr/>
        </p:nvSpPr>
        <p:spPr>
          <a:xfrm>
            <a:off x="1042920" y="1125360"/>
            <a:ext cx="712944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Подведение итогов </a:t>
            </a:r>
            <a:endParaRPr b="0" lang="en-US" sz="1800" spc="1" strike="noStrike">
              <a:ln w="2844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94" name="Picture 7" descr="ED07706"/>
          <p:cNvPicPr/>
          <p:nvPr/>
        </p:nvPicPr>
        <p:blipFill>
          <a:blip r:embed="rId1"/>
          <a:stretch/>
        </p:blipFill>
        <p:spPr>
          <a:xfrm>
            <a:off x="2556000" y="2924280"/>
            <a:ext cx="4298760" cy="331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714240" y="1196640"/>
            <a:ext cx="84297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- викторин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ьные учебники против курения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23" name="Picture 7" descr="XM24"/>
          <p:cNvPicPr/>
          <p:nvPr/>
        </p:nvPicPr>
        <p:blipFill>
          <a:blip r:embed="rId1"/>
          <a:stretch/>
        </p:blipFill>
        <p:spPr>
          <a:xfrm>
            <a:off x="1928880" y="3000240"/>
            <a:ext cx="5572080" cy="3357720"/>
          </a:xfrm>
          <a:prstGeom prst="rect">
            <a:avLst/>
          </a:prstGeom>
          <a:ln w="0">
            <a:noFill/>
          </a:ln>
        </p:spPr>
      </p:pic>
      <p:sp>
        <p:nvSpPr>
          <p:cNvPr id="1624" name="Text Box 8"/>
          <p:cNvSpPr/>
          <p:nvPr/>
        </p:nvSpPr>
        <p:spPr>
          <a:xfrm>
            <a:off x="1116000" y="785880"/>
            <a:ext cx="72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ОШ № 2 р. п. Самойлов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атематик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усский язык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иология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еография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стория, обществознание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Литератур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пец. курс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атемати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468360" y="18032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человека бьется с частотой 70 ударов  в минуту, сердце курящего вынуждено делать на 5-10 ударов в минуту больше. Сколько дополнительных ударов приходится делать сердцу курильщика за сутки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30" name="Picture 5" descr="http://im5-tub-ru.yandex.net/i?id=198339753-32-72&amp;n=21"/>
          <p:cNvPicPr/>
          <p:nvPr/>
        </p:nvPicPr>
        <p:blipFill>
          <a:blip r:embed="rId1"/>
          <a:stretch/>
        </p:blipFill>
        <p:spPr>
          <a:xfrm>
            <a:off x="5435640" y="4005360"/>
            <a:ext cx="2881440" cy="209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13:59:59Z</dcterms:created>
  <dc:creator>ната</dc:creator>
  <dc:description/>
  <dc:language>en-US</dc:language>
  <cp:lastModifiedBy>Ирина</cp:lastModifiedBy>
  <dcterms:modified xsi:type="dcterms:W3CDTF">2014-02-25T02:32:03Z</dcterms:modified>
  <cp:revision>407</cp:revision>
  <dc:subject/>
  <dc:title>СВОЯ ИГРА</dc:title>
</cp:coreProperties>
</file>