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C52-58CE-43C0-A3FF-D05C01AA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B61-90D4-425B-8095-A1943BC3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A26-FB6C-45A1-8F9F-A0215379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ECE-F6F5-412B-87B1-933264E9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DA5-B7C7-4216-A538-C6666D9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693-238B-4386-AC19-3E3425A5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BD4-A807-4CD6-B8B1-DCDE9864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A67-8103-48CA-B1BE-62A90181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057-8B3F-4C4D-AE72-99AA008B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82E-CABE-4549-A5CD-5FAA03A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384-FCC9-4720-B21D-933ED98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A12-3EE4-420D-A3D6-C6F6059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D95-B62F-4CEA-AAFB-924F88A7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ЕКТ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ема: «Великая Отечественная война в моей семь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 3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оненко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648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нним утром в воскресенье 22 июня 1941 года фашистская Германия и ее союзники обрушили на нашу страну удар невиданной в истории армии вторжения: 190 дивизий, свыше 4 тысяч танков, более 47 тысяч орудий и минометов, около 5 тысяч самолетов, до 200 кораблей. На решающих направлениях своего наступления агрессор имел многократное превосходство в силах. Началась Великая Отечественная война Советского Союза против немецко-фашистских захватчиков. Она длилась 1418 дней и но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мая 2015 года мы празднуем 70-летнюю годовщину Победы над фашистской Германией. Долгими и суровыми были для нашего народа 4 года войны, 1418 дней, труден был путь к Побе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нашей страны дата 9 мая наполнена особым смыслом. Это – священная память о погибших на полях сражений. Это – наша история, наша боль, наша надеж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этом учебном году при подготовке проекта по теме: «Родословное дерево моей семьи» мною было обнаружено, что по отцовой линии мой прадедушка Кулаков Николай Иванович принимал участие в Великой Отечественн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лаков Николай Иван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.03.1919 – 10.03.1998 г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лся в 1919 году в селе Балаково Саратовской области, учился в химическом техникуме. После этого окончил Военную Академию им. Фрунзе г. Москва. В 1939 году призван в Красную армию, получил звание сержанта. В марте 1942 года направлен на Волховский фронт командиром стрелкового батальона. С марта 1945 года – на дальневосточном фронте, с августа по сентябрь 1945 года – участник боев с Японским милитаризмом по освобождению Северной Кореи и Маньчжурии. Окончил войну в звании подполковника. Награжден 2-мя орденами Отечественной войны II степени, орденами Боевого Красного знамени и Красной звезды, медалями «За боевые заслуги», «За оборону Ленинграда», «За Победу над Германией», «За победу над Японией». До конца своих дней входил в состав ветеранов Волховского Фрон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ой долг всех последующих поколений нашей страны - долг перед поколением победителей - сохранить историческую память о Великой Отечественной войне, не оставить в забвении ни одного погибшего солдата, отдать дань благодарности за героический подвиг в Великой Отечественной войне живым ветеранам войны и трудового фро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5638680"/>
            <a:ext cx="6858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усть гремит салют победы!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Этим светом мир согрет!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здравляем наших прадедов и дедов!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ню Победы многих л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95760" y="3886200"/>
            <a:ext cx="3933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8:10:25Z</dcterms:created>
  <dc:creator>Олег</dc:creator>
  <dc:description/>
  <dc:language>en-US</dc:language>
  <cp:lastModifiedBy>Олег</cp:lastModifiedBy>
  <dcterms:modified xsi:type="dcterms:W3CDTF">2015-05-12T18:28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