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7CD-2BA4-43D2-B744-FDBE2197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378-ACF0-42D4-8CA1-5F76F343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48F-C4B9-44CD-A905-F272E225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065-3C20-4119-B721-84856CBE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BBF-A752-4FD3-B230-0652951B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04C-0800-4AD1-82BA-5DD6BCE0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F30-BAE5-445C-B9B6-03F784AA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944-1BEF-4647-88CA-05D24265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7A1-5A43-4FA8-BAB5-6CE2014C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974-8748-4C50-8131-37B73116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24F-8E7C-45CD-B894-7B950AA1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B93-49AC-4700-8DA7-8D708066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9817-3B72-4E66-85F5-CFE75A8F4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ЕКТ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ема: «Великая Отечественная война в моей семь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 3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оненко 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6480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нним утром в воскресенье 22 июня 1941 года фашистская Германия и ее союзники обрушили на нашу страну удар невиданной в истории армии вторжения: 190 дивизий, свыше 4 тысяч танков, более 47 тысяч орудий и минометов, около 5 тысяч самолетов, до 200 кораблей. На решающих направлениях своего наступления агрессор имел многократное превосходство в силах. Началась Великая Отечественная война Советского Союза против немецко-фашистских захватчиков. Она длилась 1418 дней и но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мая 2015 года мы празднуем 70-летнюю годовщину Победы над фашистской Германией. Долгими и суровыми были для нашего народа 4 года войны, 1418 дней, труден был путь к Побе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нашей страны дата 9 мая наполнена особым смыслом. Это – священная память о погибших на полях сражений. Это – наша история, наша боль, наша надеж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этом учебном году при подготовке проекта по теме: «Родословное дерево моей семьи» мною было обнаружено, что по отцовой линии мой прадедушка Кулаков Николай Иванович принимал участие в Великой Отечественной вой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улаков Николай Иванович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.03.1919 – 10.03.1998 г.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лся в 1919 году в селе Балаково Саратовской области, учился в химическом техникуме. После этого окончил Военную Академию им. Фрунзе г. Москва. В 1939 году призван в Красную армию, получил звание сержанта. В марте 1942 года направлен на Волховский фронт командиром стрелкового батальона. С марта 1945 года – на дальневосточном фронте, с августа по сентябрь 1945 года – участник боев с Японским милитаризмом по освобождению Северной Кореи и Маньчжурии. Окончил войну в звании подполковника. Награжден 2-мя орденами Отечественной войны II степени, орденами Боевого Красного знамени и Красной звезды, медалями «За боевые заслуги», «За оборону Ленинграда», «За Победу над Германией», «За победу над Японией». До конца своих дней входил в состав ветеранов Волховского Фрон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новной долг всех последующих поколений нашей страны - долг перед поколением победителей - сохранить историческую память о Великой Отечественной войне, не оставить в забвении ни одного погибшего солдата, отдать дань благодарности за героический подвиг в Великой Отечественной войне живым ветеранам войны и трудового фрон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800" y="5638680"/>
            <a:ext cx="6858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усть гремит салют победы!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Этим светом мир согрет!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здравляем наших прадедов и дедов!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Дню Победы многих ле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95760" y="3886200"/>
            <a:ext cx="39337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18:10:25Z</dcterms:created>
  <dc:creator>Олег</dc:creator>
  <dc:description/>
  <dc:language>en-US</dc:language>
  <cp:lastModifiedBy>Олег</cp:lastModifiedBy>
  <dcterms:modified xsi:type="dcterms:W3CDTF">2015-05-12T18:28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