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5FB-7BBA-4204-83DC-0FAFBD8D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2C7-49D2-476A-87F5-08E2486A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806-E8CF-4D9F-B443-5FE59A9F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9C1-6083-4BB6-8D18-370AC639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44B0-1D5C-435A-A1C5-2F90F00A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386C-3320-43D4-9AEE-FE385D43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B0BC-8A75-4FE4-8020-57244B65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E4F7-3C67-4312-B553-5836553B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D551-22F0-44A1-93A3-759F2102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54A6-88EF-417A-94A6-48B2615C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1EF6-A57E-47F8-BA3F-5805A562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879-7258-445E-851A-638B7F0F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3814-CE84-4B62-B4F1-15C7BC2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1845-DEEE-47C3-A8FE-F5CA4C8F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0E51-9C2F-4B07-9ECD-056B0621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AC1C-3080-4C5A-A593-843988AF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FC19-457F-4054-83DC-F163AF18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397-B3F9-413A-B1FE-D03A67A4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8DF-F9A5-4657-845F-646E46B3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7FD-4831-4313-8904-B12270A6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659-6902-435D-B0F8-EF5CD777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4DD-5D6B-420E-ACC1-5F5C0B3C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170-5ECE-4C20-B831-F86D4C7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F26-3730-4000-9588-4167D1F9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F9AA-7506-431B-9306-849BB102F08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A43C-3BDE-43A8-A52F-9A450C132F1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77;&#1088;&#1091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72;&#1095;&#1072;&#1082;&#1091;&#1090;&#1077;&#1082;_&#1070;&#1087;&#1072;&#1085;&#1082;&#1080;" TargetMode="External"/><Relationship Id="rId3" Type="http://schemas.openxmlformats.org/officeDocument/2006/relationships/hyperlink" Target="https://ru.wikipedia.org/wiki/&#1048;&#1085;&#1090;&#1080;" TargetMode="External"/><Relationship Id="rId4" Type="http://schemas.openxmlformats.org/officeDocument/2006/relationships/hyperlink" Target="https://ru.wikipedia.org/wiki/&#1058;&#1077;&#1088;&#1088;&#1072;&#1089;&#1085;&#1086;&#1077;_&#1079;&#1077;&#1084;&#1083;&#1077;&#1076;&#1077;&#1083;&#1080;&#1077;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7;&#1072;&#1085;&#1086;&#1074;&#1085;&#1080;&#1082;" TargetMode="External"/><Relationship Id="rId3" Type="http://schemas.openxmlformats.org/officeDocument/2006/relationships/hyperlink" Target="https://ru.wikipedia.org/wiki/&#1042;&#1077;&#1083;&#1100;&#1084;&#1086;&#1078;&#1072;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40;&#1083;&#1090;&#1072;&#1088;&#1100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чу-Пикч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225680" y="4865400"/>
            <a:ext cx="314172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номарёва 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овое чудо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́чу-Пи́кчу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 ( 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Machu Pikchu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, в переводе — «старая вершина») — город древней Америки, находящийся на территории современного </a:t>
            </a: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Перу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, на вершине горного хребта на высоте 2450 метров над уровнем моря, господствуя над долиной реки Урубамбы. В 2007 году удостоен звания Нового чуда све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995640" y="2052720"/>
            <a:ext cx="3510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1600" y="227160"/>
            <a:ext cx="7404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836640"/>
            <a:ext cx="3927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Построенный </a:t>
            </a:r>
            <a:r>
              <a:rPr b="0" lang="en-US" sz="16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Пачакутеком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 в качестве императорской резиденции, а также с целью увековечить свое имя в истории, Мачу-Пикчу был третьим среди подобных резиденций-святилищ. По своим скромным размерам Мачу-Пикчу не может претендовать на роль крупного города — в нём не более 200 сооружений. В основном это храмы, Полагают, что в нём и вокруг него проживало до 1200 человек, которые поклонялись там богу Солнца </a:t>
            </a:r>
            <a:r>
              <a:rPr b="0" lang="en-US" sz="16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Инти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 и возделывали новые земли и возводили города на </a:t>
            </a:r>
            <a:r>
              <a:rPr b="0" lang="en-US" sz="16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террасах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140360" y="1557360"/>
            <a:ext cx="3563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ачу-Пикчу имеет очень чёткую структуру. На юго-востоке угадывается комплекс дворцовых построек. Камни, из которых они сложены, обработаны настолько тщательно, что можно с уверенностью сказать: их строили не те мастера, которые сложили остальные постройки. Вероятно, их использовали как жилища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ановников</a:t>
            </a: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 и 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вельмож</a:t>
            </a: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995640" y="1967040"/>
            <a:ext cx="3456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 западной части возвышается главный храм с 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алтарём</a:t>
            </a: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 для жертвоприношений. Напротив него жилой квартал, плотно застроенный двухэтажными домиками. Между ними, как в лабиринте, вьются узкие улочки и лестницы, часто приводящие в тупик или на нависающую над пропастью террасу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995640" y="2276640"/>
            <a:ext cx="35290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7:57:28Z</dcterms:created>
  <dc:creator>sasha</dc:creator>
  <dc:description/>
  <dc:language>en-US</dc:language>
  <cp:lastModifiedBy>sasha</cp:lastModifiedBy>
  <dcterms:modified xsi:type="dcterms:W3CDTF">2015-05-11T18:20:14Z</dcterms:modified>
  <cp:revision>3</cp:revision>
  <dc:subject/>
  <dc:title>Мачу-Пикчу</dc:title>
</cp:coreProperties>
</file>