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900-6F77-4B95-A8AE-B17205BB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1F3-FF23-41DB-9856-4209925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24C-90E9-4C34-BA6C-FF023410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D61-9787-4198-B945-D0818989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57D3-6F58-4720-B425-CF9586B5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9530-ADDD-48E9-87C2-C1418B90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027B-5C53-4C87-BF7F-D094DC8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356A-B18F-4EC6-8261-FB8D1B3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21EB-1DDA-4168-B715-8D2AC3E8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5B32-996B-4628-A0E1-B5E08BE4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FDA4-3DD1-4274-AC30-E4FA4215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1CB-CEB6-455F-8979-3D652E5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1645-D89C-4899-8F91-A4F9DDD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9C97-0254-49D0-ACA5-ABAB6FB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417F-1773-4313-BBC1-4BEC59D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B39B-2242-4B8F-843A-B4E9983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C27-03B7-4998-9E73-2AF5794B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7A3-8890-408A-B1CC-D4C4539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BF3-A14C-430C-953A-1AEC3EBC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968-D30A-4076-9A81-AA04325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90A-CD7C-4DED-BC43-D0AF54A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828-BE8A-4911-9EEC-E496FBB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5EA-55ED-4F77-BE40-710F6CA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393-AAF3-482A-A98E-448433B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5369-3038-4152-82A1-6DBBBB56462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9D2-4B56-41F5-B211-7137BD0C65B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77;&#1088;&#1091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72;&#1095;&#1072;&#1082;&#1091;&#1090;&#1077;&#1082;_&#1070;&#1087;&#1072;&#1085;&#1082;&#1080;" TargetMode="External"/><Relationship Id="rId3" Type="http://schemas.openxmlformats.org/officeDocument/2006/relationships/hyperlink" Target="https://ru.wikipedia.org/wiki/&#1048;&#1085;&#1090;&#1080;" TargetMode="External"/><Relationship Id="rId4" Type="http://schemas.openxmlformats.org/officeDocument/2006/relationships/hyperlink" Target="https://ru.wikipedia.org/wiki/&#1058;&#1077;&#1088;&#1088;&#1072;&#1089;&#1085;&#1086;&#1077;_&#1079;&#1077;&#1084;&#1083;&#1077;&#1076;&#1077;&#1083;&#1080;&#1077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7;&#1072;&#1085;&#1086;&#1074;&#1085;&#1080;&#1082;" TargetMode="External"/><Relationship Id="rId3" Type="http://schemas.openxmlformats.org/officeDocument/2006/relationships/hyperlink" Target="https://ru.wikipedia.org/wiki/&#1042;&#1077;&#1083;&#1100;&#1084;&#1086;&#1078;&#1072;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40;&#1083;&#1090;&#1072;&#1088;&#1100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чу-Пикч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225680" y="4865400"/>
            <a:ext cx="314172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номарёва 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овое чудо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́чу-Пи́кчу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 ( 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Machu Pikchu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в переводе — «старая вершина») — город древней Америки, находящийся на территории современного </a:t>
            </a: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Перу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на вершине горного хребта на высоте 2450 метров над уровнем моря, господствуя над долиной реки Урубамбы. В 2007 году удостоен звания Нового чуда све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95640" y="2052720"/>
            <a:ext cx="3510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227160"/>
            <a:ext cx="7404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836640"/>
            <a:ext cx="3927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Построенный </a:t>
            </a:r>
            <a:r>
              <a:rPr b="0" lang="en-US" sz="16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Пачакутеком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 в качестве императорской резиденции, а также с целью увековечить свое имя в истории, Мачу-Пикчу был третьим среди подобных резиденций-святилищ. По своим скромным размерам Мачу-Пикчу не может претендовать на роль крупного города — в нём не более 200 сооружений. В основном это храмы, Полагают, что в нём и вокруг него проживало до 1200 человек, которые поклонялись там богу Солнца </a:t>
            </a:r>
            <a:r>
              <a:rPr b="0" lang="en-US" sz="16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Инти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 и возделывали новые земли и возводили города на </a:t>
            </a:r>
            <a:r>
              <a:rPr b="0" lang="en-US" sz="16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террасах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140360" y="1557360"/>
            <a:ext cx="3563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ачу-Пикчу имеет очень чёткую структуру. На юго-востоке угадывается комплекс дворцовых построек. Камни, из которых они сложены, обработаны настолько тщательно, что можно с уверенностью сказать: их строили не те мастера, которые сложили остальные постройки. Вероятно, их использовали как жилища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ановников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 и 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вельмож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995640" y="1967040"/>
            <a:ext cx="3456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западной части возвышается главный храм с 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алтарём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 для жертвоприношений. Напротив него жилой квартал, плотно застроенный двухэтажными домиками. Между ними, как в лабиринте, вьются узкие улочки и лестницы, часто приводящие в тупик или на нависающую над пропастью террасу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995640" y="2276640"/>
            <a:ext cx="35290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7:57:28Z</dcterms:created>
  <dc:creator>sasha</dc:creator>
  <dc:description/>
  <dc:language>en-US</dc:language>
  <cp:lastModifiedBy>sasha</cp:lastModifiedBy>
  <dcterms:modified xsi:type="dcterms:W3CDTF">2015-05-11T18:20:14Z</dcterms:modified>
  <cp:revision>3</cp:revision>
  <dc:subject/>
  <dc:title>Мачу-Пикчу</dc:title>
</cp:coreProperties>
</file>