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3933-B5D6-4CC5-8362-3260B7F5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31B-5A20-4D83-83D3-9E9B08EB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567C-B52E-48F9-BD40-73EDC968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4AC-7715-4F25-AE5B-212017AC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83B9-FC7F-4FAC-9F89-531166A4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2B18-BCA0-43F0-9670-BB5D56DE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4F16-02F6-4B7D-9426-671EDAD8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133E-9906-4889-89F7-D7A62EA1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ADC4-579E-44FC-9A1A-CBAC518D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88FE-1145-4AB0-9F00-F0A2A2AA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3CFA-76F9-47AA-970B-37051CBF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A7AB-CEEB-463B-A445-5C1AB84B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8723-6223-4A7E-9843-2D3E4C7F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CE75-8B0D-40BA-956A-215E18F9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8A51-731C-4B9A-8A0E-1D45D03E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0486-DB04-44F2-B954-1E6EA15E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9F22-244A-43B9-9F72-8C8F5C51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3E81-F4D3-4E00-8DCF-735D6A29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CD80-1CF5-4A2A-90AB-811F9AD2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0E9-57DA-4737-8651-9006B644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C264-A797-4567-A23C-76240F8F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8593-FD5C-4DEE-81AB-28F61B0C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E54-59B6-4D68-9FB1-FE0A9655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CA40-01EA-44FB-8590-8F6551C0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B86C-99A8-4B2B-9187-924130B11E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1077-642D-484B-AD0A-E1398C0E073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ЖЕЛАЕМ УДАЧИ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 ВАС ВСЁ ПОЛУЧИТС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7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амятку для родителей подготовила учитель-логопед высшей категории Рязанцева Н.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ГРАЕМ С УДОВОЛЬСТВИЕМ ВМЕСТЕ С МАМ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РАЗВИТИЕ РЕЧИ РЕБЁНК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Пб 20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49568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ОВЕТЫ РОДИТЕЛЯМ ПО РАБОТЕ НАД ПРАВИЛЬНЫМ РЕЧЕВЫМ ДЫХАНИЕ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воевременное овладение правильной речью имеет важное значение для формирования личности ребенка. Для того чтобы правильно научиться произносить звуки, нужно подготовить артикуляционный аппарат, тренировать не только язык, губы, но и дыхание, и голос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Упражнения: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      «Кораблик»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раблики могут быть самодельными. Наби­раем воздух через нос (животик надувается), выдыхаем через рот (животик сдувается). Дуем на кораблик, чтобы он поплыл по блюдечку с водо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«Игрушки»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нообразные дудочки, трубочки помогают формировать сильную струю воздуха.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«Султанчик», «Сдуй пушинку», «Забей гол».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ти упражнения могут выполняться с высунутым и сложенным в трубочку языком, чтобы воздух проходил по середине язычка. Дыхание остается прежним: вдыхаем через нос — выдох делаем через рот, не поднимая плеч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Фокус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от приоткрыт. Язык “чашечкой” поднят вверх. Плавно, но сольно выдохнуть на ватку, лежащую на кончике носа. Ватка  подлетает вверх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«Чайник закипел», «Шторм в стакане»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ненавязчивой игровой форме проводятся интересные и полезные упражнения. В стакан налейте 150 граммов воды и вставьте в воду трубочку для коктейлей. Сначала потихоньку выдыхаем воздух в трубочку — чайник закипает, усиливаем выдох — он кипит, еще усиливаем выдох — вода бурлит. Не забываем — плечи не поднимать 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ОВЕТЫ РОДИТЕЛЯМ ПО ПРОВЕДЕНИЮ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ИМИЧЕСКИХ УПРАЖНЕНИЙ С ДЕТЬМ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Мама и детеныш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Цель.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витие эмпатии, самоконтроля, выразительности движений и реч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Описание игры.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бенок играет в паре со взрослым. Один выполняет роль мамы любого знакомого животного, другой — детеныша. Затем меняются ролями. Взрослый говорит, что мамы могут ласкать, наказывать, жалеть, спасать детенышей, а детеныши — реагировать на эти действия. Этот своеобразный диалог сопровождается выразительной мимикой. Животных называет взрослый. Это может быть семья кошек, обезьян, лошадей, ворон, собак, кур и т. п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ГИМНАСТИКА МИМИКОАРТИКУЛЯТОРНЫХ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ЫШЦ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морщивание всего лица и растягивание его в длину с раскрытием рта, сильно опуская нижнюю челюст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днимание и опускание бровей. При поднимании бровей глаза широко раскрываются, при опускании - глаза почти закрываются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переменное поднимание углов рта. При спокойном состоянии левой половины рта правый угол рта поднимается и наоборо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очередное закрывание глаз с посторонней помощью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очередное надувание щёк. Вдох носом, выдох ртом. Сначала по подражанию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5-09-06T14:25:1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