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811-3345-4F25-8700-CB7ADD83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9E8-7011-4656-A1FA-42E17B32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F5A-6441-4768-AEC8-9F4D8DA1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58E-F0C9-4031-BABE-F502E306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E11E-8ED7-4471-B872-402D68DB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AC2F-7F11-477C-82F0-3BC001A3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1EA0-DC1D-499C-A29A-B37D7995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71C5-0E05-4E3E-A4C9-96FEA23C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C8B8-FDA4-441C-BF86-7C89ABE6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E521-E8CB-4789-A675-6714F2A0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4432-33E9-413D-9E85-89BEC66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8D5-11C4-4085-972E-5C2D15D8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EC9F-460F-418E-890D-5DFC051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AA42-102B-4E86-B9B9-74920178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C3FD-1E8B-4D4D-A411-DBCE4E0A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5C7-E926-4CB7-8037-AE10034A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66C-B44A-4DA6-870B-9D45038B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ED7-9E4D-4ABD-81D9-3FB607F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773-E48D-476B-9B62-47C79168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B5C-6DA9-4ED4-9458-39EBBC87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8C0-A1D9-4DCE-ABC1-340F9CDF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B15-D265-4F3F-8F4C-4A43F784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B29-C2E8-45D2-B695-4DEF41B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334-DE2A-4DFF-8581-72439EB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1BDB-8301-42EE-BF02-21DD5AAC7F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A73B-AE14-42E5-B74F-68D88CE305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ЖЕЛАЕМ УДАЧИ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 ВАС ВСЁ ПОЛУЧИТС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7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мятку для родителей подготовила учитель-логопед высшей категории Рязанцева Н.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ГРАЕМ С УДОВОЛЬСТВИЕМ ВМЕСТЕ С МАМ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АЗВИТИЕ РЕЧИ РЕБЁН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б 20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ОВЕТЫ РОДИТЕЛЯМ ПО РАБОТЕ НАД ПРАВИЛЬНЫМ РЕЧЕВЫМ ДЫХАНИ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воевременное овладение правильной речью имеет важное значение для формирования личности ребенка. Для того чтобы правильно научиться произносить звуки, нужно подготовить артикуляционный аппарат, тренировать не только язык, губы, но и дыхание, и голос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пражнения: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    «Корабли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аблики могут быть самодельными. Наби­раем воздух через нос (животик надувается), выдыхаем через рот (животик сдувается). Дуем на кораблик, чтобы он поплыл по блюдечку с вод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«Игрушки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нообразные дудочки, трубочки помогают формировать сильную струю воздуха.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«Султанчик», «Сдуй пушинку», «Забей гол».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ти упражнения могут выполняться с высунутым и сложенным в трубочку языком, чтобы воздух проходил по середине язычка. Дыхание остается прежним: вдыхаем через нос — выдох делаем через рот, не поднимая плеч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окус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от приоткрыт. Язык “чашечкой” поднят вверх. Плавно, но сольно выдохнуть на ватку, лежащую на кончике носа. Ватка  подлетает вверх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«Чайник закипел», «Шторм в стакане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ненавязчивой игровой форме проводятся интересные и полезные упражнения. В стакан налейте 150 граммов воды и вставьте в воду трубочку для коктейлей. Сначала потихоньку выдыхаем воздух в трубочку — чайник закипает, усиливаем выдох — он кипит, еще усиливаем выдох — вода бурлит. Не забываем — плечи не поднимать 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ОВЕТЫ РОДИТЕЛЯМ ПО ПРОВЕДЕНИЮ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МИЧЕСКИХ УПРАЖНЕНИЙ С ДЕТЬМ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Мама и детеныш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Цель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витие эмпатии, самоконтроля, выразительности движений и реч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писание игры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бенок играет в паре со взрослым. Один выполняет роль мамы любого знакомого животного, другой — детеныша. Затем меняются ролями. Взрослый говорит, что мамы могут ласкать, наказывать, жалеть, спасать детенышей, а детеныши — реагировать на эти действия. Этот своеобразный диалог сопровождается выразительной мимикой. Животных называет взрослый. Это может быть семья кошек, обезьян, лошадей, ворон, собак, кур и т. п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ИМНАСТИКА МИМИКОАРТИКУЛЯТОРНЫХ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ШЦ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морщивание всего лица и растягивание его в длину с раскрытием рта, сильно опуская нижнюю челюс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нимание и опускание бровей. При поднимании бровей глаза широко раскрываются, при опускании - глаза почти закрываютс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переменное поднимание углов рта. При спокойном состоянии левой половины рта правый угол рта поднимается и наобор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очередное закрывание глаз с посторонней помощь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очередное надувание щёк. Вдох носом, выдох ртом. Сначала по подражанию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5-09-06T14:25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