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7EB2A-4C26-4FD4-8D8F-F1F29220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9CA2B-F1DC-40C3-8EAC-6450C252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7966F-FA87-4001-BFB2-20A18A05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330F0-693F-4033-8AE3-32E0F83F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BBF3-D13C-4BE5-BAAF-2A473BD4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365C-D829-492C-BEAD-071AC6EE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E59B-1808-4B45-9E63-F9CDAACA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83BA-D838-47AD-BB33-8C6824E0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5D57-BE71-4988-8FE1-B0A618F1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BCCF-4548-4328-8163-EBC57936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7655-2026-45C5-9CBD-4582EA90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0143D-043C-49FE-8601-ED6F132D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576A-85EB-459C-BEEC-7A730B4A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2F42-CDD8-4CEB-9985-42528DA1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4274-81BD-4DC3-9593-D3F34AF4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B276-5A3F-406A-A62D-BB7A2947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CC7B-D96E-4FA2-B0CF-9E4564BD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85C97-5176-4F52-BC1C-70E8DF99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4A53-4EB9-491B-832E-33122775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F60D8-C65F-4932-8D1A-55A8EED0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55192-9AE4-4343-A263-6091DC2C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A10A1-7ECB-4E36-BB6C-9539F0BA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77893-4C01-4B6F-8818-05D7C3DB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747C1-F8D6-4B81-A997-C2751311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F048-3DC3-4550-9EB5-973F6FBAB3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74A9-006E-40B7-9F4C-AC5893F113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Введение.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Актуальность исследования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485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Edwardian Script ITC"/>
              </a:rPr>
              <a:t>Пушкин Александр, 13 лет.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Edwardian Script ITC"/>
              </a:rPr>
              <a:t>Имеет более блистательные, нежели основательные дарования, более пылкий и тонкий, нежели глубокий ум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Edwardian Script ITC"/>
              </a:rPr>
              <a:t>Прилежание его к учению посредственно</a:t>
            </a:r>
            <a:r>
              <a:rPr b="1" lang="en-US" sz="2800" spc="-1" strike="noStrike">
                <a:solidFill>
                  <a:srgbClr val="ffffff"/>
                </a:solidFill>
                <a:latin typeface="Edwardian Script ITC"/>
              </a:rPr>
              <a:t>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Edwardian Script ITC"/>
              </a:rPr>
              <a:t>ибо трудолюбие еще не сделалось его добродетелью.</a:t>
            </a:r>
            <a:r>
              <a:rPr b="1" lang="en-US" sz="2800" spc="-1" strike="noStrike">
                <a:solidFill>
                  <a:srgbClr val="ffffff"/>
                </a:solidFill>
                <a:latin typeface="Edwardian Script ITC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Edwardian Script ITC"/>
              </a:rPr>
              <a:t>Знания его вообще поверхностны</a:t>
            </a:r>
            <a:r>
              <a:rPr b="1" lang="en-US" sz="2800" spc="-1" strike="noStrike">
                <a:solidFill>
                  <a:srgbClr val="ffffff"/>
                </a:solidFill>
                <a:latin typeface="Edwardian Script ITC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Edwardian Script ITC"/>
              </a:rPr>
              <a:t>хотя начинает несколько привыкать к основательному размышлению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0" b="19484"/>
          <a:stretch/>
        </p:blipFill>
        <p:spPr>
          <a:xfrm>
            <a:off x="5724360" y="1700280"/>
            <a:ext cx="3240360" cy="4467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Edwardian Script ITC"/>
              </a:rPr>
              <a:t>Поэма «Медный всад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Число строк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диаметр» поэм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rush Script MT"/>
              </a:rPr>
              <a:t>П = 3, 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700" spc="-1" strike="noStrike">
                <a:solidFill>
                  <a:srgbClr val="ffffff"/>
                </a:solidFill>
                <a:latin typeface="Edwardian Script ITC"/>
              </a:rPr>
              <a:t>«Серебряное сечение»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Brush Script MT"/>
              </a:rPr>
              <a:t>«И случай, бог изобретатель».</a:t>
            </a:r>
            <a:br>
              <a:rPr sz="3500"/>
            </a:br>
            <a:r>
              <a:rPr b="1" i="1" lang="en-US" sz="3900" spc="-1" strike="noStrike">
                <a:solidFill>
                  <a:srgbClr val="ffffff"/>
                </a:solidFill>
                <a:latin typeface="Brush Script MT"/>
              </a:rPr>
              <a:t>Теория вероятности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19280" y="1773000"/>
            <a:ext cx="720072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Edwardian Script ITC"/>
              </a:rPr>
              <a:t>«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Edwardian Script ITC"/>
              </a:rPr>
              <a:t>…провиденье – не алгебра.</a:t>
            </a:r>
            <a:r>
              <a:rPr b="0" i="1" lang="ru-RU" sz="3200" spc="-1" strike="noStrike">
                <a:solidFill>
                  <a:srgbClr val="ffffff"/>
                </a:solidFill>
                <a:latin typeface="Edwardian Script ITC"/>
              </a:rPr>
              <a:t>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Edwardian Script ITC"/>
              </a:rPr>
              <a:t>Ум человеческий,</a:t>
            </a:r>
            <a:r>
              <a:rPr b="0" i="1" lang="ru-RU" sz="3200" spc="-1" strike="noStrike">
                <a:solidFill>
                  <a:srgbClr val="ffffff"/>
                </a:solidFill>
                <a:latin typeface="Edwardian Script ITC"/>
              </a:rPr>
              <a:t> по простонародному выражению,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Edwardian Script ITC"/>
              </a:rPr>
              <a:t>не пророк, а угадчик,</a:t>
            </a:r>
            <a:r>
              <a:rPr b="0" i="1" lang="ru-RU" sz="3200" spc="-1" strike="noStrike">
                <a:solidFill>
                  <a:srgbClr val="ffffff"/>
                </a:solidFill>
                <a:latin typeface="Edwardian Script ITC"/>
              </a:rPr>
              <a:t> он видит общий ход вещей и может выводить из онного глубокие предположения, часто оправданные временем, но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Edwardian Script ITC"/>
              </a:rPr>
              <a:t>невозможно ему предвидеть случая – мощного мгновенного орудия провидения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700" spc="-1" strike="noStrike">
                <a:solidFill>
                  <a:srgbClr val="ffffff"/>
                </a:solidFill>
                <a:latin typeface="Edwardian Script ITC"/>
              </a:rPr>
              <a:t>Тайна случайности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Случайное событ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Edwardian Script ITC"/>
              </a:rPr>
              <a:t>Что же ты, моя старуш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Edwardian Script ITC"/>
              </a:rPr>
              <a:t>Приумолкла у ок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Складывается из двух несовместимых событ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Edwardian Script ITC"/>
              </a:rPr>
              <a:t>Или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Edwardian Script ITC"/>
              </a:rPr>
              <a:t>бури завывань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Edwardian Script ITC"/>
              </a:rPr>
              <a:t>Ты, мой друг, утомле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Edwardian Script ITC"/>
              </a:rPr>
              <a:t>Или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Edwardian Script ITC"/>
              </a:rPr>
              <a:t>дремлешь</a:t>
            </a:r>
            <a:r>
              <a:rPr b="0" i="1" lang="en-US" sz="2400" spc="-1" strike="noStrike">
                <a:solidFill>
                  <a:srgbClr val="ffffff"/>
                </a:solidFill>
                <a:latin typeface="Edwardian Script ITC"/>
              </a:rPr>
              <a:t> под жужжан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Edwardian Script ITC"/>
              </a:rPr>
              <a:t>Своего верете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700" spc="-1" strike="noStrike">
                <a:solidFill>
                  <a:srgbClr val="ffffff"/>
                </a:solidFill>
                <a:latin typeface="Edwardian Script ITC"/>
              </a:rPr>
              <a:t>Современные задачи: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Brush Script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Какова вероятность сочинить первую строку из романа А. С. Пушкина «Евгений Онегин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Brush Script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Из колоды карт Герман наугад извлёк 3 карты. Найдите вероятность того, что это будут 3, 7 и ту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597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5184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ffff"/>
                </a:solidFill>
                <a:latin typeface="Brush Script MT"/>
              </a:rPr>
              <a:t>Закон распределения случайной величины Х («судьбы закон»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6360" y="1052280"/>
            <a:ext cx="3683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"Куда, куда вы удалились,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Весны моей златые дни?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Что день грядущий мне готовит?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Его мой взор напрасно ловит,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В глубокой мгле таится он.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Нет нужды; прав судьбы закон.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Паду ли я, стрелой пронзенный,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Иль мимо пролетит она,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Все благо: бдения и сна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Приходит час определенный;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Благословен и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Edwardian Script ITC"/>
              </a:rPr>
              <a:t>день забот,</a:t>
            </a: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Благословен и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Edwardian Script ITC"/>
              </a:rPr>
              <a:t>тьмы приход</a:t>
            </a:r>
            <a:r>
              <a:rPr b="1" i="1" lang="en-US" sz="1800" spc="-1" strike="noStrike">
                <a:solidFill>
                  <a:srgbClr val="ffffff"/>
                </a:solidFill>
                <a:latin typeface="Edwardian Script ITC"/>
              </a:rPr>
              <a:t>!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>
            <a:lum contrast="66000"/>
          </a:blip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9647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ffffff"/>
                </a:solidFill>
                <a:latin typeface="Brush Script MT"/>
              </a:rPr>
              <a:t>«Евгений Онегин» и марковские цеп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"Мой дядя самых честных правил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6/9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Когда не в шутку занемог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2/8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Он уважать себя заставил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1/9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И лучше выдумать не мог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0/8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Его пример другим наука;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1/9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Но, боже мой, какая скука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0/8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С больным сидеть и день и ночь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2/9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Не отходя ни шагу прочь!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9/8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Какое низкое коварство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1/9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Полуживого забавлять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9/8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Ему подушки поправлять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1/9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Печально подносить лекарство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5/8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Вздыхать и думать про себя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2/9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Edwardian Script ITC"/>
              </a:rPr>
              <a:t>Когда же черт возьмет тебя!"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Edwardian Script ITC"/>
              </a:rPr>
              <a:t>13/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76360" y="1476360"/>
            <a:ext cx="7343640" cy="4689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300" spc="-1" strike="noStrike">
                <a:solidFill>
                  <a:srgbClr val="ffffff"/>
                </a:solidFill>
                <a:latin typeface="Edwardian Script ITC"/>
              </a:rPr>
              <a:t>О вдохновении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356000" y="1557000"/>
            <a:ext cx="46087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Edwardian Script ITC"/>
              </a:rPr>
              <a:t>«Вдохновенье нужно в поэзии, как в геометрии.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7561080" cy="3597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95640" y="476280"/>
            <a:ext cx="59054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"/>
              </a:rPr>
              <a:t>У лукоморья дуб зелёный,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comic"/>
              </a:rPr>
              <a:t>Златая цепь на дубе том.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comic"/>
              </a:rPr>
              <a:t>И днём и ночью кот учёный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comic"/>
              </a:rPr>
              <a:t>Всё ходит по цепи кругом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Какую линию описывает кот при своём движении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замкнутая цепь, наброшенная на дуб, обвивает его по спирали сверху вниз. Спираль – геометрическая фигура. В ЭТОМ СЛУЧАЕ кот учёный идёт то налево, то направо, как об этом говорится у Пушки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400"/>
                            </p:stCondLst>
                            <p:childTnLst>
                              <p:par>
                                <p:cTn id="4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700" spc="-1" strike="noStrike">
                <a:solidFill>
                  <a:srgbClr val="ffffff"/>
                </a:solidFill>
                <a:latin typeface="Edwardian Script ITC"/>
              </a:rPr>
              <a:t>Знал ли Пушкин числа Фибоначчи?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787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comic"/>
              </a:rPr>
              <a:t>ЧИСЛА ФИБОНАЧЧИ</a:t>
            </a:r>
            <a:r>
              <a:rPr b="1" i="1" lang="en-US" sz="2800" spc="-1" strike="noStrike">
                <a:solidFill>
                  <a:srgbClr val="ffffff"/>
                </a:solidFill>
                <a:latin typeface="comic"/>
              </a:rPr>
              <a:t>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лементы числовой последовательности 1,1,2,3,5,8…, в которых каждый последующий член равен сумме двух предыдущи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Edwardian Script ITC"/>
              </a:rPr>
              <a:t>Первые «успехи» будущего поэта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 русском и латинском языках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Более понятливости и вкуса, нежели прилеж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 французском язык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тал прилежнее и успехи постоянные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 логике и нравственности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есьма понятен, замысловат и остроумен, но не прилежен вовсе и успехи не значущие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 математик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строта, но для пустословия, очень ленив и в классе нескромен, успехи посредственны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ffff"/>
                </a:solidFill>
                <a:latin typeface="Edwardian Script ITC"/>
              </a:rPr>
              <a:t>Мерило гармонии и красоты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0" t="4989" r="0" b="0"/>
          <a:stretch/>
        </p:blipFill>
        <p:spPr>
          <a:xfrm>
            <a:off x="1692360" y="1844640"/>
            <a:ext cx="6983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. Заключение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Edwardian Script ITC"/>
              </a:rPr>
              <a:t>Пушкин был «страстен и к наукам естественным и особенно математическим, которые составляли значительный капитал его познаний…» </a:t>
            </a:r>
            <a:r>
              <a:rPr b="1" i="1" lang="en-US" sz="3600" spc="-1" strike="noStrike">
                <a:solidFill>
                  <a:srgbClr val="ffffff"/>
                </a:solidFill>
                <a:latin typeface="Edwardian Script ITC"/>
              </a:rPr>
              <a:t>/П. А. Вяземский/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0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2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ff"/>
                </a:solidFill>
                <a:latin typeface="Edwardian Script ITC"/>
              </a:rPr>
              <a:t>Теоретическая и практическая значимость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Edwardian Script ITC"/>
              </a:rPr>
              <a:t>Развенчивание мифа о нелюбви поэта к точной науке МАТЕМАТИКЕ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ffff"/>
                </a:solidFill>
                <a:latin typeface="Vladimir Script"/>
              </a:rPr>
              <a:t>Пушкин и математика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ffffff"/>
                </a:solidFill>
                <a:latin typeface="Vladimir Script"/>
              </a:rPr>
              <a:t>Знал ли Пушкин числа Фибоначчи?</a:t>
            </a:r>
            <a:endParaRPr b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Проблема исследования – 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осмысление противоречий между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нешней нелюбовью к математике А. С. Пушкина и отражениями математических понятий в его творчеств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очной наукой математикой и законами стихосложени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учить воспоминания близких, родственников, современников поэ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учить художественные тексты поэ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анализировать лексику поэта, математические законы, явления в исследуемых текст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ffffff"/>
                </a:solidFill>
                <a:latin typeface="Edwardian Script ITC"/>
              </a:rPr>
              <a:t>Методы исследования: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эмпирические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зучение научной, художественной, публицистической литературы, материалов на электронных носителях по исследуемой проблем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теоретические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анализ, синтез, обобщ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700" spc="-1" strike="noStrike">
                <a:solidFill>
                  <a:srgbClr val="ffffff"/>
                </a:solidFill>
                <a:latin typeface="Edwardian Script ITC"/>
              </a:rPr>
              <a:t>II</a:t>
            </a:r>
            <a:r>
              <a:rPr b="1" i="1" lang="ru-RU" sz="4700" spc="-1" strike="noStrike">
                <a:solidFill>
                  <a:srgbClr val="ffffff"/>
                </a:solidFill>
                <a:latin typeface="Edwardian Script ITC"/>
              </a:rPr>
              <a:t>. Основная часть. Предметы исследования.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Brush Script MT"/>
              </a:rPr>
              <a:t>Гипотеза о форме цифр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900" spc="-1" strike="noStrike">
                <a:solidFill>
                  <a:srgbClr val="ffffff"/>
                </a:solidFill>
                <a:latin typeface="Edwardian Script ITC"/>
              </a:rPr>
              <a:t>Арабские цифры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7354800" cy="314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600"/>
                            </p:stCondLst>
                            <p:childTnLst>
                              <p:par>
                                <p:cTn id="1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2852640"/>
            <a:ext cx="2089080" cy="2374920"/>
          </a:xfrm>
          <a:prstGeom prst="rect">
            <a:avLst/>
          </a:prstGeom>
          <a:solidFill>
            <a:srgbClr val="0078f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836640"/>
            <a:ext cx="2447640" cy="2519280"/>
          </a:xfrm>
          <a:prstGeom prst="rect">
            <a:avLst/>
          </a:prstGeom>
          <a:solidFill>
            <a:srgbClr val="0078f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2349360"/>
            <a:ext cx="2158920" cy="2519640"/>
          </a:xfrm>
          <a:prstGeom prst="rect">
            <a:avLst/>
          </a:prstGeom>
          <a:solidFill>
            <a:srgbClr val="0078f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68360" y="2852280"/>
            <a:ext cx="2016000" cy="2303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852640"/>
            <a:ext cx="2089080" cy="237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836640"/>
            <a:ext cx="2447640" cy="2519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276360" y="836640"/>
            <a:ext cx="2447640" cy="2519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16720" y="2349360"/>
            <a:ext cx="2158920" cy="2519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516720" y="2349000"/>
            <a:ext cx="2158920" cy="2519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852640"/>
            <a:ext cx="208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2852640"/>
            <a:ext cx="0" cy="237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979640" y="2852280"/>
            <a:ext cx="50472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836640"/>
            <a:ext cx="2447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276360" y="836640"/>
            <a:ext cx="2447640" cy="2519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48000" y="3357720"/>
            <a:ext cx="24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357720"/>
            <a:ext cx="2447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16720" y="2349360"/>
            <a:ext cx="215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596360" y="2349360"/>
            <a:ext cx="107928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96360" y="3573360"/>
            <a:ext cx="1079280" cy="129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516360" y="4869000"/>
            <a:ext cx="215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40000" y="3068640"/>
            <a:ext cx="216000" cy="7128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907920"/>
            <a:ext cx="73080" cy="2160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360" y="3141720"/>
            <a:ext cx="73080" cy="2160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8360" y="2349360"/>
            <a:ext cx="71280" cy="28764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40720" y="3357720"/>
            <a:ext cx="71280" cy="35856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88360" y="4581360"/>
            <a:ext cx="71280" cy="28764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340000" y="213372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484360" y="5373720"/>
            <a:ext cx="304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16360" y="40464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227640" y="1773360"/>
            <a:ext cx="23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916360" y="3573360"/>
            <a:ext cx="304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227640" y="5157720"/>
            <a:ext cx="304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940360" y="404640"/>
            <a:ext cx="266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675640" y="1700280"/>
            <a:ext cx="266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724360" y="3645000"/>
            <a:ext cx="266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675640" y="5084640"/>
            <a:ext cx="266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020000" y="3284640"/>
            <a:ext cx="199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3:53:40Z</dcterms:created>
  <dc:creator>user</dc:creator>
  <dc:description/>
  <dc:language>en-US</dc:language>
  <cp:lastModifiedBy>Admin</cp:lastModifiedBy>
  <dcterms:modified xsi:type="dcterms:W3CDTF">2009-03-30T03:13:31Z</dcterms:modified>
  <cp:revision>10</cp:revision>
  <dc:subject/>
  <dc:title>Пушкин и математика</dc:title>
</cp:coreProperties>
</file>