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C3C5-23ED-48C9-BE62-EA39A8B7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C6DC-CDB9-46B0-9A39-A70D482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AD10-E216-426A-BB24-1134D15E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B5D5-A4BB-4F73-9FF6-B2E5E1CD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8337-ECAB-4CCB-B367-8A30C50B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B037-5309-4C39-8779-CD808965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FBE3-5F01-43F0-9952-EB24867C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09C-2C95-4E0B-AD7D-68630E0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AE9-E49A-4D5E-80A3-A606507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5CD6-8316-4811-B5B3-1E64664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8B4D-6542-4052-916A-7321E5D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9C3C-553C-42B4-8590-41BE919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47BB-7E18-4C0E-ADDB-7FD6420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3AC1-9D22-462B-9B1A-5E3B156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E388-BDAB-4C65-A073-4D998141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10A-980D-48A6-AA95-F3F0539C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9B86-B320-46C8-B897-A9C9D9C0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86BF-BF72-412E-A606-F9D4C70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F3ED-2DD4-4C2E-A8CC-9FBCFE87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4B44-9364-4EDA-927B-E8A930F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825A-56CF-43D2-AA37-BA696B22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6392-5EF3-4226-8986-3B3A944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439B-CF3B-49A4-A913-BEA7FF1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C0DD-1EE2-4F80-BFD8-256461E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365B-93D5-414E-9C8E-7F007C265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77B7-514C-4B6D-A0F5-B65739DC51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ведение.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Актуальность исследования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85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Пушкин Александр, 13 лет.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Edwardian Script ITC"/>
              </a:rPr>
              <a:t>Имеет более блистательные, нежели основательные дарования, более пылкий и тонкий, нежели глубокий ум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Прилежание его к учению посредственно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ибо трудолюбие еще не сделалось его добродетелью.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Знания его вообще поверхностны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Edwardian Script ITC"/>
              </a:rPr>
              <a:t>хотя начинает несколько привыкать к основательному размышлению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9484"/>
          <a:stretch/>
        </p:blipFill>
        <p:spPr>
          <a:xfrm>
            <a:off x="5724360" y="1700280"/>
            <a:ext cx="3240360" cy="44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Edwardian Script ITC"/>
              </a:rPr>
              <a:t>Поэма «Медный всад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Число стр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диаметр» поэ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rush Script MT"/>
              </a:rPr>
              <a:t>П = 3,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«Серебряное сечение»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rush Script MT"/>
              </a:rPr>
              <a:t>«И случай, бог изобретатель».</a:t>
            </a:r>
            <a:br>
              <a:rPr sz="3500"/>
            </a:br>
            <a:r>
              <a:rPr b="1" i="1" lang="en-US" sz="3900" spc="-1" strike="noStrike">
                <a:solidFill>
                  <a:srgbClr val="ffffff"/>
                </a:solidFill>
                <a:latin typeface="Brush Script MT"/>
              </a:rPr>
              <a:t>Теория вероятност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72007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«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…провиденье – не алгебра.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Ум человеческий,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по простонародному выражению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не пророк, а угадчик,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он видит общий ход вещей и может выводить из онного глубокие предположения, часто оправданные временем,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невозможно ему предвидеть случая – мощного мгновенного орудия провидения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Тайна случайности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лучайное собы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Что же ты, моя стару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Приумолкла у ок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кладывается из двух несовместимых собы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Или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Edwardian Script ITC"/>
              </a:rPr>
              <a:t>бури завывань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Ты, мой друг, утомле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Или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Edwardian Script ITC"/>
              </a:rPr>
              <a:t>дремлешь</a:t>
            </a: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 под жужж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Своего верет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Современные задачи: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Какова вероятность сочинить первую строку из романа А. С. Пушкина «Евгений Онегин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Из колоды карт Герман наугад извлёк 3 карты. Найдите вероятность того, что это будут 3, 7 и ту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7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18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Brush Script MT"/>
              </a:rPr>
              <a:t>Закон распределения случайной величины Х («судьбы закон»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683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"Куда, куда вы удалились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есны моей златые дни?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Что день грядущий мне готовит?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Его мой взор напрасно ловит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 глубокой мгле таится он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Нет нужды; прав судьбы закон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Паду ли я, стрелой пронзенный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Иль мимо пролетит она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се благо: бдения и сна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Приходит час определенный;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Благословен 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Edwardian Script ITC"/>
              </a:rPr>
              <a:t>день забот,</a:t>
            </a: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Благословен 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Edwardian Script ITC"/>
              </a:rPr>
              <a:t>тьмы приход</a:t>
            </a: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!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Brush Script MT"/>
              </a:rPr>
              <a:t>«Евгений Онегин» и марковские цеп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"Мой дядя самых честных правил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6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огда не в шутку занемог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Он уважать себя заставил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И лучше выдумать не мог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0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Его пример другим наука;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Но, боже мой, какая скука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0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С больным сидеть и день и ноч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Не отходя ни шагу прочь!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9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акое низкое коварство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Полуживого забавлят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9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Ему подушки поправлят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Печально подносить лекарство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5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Вздыхать и думать про себя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огда же черт возьмет тебя!"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3/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76360" y="1476360"/>
            <a:ext cx="7343640" cy="468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ffffff"/>
                </a:solidFill>
                <a:latin typeface="Edwardian Script ITC"/>
              </a:rPr>
              <a:t>О вдохновении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1557000"/>
            <a:ext cx="4608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Edwardian Script ITC"/>
              </a:rPr>
              <a:t>«Вдохновенье нужно в поэзии, как в геометрии.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561080" cy="3597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590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У лукоморья дуб зелёный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Златая цепь на дубе том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И днём и ночью кот учёный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Всё ходит по цепи круго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Какую линию описывает кот при своём движении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замкнутая цепь, наброшенная на дуб, обвивает его по спирали сверху вниз. Спираль – геометрическая фигура. В ЭТОМ СЛУЧАЕ кот учёный идёт то налево, то направо, как об этом говорится у Пушк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4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Знал ли Пушкин числа Фибоначчи?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mic"/>
              </a:rPr>
              <a:t>ЧИСЛА ФИБОНАЧЧИ</a:t>
            </a: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менты числовой последовательности 1,1,2,3,5,8…, в которых каждый последующий член равен сумме двух предыду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Edwardian Script ITC"/>
              </a:rPr>
              <a:t>Первые «успехи» будущего поэт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русском и латинском языках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олее понятливости и вкуса, нежели приле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 французском язык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ал прилежнее и успехи постоянны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логике и нравственност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сьма понятен, замысловат и остроумен, но не прилежен вовсе и успехи не значущи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математик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трота, но для пустословия, очень ленив и в классе нескромен, успехи посредствен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Edwardian Script ITC"/>
              </a:rPr>
              <a:t>Мерило гармонии и красот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4989" r="0" b="0"/>
          <a:stretch/>
        </p:blipFill>
        <p:spPr>
          <a:xfrm>
            <a:off x="1692360" y="1844640"/>
            <a:ext cx="698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. Заключение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Edwardian Script ITC"/>
              </a:rPr>
              <a:t>Пушкин был «страстен и к наукам естественным и особенно математическим, которые составляли значительный капитал его познаний…» </a:t>
            </a: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/П. А. Вяземский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Edwardian Script ITC"/>
              </a:rPr>
              <a:t>Теоретическая и практическая значимость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Edwardian Script ITC"/>
              </a:rPr>
              <a:t>Развенчивание мифа о нелюбви поэта к точной науке МАТЕМАТИК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Vladimir Script"/>
              </a:rPr>
              <a:t>Пушкин и математик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ffff"/>
                </a:solidFill>
                <a:latin typeface="Vladimir Script"/>
              </a:rPr>
              <a:t>Знал ли Пушкин числа Фибоначчи?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роблема исследования –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осмысление противоречий между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нешней нелюбовью к математике А. С. Пушкина и отражениями математических понятий в его творчеств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очной наукой математикой и законами стихосложени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воспоминания близких, родственников, современников поэ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художественные тексты поэ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анализировать лексику поэта, математические законы, явления в исследуемых текс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ffffff"/>
                </a:solidFill>
                <a:latin typeface="Edwardian Script ITC"/>
              </a:rPr>
              <a:t>Методы исследования: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мпирическ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зучение научной, художественной, публицистической литературы, материалов на электронных носителях по исследуемой пробл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оретическ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нализ, синтез, обоб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ffffff"/>
                </a:solidFill>
                <a:latin typeface="Edwardian Script ITC"/>
              </a:rPr>
              <a:t>II</a:t>
            </a:r>
            <a:r>
              <a:rPr b="1" i="1" lang="ru-RU" sz="4700" spc="-1" strike="noStrike">
                <a:solidFill>
                  <a:srgbClr val="ffffff"/>
                </a:solidFill>
                <a:latin typeface="Edwardian Script ITC"/>
              </a:rPr>
              <a:t>. Основная часть. Предметы исследования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Brush Script MT"/>
              </a:rPr>
              <a:t>Гипотеза о форме цифр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900" spc="-1" strike="noStrike">
                <a:solidFill>
                  <a:srgbClr val="ffffff"/>
                </a:solidFill>
                <a:latin typeface="Edwardian Script ITC"/>
              </a:rPr>
              <a:t>Арабские цифры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354800" cy="31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2852640"/>
            <a:ext cx="2089080" cy="2374920"/>
          </a:xfrm>
          <a:prstGeom prst="rect">
            <a:avLst/>
          </a:prstGeom>
          <a:solidFill>
            <a:srgbClr val="0078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836640"/>
            <a:ext cx="2447640" cy="2519280"/>
          </a:xfrm>
          <a:prstGeom prst="rect">
            <a:avLst/>
          </a:prstGeom>
          <a:solidFill>
            <a:srgbClr val="0078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2349360"/>
            <a:ext cx="2158920" cy="2519640"/>
          </a:xfrm>
          <a:prstGeom prst="rect">
            <a:avLst/>
          </a:prstGeom>
          <a:solidFill>
            <a:srgbClr val="0078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8360" y="2852280"/>
            <a:ext cx="2016000" cy="230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852640"/>
            <a:ext cx="2089080" cy="237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836640"/>
            <a:ext cx="2447640" cy="25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76360" y="836640"/>
            <a:ext cx="2447640" cy="25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2349360"/>
            <a:ext cx="2158920" cy="251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2349000"/>
            <a:ext cx="2158920" cy="251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85264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852640"/>
            <a:ext cx="0" cy="237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79640" y="285228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83664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360" y="836640"/>
            <a:ext cx="244764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335772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35772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2349360"/>
            <a:ext cx="215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96360" y="2349360"/>
            <a:ext cx="107928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3573360"/>
            <a:ext cx="107928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516360" y="4869000"/>
            <a:ext cx="215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068640"/>
            <a:ext cx="216000" cy="7128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907920"/>
            <a:ext cx="73080" cy="216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3141720"/>
            <a:ext cx="73080" cy="216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2349360"/>
            <a:ext cx="71280" cy="287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3357720"/>
            <a:ext cx="71280" cy="3585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8360" y="4581360"/>
            <a:ext cx="71280" cy="287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40000" y="21337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84360" y="5373720"/>
            <a:ext cx="3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16360" y="404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177336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16360" y="3573360"/>
            <a:ext cx="30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27640" y="5157720"/>
            <a:ext cx="3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40360" y="404640"/>
            <a:ext cx="266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675640" y="1700280"/>
            <a:ext cx="26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24360" y="3645000"/>
            <a:ext cx="26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675640" y="5084640"/>
            <a:ext cx="266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020000" y="3284640"/>
            <a:ext cx="19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3:53:40Z</dcterms:created>
  <dc:creator>user</dc:creator>
  <dc:description/>
  <dc:language>en-US</dc:language>
  <cp:lastModifiedBy>Admin</cp:lastModifiedBy>
  <dcterms:modified xsi:type="dcterms:W3CDTF">2009-03-30T03:13:31Z</dcterms:modified>
  <cp:revision>10</cp:revision>
  <dc:subject/>
  <dc:title>Пушкин и математика</dc:title>
</cp:coreProperties>
</file>