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10050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F2B5-5EE5-4043-B325-C21BB8569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E713-A1F1-4FB1-B3B4-C5D1F49C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4423-D5ED-4EA3-B68F-B44ABCEDA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35C4-0C26-4BE6-8B0A-114DBA2A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65CA6-965D-460B-9040-F992C4805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F31BD-3F74-427C-B845-EE9CD0A9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D0EE1-4C66-4818-971E-4049D817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B5F92-C063-470C-B4DC-52DE4A9B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6211F-A2EB-46C2-A2B3-0A87E7E7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15FA3-F168-4592-865B-EEA895D2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EBBA5-65AA-4BDA-B300-FE6F696A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4CFD-01F6-4AC0-8B9F-2D0A847C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59A47-3A99-4927-8B5E-DBE1C50F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A5236-8619-4BEF-90B9-6FE30D83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C46BB-AA26-4ECE-A5F5-F6909A94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92201-450B-4077-B03D-2866E7653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B5378-A172-45E4-916B-863A2F9CD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D29B3-90C6-45A0-83D0-97608E87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58C7D-3D51-4AB0-866E-562DE5D0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F62CF-02D5-4CF7-B65F-4B2C8DB2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7A843-12FC-4678-A030-06628D3A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AC12C-B68C-4F9F-998A-0409F59A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E2FB-E3CB-4AC6-834D-4D27E725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0D163-605C-4C95-8060-1AA0E18B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B0BE4-B3C8-4302-8CDA-9DA903A0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4B090-2F75-49BF-B36A-0C9D35B6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B3298-498C-4A56-A55E-14EE648E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CF6F6-CD74-41C1-A928-FB13E5E1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73136-16C3-4960-B97B-DC87C6EC8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CA6A2-B584-4ECA-9C76-C44E31068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5FD113-138C-40E9-AE19-329B5E250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3EBE68-E181-48E2-ABB3-CAA72C78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C83C13-4470-4A35-97D0-28022F3E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028A-9154-411A-A866-51DBF48C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9AE3D6-81BF-4174-88D7-32203F17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8764F5-48AE-427C-85ED-CBCF5FC4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D8559F-B8E8-4734-B557-4DC1E9D0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943AA0-C640-4AE3-9EF2-89F2B700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EF56DE-F629-4F21-8D9F-B6C41CC3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0F0684-D0EA-4F47-86BB-F3920492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298EC9-1FE4-4820-AB56-93622157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5771A5-E778-4BCC-BFFD-60A6CD42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7A7DF1-67E5-4CF5-8E3C-F3FCC51E8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1562AB-06E1-4D00-BC73-9C1CCAF5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17C0-0D86-4607-85EB-627D8CEC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F28953-56BA-4EB7-BD5F-D2D328B5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E65DD5-6F28-4C1B-8966-B8CBBCFC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7B881C-07A9-4C96-84A9-00634F6A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0B7D7C-A8C2-4472-AAA6-B8B0D936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7C33AD-71BB-445D-8C34-8B97CA40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0C3C0D-DD4E-4BA6-A30C-FC2091A0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999887-5552-4C0D-B886-DDB61519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0D4A3C-E929-4A5A-AF10-5403A6F0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7C240D-9128-48E2-A9D3-7453D97A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717B9D-4A18-4C2E-8201-594246B2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7DF6-5659-4E7C-89AA-8C423014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936737-237B-46CD-A4A3-24D8C76B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58513C-59EF-44DD-B8E5-46E634CB8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8DB54D-F7E1-4093-B284-4DD1F849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AC5D4C-29F2-45EC-B4AA-D6755243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7FA4EF-A3D6-4161-A4FD-11EEDB8C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A18919-381E-42A7-A57A-24D42436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D813FF-D627-4DEA-BDED-C44FB72F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C3F9CD-772B-4FC4-84E1-721C3A48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4C35E6-7DBD-45C6-AFAB-C8F372F9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010E82-F03C-4457-8A1C-4B737697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B55F-5AA7-47E1-AA5D-54F1D624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45CA2C-27FB-41D6-B7D9-569F2454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47E1CD-F5CF-46C7-98C0-58C5A4B4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F9E917-D4A0-4089-87C4-314A8B32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B017-635D-45E3-AD08-E2FAC3CF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A5DC-9E14-4E6D-BBD6-39DD1BF8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9AF1-2C3A-4D1F-994E-789E8D05F00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F654-7A24-4C83-863D-056793EE1F3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Прямоугольник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Прямоугольник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Прямоугольник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Прямая соединительная линия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Прямая соединительная линия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Прямая соединительная линия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Прямая соединительная линия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Овал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Овал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Овал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Овал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Овал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Прямая соединительная линия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756D-37A1-4A52-87F9-17DC7352170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A77E-CCA8-4A95-97C8-C85BF43A205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ая соединительная линия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Прямая соединительная линия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Прямая соединительная линия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Прямая соединительная линия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Прямоугольник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Овал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367E-7616-462F-BBEC-7B3C5371780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ая соединительная линия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Овал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Прямая соединительная линия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Прямоугольник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Прямая соединительная линия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Прямая соединительная линия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Прямая соединительная линия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A7DF-7D56-44E0-B2F3-6A6F1D1B180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e75c01"/>
                </a:solidFill>
                <a:latin typeface="Century Schoolbook"/>
              </a:rPr>
              <a:t>ФРАЗЕОЛОГИЯ -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10920" y="1628280"/>
            <a:ext cx="75294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668c4"/>
                </a:solidFill>
                <a:latin typeface="Century Schoolbook"/>
              </a:rPr>
              <a:t>от греческих слов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entury Schoolbook"/>
              </a:rPr>
              <a:t>фразис       +     логос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668c4"/>
                </a:solidFill>
                <a:latin typeface="Century Schoolbook"/>
              </a:rPr>
              <a:t>(phrasis)            (logos)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1" lang="ru-RU" sz="4400" spc="-1" strike="noStrike">
                <a:solidFill>
                  <a:srgbClr val="d2611c"/>
                </a:solidFill>
                <a:latin typeface="Century Schoolbook"/>
              </a:rPr>
              <a:t>выражение        учение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Segoe Script"/>
                <a:ea typeface="David"/>
              </a:rPr>
              <a:t>ФРАЗЕОЛОГИЗМЫ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50920" y="1557000"/>
            <a:ext cx="86421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cc0000"/>
                </a:solidFill>
                <a:latin typeface="Century Schoolbook"/>
              </a:rPr>
              <a:t>- устойчивые сочетания слов,  равные по значению либо одному </a:t>
            </a:r>
            <a:r>
              <a:rPr b="1" i="1" lang="en-US" sz="4500" spc="-1" strike="noStrike">
                <a:solidFill>
                  <a:srgbClr val="006600"/>
                </a:solidFill>
                <a:latin typeface="Century Schoolbook"/>
              </a:rPr>
              <a:t>слову</a:t>
            </a:r>
            <a:r>
              <a:rPr b="1" i="1" lang="en-US" sz="4500" spc="-1" strike="noStrike">
                <a:solidFill>
                  <a:srgbClr val="cc0000"/>
                </a:solidFill>
                <a:latin typeface="Century Schoolbook"/>
              </a:rPr>
              <a:t>, либо </a:t>
            </a:r>
            <a:r>
              <a:rPr b="1" i="1" lang="en-US" sz="4500" spc="-1" strike="noStrike">
                <a:solidFill>
                  <a:srgbClr val="660066"/>
                </a:solidFill>
                <a:latin typeface="Century Schoolbook"/>
              </a:rPr>
              <a:t>предложению</a:t>
            </a:r>
            <a:r>
              <a:rPr b="1" i="1" lang="en-US" sz="1100" spc="-1" strike="noStrike">
                <a:solidFill>
                  <a:srgbClr val="000000"/>
                </a:solidFill>
                <a:latin typeface="Century Schoolbook"/>
              </a:rPr>
              <a:t>                                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"/>
          <p:cNvSpPr/>
          <p:nvPr/>
        </p:nvSpPr>
        <p:spPr>
          <a:xfrm>
            <a:off x="472680" y="4941720"/>
            <a:ext cx="781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Их водой не разольешь = Они крепко дружа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"/>
          <p:cNvSpPr/>
          <p:nvPr/>
        </p:nvSpPr>
        <p:spPr>
          <a:xfrm>
            <a:off x="2411280" y="4221000"/>
            <a:ext cx="6336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00"/>
                </a:solidFill>
                <a:latin typeface="Arial"/>
              </a:rPr>
              <a:t>Лясы точить = болтат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"/>
          <p:cNvSpPr/>
          <p:nvPr/>
        </p:nvSpPr>
        <p:spPr>
          <a:xfrm>
            <a:off x="5003640" y="3213000"/>
            <a:ext cx="0" cy="1152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115640" y="3860640"/>
            <a:ext cx="865080" cy="129564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Прямоугольник 1"/>
          <p:cNvSpPr/>
          <p:nvPr/>
        </p:nvSpPr>
        <p:spPr>
          <a:xfrm>
            <a:off x="611280" y="580536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 Black"/>
              </a:rPr>
              <a:t>Самая главная черта фразеологизмов –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 Black"/>
              </a:rPr>
              <a:t>переносный смыс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Облако 4"/>
          <p:cNvSpPr/>
          <p:nvPr/>
        </p:nvSpPr>
        <p:spPr>
          <a:xfrm>
            <a:off x="539640" y="1052640"/>
            <a:ext cx="3311640" cy="971280"/>
          </a:xfrm>
          <a:prstGeom prst="pie">
            <a:avLst/>
          </a:prstGeom>
          <a:solidFill>
            <a:srgbClr val="00b05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Из истории  нашего народ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блако 5"/>
          <p:cNvSpPr/>
          <p:nvPr/>
        </p:nvSpPr>
        <p:spPr>
          <a:xfrm>
            <a:off x="5940360" y="1341360"/>
            <a:ext cx="2879640" cy="935280"/>
          </a:xfrm>
          <a:prstGeom prst="pie">
            <a:avLst/>
          </a:prstGeom>
          <a:solidFill>
            <a:srgbClr val="b32c1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Из профессий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Облако 6"/>
          <p:cNvSpPr/>
          <p:nvPr/>
        </p:nvSpPr>
        <p:spPr>
          <a:xfrm>
            <a:off x="1332000" y="4221000"/>
            <a:ext cx="2985840" cy="1055880"/>
          </a:xfrm>
          <a:prstGeom prst="pie">
            <a:avLst/>
          </a:prstGeom>
          <a:solidFill>
            <a:srgbClr val="0070c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Из мифологи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Облако 7"/>
          <p:cNvSpPr/>
          <p:nvPr/>
        </p:nvSpPr>
        <p:spPr>
          <a:xfrm>
            <a:off x="4788000" y="3933720"/>
            <a:ext cx="2663640" cy="1054080"/>
          </a:xfrm>
          <a:prstGeom prst="pie">
            <a:avLst/>
          </a:prstGeom>
          <a:solidFill>
            <a:srgbClr val="80008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Созданные писателям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TextBox 14"/>
          <p:cNvSpPr/>
          <p:nvPr/>
        </p:nvSpPr>
        <p:spPr>
          <a:xfrm>
            <a:off x="2771640" y="242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entury Schoolbook"/>
              </a:rPr>
              <a:t>сматывать удочки, расправлять крылья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08" name="Прямая со стрелкой 16"/>
          <p:cNvCxnSpPr>
            <a:stCxn id="305" idx="4"/>
          </p:cNvCxnSpPr>
          <p:nvPr/>
        </p:nvCxnSpPr>
        <p:spPr>
          <a:xfrm flipH="1">
            <a:off x="99339120" y="29985840"/>
            <a:ext cx="244800" cy="3610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09" name="TextBox 17"/>
          <p:cNvSpPr/>
          <p:nvPr/>
        </p:nvSpPr>
        <p:spPr>
          <a:xfrm>
            <a:off x="900000" y="5445000"/>
            <a:ext cx="245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entury Schoolbook"/>
              </a:rPr>
              <a:t>ахиллесова пята нить Ариадны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entury Schoolbook"/>
              </a:rPr>
              <a:t>дамоклов меч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10" name="Прямая со стрелкой 19"/>
          <p:cNvCxnSpPr>
            <a:stCxn id="304" idx="4"/>
          </p:cNvCxnSpPr>
          <p:nvPr/>
        </p:nvCxnSpPr>
        <p:spPr>
          <a:xfrm>
            <a:off x="97142040" y="21592800"/>
            <a:ext cx="324360" cy="6483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11" name="TextBox 21"/>
          <p:cNvSpPr/>
          <p:nvPr/>
        </p:nvSpPr>
        <p:spPr>
          <a:xfrm>
            <a:off x="6156360" y="285264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entury Schoolbook"/>
              </a:rPr>
              <a:t>играть первую скрипку</a:t>
            </a:r>
            <a:r>
              <a:rPr b="1" lang="en-US" sz="1800" spc="-1" strike="noStrike">
                <a:solidFill>
                  <a:srgbClr val="cc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entury Schoolbook"/>
              </a:rPr>
              <a:t>сгущать краск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entury Schoolbook"/>
              </a:rPr>
              <a:t>ход конем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12" name="Прямая со стрелкой 24"/>
          <p:cNvCxnSpPr>
            <a:stCxn id="303" idx="4"/>
          </p:cNvCxnSpPr>
          <p:nvPr/>
        </p:nvCxnSpPr>
        <p:spPr>
          <a:xfrm>
            <a:off x="127495080" y="22903920"/>
            <a:ext cx="432360" cy="6850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13" name="TextBox 27"/>
          <p:cNvSpPr/>
          <p:nvPr/>
        </p:nvSpPr>
        <p:spPr>
          <a:xfrm>
            <a:off x="4284720" y="530064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entury Schoolbook"/>
              </a:rPr>
              <a:t>счастливые часов не наблюдают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entury Schoolbook"/>
              </a:rPr>
              <a:t>а воз и ныне там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entury Schoolbook"/>
              </a:rPr>
              <a:t>голый король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14" name="Прямая со стрелкой 30"/>
          <p:cNvCxnSpPr>
            <a:stCxn id="306" idx="4"/>
          </p:cNvCxnSpPr>
          <p:nvPr/>
        </p:nvCxnSpPr>
        <p:spPr>
          <a:xfrm>
            <a:off x="80272080" y="29633400"/>
            <a:ext cx="457920" cy="4597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15" name="TextBox 32"/>
          <p:cNvSpPr/>
          <p:nvPr/>
        </p:nvSpPr>
        <p:spPr>
          <a:xfrm>
            <a:off x="324000" y="285264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entury Schoolbook"/>
              </a:rPr>
              <a:t>как зеницу ока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entury Schoolbook"/>
              </a:rPr>
              <a:t>не от мира сего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"/>
          <p:cNvSpPr/>
          <p:nvPr/>
        </p:nvSpPr>
        <p:spPr>
          <a:xfrm>
            <a:off x="1191240" y="3572640"/>
            <a:ext cx="41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Вот тебе, бабушка, и Юрьев день!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"/>
          <p:cNvSpPr/>
          <p:nvPr/>
        </p:nvSpPr>
        <p:spPr>
          <a:xfrm>
            <a:off x="3997800" y="1196640"/>
            <a:ext cx="244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шарашкина контор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озовые очк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дея фикс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186920" y="1916280"/>
            <a:ext cx="505080" cy="1008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"/>
          <p:cNvSpPr/>
          <p:nvPr/>
        </p:nvSpPr>
        <p:spPr>
          <a:xfrm>
            <a:off x="2556000" y="1989000"/>
            <a:ext cx="144360" cy="15843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"/>
          <p:cNvSpPr/>
          <p:nvPr/>
        </p:nvSpPr>
        <p:spPr>
          <a:xfrm>
            <a:off x="3205080" y="1844640"/>
            <a:ext cx="503280" cy="6476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"/>
          <p:cNvSpPr/>
          <p:nvPr/>
        </p:nvSpPr>
        <p:spPr>
          <a:xfrm>
            <a:off x="3564000" y="1197000"/>
            <a:ext cx="503280" cy="1443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7451280" y="2276640"/>
            <a:ext cx="1800" cy="5029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1476360" y="4869000"/>
            <a:ext cx="71280" cy="6476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4858920" y="4724280"/>
            <a:ext cx="73080" cy="5763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entury Schoolbook"/>
              </a:rPr>
              <a:t>Откуда берутся фразеологизмы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564000" y="0"/>
            <a:ext cx="2014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Century Schoolbook"/>
              </a:rPr>
              <a:t>Отличай!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7" name="Овал 6"/>
          <p:cNvSpPr/>
          <p:nvPr/>
        </p:nvSpPr>
        <p:spPr>
          <a:xfrm>
            <a:off x="179280" y="260280"/>
            <a:ext cx="3381480" cy="9144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 Black"/>
              </a:rPr>
              <a:t>Словосочетан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Овал 7"/>
          <p:cNvSpPr/>
          <p:nvPr/>
        </p:nvSpPr>
        <p:spPr>
          <a:xfrm>
            <a:off x="5364000" y="260280"/>
            <a:ext cx="3384720" cy="914400"/>
          </a:xfrm>
          <a:prstGeom prst="ellipse">
            <a:avLst/>
          </a:prstGeom>
          <a:solidFill>
            <a:srgbClr val="3cb212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Black"/>
              </a:rPr>
              <a:t>Фразеологизмы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Прямоугольник 8"/>
          <p:cNvSpPr/>
          <p:nvPr/>
        </p:nvSpPr>
        <p:spPr>
          <a:xfrm>
            <a:off x="5867280" y="2852640"/>
            <a:ext cx="2881440" cy="863640"/>
          </a:xfrm>
          <a:prstGeom prst="rect">
            <a:avLst/>
          </a:prstGeom>
          <a:solidFill>
            <a:srgbClr val="66ff6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entury Schoolbook"/>
              </a:rPr>
              <a:t>Нельзя заменять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entury Schoolbook"/>
              </a:rPr>
              <a:t>одно слово другими словам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Прямоугольник 9"/>
          <p:cNvSpPr/>
          <p:nvPr/>
        </p:nvSpPr>
        <p:spPr>
          <a:xfrm>
            <a:off x="179280" y="3357720"/>
            <a:ext cx="2232000" cy="863280"/>
          </a:xfrm>
          <a:prstGeom prst="rect">
            <a:avLst/>
          </a:prstGeom>
          <a:solidFill>
            <a:srgbClr val="fff39d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entury Schoolbook"/>
              </a:rPr>
              <a:t>Любое слово можно заменить другими словами</a:t>
            </a: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31" name="Прямая со стрелкой 13"/>
          <p:cNvCxnSpPr/>
          <p:nvPr/>
        </p:nvCxnSpPr>
        <p:spPr>
          <a:xfrm>
            <a:off x="395280" y="2133720"/>
            <a:ext cx="2160" cy="1224720"/>
          </a:xfrm>
          <a:prstGeom prst="straightConnector1">
            <a:avLst/>
          </a:prstGeom>
          <a:ln w="4752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32" name=""/>
          <p:cNvSpPr/>
          <p:nvPr/>
        </p:nvSpPr>
        <p:spPr>
          <a:xfrm>
            <a:off x="250920" y="1341360"/>
            <a:ext cx="3456000" cy="719280"/>
          </a:xfrm>
          <a:prstGeom prst="foldedCorner">
            <a:avLst>
              <a:gd name="adj" fmla="val 12500"/>
            </a:avLst>
          </a:prstGeom>
          <a:solidFill>
            <a:srgbClr val="fff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ва самостоятельных слова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ные члены предложен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"/>
          <p:cNvSpPr/>
          <p:nvPr/>
        </p:nvSpPr>
        <p:spPr>
          <a:xfrm>
            <a:off x="395280" y="4508640"/>
            <a:ext cx="36734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кинуть</a:t>
            </a:r>
            <a:r>
              <a:rPr b="1" i="1" lang="en-US" sz="2000" spc="-1" strike="noStrike">
                <a:solidFill>
                  <a:srgbClr val="a50021"/>
                </a:solidFill>
                <a:latin typeface="Century Schoolbook"/>
              </a:rPr>
              <a:t> книги на полку</a:t>
            </a:r>
            <a:r>
              <a:rPr b="1" i="1" lang="en-US" sz="2000" spc="-1" strike="noStrike">
                <a:solidFill>
                  <a:srgbClr val="0066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"/>
          <p:cNvSpPr/>
          <p:nvPr/>
        </p:nvSpPr>
        <p:spPr>
          <a:xfrm>
            <a:off x="468360" y="2205000"/>
            <a:ext cx="388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х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что?                              куда?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Century Schoolbook"/>
              </a:rPr>
              <a:t>Положить книги на полку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68000" y="5084640"/>
            <a:ext cx="43909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Century Schoolbook"/>
              </a:rPr>
              <a:t>положить </a:t>
            </a: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учебники</a:t>
            </a:r>
            <a:r>
              <a:rPr b="1" i="1" lang="en-US" sz="2000" spc="-1" strike="noStrike">
                <a:solidFill>
                  <a:srgbClr val="a50021"/>
                </a:solidFill>
                <a:latin typeface="Century Schoolbook"/>
              </a:rPr>
              <a:t> на полку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"/>
          <p:cNvSpPr/>
          <p:nvPr/>
        </p:nvSpPr>
        <p:spPr>
          <a:xfrm>
            <a:off x="1187280" y="2421000"/>
            <a:ext cx="1152360" cy="34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698"/>
                </a:moveTo>
                <a:arcTo wR="10800" hR="10800" stAng="-10767531" swAng="11283600"/>
                <a:lnTo>
                  <a:pt x="10800" y="10800"/>
                </a:lnTo>
                <a:close/>
              </a:path>
              <a:path fill="none" w="21600" h="21600">
                <a:moveTo>
                  <a:pt x="0" y="10698"/>
                </a:moveTo>
                <a:arcTo wR="10800" hR="10800" stAng="-10767531" swAng="11283600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7" name=""/>
          <p:cNvSpPr/>
          <p:nvPr/>
        </p:nvSpPr>
        <p:spPr>
          <a:xfrm>
            <a:off x="4716360" y="22611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Century Schoolbook"/>
              </a:rPr>
              <a:t>Положить зубы на полку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38" name="Прямая со стрелкой 13"/>
          <p:cNvCxnSpPr/>
          <p:nvPr/>
        </p:nvCxnSpPr>
        <p:spPr>
          <a:xfrm>
            <a:off x="8532360" y="2060640"/>
            <a:ext cx="1080" cy="792720"/>
          </a:xfrm>
          <a:prstGeom prst="straightConnector1">
            <a:avLst/>
          </a:prstGeom>
          <a:ln w="47520">
            <a:solidFill>
              <a:srgbClr val="009900"/>
            </a:solidFill>
            <a:miter/>
            <a:tailEnd len="med" type="triangle" w="med"/>
          </a:ln>
        </p:spPr>
      </p:cxnSp>
      <p:sp>
        <p:nvSpPr>
          <p:cNvPr id="339" name=""/>
          <p:cNvSpPr/>
          <p:nvPr/>
        </p:nvSpPr>
        <p:spPr>
          <a:xfrm>
            <a:off x="5292720" y="1341360"/>
            <a:ext cx="3456000" cy="719280"/>
          </a:xfrm>
          <a:prstGeom prst="foldedCorner">
            <a:avLst>
              <a:gd name="adj" fmla="val 12500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а речевая единица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 нескольких сло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40" name="Прямая со стрелкой 13"/>
          <p:cNvCxnSpPr/>
          <p:nvPr/>
        </p:nvCxnSpPr>
        <p:spPr>
          <a:xfrm>
            <a:off x="2555640" y="2997000"/>
            <a:ext cx="1080" cy="165636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41" name="Прямая со стрелкой 13"/>
          <p:cNvCxnSpPr/>
          <p:nvPr/>
        </p:nvCxnSpPr>
        <p:spPr>
          <a:xfrm>
            <a:off x="3708000" y="2997000"/>
            <a:ext cx="251640" cy="216108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42" name=""/>
          <p:cNvSpPr/>
          <p:nvPr/>
        </p:nvSpPr>
        <p:spPr>
          <a:xfrm>
            <a:off x="4211640" y="3716280"/>
            <a:ext cx="338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Century Schoolbook"/>
              </a:rPr>
              <a:t>кинуть </a:t>
            </a: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зубы на полку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"/>
          <p:cNvSpPr/>
          <p:nvPr/>
        </p:nvSpPr>
        <p:spPr>
          <a:xfrm>
            <a:off x="4427640" y="4076640"/>
            <a:ext cx="3816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положить </a:t>
            </a:r>
            <a:r>
              <a:rPr b="0" i="1" lang="en-US" sz="2000" spc="-1" strike="noStrike">
                <a:solidFill>
                  <a:srgbClr val="006600"/>
                </a:solidFill>
                <a:latin typeface="Century Schoolbook"/>
              </a:rPr>
              <a:t>желудок</a:t>
            </a: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 на полку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"/>
          <p:cNvSpPr/>
          <p:nvPr/>
        </p:nvSpPr>
        <p:spPr>
          <a:xfrm>
            <a:off x="4716360" y="4437000"/>
            <a:ext cx="338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положить зубы на</a:t>
            </a:r>
            <a:r>
              <a:rPr b="0" i="1" lang="en-US" sz="2000" spc="-1" strike="noStrike">
                <a:solidFill>
                  <a:srgbClr val="006600"/>
                </a:solidFill>
                <a:latin typeface="Century Schoolbook"/>
              </a:rPr>
              <a:t> сто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Прямоугольник 8"/>
          <p:cNvSpPr/>
          <p:nvPr/>
        </p:nvSpPr>
        <p:spPr>
          <a:xfrm>
            <a:off x="5724360" y="4869000"/>
            <a:ext cx="2880000" cy="792000"/>
          </a:xfrm>
          <a:prstGeom prst="rect">
            <a:avLst/>
          </a:prstGeom>
          <a:solidFill>
            <a:srgbClr val="92d05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entury Schoolbook"/>
              </a:rPr>
              <a:t>Можно заменить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entury Schoolbook"/>
              </a:rPr>
              <a:t>всё одним словом-синонимом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"/>
          <p:cNvSpPr/>
          <p:nvPr/>
        </p:nvSpPr>
        <p:spPr>
          <a:xfrm>
            <a:off x="6012000" y="6093000"/>
            <a:ext cx="208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Century Schoolbook"/>
              </a:rPr>
              <a:t>голодат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47" name="Прямая со стрелкой 13"/>
          <p:cNvCxnSpPr/>
          <p:nvPr/>
        </p:nvCxnSpPr>
        <p:spPr>
          <a:xfrm>
            <a:off x="8604000" y="3789360"/>
            <a:ext cx="11880" cy="1045440"/>
          </a:xfrm>
          <a:prstGeom prst="straightConnector1">
            <a:avLst/>
          </a:prstGeom>
          <a:ln w="4752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348" name="Прямая со стрелкой 13"/>
          <p:cNvCxnSpPr/>
          <p:nvPr/>
        </p:nvCxnSpPr>
        <p:spPr>
          <a:xfrm>
            <a:off x="7019640" y="5661000"/>
            <a:ext cx="1080" cy="505440"/>
          </a:xfrm>
          <a:prstGeom prst="straightConnector1">
            <a:avLst/>
          </a:prstGeom>
          <a:ln w="19080">
            <a:solidFill>
              <a:srgbClr val="009900"/>
            </a:solidFill>
            <a:miter/>
            <a:tailEnd len="med" type="arrow" w="med"/>
          </a:ln>
        </p:spPr>
      </p:cxnSp>
      <p:cxnSp>
        <p:nvCxnSpPr>
          <p:cNvPr id="349" name="Прямая со стрелкой 13"/>
          <p:cNvCxnSpPr>
            <a:endCxn id="327" idx="6"/>
          </p:cNvCxnSpPr>
          <p:nvPr/>
        </p:nvCxnSpPr>
        <p:spPr>
          <a:xfrm flipH="1">
            <a:off x="3572640" y="476280"/>
            <a:ext cx="567720" cy="241920"/>
          </a:xfrm>
          <a:prstGeom prst="straightConnector1">
            <a:avLst/>
          </a:prstGeom>
          <a:ln w="4752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50" name="Прямая со стрелкой 13"/>
          <p:cNvCxnSpPr>
            <a:endCxn id="328" idx="2"/>
          </p:cNvCxnSpPr>
          <p:nvPr/>
        </p:nvCxnSpPr>
        <p:spPr>
          <a:xfrm>
            <a:off x="4787640" y="476280"/>
            <a:ext cx="564120" cy="241920"/>
          </a:xfrm>
          <a:prstGeom prst="straightConnector1">
            <a:avLst/>
          </a:prstGeom>
          <a:ln w="47520">
            <a:solidFill>
              <a:srgbClr val="009900"/>
            </a:solidFill>
            <a:miter/>
            <a:tailEnd len="med" type="triangle" w="med"/>
          </a:ln>
        </p:spPr>
      </p:cxnSp>
      <p:sp>
        <p:nvSpPr>
          <p:cNvPr id="351" name=""/>
          <p:cNvSpPr/>
          <p:nvPr/>
        </p:nvSpPr>
        <p:spPr>
          <a:xfrm>
            <a:off x="1965240" y="2421000"/>
            <a:ext cx="1636920" cy="5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" y="8764"/>
                </a:moveTo>
                <a:arcTo wR="10800" hR="10800" stAng="-10148149" swAng="9138727"/>
                <a:lnTo>
                  <a:pt x="10800" y="10800"/>
                </a:lnTo>
                <a:close/>
              </a:path>
              <a:path fill="none" w="21600" h="21600">
                <a:moveTo>
                  <a:pt x="194" y="8764"/>
                </a:moveTo>
                <a:arcTo wR="10800" hR="10800" stAng="-10148149" swAng="913872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"/>
          <p:cNvSpPr/>
          <p:nvPr/>
        </p:nvSpPr>
        <p:spPr>
          <a:xfrm>
            <a:off x="1619280" y="5516640"/>
            <a:ext cx="37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Century Schoolbook"/>
              </a:rPr>
              <a:t>положить книги на </a:t>
            </a: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сто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53" name="Прямая со стрелкой 13"/>
          <p:cNvCxnSpPr/>
          <p:nvPr/>
        </p:nvCxnSpPr>
        <p:spPr>
          <a:xfrm>
            <a:off x="4140000" y="2924280"/>
            <a:ext cx="648360" cy="262764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54" name="Прямая со стрелкой 13"/>
          <p:cNvCxnSpPr/>
          <p:nvPr/>
        </p:nvCxnSpPr>
        <p:spPr>
          <a:xfrm>
            <a:off x="3492000" y="836280"/>
            <a:ext cx="1080" cy="432360"/>
          </a:xfrm>
          <a:prstGeom prst="straightConnector1">
            <a:avLst/>
          </a:prstGeom>
          <a:ln w="4752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55" name="Прямая со стрелкой 13"/>
          <p:cNvCxnSpPr/>
          <p:nvPr/>
        </p:nvCxnSpPr>
        <p:spPr>
          <a:xfrm>
            <a:off x="5435280" y="836280"/>
            <a:ext cx="1080" cy="432360"/>
          </a:xfrm>
          <a:prstGeom prst="straightConnector1">
            <a:avLst/>
          </a:prstGeom>
          <a:ln w="47520">
            <a:solidFill>
              <a:srgbClr val="009900"/>
            </a:solidFill>
            <a:miter/>
            <a:tailEnd len="med" type="triangle" w="med"/>
          </a:ln>
        </p:spPr>
      </p:cxn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50920" y="5157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7380360" y="3789360"/>
            <a:ext cx="360360" cy="3589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8172360" y="4076640"/>
            <a:ext cx="360360" cy="35892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8028000" y="4437000"/>
            <a:ext cx="360360" cy="3589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5"/>
          <a:stretch/>
        </p:blipFill>
        <p:spPr>
          <a:xfrm>
            <a:off x="2509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332000" y="551664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362" name="Прямоугольник 9"/>
          <p:cNvSpPr/>
          <p:nvPr/>
        </p:nvSpPr>
        <p:spPr>
          <a:xfrm>
            <a:off x="826920" y="6165720"/>
            <a:ext cx="3457800" cy="574920"/>
          </a:xfrm>
          <a:prstGeom prst="rect">
            <a:avLst/>
          </a:prstGeom>
          <a:solidFill>
            <a:srgbClr val="fff39d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entury Schoolbook"/>
              </a:rPr>
              <a:t>Нельзя всё заменить одним словом-синонимом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heel spokes="1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2:08:58Z</dcterms:created>
  <dc:creator>Библиотека</dc:creator>
  <dc:description/>
  <dc:language>en-US</dc:language>
  <cp:lastModifiedBy>User</cp:lastModifiedBy>
  <dcterms:modified xsi:type="dcterms:W3CDTF">2015-02-01T19:56:45Z</dcterms:modified>
  <cp:revision>129</cp:revision>
  <dc:subject/>
  <dc:title>Фразеологизмы</dc:title>
</cp:coreProperties>
</file>