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C49-238A-4222-A8ED-4D21990F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985-A315-4D2C-94A4-4E4F4B1A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A58-FA29-484E-AC68-C469562B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B48-684E-4343-B148-640BC6C0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9614E-C0E0-4274-AAE1-DFB7FAB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0DC5F-7000-487A-B965-D4AF0AE6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9F94D-F1D5-43BD-8008-67B602D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86BF-1DC1-4105-8B90-DEFDA5F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1263-7E65-47F9-B4B8-38E08E0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1A4C-4E7D-4567-9343-D330ACB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6A431-54D9-419E-A058-9179C8A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A4A-1372-42F1-BC2B-FE8BEA27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322BD-4F6B-4843-834E-2D54852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98AA-3C4D-4196-9EE1-66CEE04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8E1FE-2602-4AC0-91ED-0877A7C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F04DA-DFB6-4E29-81B1-BBC7F079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291BD-4B50-4A1B-868F-46681BB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7B25-8C00-483A-BB8D-82D02732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B705-D2BB-4D9E-BA16-11FF121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7D6E-DEAA-43C9-8AE9-90D94EB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05A7-7F84-4F43-8E4A-54EE941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41AC-F42A-433B-B03F-798CE232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EE9-50B1-4431-8F06-2D936ECC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B87D-617C-4971-A51A-379C5EE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F06E-7574-44C1-B0C7-FE90B6E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65C3-1766-48E4-8DA1-341E73CF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FC19-FA01-4A77-AB54-56C04E8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7DFB-C6A2-42C9-AE17-D60499D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686E-C707-4989-9BA6-8DB63782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1945-3CF1-41F0-B939-6BA25B48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3C03C-3FCB-4729-A3BB-7E3C67A3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DDFCE-6F93-40A4-AA77-64D38928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788F1-0BC6-4940-A257-74D98B0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EA4-042B-47BB-83E7-7801D23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CFF6A-1B92-492D-B6E7-ABB2E1CE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E6957-1801-4AF7-A14E-643F1409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764D2-0063-4771-A011-5BEAD2C3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EE855-C279-4791-A01E-1AFB9D9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227F6-3947-4FA8-B9F8-35FCFA1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CC1A1-370F-4419-8A17-DD30E81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0382C-8987-4736-946C-8447C42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71AA8-C0CF-43BA-9CDB-677210D4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B16DA-A40B-41F1-8257-3DBF2638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EE39B-4553-4406-80C5-D59CF3A8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D02-1DF8-45CC-8562-E5418BF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380EE-3330-448E-9E68-C6F5189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22FF5-D17D-43AE-9E1B-3454477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FCF09-21F3-47F2-95F5-C6F4497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67D88-798F-4778-A112-75D28394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9EEF4-2752-43EB-88A5-D5FD47B9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EED94-137F-4D08-A32B-8708EF4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E16FC-D77B-4292-BB68-B7BEDAF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840C5-F1A6-4EEC-B896-E74ACCE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012FE-B012-4599-881E-3C59EB8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4C454-CBF6-463F-A6BD-381BE597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A9F-C34A-4D0C-B97F-324B08D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F2658-060A-43FB-80FE-A4B3361B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97184-B88B-42C6-AA6A-19241B82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E1CD8-8DB9-4B41-974C-58294578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58DC2-B9A3-4D41-8C49-0F2E142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AB0F0-BF2C-485E-A006-50565C3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01262-DAA5-4357-B097-6EDEC27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E991A-B7CD-4098-991E-3B71F03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02ED5-BC1A-4F97-955A-3E2A4D1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B48E3-4C06-4249-8538-769CFB1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5BD61-B780-4697-BF82-0D7221A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EB0-C7B6-4389-A27A-8726151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747DD-BF94-400A-853F-672D033F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45F15-6686-4EDA-A0FE-0FA22FF4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E29E0-C571-4B0E-B9B7-2C72821B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6E6-317A-4265-BDAF-9C0DF21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90D-A9CE-4CAF-A34D-1275431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628-1B3C-43FD-AC0A-191B4AA405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ACB4-153B-4E93-BD56-7FDF6B306B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E695-6ABC-42D0-A0DB-DC713AEE6C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90B3-46BF-4151-BB59-72B4F45F97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8B2-7BEB-410E-8EF8-2102C7566E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B53-2A68-4D5D-B064-EF952F7E1D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75c01"/>
                </a:solidFill>
                <a:latin typeface="Century Schoolbook"/>
              </a:rPr>
              <a:t>ФРАЗЕОЛОГИЯ -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0920" y="1628280"/>
            <a:ext cx="7529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от греческих слов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entury Schoolbook"/>
              </a:rPr>
              <a:t>фразис       +     логос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(phrasis)            (logos)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d2611c"/>
                </a:solidFill>
                <a:latin typeface="Century Schoolbook"/>
              </a:rPr>
              <a:t>выражение        уч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egoe Script"/>
                <a:ea typeface="David"/>
              </a:rPr>
              <a:t>ФРАЗЕОЛОГИЗМЫ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557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cc0000"/>
                </a:solidFill>
                <a:latin typeface="Century Schoolbook"/>
              </a:rPr>
              <a:t>- устойчивые сочетания слов,  равные по значению либо одному </a:t>
            </a:r>
            <a:r>
              <a:rPr b="1" i="1" lang="en-US" sz="4500" spc="-1" strike="noStrike">
                <a:solidFill>
                  <a:srgbClr val="006600"/>
                </a:solidFill>
                <a:latin typeface="Century Schoolbook"/>
              </a:rPr>
              <a:t>слову</a:t>
            </a:r>
            <a:r>
              <a:rPr b="1" i="1" lang="en-US" sz="4500" spc="-1" strike="noStrike">
                <a:solidFill>
                  <a:srgbClr val="cc0000"/>
                </a:solidFill>
                <a:latin typeface="Century Schoolbook"/>
              </a:rPr>
              <a:t>, либо </a:t>
            </a:r>
            <a:r>
              <a:rPr b="1" i="1" lang="en-US" sz="4500" spc="-1" strike="noStrike">
                <a:solidFill>
                  <a:srgbClr val="660066"/>
                </a:solidFill>
                <a:latin typeface="Century Schoolbook"/>
              </a:rPr>
              <a:t>предложению</a:t>
            </a:r>
            <a:r>
              <a:rPr b="1" i="1" lang="en-US" sz="11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"/>
          <p:cNvSpPr/>
          <p:nvPr/>
        </p:nvSpPr>
        <p:spPr>
          <a:xfrm>
            <a:off x="472680" y="4941720"/>
            <a:ext cx="78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Их водой не разольешь = Они крепко дружа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422100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Arial"/>
              </a:rPr>
              <a:t>Лясы точить = болта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3213000"/>
            <a:ext cx="0" cy="1152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15640" y="3860640"/>
            <a:ext cx="865080" cy="1295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611280" y="5805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Самая главная черта фразеологизмов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переносный смыс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Облако 4"/>
          <p:cNvSpPr/>
          <p:nvPr/>
        </p:nvSpPr>
        <p:spPr>
          <a:xfrm>
            <a:off x="539640" y="1052640"/>
            <a:ext cx="3311640" cy="971280"/>
          </a:xfrm>
          <a:prstGeom prst="pie">
            <a:avLst/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истории  нашего на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блако 5"/>
          <p:cNvSpPr/>
          <p:nvPr/>
        </p:nvSpPr>
        <p:spPr>
          <a:xfrm>
            <a:off x="5940360" y="1341360"/>
            <a:ext cx="2879640" cy="935280"/>
          </a:xfrm>
          <a:prstGeom prst="pie">
            <a:avLst/>
          </a:prstGeom>
          <a:solidFill>
            <a:srgbClr val="b32c1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професси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Облако 6"/>
          <p:cNvSpPr/>
          <p:nvPr/>
        </p:nvSpPr>
        <p:spPr>
          <a:xfrm>
            <a:off x="1332000" y="4221000"/>
            <a:ext cx="2985840" cy="1055880"/>
          </a:xfrm>
          <a:prstGeom prst="pie">
            <a:avLst/>
          </a:prstGeom>
          <a:solidFill>
            <a:srgbClr val="0070c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мифолог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Облако 7"/>
          <p:cNvSpPr/>
          <p:nvPr/>
        </p:nvSpPr>
        <p:spPr>
          <a:xfrm>
            <a:off x="4788000" y="3933720"/>
            <a:ext cx="2663640" cy="1054080"/>
          </a:xfrm>
          <a:prstGeom prst="pie">
            <a:avLst/>
          </a:prstGeom>
          <a:solidFill>
            <a:srgbClr val="80008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зданные писателя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2771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сматывать удочки, расправлять крылья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08" name="Прямая со стрелкой 16"/>
          <p:cNvCxnSpPr>
            <a:stCxn id="305" idx="4"/>
          </p:cNvCxnSpPr>
          <p:nvPr/>
        </p:nvCxnSpPr>
        <p:spPr>
          <a:xfrm flipH="1">
            <a:off x="99339120" y="29985840"/>
            <a:ext cx="244800" cy="36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09" name="TextBox 17"/>
          <p:cNvSpPr/>
          <p:nvPr/>
        </p:nvSpPr>
        <p:spPr>
          <a:xfrm>
            <a:off x="900000" y="5445000"/>
            <a:ext cx="24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ахиллесова пята нить Ариадн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дамоклов ме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0" name="Прямая со стрелкой 19"/>
          <p:cNvCxnSpPr>
            <a:stCxn id="304" idx="4"/>
          </p:cNvCxnSpPr>
          <p:nvPr/>
        </p:nvCxnSpPr>
        <p:spPr>
          <a:xfrm>
            <a:off x="97142040" y="21592800"/>
            <a:ext cx="324360" cy="648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1" name="TextBox 21"/>
          <p:cNvSpPr/>
          <p:nvPr/>
        </p:nvSpPr>
        <p:spPr>
          <a:xfrm>
            <a:off x="6156360" y="2852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Schoolbook"/>
              </a:rPr>
              <a:t>играть первую скрипку</a:t>
            </a: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сгущать крас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ход коне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2" name="Прямая со стрелкой 24"/>
          <p:cNvCxnSpPr>
            <a:stCxn id="303" idx="4"/>
          </p:cNvCxnSpPr>
          <p:nvPr/>
        </p:nvCxnSpPr>
        <p:spPr>
          <a:xfrm>
            <a:off x="127495080" y="22903920"/>
            <a:ext cx="432360" cy="685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3" name="TextBox 27"/>
          <p:cNvSpPr/>
          <p:nvPr/>
        </p:nvSpPr>
        <p:spPr>
          <a:xfrm>
            <a:off x="4284720" y="5300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а воз и ныне та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голый король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4" name="Прямая со стрелкой 30"/>
          <p:cNvCxnSpPr>
            <a:stCxn id="306" idx="4"/>
          </p:cNvCxnSpPr>
          <p:nvPr/>
        </p:nvCxnSpPr>
        <p:spPr>
          <a:xfrm>
            <a:off x="80272080" y="29633400"/>
            <a:ext cx="457920" cy="459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5" name="TextBox 32"/>
          <p:cNvSpPr/>
          <p:nvPr/>
        </p:nvSpPr>
        <p:spPr>
          <a:xfrm>
            <a:off x="32400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как зеницу ок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не от мира сег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"/>
          <p:cNvSpPr/>
          <p:nvPr/>
        </p:nvSpPr>
        <p:spPr>
          <a:xfrm>
            <a:off x="1191240" y="3572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от тебе, бабушка, и Юрьев день!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"/>
          <p:cNvSpPr/>
          <p:nvPr/>
        </p:nvSpPr>
        <p:spPr>
          <a:xfrm>
            <a:off x="3997800" y="119664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арашкина конто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зовые оч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 фик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186920" y="1916280"/>
            <a:ext cx="505080" cy="1008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1989000"/>
            <a:ext cx="144360" cy="158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1844640"/>
            <a:ext cx="50328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1197000"/>
            <a:ext cx="503280" cy="14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451280" y="2276640"/>
            <a:ext cx="1800" cy="502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476360" y="4869000"/>
            <a:ext cx="7128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858920" y="4724280"/>
            <a:ext cx="73080" cy="576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Schoolbook"/>
              </a:rPr>
              <a:t>Откуда берутся фразеологиз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201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Century Schoolbook"/>
              </a:rPr>
              <a:t>Отличай!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Овал 6"/>
          <p:cNvSpPr/>
          <p:nvPr/>
        </p:nvSpPr>
        <p:spPr>
          <a:xfrm>
            <a:off x="179280" y="260280"/>
            <a:ext cx="3381480" cy="914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Black"/>
              </a:rPr>
              <a:t>Словосочет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5364000" y="260280"/>
            <a:ext cx="3384720" cy="914400"/>
          </a:xfrm>
          <a:prstGeom prst="ellipse">
            <a:avLst/>
          </a:prstGeom>
          <a:solidFill>
            <a:srgbClr val="3cb212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Фразеологиз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Прямоугольник 8"/>
          <p:cNvSpPr/>
          <p:nvPr/>
        </p:nvSpPr>
        <p:spPr>
          <a:xfrm>
            <a:off x="5867280" y="2852640"/>
            <a:ext cx="2881440" cy="863640"/>
          </a:xfrm>
          <a:prstGeom prst="rect">
            <a:avLst/>
          </a:prstGeom>
          <a:solidFill>
            <a:srgbClr val="66ff6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Нельзя заменят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одно слово другими слова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Прямоугольник 9"/>
          <p:cNvSpPr/>
          <p:nvPr/>
        </p:nvSpPr>
        <p:spPr>
          <a:xfrm>
            <a:off x="179280" y="3357720"/>
            <a:ext cx="2232000" cy="863280"/>
          </a:xfrm>
          <a:prstGeom prst="rect">
            <a:avLst/>
          </a:prstGeom>
          <a:solidFill>
            <a:srgbClr val="fff39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entury Schoolbook"/>
              </a:rPr>
              <a:t>Любое слово можно заменить другими словами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31" name="Прямая со стрелкой 13"/>
          <p:cNvCxnSpPr/>
          <p:nvPr/>
        </p:nvCxnSpPr>
        <p:spPr>
          <a:xfrm>
            <a:off x="395280" y="2133720"/>
            <a:ext cx="2160" cy="122472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50920" y="1341360"/>
            <a:ext cx="3456000" cy="719280"/>
          </a:xfrm>
          <a:prstGeom prst="foldedCorner">
            <a:avLst>
              <a:gd name="adj" fmla="val 12500"/>
            </a:avLst>
          </a:prstGeom>
          <a:solidFill>
            <a:srgbClr val="fff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амостоятельных слов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ые члены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508640"/>
            <a:ext cx="3673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кинуть</a:t>
            </a: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 книги на полку</a:t>
            </a:r>
            <a:r>
              <a:rPr b="1" i="1" lang="en-US" sz="2000" spc="-1" strike="noStrike">
                <a:solidFill>
                  <a:srgbClr val="0066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2205000"/>
            <a:ext cx="388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что?                              куда?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Century Schoolbook"/>
              </a:rPr>
              <a:t>Положить книги на полк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000" y="5084640"/>
            <a:ext cx="4390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положить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учебники</a:t>
            </a: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2421000"/>
            <a:ext cx="1152360" cy="3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698"/>
                </a:moveTo>
                <a:arcTo wR="10800" hR="10800" stAng="-10767531" swAng="11283600"/>
                <a:lnTo>
                  <a:pt x="10800" y="10800"/>
                </a:lnTo>
                <a:close/>
              </a:path>
              <a:path fill="none" w="21600" h="21600">
                <a:moveTo>
                  <a:pt x="0" y="10698"/>
                </a:moveTo>
                <a:arcTo wR="10800" hR="10800" stAng="-10767531" swAng="112836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2261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Century Schoolbook"/>
              </a:rPr>
              <a:t>Положить зубы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38" name="Прямая со стрелкой 13"/>
          <p:cNvCxnSpPr/>
          <p:nvPr/>
        </p:nvCxnSpPr>
        <p:spPr>
          <a:xfrm>
            <a:off x="8532360" y="2060640"/>
            <a:ext cx="1080" cy="79272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292720" y="1341360"/>
            <a:ext cx="3456000" cy="71928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речевая единиц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нескольких сл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40" name="Прямая со стрелкой 13"/>
          <p:cNvCxnSpPr/>
          <p:nvPr/>
        </p:nvCxnSpPr>
        <p:spPr>
          <a:xfrm>
            <a:off x="2555640" y="2997000"/>
            <a:ext cx="1080" cy="165636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41" name="Прямая со стрелкой 13"/>
          <p:cNvCxnSpPr/>
          <p:nvPr/>
        </p:nvCxnSpPr>
        <p:spPr>
          <a:xfrm>
            <a:off x="3708000" y="2997000"/>
            <a:ext cx="251640" cy="216108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42" name=""/>
          <p:cNvSpPr/>
          <p:nvPr/>
        </p:nvSpPr>
        <p:spPr>
          <a:xfrm>
            <a:off x="4211640" y="371628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кинуть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зубы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407664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положить </a:t>
            </a: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желудок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443700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положить зубы на</a:t>
            </a: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 ст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5724360" y="4869000"/>
            <a:ext cx="28800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Можно заменит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всё одним словом-синоним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"/>
          <p:cNvSpPr/>
          <p:nvPr/>
        </p:nvSpPr>
        <p:spPr>
          <a:xfrm>
            <a:off x="6012000" y="609300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Schoolbook"/>
              </a:rPr>
              <a:t>голод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47" name="Прямая со стрелкой 13"/>
          <p:cNvCxnSpPr/>
          <p:nvPr/>
        </p:nvCxnSpPr>
        <p:spPr>
          <a:xfrm>
            <a:off x="8604000" y="3789360"/>
            <a:ext cx="11880" cy="104544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8" name="Прямая со стрелкой 13"/>
          <p:cNvCxnSpPr/>
          <p:nvPr/>
        </p:nvCxnSpPr>
        <p:spPr>
          <a:xfrm>
            <a:off x="7019640" y="5661000"/>
            <a:ext cx="1080" cy="50544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arrow" w="med"/>
          </a:ln>
        </p:spPr>
      </p:cxnSp>
      <p:cxnSp>
        <p:nvCxnSpPr>
          <p:cNvPr id="349" name="Прямая со стрелкой 13"/>
          <p:cNvCxnSpPr>
            <a:endCxn id="327" idx="6"/>
          </p:cNvCxnSpPr>
          <p:nvPr/>
        </p:nvCxnSpPr>
        <p:spPr>
          <a:xfrm flipH="1">
            <a:off x="3572640" y="476280"/>
            <a:ext cx="567720" cy="24192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50" name="Прямая со стрелкой 13"/>
          <p:cNvCxnSpPr>
            <a:endCxn id="328" idx="2"/>
          </p:cNvCxnSpPr>
          <p:nvPr/>
        </p:nvCxnSpPr>
        <p:spPr>
          <a:xfrm>
            <a:off x="4787640" y="476280"/>
            <a:ext cx="564120" cy="24192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1965240" y="2421000"/>
            <a:ext cx="16369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" y="8764"/>
                </a:moveTo>
                <a:arcTo wR="10800" hR="10800" stAng="-10148149" swAng="9138727"/>
                <a:lnTo>
                  <a:pt x="10800" y="10800"/>
                </a:lnTo>
                <a:close/>
              </a:path>
              <a:path fill="none" w="21600" h="21600">
                <a:moveTo>
                  <a:pt x="194" y="8764"/>
                </a:moveTo>
                <a:arcTo wR="10800" hR="10800" stAng="-10148149" swAng="91387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1619280" y="551664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положить книги на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ст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3" name="Прямая со стрелкой 13"/>
          <p:cNvCxnSpPr/>
          <p:nvPr/>
        </p:nvCxnSpPr>
        <p:spPr>
          <a:xfrm>
            <a:off x="4140000" y="2924280"/>
            <a:ext cx="648360" cy="26276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4" name="Прямая со стрелкой 13"/>
          <p:cNvCxnSpPr/>
          <p:nvPr/>
        </p:nvCxnSpPr>
        <p:spPr>
          <a:xfrm>
            <a:off x="3492000" y="836280"/>
            <a:ext cx="1080" cy="43236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55" name="Прямая со стрелкой 13"/>
          <p:cNvCxnSpPr/>
          <p:nvPr/>
        </p:nvCxnSpPr>
        <p:spPr>
          <a:xfrm>
            <a:off x="5435280" y="836280"/>
            <a:ext cx="1080" cy="43236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380360" y="378936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172360" y="407664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8028000" y="443700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332000" y="5516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9"/>
          <p:cNvSpPr/>
          <p:nvPr/>
        </p:nvSpPr>
        <p:spPr>
          <a:xfrm>
            <a:off x="826920" y="6165720"/>
            <a:ext cx="3457800" cy="574920"/>
          </a:xfrm>
          <a:prstGeom prst="rect">
            <a:avLst/>
          </a:prstGeom>
          <a:solidFill>
            <a:srgbClr val="fff39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entury Schoolbook"/>
              </a:rPr>
              <a:t>Нельзя всё заменить одним словом-синоним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2:08:58Z</dcterms:created>
  <dc:creator>Библиотека</dc:creator>
  <dc:description/>
  <dc:language>en-US</dc:language>
  <cp:lastModifiedBy>User</cp:lastModifiedBy>
  <dcterms:modified xsi:type="dcterms:W3CDTF">2015-02-01T19:56:45Z</dcterms:modified>
  <cp:revision>129</cp:revision>
  <dc:subject/>
  <dc:title>Фразеологизмы</dc:title>
</cp:coreProperties>
</file>