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067-19A7-4590-B81D-784AC16E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F61-C1AA-4112-9C89-919BCDD1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01BC0-0C90-44AF-9633-3244015A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9CD10-A9D9-4CEF-B2B0-AC0DA380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A2A98-A529-47D1-BB73-765F3A31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AB642-A99F-419E-BE71-B68F43EF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87CFC-D516-4555-B42C-07DD12EF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C90B9-74B5-4577-A3EE-C6B681D2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68268-CC57-403A-B1E9-DDBA719D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0680F-B44B-441B-BA32-B546CB88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72524-AC4F-490E-B937-8E01E1D3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6F3-CCAA-4772-B395-5B66B82F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AC9-957E-4BF5-99E7-F9A453FF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0449-468F-438A-84DD-027D09AE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EC0F-4248-4E70-AEBD-FDE631FA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9E90-2C43-4204-9373-A8EF17B4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04AC-9DBB-4DBC-98D1-564140D4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D2BF-74A2-4AA6-B906-6F1EE0CE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9F85-E93E-44C9-B8B9-11A620A7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2428-EFB7-49D3-9E87-56C3C546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95B-651C-425B-8C53-0C49EB7A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CB5B-EE0B-4753-9FE1-C4037A38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3422-4268-4E9F-B62C-0CAC0045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B734-0994-4FB7-B93F-64AA7BA7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4067-D855-492A-AB9A-90A2CF2F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3123-7E79-49C9-AA74-4D569918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2FDB-307D-4130-988A-A13FC90E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67260-69FB-4B7F-855F-089204D2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1AB8-3638-40F8-8B3A-229E6A4E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3C85-C12F-40C1-896A-063A343D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6054-05F4-4BBF-B9AE-0946F998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4DE-48E1-4C37-B609-D060CCC0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2854-9AEE-4A46-A8D5-87702DD7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75AF-2393-439D-ADBD-6A834805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E1228-3E40-4ED2-9162-0E189D1A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7A4AC-CCC0-4FA1-8B5F-0822AFA8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0ACA8-9DE9-4410-AD4A-BB2D115D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9515-BF57-49CC-BEC8-88571395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BC87-8F29-4097-A8DE-216CB22B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BC42B-D5A9-4E1F-99D1-F23BD5B2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ED86-1688-4B8A-AFD7-9F2F4CEC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5619F-F6E0-4040-97D4-6A2A0030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22E-5B80-4B9D-BDB8-32713987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096F-71DB-498F-9C17-FC992C7E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B8E53-4A5A-48F7-8BA1-2E820573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D835F-A000-430F-AF6D-3A8AD286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EC7D-42B7-4111-B671-1DA2531A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068B-6B45-4A9E-8132-6BC09BA0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FC47-D1F7-4089-96C7-47A288DF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A7EC-BB83-4E51-BE50-AD3946F2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B337D-3147-4FC6-A68F-E9798FCD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40DB8-438D-4A95-B429-772CC4BC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40070-A4A8-4D47-B5EC-840F521B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FB2-599E-4C87-B125-D4450A40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1A9CF-3702-4095-AFA7-449F72D0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17C9-3724-4F67-8F7A-F83855DA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03DCC-248B-4870-BFAB-5FEB34D0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B6E00-A168-4071-ACD0-447E4103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F477C-3749-41F9-8637-E17DBA0C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C72A7-C180-4C67-B641-F5A5E9C0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B8010-DD23-4DDA-A87B-354ECCEB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AFCD8-92F5-4F18-9A34-69447C40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C0A1E-3377-4371-BC03-C4151537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40ECD-7FB4-4D5A-93AC-7AFAFBEE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6F2-3658-492E-B395-E51D1AF3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9FB3-DEF0-4416-8BED-307B7A21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8AAD4-6EFF-4BA2-9879-637BB49D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9A9E0-7A00-4654-9B37-EEBEAC4B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6037D-A164-4F86-B113-0424CAA4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E3AEF-05C4-477F-A0C4-344D02F6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55EF5-C197-4AA3-AF5B-CE704C27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36831-5C61-4955-8394-76061CF7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31321-F694-4248-A149-9170DD24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CCD49-37A8-459F-9599-FDC6FC6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A9D7D-EE14-421E-B47D-4CB62C43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FFD-A196-4A52-9283-9B84B19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BAA8C-8EE3-41C1-B081-581EB105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BC64-2417-44BC-BF34-D747CBAC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F62D9-7C5B-4301-B43D-E044390C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5CE23-1957-410F-9D80-481490D7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34B63-5460-4F90-A00A-E3C9A11B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01C2D-B622-4638-B930-D5B85E01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99709-D778-4064-8D42-B4592B9A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C0EE6-B318-480B-BE2A-9D6B166D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086F8-8604-442C-AF46-CFAACF2C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6B2F0-4F9F-45B2-AE82-3C80A09A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2E9-13EA-4285-BF18-C26682D3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38B67-52B0-4D3C-8DE3-67B194A7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B4E07-1BBF-492B-9751-395C14ED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12499-4428-46E7-88F5-0BC56E33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2ED2F-17B2-4EC5-862A-1BE93563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A04C5-FBB5-4D99-90CC-6A36F073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97F4E-38F9-4564-A58B-84AFC176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5E45-E9B0-4451-9DA5-BD62F844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49809-8ADA-49C8-93C2-6C1BD87A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0A234-2456-4439-B482-E0D403F4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1D016-FEB3-4BD9-B434-C08319C7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ECB-355D-4D45-9353-F53F21DD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C76B6-DCEF-4920-A410-8106350C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574A0-2EC0-4005-98A2-63DF643D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1D4A2-661D-4DB0-B5D2-945E7369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50799-50BA-4FC4-8772-7B7CF9CE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381B2-5402-4AC0-8AD0-ACDF438F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97F9F-E9B1-40F5-AED9-C7F1E3A5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00DD4-D209-47DE-A47C-12CE313C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E4F6E-0A57-4804-A37C-B4BB0479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D0081-3DEF-48A6-B2A1-FB5B5F41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37705-CD64-4D6C-8484-127BEAAE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E876-35A8-4106-9824-FFB0410378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EB56-1DB0-46D5-B198-018B054F56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9840-58E4-4FCC-BBCC-F900AE0FE1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8F74-ECD4-46F9-B148-77AB034C60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CB1E-CA7E-4161-9E05-81C546DF7C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9AE5-EE7B-43C9-9F37-AE21B1DEFD6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0122-8312-4554-B6E3-978B6CE6A7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713C-9FDE-48EA-AF2A-C1C624AC4E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1301-15F4-4F5A-ADB3-FD6DA98D95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-96840" y="1170000"/>
            <a:ext cx="9333000" cy="22068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10"/>
          <p:cNvSpPr/>
          <p:nvPr/>
        </p:nvSpPr>
        <p:spPr>
          <a:xfrm>
            <a:off x="4498920" y="1773360"/>
            <a:ext cx="1857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1402863.mp3" descr=""/>
          <p:cNvPicPr/>
          <p:nvPr/>
        </p:nvPicPr>
        <p:blipFill>
          <a:blip r:embed="rId2"/>
          <a:stretch/>
        </p:blipFill>
        <p:spPr>
          <a:xfrm>
            <a:off x="845964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C:\Users\anna_83\Desktop\7апреля\2.jpg"/>
          <p:cNvPicPr/>
          <p:nvPr/>
        </p:nvPicPr>
        <p:blipFill>
          <a:blip r:embed="rId3"/>
          <a:stretch/>
        </p:blipFill>
        <p:spPr>
          <a:xfrm>
            <a:off x="324000" y="1484280"/>
            <a:ext cx="4319280" cy="5040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C:\Users\anna_83\Desktop\7апреля\xussr_100.jpg"/>
          <p:cNvPicPr/>
          <p:nvPr/>
        </p:nvPicPr>
        <p:blipFill>
          <a:blip r:embed="rId4"/>
          <a:stretch/>
        </p:blipFill>
        <p:spPr>
          <a:xfrm>
            <a:off x="4500720" y="1484280"/>
            <a:ext cx="4444920" cy="5040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-ЛЕТИ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Ы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АЕТСЯ.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anna_83\Desktop\Новая папка (2)\20610317.64hoo6z0y1.jpg"/>
          <p:cNvPicPr/>
          <p:nvPr/>
        </p:nvPicPr>
        <p:blipFill>
          <a:blip r:embed="rId3"/>
          <a:stretch/>
        </p:blipFill>
        <p:spPr>
          <a:xfrm>
            <a:off x="1238400" y="1166760"/>
            <a:ext cx="6667200" cy="452448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anna_83\Desktop\Новая папка (2)\45650297_yak9_1.jpg"/>
          <p:cNvPicPr/>
          <p:nvPr/>
        </p:nvPicPr>
        <p:blipFill>
          <a:blip r:embed="rId3"/>
          <a:stretch/>
        </p:blipFill>
        <p:spPr>
          <a:xfrm>
            <a:off x="650880" y="571680"/>
            <a:ext cx="8366040" cy="53784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anna_83\Desktop\Новая папка (2)\177815993.jpg"/>
          <p:cNvPicPr/>
          <p:nvPr/>
        </p:nvPicPr>
        <p:blipFill>
          <a:blip r:embed="rId3"/>
          <a:stretch/>
        </p:blipFill>
        <p:spPr>
          <a:xfrm>
            <a:off x="73080" y="692280"/>
            <a:ext cx="9070920" cy="504036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anna_83\Desktop\Новая папка (2)\photo_yak-1b_46-1.jpg"/>
          <p:cNvPicPr/>
          <p:nvPr/>
        </p:nvPicPr>
        <p:blipFill>
          <a:blip r:embed="rId3"/>
          <a:stretch/>
        </p:blipFill>
        <p:spPr>
          <a:xfrm>
            <a:off x="762120" y="942840"/>
            <a:ext cx="7619760" cy="497232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0" y="3976560"/>
            <a:ext cx="10296360" cy="2881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Users\anna_83\Desktop\Новая папка (2)\631799ea1939.jpg"/>
          <p:cNvPicPr/>
          <p:nvPr/>
        </p:nvPicPr>
        <p:blipFill>
          <a:blip r:embed="rId3"/>
          <a:stretch/>
        </p:blipFill>
        <p:spPr>
          <a:xfrm>
            <a:off x="1116000" y="620640"/>
            <a:ext cx="7104240" cy="532944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3" descr="http://www.obzor.lt/images/news/11/2012_05_04/pic4.jpg"/>
          <p:cNvPicPr/>
          <p:nvPr/>
        </p:nvPicPr>
        <p:blipFill>
          <a:blip r:embed="rId1"/>
          <a:stretch/>
        </p:blipFill>
        <p:spPr>
          <a:xfrm>
            <a:off x="-577800" y="2637000"/>
            <a:ext cx="9974160" cy="555300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7"/>
          <p:cNvSpPr/>
          <p:nvPr/>
        </p:nvSpPr>
        <p:spPr>
          <a:xfrm>
            <a:off x="395280" y="1197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С днём Побед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06:39:45Z</dcterms:created>
  <dc:creator>T06</dc:creator>
  <dc:description/>
  <dc:language>en-US</dc:language>
  <cp:lastModifiedBy>Windows User</cp:lastModifiedBy>
  <dcterms:modified xsi:type="dcterms:W3CDTF">2015-04-05T16:51:03Z</dcterms:modified>
  <cp:revision>61</cp:revision>
  <dc:subject/>
  <dc:title>Слайд 1</dc:title>
</cp:coreProperties>
</file>