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F9C-AFE8-426F-8B03-1D5BA51E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F09-B98D-42F1-BB19-D42C2FC2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3DBE6-EB64-4712-AD99-1754B760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61CD0-5FCB-4FEC-8F07-1DBFA45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6DFC8-2045-4090-99C1-8DFFC941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F09E8-A406-4839-9F51-C38271D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E6DE7-CF54-4274-A8FE-DF20CD6B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A718A-9EBA-474E-9C9F-78537031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0266F-DFA9-4A73-9DDE-3C6BD3EB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87070-94F6-4988-A77A-ACF23246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4A21A-DC01-4F5C-A6C3-2BC29E02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247-43E1-45AC-A95F-F2C3C3F2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054-EAF9-4C34-BF92-5EC90A74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8E03-F2F6-4941-ACBA-F4C41A01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F2A4-6282-4C14-B34E-AADEC5A4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A07D-5739-49D8-97B5-F90785CA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1271-D3C2-4696-B8A5-47F1E4C9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6B65-4A74-4831-A1ED-80A0866B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394B-8324-4138-B394-0C4ED249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F200-95E0-4502-A738-E5A94216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B29-B271-4AB9-BB4F-6F7FC076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1B8B-A364-4D7E-95C5-761FC7D7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1E14-3A4E-4F1F-A610-574C717D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F63E-0124-41AD-BE0C-44FE6D83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EC03-98A4-4D68-9578-3A04B4FD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0BBC-42C9-402B-92C3-8A508224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4C01-C37B-4E48-9695-79169C60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16063-5170-4B8D-BB8B-BD6EC94B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F5AA-6EAF-43D7-BD2D-AD99999D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2143-A064-49A0-BF71-9D78BB14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A837-DF5A-4E6F-B9E8-BF6D745C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AA1-CDB7-49C2-985B-ECFFBE09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7218-3F61-4E46-9A1C-CBDB716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B699-D94D-475A-8866-320E653B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DFE7-8C18-430C-AEE4-0A8F2437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C301-C301-47B8-BC73-71D7181C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3B134-A96E-44E5-A1C3-600510DC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8B2B-B3A0-4F47-801D-5B52DDC7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A10B-A8F1-4009-955A-81CA7D0C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51C82-BB43-4897-8E75-BF2967B3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F34CA-E02F-492F-9114-F2A75EDF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278A-F5E7-4856-8BBE-A3737E1F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78C-D5DF-4B1E-8C18-1A45085E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1532-050B-4433-9ED5-1CA4ECF6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4B2E0-6AE4-48D8-905A-2D37D4C2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6BE6E-8B86-4534-A3A3-59E7E706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2A32-C232-475E-8646-AE56C2E8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8BA59-DBF1-4330-B81B-658645F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EA417-D01D-4B0E-9F1A-007B9498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9DF9-D4A2-46BB-AD92-639C913A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78AB-E74A-44D4-8F55-34C3D94B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ECBAA-6757-4DC8-ADE8-91C6207B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A779C-4490-4164-9BB6-E05A893B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68A-658C-4244-A56B-47DDD13A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BA047-81A8-4E4D-AA76-9FB55D92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A527-7AB5-487B-A5AA-2388B0AE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9F2F6-58B8-4E18-BC19-EA876902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5E07D-6B79-4633-8365-E75BBF6F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B3F6-818D-494B-B94A-FC606A3F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4FFCB-9C1C-4815-8E1C-5FAC084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58689-F67C-4892-8D30-F976B2B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9E636-A367-452A-B50E-69BE2564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B5416-3809-4D25-B801-6FBBBC47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C8C3B-61B5-44EC-9E46-B0FD1B79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164-2A1A-419F-A843-D64B7DD2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62AB-8869-4910-983C-54379AB5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5D658-4365-4395-AD28-708F6F52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AB966-90FE-482A-9471-2EF8B722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3564A-503C-4F78-9538-0A4069A3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6FE4F-9FF6-421E-941A-F2C9DDC0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11994-03D6-4716-939B-EBD0B41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7429F-3379-457E-97D0-DD17E38D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013E-4079-4228-A847-99E836D0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18B17-E5BE-4072-B10B-3B54A168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4D938-DA32-400F-A6E6-10E3D80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8B2-E4EA-4FCC-B82D-02CFA194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C9BF3-4C95-4A35-81EF-FFA7FAE0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98DE-819A-440C-BBD2-647E416B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B2899-90D5-45E9-BC65-E3DF2199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6BC89-7150-41E9-94BB-22D1FBCC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5AA69-5E6E-4EE8-ABFB-9219EA98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C18B-07E7-4B61-A6CC-35B870AD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33909-E521-4207-A892-E34B3444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C7B4-7A83-4CF2-8B34-C9B04778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C8069-92F8-4E90-B0FE-5FBB2D74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C894C-F5ED-403A-93F6-920CD31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323-5D4C-417E-97CE-1B37EEC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8AD82-CED9-41BF-8500-2A31875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0052A-BA43-468F-920F-A371119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9687A-BED1-486C-A00C-4E683247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428B7-E573-4441-A7FF-1456ADFF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A2369-C560-49A7-90B9-35F6D1E6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9A278-5A49-4C6A-AF76-29ED7F9F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816B1-9EDA-4984-A1F2-3D53FF3F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C579C-F45D-4F18-80DA-6E0EF786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2C3A8-7A0B-4418-A78F-D79A41B4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A8C8-16EB-4237-8E74-9BE02F97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09B-B0D0-4915-8597-F5021B1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2F5A2-F5AD-4772-BC76-E2629716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EABC2-FD28-43B4-92E9-9E082B9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83237-2B51-4C13-94D9-2954948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299A2-04E9-4BE9-A997-44F5451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2E035-36B4-4169-A7C1-5F1ECE8F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67D2A-D1C6-4A6F-BEF0-B96E0896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33BDC-D299-449C-B8E1-DDF690CE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23B04-BD91-44D8-AC51-A7F9C7F4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7FE7F-D868-4D75-BB40-C569214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8C3AC-8D14-4908-81DD-42753F1F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E7D0-4C7B-4D7F-8A83-CD4E885F2A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E60D-B160-47B6-B9FB-3A8355EB05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0B7B-48DE-446D-BEBC-057A7D6DED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A488-C2F5-4C4A-81CF-93870F08B8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0F25-93B7-405B-8A6D-2E7B047E9F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63E-7A59-43FA-B4F5-B5F7C8CB30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9559-4835-4583-B583-04D70D107A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A4FB-A566-4650-B778-2B4BAF910F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3944-7102-404E-BA5B-000B833AE5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-96840" y="1170000"/>
            <a:ext cx="9333000" cy="22068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10"/>
          <p:cNvSpPr/>
          <p:nvPr/>
        </p:nvSpPr>
        <p:spPr>
          <a:xfrm>
            <a:off x="4498920" y="1773360"/>
            <a:ext cx="1857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1402863.mp3" descr=""/>
          <p:cNvPicPr/>
          <p:nvPr/>
        </p:nvPicPr>
        <p:blipFill>
          <a:blip r:embed="rId2"/>
          <a:stretch/>
        </p:blipFill>
        <p:spPr>
          <a:xfrm>
            <a:off x="845964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C:\Users\anna_83\Desktop\7апреля\2.jpg"/>
          <p:cNvPicPr/>
          <p:nvPr/>
        </p:nvPicPr>
        <p:blipFill>
          <a:blip r:embed="rId3"/>
          <a:stretch/>
        </p:blipFill>
        <p:spPr>
          <a:xfrm>
            <a:off x="324000" y="1484280"/>
            <a:ext cx="4319280" cy="5040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C:\Users\anna_83\Desktop\7апреля\xussr_100.jpg"/>
          <p:cNvPicPr/>
          <p:nvPr/>
        </p:nvPicPr>
        <p:blipFill>
          <a:blip r:embed="rId4"/>
          <a:stretch/>
        </p:blipFill>
        <p:spPr>
          <a:xfrm>
            <a:off x="4500720" y="1484280"/>
            <a:ext cx="4444920" cy="5040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-ЛЕТИ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Ы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АЕТСЯ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anna_83\Desktop\Новая папка (2)\20610317.64hoo6z0y1.jpg"/>
          <p:cNvPicPr/>
          <p:nvPr/>
        </p:nvPicPr>
        <p:blipFill>
          <a:blip r:embed="rId3"/>
          <a:stretch/>
        </p:blipFill>
        <p:spPr>
          <a:xfrm>
            <a:off x="1238400" y="1166760"/>
            <a:ext cx="6667200" cy="452448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anna_83\Desktop\Новая папка (2)\45650297_yak9_1.jpg"/>
          <p:cNvPicPr/>
          <p:nvPr/>
        </p:nvPicPr>
        <p:blipFill>
          <a:blip r:embed="rId3"/>
          <a:stretch/>
        </p:blipFill>
        <p:spPr>
          <a:xfrm>
            <a:off x="650880" y="571680"/>
            <a:ext cx="8366040" cy="53784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anna_83\Desktop\Новая папка (2)\177815993.jpg"/>
          <p:cNvPicPr/>
          <p:nvPr/>
        </p:nvPicPr>
        <p:blipFill>
          <a:blip r:embed="rId3"/>
          <a:stretch/>
        </p:blipFill>
        <p:spPr>
          <a:xfrm>
            <a:off x="73080" y="692280"/>
            <a:ext cx="9070920" cy="504036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-324000" y="3976560"/>
            <a:ext cx="10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anna_83\Desktop\Новая папка (2)\photo_yak-1b_46-1.jpg"/>
          <p:cNvPicPr/>
          <p:nvPr/>
        </p:nvPicPr>
        <p:blipFill>
          <a:blip r:embed="rId3"/>
          <a:stretch/>
        </p:blipFill>
        <p:spPr>
          <a:xfrm>
            <a:off x="762120" y="942840"/>
            <a:ext cx="7619760" cy="497232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Объект 2"/>
          <p:cNvSpPr/>
          <p:nvPr/>
        </p:nvSpPr>
        <p:spPr>
          <a:xfrm>
            <a:off x="468360" y="549360"/>
            <a:ext cx="82803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http://s59.radikal.ru/i163/1112/15/cb7769d2760a.png"/>
          <p:cNvPicPr/>
          <p:nvPr/>
        </p:nvPicPr>
        <p:blipFill>
          <a:blip r:embed="rId1"/>
          <a:stretch/>
        </p:blipFill>
        <p:spPr>
          <a:xfrm>
            <a:off x="0" y="3976560"/>
            <a:ext cx="10296360" cy="2881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anna_83\Desktop\Новая папка (2)\7bb00317514777e33451ce4d13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Users\anna_83\Desktop\Новая папка (2)\631799ea1939.jpg"/>
          <p:cNvPicPr/>
          <p:nvPr/>
        </p:nvPicPr>
        <p:blipFill>
          <a:blip r:embed="rId3"/>
          <a:stretch/>
        </p:blipFill>
        <p:spPr>
          <a:xfrm>
            <a:off x="1116000" y="620640"/>
            <a:ext cx="7104240" cy="532944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3" descr="http://www.obzor.lt/images/news/11/2012_05_04/pic4.jpg"/>
          <p:cNvPicPr/>
          <p:nvPr/>
        </p:nvPicPr>
        <p:blipFill>
          <a:blip r:embed="rId1"/>
          <a:stretch/>
        </p:blipFill>
        <p:spPr>
          <a:xfrm>
            <a:off x="-577800" y="2637000"/>
            <a:ext cx="9974160" cy="555300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7"/>
          <p:cNvSpPr/>
          <p:nvPr/>
        </p:nvSpPr>
        <p:spPr>
          <a:xfrm>
            <a:off x="395280" y="1197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С днём Побед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6:39:45Z</dcterms:created>
  <dc:creator>T06</dc:creator>
  <dc:description/>
  <dc:language>en-US</dc:language>
  <cp:lastModifiedBy>Windows User</cp:lastModifiedBy>
  <dcterms:modified xsi:type="dcterms:W3CDTF">2015-04-05T16:51:03Z</dcterms:modified>
  <cp:revision>61</cp:revision>
  <dc:subject/>
  <dc:title>Слайд 1</dc:title>
</cp:coreProperties>
</file>