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A6-30F2-4BC5-AAC5-CFACAA1B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426-D0C9-425A-A6A4-793EA83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5D4-B990-4430-BF70-30A7ED6F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851-8A26-4F46-9B8F-81966764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3548-14D3-4D99-A4CC-A7C7B17A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1121-2C3C-47AF-82BD-FE3F1F1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6B13-0283-4197-8360-C94CF21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46A6-5FA1-4C12-9187-DE18B5E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8C5-3206-41E6-B5B2-D867B9B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8691-934C-41D8-A123-4960FCE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559-050F-4C85-95D3-13315F2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7A6-0A5F-4DCA-9BE1-1A08314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84C-423D-4F0C-8FF4-0C1B1BC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F63-B348-49E6-8207-EBCCBD0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1D1F-F50E-450C-9592-906EFF3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841D-4A13-472D-890E-94E9A9E2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149A-D073-4366-A998-239BECF0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677-D2C3-4606-A204-D8FBCC8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287-FD87-4651-9A3D-DBEB160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6C6-499B-403D-86AF-D59867B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082-8104-4413-857A-07CB4CDC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804-F09B-414A-851C-75B8574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CF8-2CA2-460B-AA82-E136A13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156-107D-4716-81E0-6A9B25C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FBF-B820-4E06-96E5-18D569EECA49}" type="slidenum"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0BB8-285F-4FD3-808E-DE72B770CB70}" type="slidenum"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459640" y="6453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noFill/>
          <a:ln w="25560">
            <a:solidFill>
              <a:srgbClr val="7a5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61960" y="602136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ыкова Галина Юрьев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БОУ школа 43 Приморск.р-на СПб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360" y="1999800"/>
            <a:ext cx="2714760" cy="2000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0" y="0"/>
            <a:ext cx="889488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142920" y="35002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ех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3087720" y="3573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краин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оугольник 9"/>
          <p:cNvSpPr/>
          <p:nvPr/>
        </p:nvSpPr>
        <p:spPr>
          <a:xfrm flipH="1">
            <a:off x="5857200" y="35733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Белорусс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3714840" y="542916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ранах Прибалти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743200" cy="20257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276720" y="1341360"/>
            <a:ext cx="2127240" cy="21193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5567400" y="1341360"/>
            <a:ext cx="336708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3608280" cy="22795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92720" cy="349416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sp>
        <p:nvSpPr>
          <p:cNvPr id="98" name="Прямоугольник 5"/>
          <p:cNvSpPr/>
          <p:nvPr/>
        </p:nvSpPr>
        <p:spPr>
          <a:xfrm>
            <a:off x="179280" y="400536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вот у детей в Германии нет четкого графика начала учебного года: в каждой из 16 федеральных земель учебные заведения начинают работать в течение августа — сентября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60368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179280" y="400536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спании также в разных провинциях учебный год начинается по-разному, в зависимости от сроков уборки урожая, однако затягивать позже 1 октября строго запрещается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2340000" y="307800"/>
            <a:ext cx="4248000" cy="412920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sp>
        <p:nvSpPr>
          <p:cNvPr id="108" name="Прямоугольник 2"/>
          <p:cNvSpPr/>
          <p:nvPr/>
        </p:nvSpPr>
        <p:spPr>
          <a:xfrm>
            <a:off x="179280" y="4941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талии, наоборот, только с 1 октября начинают посещать школ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616720" cy="4200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179280" y="4869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Франции нет четкого срока Дня знаний. Где-то учебный год начинается 1 сентября, а где-то и 15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0" y="146160"/>
            <a:ext cx="8991720" cy="15001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500040" y="518940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ни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714920" y="51577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нляндии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123840" y="1628640"/>
            <a:ext cx="4253040" cy="3218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>
            <a:off x="4489560" y="1628640"/>
            <a:ext cx="4440240" cy="32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9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-176040" y="-60480"/>
            <a:ext cx="9496080" cy="16034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214200" y="4005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гл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316480" y="41497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над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000840" y="5562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Ш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214200" y="12682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3"/>
          <a:stretch/>
        </p:blipFill>
        <p:spPr>
          <a:xfrm>
            <a:off x="5273640" y="1268280"/>
            <a:ext cx="3240000" cy="2600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4"/>
          <a:stretch/>
        </p:blipFill>
        <p:spPr>
          <a:xfrm>
            <a:off x="2340000" y="3932280"/>
            <a:ext cx="38577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0" y="19080"/>
            <a:ext cx="9034560" cy="2475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1332000" y="5445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 апреля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3705120" cy="2752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366552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49:13Z</dcterms:created>
  <dc:creator>www.PHILka.RU</dc:creator>
  <dc:description/>
  <dc:language>en-US</dc:language>
  <cp:lastModifiedBy>Галя</cp:lastModifiedBy>
  <dcterms:modified xsi:type="dcterms:W3CDTF">2015-09-08T15:51:26Z</dcterms:modified>
  <cp:revision>548</cp:revision>
  <dc:subject/>
  <dc:title>Слайд 1</dc:title>
</cp:coreProperties>
</file>