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7C7-22D9-4032-9C6B-5F76E6A0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5ED-C4D0-449A-AC6C-9957EC0F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7FC-659F-49C3-8177-6ACB5E2F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B69-AC3C-4343-87B0-8BA32538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89D0-BF10-41C8-8D98-072A1866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916F-D543-405A-A412-254D0730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4E8C-C95B-4E31-81B2-A2B49F55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05E2-87A2-4561-A090-8FC4227D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C6C2-2A9D-4502-89ED-4FA9701B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871E-FC9F-4E8C-86E4-84CEACB6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57C5-808A-42E5-B677-424120A2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1FE-DC82-4F4D-87AB-DC2F8041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5CAB-3EA6-4533-AA2D-D6EEC224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5BBC-E357-401A-BBE0-BACB1CA9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0FA0-5D74-4BA5-906A-72ABA176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681A-7A4C-4122-94E2-5675B427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76F4-2CBF-4DB4-A04A-83675422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BAB-3195-47BD-A9F8-EEE1D40C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810-A45A-41B2-87D4-9B62BFDB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F35-1DC4-4AE7-8EF0-6A6787B7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5C8-AEEC-4B06-B0FF-A24E216C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8AD-82B7-4D32-A10B-E25756FA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48B-AFF6-4712-8BCA-0A9515AC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2C62-12A4-40DD-9ACE-EB37349B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4341-C6CF-41A6-A5CD-26ECF0CE4D2D}" type="slidenum">
              <a:rPr b="0" lang="ru-RU" sz="1200" spc="-1" strike="noStrike">
                <a:solidFill>
                  <a:srgbClr val="bcbcb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CC90-1219-45AE-B43B-E01945A4AEA1}" type="slidenum">
              <a:rPr b="0" lang="ru-RU" sz="1200" spc="-1" strike="noStrike">
                <a:solidFill>
                  <a:srgbClr val="bcbcb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8459640" y="645336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noFill/>
          <a:ln w="25560">
            <a:solidFill>
              <a:srgbClr val="7a5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5061960" y="602136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ыкова Галина Юрьевн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БОУ школа 43 Приморск.р-на СПб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8340000"/>
          </a:gradFill>
          <a:ln w="9360">
            <a:solidFill>
              <a:srgbClr val="000000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-360" y="1999800"/>
            <a:ext cx="2714760" cy="2000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Заголовок 2" descr=""/>
          <p:cNvPicPr/>
          <p:nvPr/>
        </p:nvPicPr>
        <p:blipFill>
          <a:blip r:embed="rId1"/>
          <a:stretch/>
        </p:blipFill>
        <p:spPr>
          <a:xfrm>
            <a:off x="0" y="0"/>
            <a:ext cx="8894880" cy="19447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142920" y="350028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Чехи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3087720" y="357336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Украин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оугольник 9"/>
          <p:cNvSpPr/>
          <p:nvPr/>
        </p:nvSpPr>
        <p:spPr>
          <a:xfrm flipH="1">
            <a:off x="5857200" y="357336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Белорусси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оугольник 12"/>
          <p:cNvSpPr/>
          <p:nvPr/>
        </p:nvSpPr>
        <p:spPr>
          <a:xfrm>
            <a:off x="3714840" y="5429160"/>
            <a:ext cx="50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транах Прибалтик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2" name="Рисунок 3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2743200" cy="2025720"/>
          </a:xfrm>
          <a:prstGeom prst="rect">
            <a:avLst/>
          </a:prstGeom>
          <a:ln w="9360">
            <a:solidFill>
              <a:srgbClr val="69676d"/>
            </a:solidFill>
            <a:miter/>
          </a:ln>
        </p:spPr>
      </p:pic>
      <p:pic>
        <p:nvPicPr>
          <p:cNvPr id="93" name="Рисунок 4" descr=""/>
          <p:cNvPicPr/>
          <p:nvPr/>
        </p:nvPicPr>
        <p:blipFill>
          <a:blip r:embed="rId3"/>
          <a:stretch/>
        </p:blipFill>
        <p:spPr>
          <a:xfrm>
            <a:off x="3276720" y="1341360"/>
            <a:ext cx="2127240" cy="2119320"/>
          </a:xfrm>
          <a:prstGeom prst="rect">
            <a:avLst/>
          </a:prstGeom>
          <a:ln w="9360">
            <a:solidFill>
              <a:srgbClr val="69676d"/>
            </a:solidFill>
            <a:miter/>
          </a:ln>
        </p:spPr>
      </p:pic>
      <p:pic>
        <p:nvPicPr>
          <p:cNvPr id="94" name="Рисунок 6" descr=""/>
          <p:cNvPicPr/>
          <p:nvPr/>
        </p:nvPicPr>
        <p:blipFill>
          <a:blip r:embed="rId4"/>
          <a:stretch/>
        </p:blipFill>
        <p:spPr>
          <a:xfrm>
            <a:off x="5567400" y="1341360"/>
            <a:ext cx="3367080" cy="2075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"/>
          <p:cNvPicPr/>
          <p:nvPr/>
        </p:nvPicPr>
        <p:blipFill>
          <a:blip r:embed="rId5"/>
          <a:stretch/>
        </p:blipFill>
        <p:spPr>
          <a:xfrm>
            <a:off x="324000" y="4292640"/>
            <a:ext cx="3608280" cy="2279520"/>
          </a:xfrm>
          <a:prstGeom prst="rect">
            <a:avLst/>
          </a:prstGeom>
          <a:ln w="9360">
            <a:solidFill>
              <a:srgbClr val="69676d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6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8340000"/>
          </a:gradFill>
          <a:ln w="9360">
            <a:solidFill>
              <a:srgbClr val="000000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92720" cy="3494160"/>
          </a:xfrm>
          <a:prstGeom prst="rect">
            <a:avLst/>
          </a:prstGeom>
          <a:ln w="9360">
            <a:solidFill>
              <a:srgbClr val="69676d"/>
            </a:solidFill>
            <a:miter/>
          </a:ln>
        </p:spPr>
      </p:pic>
      <p:sp>
        <p:nvSpPr>
          <p:cNvPr id="98" name="Прямоугольник 5"/>
          <p:cNvSpPr/>
          <p:nvPr/>
        </p:nvSpPr>
        <p:spPr>
          <a:xfrm>
            <a:off x="179280" y="4005360"/>
            <a:ext cx="87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вот у детей в Германии нет четкого графика начала учебного года: в каждой из 16 федеральных земель учебные заведения начинают работать в течение августа — сентября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643960" y="6453360"/>
            <a:ext cx="392040" cy="288720"/>
          </a:xfrm>
          <a:custGeom>
            <a:avLst/>
            <a:gdLst>
              <a:gd name="textAreaLeft" fmla="*/ 18720 w 392040"/>
              <a:gd name="textAreaRight" fmla="*/ 373320 w 3920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9320" h="21600">
                <a:moveTo>
                  <a:pt x="0" y="0"/>
                </a:moveTo>
                <a:lnTo>
                  <a:pt x="29320" y="0"/>
                </a:lnTo>
                <a:lnTo>
                  <a:pt x="29320" y="21600"/>
                </a:lnTo>
                <a:lnTo>
                  <a:pt x="0" y="21600"/>
                </a:lnTo>
                <a:close/>
              </a:path>
              <a:path fill="lightenLess" w="29320" h="21600">
                <a:moveTo>
                  <a:pt x="0" y="0"/>
                </a:moveTo>
                <a:lnTo>
                  <a:pt x="29320" y="0"/>
                </a:lnTo>
                <a:lnTo>
                  <a:pt x="27920" y="1400"/>
                </a:lnTo>
                <a:lnTo>
                  <a:pt x="1400" y="1400"/>
                </a:lnTo>
                <a:close/>
              </a:path>
              <a:path fill="darken" w="29320" h="21600">
                <a:moveTo>
                  <a:pt x="29320" y="0"/>
                </a:moveTo>
                <a:lnTo>
                  <a:pt x="29320" y="21600"/>
                </a:lnTo>
                <a:lnTo>
                  <a:pt x="27920" y="20200"/>
                </a:lnTo>
                <a:lnTo>
                  <a:pt x="27920" y="1400"/>
                </a:lnTo>
                <a:close/>
              </a:path>
              <a:path fill="darkenLess" w="29320" h="21600">
                <a:moveTo>
                  <a:pt x="29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20" y="20200"/>
                </a:lnTo>
                <a:close/>
              </a:path>
              <a:path fill="lighten" w="29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20" h="21600">
                <a:moveTo>
                  <a:pt x="7654" y="3794"/>
                </a:moveTo>
                <a:lnTo>
                  <a:pt x="21667" y="10800"/>
                </a:lnTo>
                <a:lnTo>
                  <a:pt x="7654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142920" y="6453360"/>
            <a:ext cx="396720" cy="288720"/>
          </a:xfrm>
          <a:custGeom>
            <a:avLst/>
            <a:gdLst>
              <a:gd name="textAreaLeft" fmla="*/ 18720 w 396720"/>
              <a:gd name="textAreaRight" fmla="*/ 378000 w 396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9670" h="21600">
                <a:moveTo>
                  <a:pt x="0" y="0"/>
                </a:moveTo>
                <a:lnTo>
                  <a:pt x="29670" y="0"/>
                </a:lnTo>
                <a:lnTo>
                  <a:pt x="29670" y="21600"/>
                </a:lnTo>
                <a:lnTo>
                  <a:pt x="0" y="21600"/>
                </a:lnTo>
                <a:close/>
              </a:path>
              <a:path fill="lightenLess" w="29670" h="21600">
                <a:moveTo>
                  <a:pt x="0" y="0"/>
                </a:moveTo>
                <a:lnTo>
                  <a:pt x="29670" y="0"/>
                </a:lnTo>
                <a:lnTo>
                  <a:pt x="28270" y="1400"/>
                </a:lnTo>
                <a:lnTo>
                  <a:pt x="1400" y="1400"/>
                </a:lnTo>
                <a:close/>
              </a:path>
              <a:path fill="darken" w="29670" h="21600">
                <a:moveTo>
                  <a:pt x="29670" y="0"/>
                </a:moveTo>
                <a:lnTo>
                  <a:pt x="29670" y="21600"/>
                </a:lnTo>
                <a:lnTo>
                  <a:pt x="28270" y="20200"/>
                </a:lnTo>
                <a:lnTo>
                  <a:pt x="28270" y="1400"/>
                </a:lnTo>
                <a:close/>
              </a:path>
              <a:path fill="darkenLess" w="29670" h="21600">
                <a:moveTo>
                  <a:pt x="29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0" y="20200"/>
                </a:lnTo>
                <a:close/>
              </a:path>
              <a:path fill="lighten" w="29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0" h="21600">
                <a:moveTo>
                  <a:pt x="7828" y="10800"/>
                </a:moveTo>
                <a:lnTo>
                  <a:pt x="21841" y="3794"/>
                </a:lnTo>
                <a:lnTo>
                  <a:pt x="21841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5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8340000"/>
          </a:gradFill>
          <a:ln w="9360">
            <a:solidFill>
              <a:srgbClr val="000000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4603680" cy="3456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2"/>
          <p:cNvSpPr/>
          <p:nvPr/>
        </p:nvSpPr>
        <p:spPr>
          <a:xfrm>
            <a:off x="179280" y="4005360"/>
            <a:ext cx="878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Испании также в разных провинциях учебный год начинается по-разному, в зависимости от сроков уборки урожая, однако затягивать позже 1 октября строго запрещается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643960" y="6453360"/>
            <a:ext cx="392040" cy="288720"/>
          </a:xfrm>
          <a:custGeom>
            <a:avLst/>
            <a:gdLst>
              <a:gd name="textAreaLeft" fmla="*/ 18720 w 392040"/>
              <a:gd name="textAreaRight" fmla="*/ 373320 w 3920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9320" h="21600">
                <a:moveTo>
                  <a:pt x="0" y="0"/>
                </a:moveTo>
                <a:lnTo>
                  <a:pt x="29320" y="0"/>
                </a:lnTo>
                <a:lnTo>
                  <a:pt x="29320" y="21600"/>
                </a:lnTo>
                <a:lnTo>
                  <a:pt x="0" y="21600"/>
                </a:lnTo>
                <a:close/>
              </a:path>
              <a:path fill="lightenLess" w="29320" h="21600">
                <a:moveTo>
                  <a:pt x="0" y="0"/>
                </a:moveTo>
                <a:lnTo>
                  <a:pt x="29320" y="0"/>
                </a:lnTo>
                <a:lnTo>
                  <a:pt x="27920" y="1400"/>
                </a:lnTo>
                <a:lnTo>
                  <a:pt x="1400" y="1400"/>
                </a:lnTo>
                <a:close/>
              </a:path>
              <a:path fill="darken" w="29320" h="21600">
                <a:moveTo>
                  <a:pt x="29320" y="0"/>
                </a:moveTo>
                <a:lnTo>
                  <a:pt x="29320" y="21600"/>
                </a:lnTo>
                <a:lnTo>
                  <a:pt x="27920" y="20200"/>
                </a:lnTo>
                <a:lnTo>
                  <a:pt x="27920" y="1400"/>
                </a:lnTo>
                <a:close/>
              </a:path>
              <a:path fill="darkenLess" w="29320" h="21600">
                <a:moveTo>
                  <a:pt x="29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20" y="20200"/>
                </a:lnTo>
                <a:close/>
              </a:path>
              <a:path fill="lighten" w="29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20" h="21600">
                <a:moveTo>
                  <a:pt x="7654" y="3794"/>
                </a:moveTo>
                <a:lnTo>
                  <a:pt x="21667" y="10800"/>
                </a:lnTo>
                <a:lnTo>
                  <a:pt x="7654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142920" y="6453360"/>
            <a:ext cx="396720" cy="288720"/>
          </a:xfrm>
          <a:custGeom>
            <a:avLst/>
            <a:gdLst>
              <a:gd name="textAreaLeft" fmla="*/ 18720 w 396720"/>
              <a:gd name="textAreaRight" fmla="*/ 378000 w 396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9670" h="21600">
                <a:moveTo>
                  <a:pt x="0" y="0"/>
                </a:moveTo>
                <a:lnTo>
                  <a:pt x="29670" y="0"/>
                </a:lnTo>
                <a:lnTo>
                  <a:pt x="29670" y="21600"/>
                </a:lnTo>
                <a:lnTo>
                  <a:pt x="0" y="21600"/>
                </a:lnTo>
                <a:close/>
              </a:path>
              <a:path fill="lightenLess" w="29670" h="21600">
                <a:moveTo>
                  <a:pt x="0" y="0"/>
                </a:moveTo>
                <a:lnTo>
                  <a:pt x="29670" y="0"/>
                </a:lnTo>
                <a:lnTo>
                  <a:pt x="28270" y="1400"/>
                </a:lnTo>
                <a:lnTo>
                  <a:pt x="1400" y="1400"/>
                </a:lnTo>
                <a:close/>
              </a:path>
              <a:path fill="darken" w="29670" h="21600">
                <a:moveTo>
                  <a:pt x="29670" y="0"/>
                </a:moveTo>
                <a:lnTo>
                  <a:pt x="29670" y="21600"/>
                </a:lnTo>
                <a:lnTo>
                  <a:pt x="28270" y="20200"/>
                </a:lnTo>
                <a:lnTo>
                  <a:pt x="28270" y="1400"/>
                </a:lnTo>
                <a:close/>
              </a:path>
              <a:path fill="darkenLess" w="29670" h="21600">
                <a:moveTo>
                  <a:pt x="29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0" y="20200"/>
                </a:lnTo>
                <a:close/>
              </a:path>
              <a:path fill="lighten" w="29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0" h="21600">
                <a:moveTo>
                  <a:pt x="7828" y="10800"/>
                </a:moveTo>
                <a:lnTo>
                  <a:pt x="21841" y="3794"/>
                </a:lnTo>
                <a:lnTo>
                  <a:pt x="21841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5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8340000"/>
          </a:gradFill>
          <a:ln w="9360">
            <a:solidFill>
              <a:srgbClr val="000000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2340000" y="307800"/>
            <a:ext cx="4248000" cy="4129200"/>
          </a:xfrm>
          <a:prstGeom prst="rect">
            <a:avLst/>
          </a:prstGeom>
          <a:ln w="9360">
            <a:solidFill>
              <a:srgbClr val="69676d"/>
            </a:solidFill>
            <a:miter/>
          </a:ln>
        </p:spPr>
      </p:pic>
      <p:sp>
        <p:nvSpPr>
          <p:cNvPr id="108" name="Прямоугольник 2"/>
          <p:cNvSpPr/>
          <p:nvPr/>
        </p:nvSpPr>
        <p:spPr>
          <a:xfrm>
            <a:off x="179280" y="49417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Италии, наоборот, только с 1 октября начинают посещать школу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643960" y="6453360"/>
            <a:ext cx="392040" cy="288720"/>
          </a:xfrm>
          <a:custGeom>
            <a:avLst/>
            <a:gdLst>
              <a:gd name="textAreaLeft" fmla="*/ 18720 w 392040"/>
              <a:gd name="textAreaRight" fmla="*/ 373320 w 3920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9320" h="21600">
                <a:moveTo>
                  <a:pt x="0" y="0"/>
                </a:moveTo>
                <a:lnTo>
                  <a:pt x="29320" y="0"/>
                </a:lnTo>
                <a:lnTo>
                  <a:pt x="29320" y="21600"/>
                </a:lnTo>
                <a:lnTo>
                  <a:pt x="0" y="21600"/>
                </a:lnTo>
                <a:close/>
              </a:path>
              <a:path fill="lightenLess" w="29320" h="21600">
                <a:moveTo>
                  <a:pt x="0" y="0"/>
                </a:moveTo>
                <a:lnTo>
                  <a:pt x="29320" y="0"/>
                </a:lnTo>
                <a:lnTo>
                  <a:pt x="27920" y="1400"/>
                </a:lnTo>
                <a:lnTo>
                  <a:pt x="1400" y="1400"/>
                </a:lnTo>
                <a:close/>
              </a:path>
              <a:path fill="darken" w="29320" h="21600">
                <a:moveTo>
                  <a:pt x="29320" y="0"/>
                </a:moveTo>
                <a:lnTo>
                  <a:pt x="29320" y="21600"/>
                </a:lnTo>
                <a:lnTo>
                  <a:pt x="27920" y="20200"/>
                </a:lnTo>
                <a:lnTo>
                  <a:pt x="27920" y="1400"/>
                </a:lnTo>
                <a:close/>
              </a:path>
              <a:path fill="darkenLess" w="29320" h="21600">
                <a:moveTo>
                  <a:pt x="29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20" y="20200"/>
                </a:lnTo>
                <a:close/>
              </a:path>
              <a:path fill="lighten" w="29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20" h="21600">
                <a:moveTo>
                  <a:pt x="7654" y="3794"/>
                </a:moveTo>
                <a:lnTo>
                  <a:pt x="21667" y="10800"/>
                </a:lnTo>
                <a:lnTo>
                  <a:pt x="7654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142920" y="6453360"/>
            <a:ext cx="396720" cy="288720"/>
          </a:xfrm>
          <a:custGeom>
            <a:avLst/>
            <a:gdLst>
              <a:gd name="textAreaLeft" fmla="*/ 18720 w 396720"/>
              <a:gd name="textAreaRight" fmla="*/ 378000 w 396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9670" h="21600">
                <a:moveTo>
                  <a:pt x="0" y="0"/>
                </a:moveTo>
                <a:lnTo>
                  <a:pt x="29670" y="0"/>
                </a:lnTo>
                <a:lnTo>
                  <a:pt x="29670" y="21600"/>
                </a:lnTo>
                <a:lnTo>
                  <a:pt x="0" y="21600"/>
                </a:lnTo>
                <a:close/>
              </a:path>
              <a:path fill="lightenLess" w="29670" h="21600">
                <a:moveTo>
                  <a:pt x="0" y="0"/>
                </a:moveTo>
                <a:lnTo>
                  <a:pt x="29670" y="0"/>
                </a:lnTo>
                <a:lnTo>
                  <a:pt x="28270" y="1400"/>
                </a:lnTo>
                <a:lnTo>
                  <a:pt x="1400" y="1400"/>
                </a:lnTo>
                <a:close/>
              </a:path>
              <a:path fill="darken" w="29670" h="21600">
                <a:moveTo>
                  <a:pt x="29670" y="0"/>
                </a:moveTo>
                <a:lnTo>
                  <a:pt x="29670" y="21600"/>
                </a:lnTo>
                <a:lnTo>
                  <a:pt x="28270" y="20200"/>
                </a:lnTo>
                <a:lnTo>
                  <a:pt x="28270" y="1400"/>
                </a:lnTo>
                <a:close/>
              </a:path>
              <a:path fill="darkenLess" w="29670" h="21600">
                <a:moveTo>
                  <a:pt x="29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0" y="20200"/>
                </a:lnTo>
                <a:close/>
              </a:path>
              <a:path fill="lighten" w="29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0" h="21600">
                <a:moveTo>
                  <a:pt x="7828" y="10800"/>
                </a:moveTo>
                <a:lnTo>
                  <a:pt x="21841" y="3794"/>
                </a:lnTo>
                <a:lnTo>
                  <a:pt x="21841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5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8340000"/>
          </a:gradFill>
          <a:ln w="9360">
            <a:solidFill>
              <a:srgbClr val="000000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5616720" cy="42004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2"/>
          <p:cNvSpPr/>
          <p:nvPr/>
        </p:nvSpPr>
        <p:spPr>
          <a:xfrm>
            <a:off x="179280" y="4869000"/>
            <a:ext cx="88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 Франции нет четкого срока Дня знаний. Где-то учебный год начинается 1 сентября, а где-то и 15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643960" y="6453360"/>
            <a:ext cx="392040" cy="288720"/>
          </a:xfrm>
          <a:custGeom>
            <a:avLst/>
            <a:gdLst>
              <a:gd name="textAreaLeft" fmla="*/ 18720 w 392040"/>
              <a:gd name="textAreaRight" fmla="*/ 373320 w 3920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9320" h="21600">
                <a:moveTo>
                  <a:pt x="0" y="0"/>
                </a:moveTo>
                <a:lnTo>
                  <a:pt x="29320" y="0"/>
                </a:lnTo>
                <a:lnTo>
                  <a:pt x="29320" y="21600"/>
                </a:lnTo>
                <a:lnTo>
                  <a:pt x="0" y="21600"/>
                </a:lnTo>
                <a:close/>
              </a:path>
              <a:path fill="lightenLess" w="29320" h="21600">
                <a:moveTo>
                  <a:pt x="0" y="0"/>
                </a:moveTo>
                <a:lnTo>
                  <a:pt x="29320" y="0"/>
                </a:lnTo>
                <a:lnTo>
                  <a:pt x="27920" y="1400"/>
                </a:lnTo>
                <a:lnTo>
                  <a:pt x="1400" y="1400"/>
                </a:lnTo>
                <a:close/>
              </a:path>
              <a:path fill="darken" w="29320" h="21600">
                <a:moveTo>
                  <a:pt x="29320" y="0"/>
                </a:moveTo>
                <a:lnTo>
                  <a:pt x="29320" y="21600"/>
                </a:lnTo>
                <a:lnTo>
                  <a:pt x="27920" y="20200"/>
                </a:lnTo>
                <a:lnTo>
                  <a:pt x="27920" y="1400"/>
                </a:lnTo>
                <a:close/>
              </a:path>
              <a:path fill="darkenLess" w="29320" h="21600">
                <a:moveTo>
                  <a:pt x="29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20" y="20200"/>
                </a:lnTo>
                <a:close/>
              </a:path>
              <a:path fill="lighten" w="29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20" h="21600">
                <a:moveTo>
                  <a:pt x="7654" y="3794"/>
                </a:moveTo>
                <a:lnTo>
                  <a:pt x="21667" y="10800"/>
                </a:lnTo>
                <a:lnTo>
                  <a:pt x="7654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142920" y="6453360"/>
            <a:ext cx="396720" cy="288720"/>
          </a:xfrm>
          <a:custGeom>
            <a:avLst/>
            <a:gdLst>
              <a:gd name="textAreaLeft" fmla="*/ 18720 w 396720"/>
              <a:gd name="textAreaRight" fmla="*/ 378000 w 396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9670" h="21600">
                <a:moveTo>
                  <a:pt x="0" y="0"/>
                </a:moveTo>
                <a:lnTo>
                  <a:pt x="29670" y="0"/>
                </a:lnTo>
                <a:lnTo>
                  <a:pt x="29670" y="21600"/>
                </a:lnTo>
                <a:lnTo>
                  <a:pt x="0" y="21600"/>
                </a:lnTo>
                <a:close/>
              </a:path>
              <a:path fill="lightenLess" w="29670" h="21600">
                <a:moveTo>
                  <a:pt x="0" y="0"/>
                </a:moveTo>
                <a:lnTo>
                  <a:pt x="29670" y="0"/>
                </a:lnTo>
                <a:lnTo>
                  <a:pt x="28270" y="1400"/>
                </a:lnTo>
                <a:lnTo>
                  <a:pt x="1400" y="1400"/>
                </a:lnTo>
                <a:close/>
              </a:path>
              <a:path fill="darken" w="29670" h="21600">
                <a:moveTo>
                  <a:pt x="29670" y="0"/>
                </a:moveTo>
                <a:lnTo>
                  <a:pt x="29670" y="21600"/>
                </a:lnTo>
                <a:lnTo>
                  <a:pt x="28270" y="20200"/>
                </a:lnTo>
                <a:lnTo>
                  <a:pt x="28270" y="1400"/>
                </a:lnTo>
                <a:close/>
              </a:path>
              <a:path fill="darkenLess" w="29670" h="21600">
                <a:moveTo>
                  <a:pt x="29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0" y="20200"/>
                </a:lnTo>
                <a:close/>
              </a:path>
              <a:path fill="lighten" w="29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0" h="21600">
                <a:moveTo>
                  <a:pt x="7828" y="10800"/>
                </a:moveTo>
                <a:lnTo>
                  <a:pt x="21841" y="3794"/>
                </a:lnTo>
                <a:lnTo>
                  <a:pt x="21841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6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8340000"/>
          </a:gradFill>
          <a:ln w="9360">
            <a:solidFill>
              <a:srgbClr val="000000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0" y="146160"/>
            <a:ext cx="8991720" cy="15001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5"/>
          <p:cNvSpPr/>
          <p:nvPr/>
        </p:nvSpPr>
        <p:spPr>
          <a:xfrm>
            <a:off x="500040" y="518940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ани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4714920" y="515772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инляндии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2"/>
          <a:stretch/>
        </p:blipFill>
        <p:spPr>
          <a:xfrm>
            <a:off x="123840" y="1628640"/>
            <a:ext cx="4253040" cy="3218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"/>
          <p:cNvPicPr/>
          <p:nvPr/>
        </p:nvPicPr>
        <p:blipFill>
          <a:blip r:embed="rId3"/>
          <a:stretch/>
        </p:blipFill>
        <p:spPr>
          <a:xfrm>
            <a:off x="4489560" y="1628640"/>
            <a:ext cx="4440240" cy="321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9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8340000"/>
          </a:gradFill>
          <a:ln w="9360">
            <a:solidFill>
              <a:srgbClr val="000000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-176040" y="-60480"/>
            <a:ext cx="9496080" cy="16034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214200" y="400536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гли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5316480" y="414972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наде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6000840" y="55627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ША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7" name="Рисунок 2" descr=""/>
          <p:cNvPicPr/>
          <p:nvPr/>
        </p:nvPicPr>
        <p:blipFill>
          <a:blip r:embed="rId2"/>
          <a:stretch/>
        </p:blipFill>
        <p:spPr>
          <a:xfrm>
            <a:off x="214200" y="1268280"/>
            <a:ext cx="3384720" cy="25401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"/>
          <p:cNvPicPr/>
          <p:nvPr/>
        </p:nvPicPr>
        <p:blipFill>
          <a:blip r:embed="rId3"/>
          <a:stretch/>
        </p:blipFill>
        <p:spPr>
          <a:xfrm>
            <a:off x="5273640" y="1268280"/>
            <a:ext cx="3240000" cy="26002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"/>
          <p:cNvPicPr/>
          <p:nvPr/>
        </p:nvPicPr>
        <p:blipFill>
          <a:blip r:embed="rId4"/>
          <a:stretch/>
        </p:blipFill>
        <p:spPr>
          <a:xfrm>
            <a:off x="2340000" y="3932280"/>
            <a:ext cx="3857760" cy="28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6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8340000"/>
          </a:gradFill>
          <a:ln w="9360">
            <a:solidFill>
              <a:srgbClr val="000000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0" y="19080"/>
            <a:ext cx="9034560" cy="24750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1332000" y="54450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1 апреля. 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3" name="Рисунок 6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3705120" cy="2752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2" descr=""/>
          <p:cNvPicPr/>
          <p:nvPr/>
        </p:nvPicPr>
        <p:blipFill>
          <a:blip r:embed="rId3"/>
          <a:stretch/>
        </p:blipFill>
        <p:spPr>
          <a:xfrm>
            <a:off x="4716360" y="2492280"/>
            <a:ext cx="3665520" cy="27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49:13Z</dcterms:created>
  <dc:creator>www.PHILka.RU</dc:creator>
  <dc:description/>
  <dc:language>en-US</dc:language>
  <cp:lastModifiedBy>Галя</cp:lastModifiedBy>
  <dcterms:modified xsi:type="dcterms:W3CDTF">2015-09-08T15:51:26Z</dcterms:modified>
  <cp:revision>548</cp:revision>
  <dc:subject/>
  <dc:title>Слайд 1</dc:title>
</cp:coreProperties>
</file>