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A9D-3798-41FD-8287-41A3C136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456-97CC-45DA-9D4E-0F51B626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522-8675-4E98-8010-46EC3849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759-B75F-4913-B759-9199F6C8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6D9-B798-4ABB-B8CF-D9F66044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249-3169-40F0-8847-18883045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C54-B9DA-4906-A0AC-E363F504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0AE-77AE-4435-A0B2-8DDB31CE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A97-6F88-44E6-9C92-BC310CF4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B95-DC55-4D91-9838-0D298F49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CAF6-5386-42E4-99F8-0C683319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2BE-A109-470B-97E5-F6D0B393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2BBE-E7FF-41B4-A623-1B1C9639D0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5&amp;img_url=http%3A%2F%2Fbagema.info%2Fimages%2Fpalma_na_parkete1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7&amp;rpt=simage&amp;lr=5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source=wiz&amp;fp=5&amp;img_url=http%3A%2F%2F900igr.net%2Fdatai%2Finformatika%2FFon-dlja-prezentatsii%2F0017-044-Sozdanie-shablona-v-2003.pn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8&amp;rpt=simage&amp;lr=5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source=wiz&amp;fp=5&amp;img_url=http%3A%2F%2Fprofile.ak.fbcdn.net%2Fhprofile-ak-prn1%2F161659_100001935628878_5550641_n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9&amp;rpt=simage&amp;lr=5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yandex.ru/yandsearch?source=wiz&amp;fp=5&amp;img_url=http%3A%2F%2Fwww.pedsovet.su%2F_ld%2F265%2F09177714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6&amp;rpt=simage&amp;lr=5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5&amp;img_url=http%3A%2F%2Fbagema.info%2Fimages%2Fpalma_na_parkete1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7&amp;rpt=simage&amp;lr=5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source=wiz&amp;fp=5&amp;img_url=http%3A%2F%2F900igr.net%2Fdatai%2Finformatika%2FFon-dlja-prezentatsii%2F0017-044-Sozdanie-shablona-v-2003.pn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8&amp;rpt=simage&amp;lr=5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source=wiz&amp;fp=5&amp;img_url=http%3A%2F%2Fprofile.ak.fbcdn.net%2Fhprofile-ak-prn1%2F161659_100001935628878_5550641_n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9&amp;rpt=simage&amp;lr=5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yandex.ru/yandsearch?source=wiz&amp;fp=5&amp;img_url=http%3A%2F%2Fwww.pedsovet.su%2F_ld%2F265%2F09177714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6&amp;rpt=simage&amp;lr=5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5&amp;img_url=http%3A%2F%2Fbagema.info%2Fimages%2Fpalma_na_parkete1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7&amp;rpt=simage&amp;lr=5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source=wiz&amp;fp=5&amp;img_url=http%3A%2F%2F900igr.net%2Fdatai%2Finformatika%2FFon-dlja-prezentatsii%2F0017-044-Sozdanie-shablona-v-2003.pn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8&amp;rpt=simage&amp;lr=5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source=wiz&amp;fp=5&amp;img_url=http%3A%2F%2Fprofile.ak.fbcdn.net%2Fhprofile-ak-prn1%2F161659_100001935628878_5550641_n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9&amp;rpt=simage&amp;lr=5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yandex.ru/yandsearch?source=wiz&amp;fp=5&amp;img_url=http%3A%2F%2Fwww.pedsovet.su%2F_ld%2F265%2F09177714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6&amp;rpt=simage&amp;lr=5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5&amp;img_url=http%3A%2F%2Fbagema.info%2Fimages%2Fpalma_na_parkete1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7&amp;rpt=simage&amp;lr=5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source=wiz&amp;fp=5&amp;img_url=http%3A%2F%2F900igr.net%2Fdatai%2Finformatika%2FFon-dlja-prezentatsii%2F0017-044-Sozdanie-shablona-v-2003.pn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8&amp;rpt=simage&amp;lr=5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source=wiz&amp;fp=5&amp;img_url=http%3A%2F%2Fprofile.ak.fbcdn.net%2Fhprofile-ak-prn1%2F161659_100001935628878_5550641_n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9&amp;rpt=simage&amp;lr=5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yandex.ru/yandsearch?source=wiz&amp;fp=5&amp;img_url=http%3A%2F%2Fwww.pedsovet.su%2F_ld%2F265%2F09177714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6&amp;rpt=simage&amp;lr=5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5&amp;img_url=http%3A%2F%2Fbagema.info%2Fimages%2Fpalma_na_parkete1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7&amp;rpt=simage&amp;lr=5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source=wiz&amp;fp=5&amp;img_url=http%3A%2F%2F900igr.net%2Fdatai%2Finformatika%2FFon-dlja-prezentatsii%2F0017-044-Sozdanie-shablona-v-2003.pn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8&amp;rpt=simage&amp;lr=5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source=wiz&amp;fp=5&amp;img_url=http%3A%2F%2Fprofile.ak.fbcdn.net%2Fhprofile-ak-prn1%2F161659_100001935628878_5550641_n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9&amp;rpt=simage&amp;lr=5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yandex.ru/yandsearch?source=wiz&amp;fp=5&amp;img_url=http%3A%2F%2Fwww.pedsovet.su%2F_ld%2F265%2F09177714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6&amp;rpt=simage&amp;lr=5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5&amp;img_url=http%3A%2F%2Fbagema.info%2Fimages%2Fpalma_na_parkete1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7&amp;rpt=simage&amp;lr=5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source=wiz&amp;fp=5&amp;img_url=http%3A%2F%2F900igr.net%2Fdatai%2Finformatika%2FFon-dlja-prezentatsii%2F0017-044-Sozdanie-shablona-v-2003.pn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8&amp;rpt=simage&amp;lr=5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source=wiz&amp;fp=5&amp;img_url=http%3A%2F%2Fprofile.ak.fbcdn.net%2Fhprofile-ak-prn1%2F161659_100001935628878_5550641_n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9&amp;rpt=simage&amp;lr=5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yandex.ru/yandsearch?source=wiz&amp;fp=5&amp;img_url=http%3A%2F%2Fwww.pedsovet.su%2F_ld%2F265%2F09177714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6&amp;rpt=simage&amp;lr=5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5&amp;img_url=http%3A%2F%2Fbagema.info%2Fimages%2Fpalma_na_parkete1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7&amp;rpt=simage&amp;lr=5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source=wiz&amp;fp=5&amp;img_url=http%3A%2F%2F900igr.net%2Fdatai%2Finformatika%2FFon-dlja-prezentatsii%2F0017-044-Sozdanie-shablona-v-2003.pn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8&amp;rpt=simage&amp;lr=5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source=wiz&amp;fp=5&amp;img_url=http%3A%2F%2Fprofile.ak.fbcdn.net%2Fhprofile-ak-prn1%2F161659_100001935628878_5550641_n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9&amp;rpt=simage&amp;lr=5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i?id=485397013-4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6600" y="269244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?id=508805632-1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6600" y="269244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i?id=120513186-0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6600" y="2692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i?id=113622086-1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-42840" y="-239760"/>
            <a:ext cx="9144000" cy="72961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1219320" y="0"/>
            <a:ext cx="717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руктурное подразделение, реализующее осно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щеобразовательную программу дошкольного образования  детский сад «Солнышко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БОУ СОШ №2 г. Нефтегорска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446600, Самарская область, г. Нефтегорск, ул. Спортивная, 1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тел/факс:(84670)2-19-04;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mail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olnyichko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2008@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yandex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ww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olnyshko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mdou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coz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1226880" y="2743200"/>
            <a:ext cx="701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рганизация инновационной площад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недрения интерактивных технологий в НОД детей с ОНР»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5994360" y="4952880"/>
            <a:ext cx="287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Протвень Елена Анатол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старший 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4556520" y="625968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2014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?id=485397013-4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6600" y="269244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i?id=508805632-1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6600" y="269244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i?id=120513186-0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6600" y="2692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?id=113622086-1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-239760"/>
            <a:ext cx="9144000" cy="7296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1066680" y="2514600"/>
            <a:ext cx="7545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ктуальным для детского сада «Солнышко» в настоя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ремя и ближайшей перспективе является 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новационной площадки внедрения эффекти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хнологий в НОД детей с ОНР, педагог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оектирования  образовательного процесса с учё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требностей, способностей и состояния здоровь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454400" y="838080"/>
            <a:ext cx="64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Актуальность организации инновационной площадк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?id=485397013-4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6600" y="269244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i?id=508805632-1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6600" y="269244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i?id=120513186-0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6600" y="2692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i?id=113622086-1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9144000" cy="7296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763560" y="1600200"/>
            <a:ext cx="71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терактивное обучение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– это обуч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строенное на взаимодействии каждого ребенка с окруж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го социальной (воспитатель, сверстни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предметно-развивающей сред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торая служит областью осваиваемого опыта и знаний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i?id=485397013-4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6600" y="269244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i?id=508805632-1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6600" y="269244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i?id=120513186-0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6600" y="2692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i?id=113622086-1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9144000" cy="72961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1376280" y="304920"/>
            <a:ext cx="62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Формы  современных образовательн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699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74600" y="1135080"/>
            <a:ext cx="813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685800" y="8380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дагогами  групп компенсирующей направленности в коррекционно-развивающем процессе используются разнообразные формы  современных образовательных 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936720" y="250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518000" y="326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_s1040"/>
          <p:cNvSpPr/>
          <p:nvPr/>
        </p:nvSpPr>
        <p:spPr>
          <a:xfrm>
            <a:off x="4419720" y="3429000"/>
            <a:ext cx="1684080" cy="1287360"/>
          </a:xfrm>
          <a:prstGeom prst="ellipse">
            <a:avLst/>
          </a:prstGeom>
          <a:solidFill>
            <a:srgbClr val="009999">
              <a:alpha val="50000"/>
            </a:srgbClr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502920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_s1074"/>
          <p:cNvSpPr/>
          <p:nvPr/>
        </p:nvSpPr>
        <p:spPr>
          <a:xfrm>
            <a:off x="5105520" y="3657600"/>
            <a:ext cx="1684080" cy="1287360"/>
          </a:xfrm>
          <a:prstGeom prst="ellipse">
            <a:avLst/>
          </a:prstGeom>
          <a:solidFill>
            <a:srgbClr val="99cc00">
              <a:alpha val="50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_s1102"/>
          <p:cNvSpPr/>
          <p:nvPr/>
        </p:nvSpPr>
        <p:spPr>
          <a:xfrm>
            <a:off x="5562720" y="3809880"/>
            <a:ext cx="1685880" cy="1287720"/>
          </a:xfrm>
          <a:prstGeom prst="ellipse">
            <a:avLst/>
          </a:prstGeom>
          <a:solidFill>
            <a:srgbClr val="333399">
              <a:alpha val="50000"/>
            </a:srgbClr>
          </a:solidFill>
          <a:ln w="4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_s1172"/>
          <p:cNvSpPr/>
          <p:nvPr/>
        </p:nvSpPr>
        <p:spPr>
          <a:xfrm>
            <a:off x="3200400" y="3809880"/>
            <a:ext cx="1533600" cy="1287720"/>
          </a:xfrm>
          <a:prstGeom prst="ellipse">
            <a:avLst/>
          </a:prstGeom>
          <a:solidFill>
            <a:srgbClr val="808080">
              <a:alpha val="50000"/>
            </a:srgbClr>
          </a:solidFill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_s1102"/>
          <p:cNvSpPr/>
          <p:nvPr/>
        </p:nvSpPr>
        <p:spPr>
          <a:xfrm>
            <a:off x="5334120" y="3048120"/>
            <a:ext cx="1685880" cy="1287360"/>
          </a:xfrm>
          <a:prstGeom prst="ellipse">
            <a:avLst/>
          </a:prstGeom>
          <a:solidFill>
            <a:srgbClr val="333399">
              <a:alpha val="50000"/>
            </a:srgbClr>
          </a:solidFill>
          <a:ln w="4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_s1040"/>
          <p:cNvSpPr/>
          <p:nvPr/>
        </p:nvSpPr>
        <p:spPr>
          <a:xfrm>
            <a:off x="4495680" y="2743200"/>
            <a:ext cx="1684440" cy="1287360"/>
          </a:xfrm>
          <a:prstGeom prst="ellipse">
            <a:avLst/>
          </a:prstGeom>
          <a:solidFill>
            <a:srgbClr val="009999">
              <a:alpha val="50000"/>
            </a:srgbClr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_s1102"/>
          <p:cNvSpPr/>
          <p:nvPr/>
        </p:nvSpPr>
        <p:spPr>
          <a:xfrm>
            <a:off x="3733920" y="2286000"/>
            <a:ext cx="1685880" cy="1287360"/>
          </a:xfrm>
          <a:prstGeom prst="ellipse">
            <a:avLst/>
          </a:prstGeom>
          <a:solidFill>
            <a:srgbClr val="333399">
              <a:alpha val="50000"/>
            </a:srgbClr>
          </a:solidFill>
          <a:ln w="4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_s1102"/>
          <p:cNvSpPr/>
          <p:nvPr/>
        </p:nvSpPr>
        <p:spPr>
          <a:xfrm>
            <a:off x="4191120" y="4419720"/>
            <a:ext cx="1685880" cy="1287360"/>
          </a:xfrm>
          <a:prstGeom prst="ellipse">
            <a:avLst/>
          </a:prstGeom>
          <a:solidFill>
            <a:srgbClr val="333399">
              <a:alpha val="50000"/>
            </a:srgbClr>
          </a:solidFill>
          <a:ln w="4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_s1040"/>
          <p:cNvSpPr/>
          <p:nvPr/>
        </p:nvSpPr>
        <p:spPr>
          <a:xfrm>
            <a:off x="4419720" y="3886200"/>
            <a:ext cx="1684080" cy="1287360"/>
          </a:xfrm>
          <a:prstGeom prst="ellipse">
            <a:avLst/>
          </a:prstGeom>
          <a:solidFill>
            <a:srgbClr val="009999">
              <a:alpha val="50000"/>
            </a:srgbClr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_s1040"/>
          <p:cNvSpPr/>
          <p:nvPr/>
        </p:nvSpPr>
        <p:spPr>
          <a:xfrm>
            <a:off x="5334120" y="2666880"/>
            <a:ext cx="1684080" cy="1287720"/>
          </a:xfrm>
          <a:prstGeom prst="ellipse">
            <a:avLst/>
          </a:prstGeom>
          <a:solidFill>
            <a:srgbClr val="009999">
              <a:alpha val="50000"/>
            </a:srgbClr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_s1040"/>
          <p:cNvSpPr/>
          <p:nvPr/>
        </p:nvSpPr>
        <p:spPr>
          <a:xfrm>
            <a:off x="3200400" y="2819520"/>
            <a:ext cx="1684440" cy="1287360"/>
          </a:xfrm>
          <a:prstGeom prst="ellipse">
            <a:avLst/>
          </a:prstGeom>
          <a:solidFill>
            <a:srgbClr val="009999">
              <a:alpha val="50000"/>
            </a:srgbClr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_s1074"/>
          <p:cNvSpPr/>
          <p:nvPr/>
        </p:nvSpPr>
        <p:spPr>
          <a:xfrm>
            <a:off x="4114800" y="3886200"/>
            <a:ext cx="1684440" cy="1287360"/>
          </a:xfrm>
          <a:prstGeom prst="ellipse">
            <a:avLst/>
          </a:prstGeom>
          <a:solidFill>
            <a:srgbClr val="99cc00">
              <a:alpha val="50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_s1074"/>
          <p:cNvSpPr/>
          <p:nvPr/>
        </p:nvSpPr>
        <p:spPr>
          <a:xfrm>
            <a:off x="5334120" y="2743200"/>
            <a:ext cx="1684080" cy="1287360"/>
          </a:xfrm>
          <a:prstGeom prst="ellipse">
            <a:avLst/>
          </a:prstGeom>
          <a:solidFill>
            <a:srgbClr val="99cc00">
              <a:alpha val="50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_s1074"/>
          <p:cNvSpPr/>
          <p:nvPr/>
        </p:nvSpPr>
        <p:spPr>
          <a:xfrm>
            <a:off x="3657600" y="2590920"/>
            <a:ext cx="1684440" cy="1287360"/>
          </a:xfrm>
          <a:prstGeom prst="ellipse">
            <a:avLst/>
          </a:prstGeom>
          <a:solidFill>
            <a:srgbClr val="99cc00">
              <a:alpha val="50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_s1172"/>
          <p:cNvSpPr/>
          <p:nvPr/>
        </p:nvSpPr>
        <p:spPr>
          <a:xfrm>
            <a:off x="5334120" y="4267080"/>
            <a:ext cx="1533240" cy="1287720"/>
          </a:xfrm>
          <a:prstGeom prst="ellipse">
            <a:avLst/>
          </a:prstGeom>
          <a:solidFill>
            <a:srgbClr val="808080">
              <a:alpha val="50000"/>
            </a:srgbClr>
          </a:solidFill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_s1172"/>
          <p:cNvSpPr/>
          <p:nvPr/>
        </p:nvSpPr>
        <p:spPr>
          <a:xfrm>
            <a:off x="4495680" y="3200400"/>
            <a:ext cx="1533600" cy="1287360"/>
          </a:xfrm>
          <a:prstGeom prst="ellipse">
            <a:avLst/>
          </a:prstGeom>
          <a:solidFill>
            <a:srgbClr val="808080">
              <a:alpha val="50000"/>
            </a:srgbClr>
          </a:solidFill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_s1172"/>
          <p:cNvSpPr/>
          <p:nvPr/>
        </p:nvSpPr>
        <p:spPr>
          <a:xfrm>
            <a:off x="4648320" y="2362320"/>
            <a:ext cx="1533240" cy="1287360"/>
          </a:xfrm>
          <a:prstGeom prst="ellipse">
            <a:avLst/>
          </a:prstGeom>
          <a:solidFill>
            <a:srgbClr val="808080">
              <a:alpha val="50000"/>
            </a:srgbClr>
          </a:solidFill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6689880" y="5334120"/>
            <a:ext cx="245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мпьютерная 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2"/>
          <p:cNvSpPr/>
          <p:nvPr/>
        </p:nvSpPr>
        <p:spPr>
          <a:xfrm>
            <a:off x="683640" y="2971080"/>
            <a:ext cx="22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мпьютерные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761040" y="4114800"/>
            <a:ext cx="22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Мультимедийная 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5"/>
          <p:cNvSpPr/>
          <p:nvPr/>
        </p:nvSpPr>
        <p:spPr>
          <a:xfrm>
            <a:off x="7621560" y="41911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1369800" y="5257800"/>
            <a:ext cx="195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роект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7"/>
          <p:cNvSpPr/>
          <p:nvPr/>
        </p:nvSpPr>
        <p:spPr>
          <a:xfrm>
            <a:off x="7314840" y="3048120"/>
            <a:ext cx="133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уджок-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?id=485397013-4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6600" y="269244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i?id=508805632-1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6600" y="269244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i?id=120513186-0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6600" y="2692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?id=113622086-1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-228600"/>
            <a:ext cx="9144000" cy="7296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85800" y="1219320"/>
            <a:ext cx="569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685800" y="2622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098960" y="-3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1143000" y="0"/>
            <a:ext cx="6791400" cy="9144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Взаимодействие участников образовательного проц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4495680" y="95076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4784760" y="125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7"/>
          <p:cNvSpPr/>
          <p:nvPr/>
        </p:nvSpPr>
        <p:spPr>
          <a:xfrm>
            <a:off x="3962520" y="2743200"/>
            <a:ext cx="152388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Реб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3885480" y="157464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3886200" y="990720"/>
            <a:ext cx="152388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838080" y="2133720"/>
            <a:ext cx="20574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Учитель - логоп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838080" y="4343400"/>
            <a:ext cx="1981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Музыкальный руково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3"/>
          <p:cNvSpPr/>
          <p:nvPr/>
        </p:nvSpPr>
        <p:spPr>
          <a:xfrm>
            <a:off x="3886200" y="5181480"/>
            <a:ext cx="18288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Ро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4"/>
          <p:cNvSpPr/>
          <p:nvPr/>
        </p:nvSpPr>
        <p:spPr>
          <a:xfrm>
            <a:off x="6629400" y="4419720"/>
            <a:ext cx="18288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Инструктор по физкульту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5"/>
          <p:cNvSpPr/>
          <p:nvPr/>
        </p:nvSpPr>
        <p:spPr>
          <a:xfrm>
            <a:off x="6553080" y="1981080"/>
            <a:ext cx="17528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Педагог - псих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6918480" y="79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7467480" y="304812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8"/>
          <p:cNvSpPr/>
          <p:nvPr/>
        </p:nvSpPr>
        <p:spPr>
          <a:xfrm>
            <a:off x="1828800" y="3200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0"/>
          <p:cNvSpPr/>
          <p:nvPr/>
        </p:nvSpPr>
        <p:spPr>
          <a:xfrm>
            <a:off x="472428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1"/>
          <p:cNvSpPr/>
          <p:nvPr/>
        </p:nvSpPr>
        <p:spPr>
          <a:xfrm>
            <a:off x="472428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2"/>
          <p:cNvSpPr/>
          <p:nvPr/>
        </p:nvSpPr>
        <p:spPr>
          <a:xfrm flipH="1">
            <a:off x="2743200" y="38862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3"/>
          <p:cNvSpPr/>
          <p:nvPr/>
        </p:nvSpPr>
        <p:spPr>
          <a:xfrm>
            <a:off x="2895480" y="28195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4"/>
          <p:cNvSpPr/>
          <p:nvPr/>
        </p:nvSpPr>
        <p:spPr>
          <a:xfrm flipV="1">
            <a:off x="5410080" y="26668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5"/>
          <p:cNvSpPr/>
          <p:nvPr/>
        </p:nvSpPr>
        <p:spPr>
          <a:xfrm flipH="1">
            <a:off x="5638320" y="52578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6"/>
          <p:cNvSpPr/>
          <p:nvPr/>
        </p:nvSpPr>
        <p:spPr>
          <a:xfrm>
            <a:off x="2666880" y="5181480"/>
            <a:ext cx="12956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7"/>
          <p:cNvSpPr/>
          <p:nvPr/>
        </p:nvSpPr>
        <p:spPr>
          <a:xfrm flipH="1">
            <a:off x="2361960" y="160020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8"/>
          <p:cNvSpPr/>
          <p:nvPr/>
        </p:nvSpPr>
        <p:spPr>
          <a:xfrm>
            <a:off x="5410080" y="1523880"/>
            <a:ext cx="1524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9"/>
          <p:cNvSpPr/>
          <p:nvPr/>
        </p:nvSpPr>
        <p:spPr>
          <a:xfrm flipH="1" flipV="1">
            <a:off x="5410080" y="38858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i?id=485397013-4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6600" y="269244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i?id=508805632-1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6600" y="269244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i?id=120513186-0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6600" y="2692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i?id=113622086-1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-152280"/>
            <a:ext cx="9144000" cy="72961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3946680" y="1941480"/>
            <a:ext cx="146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04920" y="812880"/>
            <a:ext cx="8381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Задачи  на 2013-2014 учебный г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зработать концепцию инновационной деятельности в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ечевого развития детей с ОНР и содержание научно-метод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беспечения эксперимента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вести внедрение в образовательный процесс и апроб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нтерактивные образовательные технологии речевого развития в Н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зработать содержание непосредственной образов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еятельности в старшей группе по образовательн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«Речевое развит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 использованием интерактивны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i?id=485397013-4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6600" y="269244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i?id=508805632-1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6600" y="269244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i?id=120513186-0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6600" y="2692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i?id=113622086-15-72&amp;n=21"/>
          <p:cNvPicPr/>
          <p:nvPr/>
        </p:nvPicPr>
        <p:blipFill>
          <a:blip r:embed="rId7"/>
          <a:stretch/>
        </p:blipFill>
        <p:spPr>
          <a:xfrm>
            <a:off x="0" y="0"/>
            <a:ext cx="9144000" cy="72961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10"/>
          <p:cNvSpPr txBox="1"/>
          <p:nvPr/>
        </p:nvSpPr>
        <p:spPr>
          <a:xfrm>
            <a:off x="2343240" y="2786040"/>
            <a:ext cx="4457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ne</cp:lastModifiedBy>
  <dcterms:modified xsi:type="dcterms:W3CDTF">2014-03-28T07:25:36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