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87F-7C8B-42D0-91E8-AD3FDFB38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677880"/>
            <a:ext cx="457344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8FF-31BA-44E9-97B8-E53066DC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01B-A7D9-4A13-AED8-944E3BF4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84E-976D-4B2B-8EB5-7A3490F0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953-4440-4555-8816-5D0D2309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D1B3-BC99-4AC1-BA97-70295F05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8832-6C22-48D5-8208-266B444D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90AF-8F2C-40D0-9DF4-952298E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0661-4691-4569-8529-58D371D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0F11-FA14-4FFB-ADAA-2FD4E7CB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8186-AF78-42C8-BD9A-0688FA83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6CD6-91A9-4FC8-8E31-F4421D49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EB1-CDBD-438F-8CC2-0033BFE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EB4E-3378-4AD6-818C-E6924039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636-698A-4740-88E2-F5CFA50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26B-D2CA-4009-B164-4256636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15E-CF0E-4314-B1C7-75AAC381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8EAF-7CA3-4E69-9407-EA0CFFE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07B-131F-4158-B65E-DB4A441F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1CD-1A0A-4784-94D4-D86180E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713-292B-4BFE-9B43-434602F8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073-E687-4881-8EF2-6699087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4A9-7BAA-41C7-B81B-7218F90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4CF-A955-4B8C-B4D8-E6E1E35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148-2481-4000-B26F-44237B1E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B4A5-B36A-4D4E-A22C-FCD84F27CD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2C6-CB38-47A6-9827-99BFA266E5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52089" t="0" r="0" b="0"/>
          <a:stretch/>
        </p:blipFill>
        <p:spPr>
          <a:xfrm>
            <a:off x="3059280" y="1268280"/>
            <a:ext cx="1296720" cy="174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898560" y="4530600"/>
            <a:ext cx="1503360" cy="2005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720720" y="2408400"/>
            <a:ext cx="1254240" cy="194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1650960" y="1908000"/>
            <a:ext cx="127656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2506680" y="3808440"/>
            <a:ext cx="14288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8" descr=""/>
          <p:cNvPicPr/>
          <p:nvPr/>
        </p:nvPicPr>
        <p:blipFill>
          <a:blip r:embed="rId7"/>
          <a:stretch/>
        </p:blipFill>
        <p:spPr>
          <a:xfrm>
            <a:off x="3587760" y="2814480"/>
            <a:ext cx="144792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9" descr=""/>
          <p:cNvPicPr/>
          <p:nvPr/>
        </p:nvPicPr>
        <p:blipFill>
          <a:blip r:embed="rId8"/>
          <a:stretch/>
        </p:blipFill>
        <p:spPr>
          <a:xfrm>
            <a:off x="4641840" y="1930320"/>
            <a:ext cx="1400040" cy="214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0" descr=""/>
          <p:cNvPicPr/>
          <p:nvPr/>
        </p:nvPicPr>
        <p:blipFill>
          <a:blip r:embed="rId9"/>
          <a:stretch/>
        </p:blipFill>
        <p:spPr>
          <a:xfrm>
            <a:off x="7089840" y="2133720"/>
            <a:ext cx="15224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11" descr=""/>
          <p:cNvPicPr/>
          <p:nvPr/>
        </p:nvPicPr>
        <p:blipFill>
          <a:blip r:embed="rId10"/>
          <a:stretch/>
        </p:blipFill>
        <p:spPr>
          <a:xfrm>
            <a:off x="6300720" y="2959200"/>
            <a:ext cx="144000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12" descr=""/>
          <p:cNvPicPr/>
          <p:nvPr/>
        </p:nvPicPr>
        <p:blipFill>
          <a:blip r:embed="rId11"/>
          <a:stretch/>
        </p:blipFill>
        <p:spPr>
          <a:xfrm>
            <a:off x="5546880" y="4000680"/>
            <a:ext cx="1428480" cy="216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AutoShape 13"/>
          <p:cNvSpPr/>
          <p:nvPr/>
        </p:nvSpPr>
        <p:spPr>
          <a:xfrm>
            <a:off x="428760" y="142920"/>
            <a:ext cx="8137440" cy="928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ctr">
            <a:noAutofit/>
          </a:bodyPr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Материалы, обеспечивающи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92000"/>
              </a:lnSpc>
              <a:tabLst>
                <a:tab algn="l" pos="0"/>
                <a:tab algn="l" pos="414360"/>
                <a:tab algn="l" pos="820800"/>
                <a:tab algn="l" pos="1228680"/>
                <a:tab algn="l" pos="1635120"/>
                <a:tab algn="l" pos="2043000"/>
                <a:tab algn="l" pos="2451240"/>
                <a:tab algn="l" pos="2859120"/>
                <a:tab algn="l" pos="3265560"/>
                <a:tab algn="l" pos="3673440"/>
                <a:tab algn="l" pos="4081320"/>
                <a:tab algn="l" pos="4487760"/>
                <a:tab algn="l" pos="4896000"/>
                <a:tab algn="l" pos="5303880"/>
                <a:tab algn="l" pos="5711760"/>
                <a:tab algn="l" pos="6118200"/>
                <a:tab algn="l" pos="6526080"/>
                <a:tab algn="l" pos="6934320"/>
                <a:tab algn="l" pos="7340760"/>
                <a:tab algn="l" pos="7748640"/>
                <a:tab algn="l" pos="8156520"/>
                <a:tab algn="l" pos="85644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alibri"/>
                <a:ea typeface="Arial"/>
              </a:rPr>
              <a:t>реализацию Стандар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2"/>
          <a:stretch/>
        </p:blipFill>
        <p:spPr>
          <a:xfrm>
            <a:off x="4500720" y="4870440"/>
            <a:ext cx="13636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151920"/>
            <a:ext cx="84009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560" y="121392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E:\94 шк\фото эмоции\160173_html_6f853117[1].png"/>
          <p:cNvPicPr/>
          <p:nvPr/>
        </p:nvPicPr>
        <p:blipFill>
          <a:blip r:embed="rId1"/>
          <a:stretch/>
        </p:blipFill>
        <p:spPr>
          <a:xfrm>
            <a:off x="357120" y="35719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94 шк\фото эмоции\mobbing01-zoom[1].jpg"/>
          <p:cNvPicPr/>
          <p:nvPr/>
        </p:nvPicPr>
        <p:blipFill>
          <a:blip r:embed="rId2"/>
          <a:stretch/>
        </p:blipFill>
        <p:spPr>
          <a:xfrm>
            <a:off x="4572000" y="178596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219320"/>
            <a:ext cx="8472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E:\94 шк\фото эмоции\Human_Traffiking_flickrPink_Sherbert_Photography_t670[1].jpg"/>
          <p:cNvPicPr/>
          <p:nvPr/>
        </p:nvPicPr>
        <p:blipFill>
          <a:blip r:embed="rId1"/>
          <a:stretch/>
        </p:blipFill>
        <p:spPr>
          <a:xfrm>
            <a:off x="500040" y="1928880"/>
            <a:ext cx="3429000" cy="35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94 шк\фото эмоции\9ed6eeb792a46b9c5db7ab338fed822e_L[1].jpg"/>
          <p:cNvPicPr/>
          <p:nvPr/>
        </p:nvPicPr>
        <p:blipFill>
          <a:blip r:embed="rId2"/>
          <a:stretch/>
        </p:blipFill>
        <p:spPr>
          <a:xfrm>
            <a:off x="4714920" y="2643120"/>
            <a:ext cx="400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сть                                          Неувер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E:\94 шк\фото эмоции\angry-guy-e1357765213504[1].jpg"/>
          <p:cNvPicPr/>
          <p:nvPr/>
        </p:nvPicPr>
        <p:blipFill>
          <a:blip r:embed="rId1"/>
          <a:stretch/>
        </p:blipFill>
        <p:spPr>
          <a:xfrm>
            <a:off x="285840" y="2786040"/>
            <a:ext cx="36432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E:\94 шк\фото эмоции\998a163adbc3a11b_800x800ar[1] — копия.jpg"/>
          <p:cNvPicPr/>
          <p:nvPr/>
        </p:nvPicPr>
        <p:blipFill>
          <a:blip r:embed="rId2"/>
          <a:stretch/>
        </p:blipFill>
        <p:spPr>
          <a:xfrm>
            <a:off x="4429080" y="278604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эмоции, негативное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ы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E:\94 шк\фото эмоции\064[1].jpg"/>
          <p:cNvPicPr/>
          <p:nvPr/>
        </p:nvPicPr>
        <p:blipFill>
          <a:blip r:embed="rId1"/>
          <a:stretch/>
        </p:blipFill>
        <p:spPr>
          <a:xfrm>
            <a:off x="500040" y="2286000"/>
            <a:ext cx="3857760" cy="36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www.stihi.ru/pics/2009/12/17/4371.jpg"/>
          <p:cNvPicPr/>
          <p:nvPr/>
        </p:nvPicPr>
        <p:blipFill>
          <a:blip r:embed="rId2"/>
          <a:stretch/>
        </p:blipFill>
        <p:spPr>
          <a:xfrm>
            <a:off x="4857840" y="2857680"/>
            <a:ext cx="4071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воль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E:\94 шк\фото эмоции\School_foto9[1].jpg"/>
          <p:cNvPicPr/>
          <p:nvPr/>
        </p:nvPicPr>
        <p:blipFill>
          <a:blip r:embed="rId1"/>
          <a:stretch/>
        </p:blipFill>
        <p:spPr>
          <a:xfrm>
            <a:off x="357120" y="2357280"/>
            <a:ext cx="3571920" cy="414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:\94 шк\фото эмоции\1360226310-devochka-vunderkind-iz-rostova-na-donu[1].jpg"/>
          <p:cNvPicPr/>
          <p:nvPr/>
        </p:nvPicPr>
        <p:blipFill>
          <a:blip r:embed="rId2"/>
          <a:stretch/>
        </p:blipFill>
        <p:spPr>
          <a:xfrm>
            <a:off x="4786200" y="2857680"/>
            <a:ext cx="4095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пы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94 шк\фото эмоции\7e880d83075d[1].jpg"/>
          <p:cNvPicPr/>
          <p:nvPr/>
        </p:nvPicPr>
        <p:blipFill>
          <a:blip r:embed="rId1"/>
          <a:stretch/>
        </p:blipFill>
        <p:spPr>
          <a:xfrm>
            <a:off x="285840" y="228600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E:\94 шк\фото эмоции\1248366528_0003[1].jpg"/>
          <p:cNvPicPr/>
          <p:nvPr/>
        </p:nvPicPr>
        <p:blipFill>
          <a:blip r:embed="rId2"/>
          <a:stretch/>
        </p:blipFill>
        <p:spPr>
          <a:xfrm>
            <a:off x="5143680" y="31431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эмоции, позитивно влияющие на формирование учеб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4200" y="1218960"/>
            <a:ext cx="8715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сть в с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im7-tub-ru.yandex.net/i?id=71652765-21-72&amp;n=21"/>
          <p:cNvPicPr/>
          <p:nvPr/>
        </p:nvPicPr>
        <p:blipFill>
          <a:blip r:embed="rId1"/>
          <a:stretch/>
        </p:blipFill>
        <p:spPr>
          <a:xfrm>
            <a:off x="285840" y="2428920"/>
            <a:ext cx="392904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im6-tub-ru.yandex.net/i?id=277575739-37-72&amp;n=21"/>
          <p:cNvPicPr/>
          <p:nvPr/>
        </p:nvPicPr>
        <p:blipFill>
          <a:blip r:embed="rId2"/>
          <a:stretch/>
        </p:blipFill>
        <p:spPr>
          <a:xfrm>
            <a:off x="4786200" y="3143160"/>
            <a:ext cx="4143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 поддерживающие учебную мотивацию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4278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я тебя, я уверен, что ты все сделал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ы делаешь это очень хорош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серье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14520" y="928800"/>
            <a:ext cx="4678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Зная тебя и твои способности, я думаю ты сможешь сделать это гораздо лучш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блестящий учитель – у Вас прекрасные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одар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ребенку радость творч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уро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ед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процессе обучен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т собственного опыта к общественно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Буд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 в процессе учебной деятельнос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не «НАД», а «РЯДОМ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д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с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вопр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 на урока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но отвечать не спеш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нализировать каждый этап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ритикуя, стимулиру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уче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28760"/>
            <a:ext cx="8043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7f7f7f"/>
                </a:solidFill>
                <a:latin typeface="Bookman Old Style"/>
              </a:rPr>
              <a:t>Спасибо за внимание!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39680" y="1341360"/>
            <a:ext cx="8104320" cy="374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38677"/>
                </a:solidFill>
                <a:latin typeface="Times New Roman"/>
              </a:rPr>
              <a:t>Роль психологической службы в реализации стандартов нового покол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ение мотивационного состояния  у учащихся 5-х классов при переходе в среднее звено общеобразовательной школы.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86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пределение уровня мотивационного состояния у  учащихс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ыявление групп школьников, испытывающих трудности, определение природы и характера трудносте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пределение причин низкого уровня школьной мотивации  при переходе в среднее звено общеобразовательной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роки проведения исследования: февраль - март 2014 г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472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2200"/>
            </a:br>
            <a:br>
              <a:rPr sz="2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1 классов представлены в таблице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2470320"/>
          <a:ext cx="8072640" cy="4173480"/>
        </p:xfrm>
        <a:graphic>
          <a:graphicData uri="http://schemas.openxmlformats.org/drawingml/2006/table">
            <a:tbl>
              <a:tblPr/>
              <a:tblGrid>
                <a:gridCol w="2871720"/>
                <a:gridCol w="771480"/>
                <a:gridCol w="857520"/>
                <a:gridCol w="928440"/>
                <a:gridCol w="857520"/>
                <a:gridCol w="1785960"/>
              </a:tblGrid>
              <a:tr h="642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 изучения отношения к учебным предметам Г.Н. Казанцевой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ление мотивации учения, определение преобладающих мотив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чего делается соответствующий вывод о ведущих мотивах, лежащих в основе положительного или отрицательного отношения к отдельным предметам и к учению в целом.</a:t>
            </a:r>
            <a:br>
              <a:rPr sz="18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ыявленной мотивации учащихся представлены в таблиц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2500200"/>
          <a:ext cx="8501040" cy="3805200"/>
        </p:xfrm>
        <a:graphic>
          <a:graphicData uri="http://schemas.openxmlformats.org/drawingml/2006/table">
            <a:tbl>
              <a:tblPr/>
              <a:tblGrid>
                <a:gridCol w="3105360"/>
                <a:gridCol w="1035000"/>
                <a:gridCol w="885600"/>
                <a:gridCol w="814680"/>
                <a:gridCol w="879480"/>
                <a:gridCol w="1780920"/>
              </a:tblGrid>
              <a:tr h="63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чебно-познав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мотивы отношения учащихся 5-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ов к процессу обуче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(сводные таблицы по параллел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56" descr=""/>
          <p:cNvPicPr/>
          <p:nvPr/>
        </p:nvPicPr>
        <p:blipFill>
          <a:blip r:embed="rId1"/>
          <a:stretch/>
        </p:blipFill>
        <p:spPr>
          <a:xfrm>
            <a:off x="809640" y="1571760"/>
            <a:ext cx="7481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авнительная таблиц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ВЕНЬ МОТИВАЦИИ УЧАЩИХСЯ в 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043840" cy="4759200"/>
        </p:xfrm>
        <a:graphic>
          <a:graphicData uri="http://schemas.openxmlformats.org/drawingml/2006/table">
            <a:tbl>
              <a:tblPr/>
              <a:tblGrid>
                <a:gridCol w="3757680"/>
                <a:gridCol w="2214360"/>
                <a:gridCol w="207180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отношения к учению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паралл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че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тм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Игро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Пози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Внеш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мотив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ремление к одобр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5-х классов по методик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кала Я-концеп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4200" y="1785960"/>
            <a:ext cx="871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Я-концепции, переработанная А.М. Прихожан, позволяет оценить как общий уровень самоотношения подростка, так и оценить его отношение к себе в следующих сферах: поведение, интеллект, ситуация в школе, внешность, тревожность, общение, удовлетворенность жизненной ситуацией, положение в семье, уверенность в себ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озможных типов восприятия представлено в табл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етодики 5-х классов, % (сводные таблицы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5840" y="785880"/>
          <a:ext cx="864396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1987560"/>
                <a:gridCol w="941400"/>
                <a:gridCol w="928800"/>
                <a:gridCol w="760320"/>
                <a:gridCol w="719280"/>
                <a:gridCol w="12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само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-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от паралл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оценка интеллекта, школьной успе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8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ь эмоциональное благополу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эмоционального благополуч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тревож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вож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частье и удовлетво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влетворенность жизненной ситуаци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уровень удовлетворен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уровень удовлетворенност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1:18Z</dcterms:created>
  <dc:creator>RINAT</dc:creator>
  <dc:description/>
  <dc:language>en-US</dc:language>
  <cp:lastModifiedBy>Тукфеева Ю</cp:lastModifiedBy>
  <dcterms:modified xsi:type="dcterms:W3CDTF">2015-09-08T18:36:50Z</dcterms:modified>
  <cp:revision>240</cp:revision>
  <dc:subject/>
  <dc:title>Слайд 1</dc:title>
</cp:coreProperties>
</file>