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1E48-D40F-4E28-BE81-924AC187E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43000" y="677880"/>
            <a:ext cx="457344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A80-53C4-468D-95BD-AD160F2A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4A4-6B47-4A87-902C-77F1B57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A61-0573-4165-AEF9-B464E88D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9D3-13F1-487D-937D-81B177B9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124D-8EBD-4F13-915D-7236003A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AE69-2454-4F33-974A-2AE38E2F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E89-B1C8-4545-90E3-7A13FB61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8A6A-D922-45DE-8FDE-1FA596D6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E898-1449-4DC8-918A-9EB63BE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8D86-81DF-44AF-9A7E-A795A0E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C37-51A3-4509-BD9E-B16CC525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50C-7974-46A3-99C5-12222EB1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6D06-240F-44DE-8257-842FC0C9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8C72-A0C6-4E94-A9F1-F995D20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E3E8-5DD6-49BE-B180-44F963B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ED01-6895-49D1-8BBD-C51FE9FE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A408-1013-4786-B7B3-2962F9B2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374-84AB-4AA7-8409-B8BCD1F6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348-514C-4DB3-895E-41006608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909-66E0-4B4D-9BF9-CB8619A8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D9F-C621-4070-ABB9-C5F55AA1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546-2FA1-4743-B9FF-6ADEF219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577-9355-48EE-8267-BD60E3FE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8AC-1B43-44C5-8183-14B11A2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6D2-DB23-46C4-A3DD-8F9C8CF52A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A6E-4B82-43D3-9B2C-FF0D303033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52089" t="0" r="0" b="0"/>
          <a:stretch/>
        </p:blipFill>
        <p:spPr>
          <a:xfrm>
            <a:off x="3059280" y="1268280"/>
            <a:ext cx="1296720" cy="174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898560" y="4530600"/>
            <a:ext cx="1503360" cy="2005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720720" y="2408400"/>
            <a:ext cx="1254240" cy="194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1650960" y="1908000"/>
            <a:ext cx="127656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2506680" y="3808440"/>
            <a:ext cx="142884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8" descr=""/>
          <p:cNvPicPr/>
          <p:nvPr/>
        </p:nvPicPr>
        <p:blipFill>
          <a:blip r:embed="rId7"/>
          <a:stretch/>
        </p:blipFill>
        <p:spPr>
          <a:xfrm>
            <a:off x="3587760" y="2814480"/>
            <a:ext cx="1447920" cy="21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9" descr=""/>
          <p:cNvPicPr/>
          <p:nvPr/>
        </p:nvPicPr>
        <p:blipFill>
          <a:blip r:embed="rId8"/>
          <a:stretch/>
        </p:blipFill>
        <p:spPr>
          <a:xfrm>
            <a:off x="4641840" y="1930320"/>
            <a:ext cx="1400040" cy="214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10" descr=""/>
          <p:cNvPicPr/>
          <p:nvPr/>
        </p:nvPicPr>
        <p:blipFill>
          <a:blip r:embed="rId9"/>
          <a:stretch/>
        </p:blipFill>
        <p:spPr>
          <a:xfrm>
            <a:off x="7089840" y="2133720"/>
            <a:ext cx="152244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11" descr=""/>
          <p:cNvPicPr/>
          <p:nvPr/>
        </p:nvPicPr>
        <p:blipFill>
          <a:blip r:embed="rId10"/>
          <a:stretch/>
        </p:blipFill>
        <p:spPr>
          <a:xfrm>
            <a:off x="6300720" y="2959200"/>
            <a:ext cx="144000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12" descr=""/>
          <p:cNvPicPr/>
          <p:nvPr/>
        </p:nvPicPr>
        <p:blipFill>
          <a:blip r:embed="rId11"/>
          <a:stretch/>
        </p:blipFill>
        <p:spPr>
          <a:xfrm>
            <a:off x="5546880" y="4000680"/>
            <a:ext cx="142848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AutoShape 13"/>
          <p:cNvSpPr/>
          <p:nvPr/>
        </p:nvSpPr>
        <p:spPr>
          <a:xfrm>
            <a:off x="428760" y="142920"/>
            <a:ext cx="8137440" cy="9288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lvl="1" marL="414360" algn="ctr">
              <a:lnSpc>
                <a:spcPct val="92000"/>
              </a:lnSpc>
              <a:tabLst>
                <a:tab algn="l" pos="0"/>
                <a:tab algn="l" pos="414360"/>
                <a:tab algn="l" pos="820800"/>
                <a:tab algn="l" pos="1228680"/>
                <a:tab algn="l" pos="1635120"/>
                <a:tab algn="l" pos="2043000"/>
                <a:tab algn="l" pos="2451240"/>
                <a:tab algn="l" pos="2859120"/>
                <a:tab algn="l" pos="3265560"/>
                <a:tab algn="l" pos="3673440"/>
                <a:tab algn="l" pos="4081320"/>
                <a:tab algn="l" pos="4487760"/>
                <a:tab algn="l" pos="4896000"/>
                <a:tab algn="l" pos="5303880"/>
                <a:tab algn="l" pos="5711760"/>
                <a:tab algn="l" pos="6118200"/>
                <a:tab algn="l" pos="6526080"/>
                <a:tab algn="l" pos="6934320"/>
                <a:tab algn="l" pos="7340760"/>
                <a:tab algn="l" pos="7748640"/>
                <a:tab algn="l" pos="8156520"/>
                <a:tab algn="l" pos="85644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  <a:ea typeface="Arial"/>
              </a:rPr>
              <a:t>Материалы, обеспечивающи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92000"/>
              </a:lnSpc>
              <a:tabLst>
                <a:tab algn="l" pos="0"/>
                <a:tab algn="l" pos="414360"/>
                <a:tab algn="l" pos="820800"/>
                <a:tab algn="l" pos="1228680"/>
                <a:tab algn="l" pos="1635120"/>
                <a:tab algn="l" pos="2043000"/>
                <a:tab algn="l" pos="2451240"/>
                <a:tab algn="l" pos="2859120"/>
                <a:tab algn="l" pos="3265560"/>
                <a:tab algn="l" pos="3673440"/>
                <a:tab algn="l" pos="4081320"/>
                <a:tab algn="l" pos="4487760"/>
                <a:tab algn="l" pos="4896000"/>
                <a:tab algn="l" pos="5303880"/>
                <a:tab algn="l" pos="5711760"/>
                <a:tab algn="l" pos="6118200"/>
                <a:tab algn="l" pos="6526080"/>
                <a:tab algn="l" pos="6934320"/>
                <a:tab algn="l" pos="7340760"/>
                <a:tab algn="l" pos="7748640"/>
                <a:tab algn="l" pos="8156520"/>
                <a:tab algn="l" pos="85644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  <a:ea typeface="Arial"/>
              </a:rPr>
              <a:t>реализацию Стандар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2"/>
          <a:stretch/>
        </p:blipFill>
        <p:spPr>
          <a:xfrm>
            <a:off x="4500720" y="4870440"/>
            <a:ext cx="136368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151920"/>
            <a:ext cx="840096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560" y="1213920"/>
            <a:ext cx="8543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в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E:\94 шк\фото эмоции\160173_html_6f853117[1].png"/>
          <p:cNvPicPr/>
          <p:nvPr/>
        </p:nvPicPr>
        <p:blipFill>
          <a:blip r:embed="rId1"/>
          <a:stretch/>
        </p:blipFill>
        <p:spPr>
          <a:xfrm>
            <a:off x="357120" y="35719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94 шк\фото эмоции\mobbing01-zoom[1].jpg"/>
          <p:cNvPicPr/>
          <p:nvPr/>
        </p:nvPicPr>
        <p:blipFill>
          <a:blip r:embed="rId2"/>
          <a:stretch/>
        </p:blipFill>
        <p:spPr>
          <a:xfrm>
            <a:off x="4572000" y="178596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219320"/>
            <a:ext cx="8472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E:\94 шк\фото эмоции\Human_Traffiking_flickrPink_Sherbert_Photography_t670[1].jpg"/>
          <p:cNvPicPr/>
          <p:nvPr/>
        </p:nvPicPr>
        <p:blipFill>
          <a:blip r:embed="rId1"/>
          <a:stretch/>
        </p:blipFill>
        <p:spPr>
          <a:xfrm>
            <a:off x="500040" y="1928880"/>
            <a:ext cx="3429000" cy="35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94 шк\фото эмоции\9ed6eeb792a46b9c5db7ab338fed822e_L[1].jpg"/>
          <p:cNvPicPr/>
          <p:nvPr/>
        </p:nvPicPr>
        <p:blipFill>
          <a:blip r:embed="rId2"/>
          <a:stretch/>
        </p:blipFill>
        <p:spPr>
          <a:xfrm>
            <a:off x="4714920" y="2643120"/>
            <a:ext cx="4000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сть                                          Неувер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E:\94 шк\фото эмоции\angry-guy-e1357765213504[1].jpg"/>
          <p:cNvPicPr/>
          <p:nvPr/>
        </p:nvPicPr>
        <p:blipFill>
          <a:blip r:embed="rId1"/>
          <a:stretch/>
        </p:blipFill>
        <p:spPr>
          <a:xfrm>
            <a:off x="285840" y="2786040"/>
            <a:ext cx="364320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E:\94 шк\фото эмоции\998a163adbc3a11b_800x800ar[1] — копия.jpg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ы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E:\94 шк\фото эмоции\064[1].jpg"/>
          <p:cNvPicPr/>
          <p:nvPr/>
        </p:nvPicPr>
        <p:blipFill>
          <a:blip r:embed="rId1"/>
          <a:stretch/>
        </p:blipFill>
        <p:spPr>
          <a:xfrm>
            <a:off x="500040" y="2286000"/>
            <a:ext cx="3857760" cy="364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ttp://www.stihi.ru/pics/2009/12/17/4371.jpg"/>
          <p:cNvPicPr/>
          <p:nvPr/>
        </p:nvPicPr>
        <p:blipFill>
          <a:blip r:embed="rId2"/>
          <a:stretch/>
        </p:blipFill>
        <p:spPr>
          <a:xfrm>
            <a:off x="4857840" y="2857680"/>
            <a:ext cx="40719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овольст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E:\94 шк\фото эмоции\School_foto9[1].jpg"/>
          <p:cNvPicPr/>
          <p:nvPr/>
        </p:nvPicPr>
        <p:blipFill>
          <a:blip r:embed="rId1"/>
          <a:stretch/>
        </p:blipFill>
        <p:spPr>
          <a:xfrm>
            <a:off x="357120" y="2357280"/>
            <a:ext cx="3571920" cy="414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:\94 шк\фото эмоции\1360226310-devochka-vunderkind-iz-rostova-na-donu[1].jpg"/>
          <p:cNvPicPr/>
          <p:nvPr/>
        </p:nvPicPr>
        <p:blipFill>
          <a:blip r:embed="rId2"/>
          <a:stretch/>
        </p:blipFill>
        <p:spPr>
          <a:xfrm>
            <a:off x="4786200" y="2857680"/>
            <a:ext cx="4095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пыт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E:\94 шк\фото эмоции\7e880d83075d[1].jpg"/>
          <p:cNvPicPr/>
          <p:nvPr/>
        </p:nvPicPr>
        <p:blipFill>
          <a:blip r:embed="rId1"/>
          <a:stretch/>
        </p:blipFill>
        <p:spPr>
          <a:xfrm>
            <a:off x="285840" y="228600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E:\94 шк\фото эмоции\1248366528_0003[1].jpg"/>
          <p:cNvPicPr/>
          <p:nvPr/>
        </p:nvPicPr>
        <p:blipFill>
          <a:blip r:embed="rId2"/>
          <a:stretch/>
        </p:blipFill>
        <p:spPr>
          <a:xfrm>
            <a:off x="5143680" y="314316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4200" y="1218960"/>
            <a:ext cx="871560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сть в с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im7-tub-ru.yandex.net/i?id=71652765-21-72&amp;n=21"/>
          <p:cNvPicPr/>
          <p:nvPr/>
        </p:nvPicPr>
        <p:blipFill>
          <a:blip r:embed="rId1"/>
          <a:stretch/>
        </p:blipFill>
        <p:spPr>
          <a:xfrm>
            <a:off x="285840" y="2428920"/>
            <a:ext cx="392904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im6-tub-ru.yandex.net/i?id=277575739-37-72&amp;n=21"/>
          <p:cNvPicPr/>
          <p:nvPr/>
        </p:nvPicPr>
        <p:blipFill>
          <a:blip r:embed="rId2"/>
          <a:stretch/>
        </p:blipFill>
        <p:spPr>
          <a:xfrm>
            <a:off x="4786200" y="3143160"/>
            <a:ext cx="4143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а поддерживающие учебную мотивацию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4278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я тебя, я уверен, что ты все сделал хорош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ы делаешь это очень хорош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 тебя есть некоторые соображения по этому поводу? Готов ли ты нач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то серьезный вызов, но я уверен, что ты готов к н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14520" y="928800"/>
            <a:ext cx="4678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Зная тебя и твои способности, я думаю ты сможешь сделать это гораздо лучш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блестящий учитель – у Вас прекрасные уче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одар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ребенку радость творч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уро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ед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процессе обучен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т собственного опыта к общественном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Буд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 в процессе учебной деятельнос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не «НАД», а «РЯДОМ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ду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вопр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 на урока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но отвечать не спеш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хс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анализировать каждый этап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ритикуя, стимулиру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уче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428760"/>
            <a:ext cx="8043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7f7f7f"/>
                </a:solidFill>
                <a:latin typeface="Bookman Old Style"/>
              </a:rPr>
              <a:t>Спасибо за внимание!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39680" y="1341360"/>
            <a:ext cx="8104320" cy="374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38677"/>
                </a:solidFill>
                <a:latin typeface="Times New Roman"/>
              </a:rPr>
              <a:t>Роль психологической службы в реализации стандартов нового покол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286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е мотивационного состояния  у учащихся 5-х классов при переходе в среднее звено общеобразовательной школы.</a:t>
            </a: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2428560"/>
            <a:ext cx="8286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пределение уровня мотивационного состояния у  учащихс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Выявление групп школьников, испытывающих трудности, определение природы и характера трудностей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Определение причин низкого уровня школьной мотивации  при переходе в среднее звено общеобразовательной шко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роки проведения исследования: февраль - март 2014 г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472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 изучения отношения к учебным предметам Г.Н. Казанцевой</a:t>
            </a:r>
            <a:br>
              <a:rPr sz="2200"/>
            </a:br>
            <a:br>
              <a:rPr sz="2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ление мотивации учения, определение преобладающих мотив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чего делается соответствующий вывод о ведущих мотивах, лежащих в основе положительного или отрицательного отношения к отдельным предметам и к учению в цел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ыявленной мотивации учащихся 1 классов представлены в таблице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2470320"/>
          <a:ext cx="8072640" cy="4173480"/>
        </p:xfrm>
        <a:graphic>
          <a:graphicData uri="http://schemas.openxmlformats.org/drawingml/2006/table">
            <a:tbl>
              <a:tblPr/>
              <a:tblGrid>
                <a:gridCol w="2871720"/>
                <a:gridCol w="771480"/>
                <a:gridCol w="857520"/>
                <a:gridCol w="928440"/>
                <a:gridCol w="857520"/>
                <a:gridCol w="1785960"/>
              </a:tblGrid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чеб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Соци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т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Игр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ози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Внеш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 изучения отношения к учебным предметам Г.Н. Казанцевой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ление мотивации учения, определение преобладающих мотив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чего делается соответствующий вывод о ведущих мотивах, лежащих в основе положительного или отрицательного отношения к отдельным предметам и к учению в целом.</a:t>
            </a:r>
            <a:br>
              <a:rPr sz="18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ыявленной мотивации учащихся представлены в таблиц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2500200"/>
          <a:ext cx="8501040" cy="3805200"/>
        </p:xfrm>
        <a:graphic>
          <a:graphicData uri="http://schemas.openxmlformats.org/drawingml/2006/table">
            <a:tbl>
              <a:tblPr/>
              <a:tblGrid>
                <a:gridCol w="3105360"/>
                <a:gridCol w="1035000"/>
                <a:gridCol w="885600"/>
                <a:gridCol w="814680"/>
                <a:gridCol w="879480"/>
                <a:gridCol w="1780920"/>
              </a:tblGrid>
              <a:tr h="631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чебно-познав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неш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тремление к одобр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мотивы отношения учащихся 5-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ов к процессу обуче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(сводные таблицы по паралл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56" descr=""/>
          <p:cNvPicPr/>
          <p:nvPr/>
        </p:nvPicPr>
        <p:blipFill>
          <a:blip r:embed="rId1"/>
          <a:stretch/>
        </p:blipFill>
        <p:spPr>
          <a:xfrm>
            <a:off x="809640" y="1571760"/>
            <a:ext cx="7481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авнительная таблица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РОВЕНЬ МОТИВАЦИИ УЧАЩИХСЯ в 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043840" cy="4759200"/>
        </p:xfrm>
        <a:graphic>
          <a:graphicData uri="http://schemas.openxmlformats.org/drawingml/2006/table">
            <a:tbl>
              <a:tblPr/>
              <a:tblGrid>
                <a:gridCol w="3757680"/>
                <a:gridCol w="2214360"/>
                <a:gridCol w="207180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че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т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Игро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ози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Внеш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тремление к одобр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кала Я-концеп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4200" y="1785960"/>
            <a:ext cx="8715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Я-концепции, переработанная А.М. Прихожан, позволяет оценить как общий уровень самоотношения подростка, так и оценить его отношение к себе в следующих сферах: поведение, интеллект, ситуация в школе, внешность, тревожность, общение, удовлетворенность жизненной ситуацией, положение в семье, уверенность в себ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озможных типов восприятия представлено в табл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методики 5-х классов, % (сводные таблицы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5840" y="785880"/>
          <a:ext cx="864396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1987560"/>
                <a:gridCol w="941400"/>
                <a:gridCol w="928800"/>
                <a:gridCol w="760320"/>
                <a:gridCol w="719280"/>
                <a:gridCol w="1235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 само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от паралл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оценка интеллекта, школьной успеш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8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ность эмоциональное благополу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 эмоционального благополуч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уровень тревож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астье и удовлетвор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влетворенность жизненной ситуаци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уровень удовлетворен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 удовлетворен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8:01:18Z</dcterms:created>
  <dc:creator>RINAT</dc:creator>
  <dc:description/>
  <dc:language>en-US</dc:language>
  <cp:lastModifiedBy>Тукфеева Ю</cp:lastModifiedBy>
  <dcterms:modified xsi:type="dcterms:W3CDTF">2015-09-08T18:36:50Z</dcterms:modified>
  <cp:revision>240</cp:revision>
  <dc:subject/>
  <dc:title>Слайд 1</dc:title>
</cp:coreProperties>
</file>