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24.jpeg" ContentType="image/jpeg"/>
  <Override PartName="/ppt/media/image5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7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13F31-D78A-4F35-B2BB-B0BA4CB2B2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1143000" y="677880"/>
            <a:ext cx="457344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3D8A-790B-4B31-ACFF-9847A098F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2FBB-604E-44D9-92BF-23FB7A94C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492F-7A31-4268-A9D8-C00C191EE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188A-9B0E-4D6C-82A4-DE5DBAEF1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1D633-58C2-4761-AA35-661EFE408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AACAD-9425-49A8-9145-45A1BF4F9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4789A-3FCB-4F8B-B8C5-CFC045AD4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C139D-7C91-4570-82C9-DEFFADF1C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65BBC-DEB4-4C17-BFD0-A2DA9EC9A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43944-3852-4BD9-807C-572F1231D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096E7-1577-4245-9BC2-7EACE522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1954-503E-48AE-8664-6E616CF85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75803-9259-43B6-924A-D705841E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6FFDB-4ED9-4C8F-8016-6BB5EAF1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11F49-6B66-4557-AAE7-DF0C73840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62B41-A85E-4B78-A0D6-251792C59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A0497-D815-4FE5-98D5-ACD3A21DB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0878-876C-4520-89AC-B742C4755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28E5-5637-46A2-95BB-D2257F621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0BB6-8EBF-4D79-971B-54F2CF22F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4752-7BD3-4E26-AF4F-9245C5DF5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BAA3-7DFD-4B01-852E-F2BB528C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B834-9D2C-4FBD-BF3C-ADC3CE5D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510A-BBB7-421A-B11D-FBBB642F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CFD58-F15D-4784-91D2-E8B3D854AAB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970BC-CC87-4376-9036-962411EB104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rcRect l="52089" t="0" r="0" b="0"/>
          <a:stretch/>
        </p:blipFill>
        <p:spPr>
          <a:xfrm>
            <a:off x="3059280" y="1268280"/>
            <a:ext cx="1296720" cy="1743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91" name="Picture 4" descr=""/>
          <p:cNvPicPr/>
          <p:nvPr/>
        </p:nvPicPr>
        <p:blipFill>
          <a:blip r:embed="rId3"/>
          <a:stretch/>
        </p:blipFill>
        <p:spPr>
          <a:xfrm>
            <a:off x="898560" y="4530600"/>
            <a:ext cx="1503360" cy="2005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92" name="Picture 5" descr=""/>
          <p:cNvPicPr/>
          <p:nvPr/>
        </p:nvPicPr>
        <p:blipFill>
          <a:blip r:embed="rId4"/>
          <a:stretch/>
        </p:blipFill>
        <p:spPr>
          <a:xfrm>
            <a:off x="720720" y="2408400"/>
            <a:ext cx="1254240" cy="1944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3" name="Picture 6" descr=""/>
          <p:cNvPicPr/>
          <p:nvPr/>
        </p:nvPicPr>
        <p:blipFill>
          <a:blip r:embed="rId5"/>
          <a:stretch/>
        </p:blipFill>
        <p:spPr>
          <a:xfrm>
            <a:off x="1650960" y="1908000"/>
            <a:ext cx="1276560" cy="1944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4" name="Picture 7" descr=""/>
          <p:cNvPicPr/>
          <p:nvPr/>
        </p:nvPicPr>
        <p:blipFill>
          <a:blip r:embed="rId6"/>
          <a:stretch/>
        </p:blipFill>
        <p:spPr>
          <a:xfrm>
            <a:off x="2506680" y="3808440"/>
            <a:ext cx="1428840" cy="2158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5" name="Picture 8" descr=""/>
          <p:cNvPicPr/>
          <p:nvPr/>
        </p:nvPicPr>
        <p:blipFill>
          <a:blip r:embed="rId7"/>
          <a:stretch/>
        </p:blipFill>
        <p:spPr>
          <a:xfrm>
            <a:off x="3587760" y="2814480"/>
            <a:ext cx="1447920" cy="215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6" name="Picture 9" descr=""/>
          <p:cNvPicPr/>
          <p:nvPr/>
        </p:nvPicPr>
        <p:blipFill>
          <a:blip r:embed="rId8"/>
          <a:stretch/>
        </p:blipFill>
        <p:spPr>
          <a:xfrm>
            <a:off x="4641840" y="1930320"/>
            <a:ext cx="1400040" cy="2140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7" name="Picture 10" descr=""/>
          <p:cNvPicPr/>
          <p:nvPr/>
        </p:nvPicPr>
        <p:blipFill>
          <a:blip r:embed="rId9"/>
          <a:stretch/>
        </p:blipFill>
        <p:spPr>
          <a:xfrm>
            <a:off x="7089840" y="2133720"/>
            <a:ext cx="1522440" cy="2158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8" name="Picture 11" descr=""/>
          <p:cNvPicPr/>
          <p:nvPr/>
        </p:nvPicPr>
        <p:blipFill>
          <a:blip r:embed="rId10"/>
          <a:stretch/>
        </p:blipFill>
        <p:spPr>
          <a:xfrm>
            <a:off x="6300720" y="2959200"/>
            <a:ext cx="1440000" cy="2160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9" name="Picture 12" descr=""/>
          <p:cNvPicPr/>
          <p:nvPr/>
        </p:nvPicPr>
        <p:blipFill>
          <a:blip r:embed="rId11"/>
          <a:stretch/>
        </p:blipFill>
        <p:spPr>
          <a:xfrm>
            <a:off x="5546880" y="4000680"/>
            <a:ext cx="1428480" cy="2160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0" name="AutoShape 13"/>
          <p:cNvSpPr/>
          <p:nvPr/>
        </p:nvSpPr>
        <p:spPr>
          <a:xfrm>
            <a:off x="428760" y="142920"/>
            <a:ext cx="8137440" cy="9288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253c57"/>
              </a:gs>
              <a:gs pos="50000">
                <a:srgbClr val="4f81bd"/>
              </a:gs>
              <a:gs pos="100000">
                <a:srgbClr val="253c57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 lvl="1" marL="414360" algn="ctr">
              <a:lnSpc>
                <a:spcPct val="92000"/>
              </a:lnSpc>
              <a:tabLst>
                <a:tab algn="l" pos="0"/>
                <a:tab algn="l" pos="414360"/>
                <a:tab algn="l" pos="820800"/>
                <a:tab algn="l" pos="1228680"/>
                <a:tab algn="l" pos="1635120"/>
                <a:tab algn="l" pos="2043000"/>
                <a:tab algn="l" pos="2451240"/>
                <a:tab algn="l" pos="2859120"/>
                <a:tab algn="l" pos="3265560"/>
                <a:tab algn="l" pos="3673440"/>
                <a:tab algn="l" pos="4081320"/>
                <a:tab algn="l" pos="4487760"/>
                <a:tab algn="l" pos="4896000"/>
                <a:tab algn="l" pos="5303880"/>
                <a:tab algn="l" pos="5711760"/>
                <a:tab algn="l" pos="6118200"/>
                <a:tab algn="l" pos="6526080"/>
                <a:tab algn="l" pos="6934320"/>
                <a:tab algn="l" pos="7340760"/>
                <a:tab algn="l" pos="7748640"/>
                <a:tab algn="l" pos="8156520"/>
                <a:tab algn="l" pos="856440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2900" spc="-1" strike="noStrike">
                <a:solidFill>
                  <a:srgbClr val="ffffff"/>
                </a:solidFill>
                <a:latin typeface="Calibri"/>
                <a:ea typeface="Arial"/>
              </a:rPr>
              <a:t>Материалы, обеспечивающие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 algn="ctr">
              <a:lnSpc>
                <a:spcPct val="92000"/>
              </a:lnSpc>
              <a:tabLst>
                <a:tab algn="l" pos="0"/>
                <a:tab algn="l" pos="414360"/>
                <a:tab algn="l" pos="820800"/>
                <a:tab algn="l" pos="1228680"/>
                <a:tab algn="l" pos="1635120"/>
                <a:tab algn="l" pos="2043000"/>
                <a:tab algn="l" pos="2451240"/>
                <a:tab algn="l" pos="2859120"/>
                <a:tab algn="l" pos="3265560"/>
                <a:tab algn="l" pos="3673440"/>
                <a:tab algn="l" pos="4081320"/>
                <a:tab algn="l" pos="4487760"/>
                <a:tab algn="l" pos="4896000"/>
                <a:tab algn="l" pos="5303880"/>
                <a:tab algn="l" pos="5711760"/>
                <a:tab algn="l" pos="6118200"/>
                <a:tab algn="l" pos="6526080"/>
                <a:tab algn="l" pos="6934320"/>
                <a:tab algn="l" pos="7340760"/>
                <a:tab algn="l" pos="7748640"/>
                <a:tab algn="l" pos="8156520"/>
                <a:tab algn="l" pos="856440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2900" spc="-1" strike="noStrike">
                <a:solidFill>
                  <a:srgbClr val="ffffff"/>
                </a:solidFill>
                <a:latin typeface="Calibri"/>
                <a:ea typeface="Arial"/>
              </a:rPr>
              <a:t>реализацию Стандарта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4" descr=""/>
          <p:cNvPicPr/>
          <p:nvPr/>
        </p:nvPicPr>
        <p:blipFill>
          <a:blip r:embed="rId12"/>
          <a:stretch/>
        </p:blipFill>
        <p:spPr>
          <a:xfrm>
            <a:off x="4500720" y="4870440"/>
            <a:ext cx="1363680" cy="1943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5840" y="151920"/>
            <a:ext cx="840096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дные эмоции, негативное влияющие на формирование учебной мотиваци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42560" y="1213920"/>
            <a:ext cx="85438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увство ви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лос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5" descr="E:\94 шк\фото эмоции\160173_html_6f853117[1].png"/>
          <p:cNvPicPr/>
          <p:nvPr/>
        </p:nvPicPr>
        <p:blipFill>
          <a:blip r:embed="rId1"/>
          <a:stretch/>
        </p:blipFill>
        <p:spPr>
          <a:xfrm>
            <a:off x="357120" y="3571920"/>
            <a:ext cx="4000680" cy="2714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E:\94 шк\фото эмоции\mobbing01-zoom[1].jpg"/>
          <p:cNvPicPr/>
          <p:nvPr/>
        </p:nvPicPr>
        <p:blipFill>
          <a:blip r:embed="rId2"/>
          <a:stretch/>
        </p:blipFill>
        <p:spPr>
          <a:xfrm>
            <a:off x="4572000" y="1785960"/>
            <a:ext cx="385776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дные эмоции, негативное влияющие на формирование учебной мотив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219320"/>
            <a:ext cx="8472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и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а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E:\94 шк\фото эмоции\Human_Traffiking_flickrPink_Sherbert_Photography_t670[1].jpg"/>
          <p:cNvPicPr/>
          <p:nvPr/>
        </p:nvPicPr>
        <p:blipFill>
          <a:blip r:embed="rId1"/>
          <a:stretch/>
        </p:blipFill>
        <p:spPr>
          <a:xfrm>
            <a:off x="500040" y="1928880"/>
            <a:ext cx="3429000" cy="3500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E:\94 шк\фото эмоции\9ed6eeb792a46b9c5db7ab338fed822e_L[1].jpg"/>
          <p:cNvPicPr/>
          <p:nvPr/>
        </p:nvPicPr>
        <p:blipFill>
          <a:blip r:embed="rId2"/>
          <a:stretch/>
        </p:blipFill>
        <p:spPr>
          <a:xfrm>
            <a:off x="4714920" y="2643120"/>
            <a:ext cx="40003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дные эмоции, негативное влияющие на формирование учебной мотив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лость                                          Неуверен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E:\94 шк\фото эмоции\angry-guy-e1357765213504[1].jpg"/>
          <p:cNvPicPr/>
          <p:nvPr/>
        </p:nvPicPr>
        <p:blipFill>
          <a:blip r:embed="rId1"/>
          <a:stretch/>
        </p:blipFill>
        <p:spPr>
          <a:xfrm>
            <a:off x="285840" y="2786040"/>
            <a:ext cx="3643200" cy="3571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E:\94 шк\фото эмоции\998a163adbc3a11b_800x800ar[1] — копия.jpg"/>
          <p:cNvPicPr/>
          <p:nvPr/>
        </p:nvPicPr>
        <p:blipFill>
          <a:blip r:embed="rId2"/>
          <a:stretch/>
        </p:blipFill>
        <p:spPr>
          <a:xfrm>
            <a:off x="4429080" y="2786040"/>
            <a:ext cx="428616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дные эмоции, негативное влияющие на формирование учебной мотив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ыд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вис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3" descr="E:\94 шк\фото эмоции\064[1].jpg"/>
          <p:cNvPicPr/>
          <p:nvPr/>
        </p:nvPicPr>
        <p:blipFill>
          <a:blip r:embed="rId1"/>
          <a:stretch/>
        </p:blipFill>
        <p:spPr>
          <a:xfrm>
            <a:off x="500040" y="2286000"/>
            <a:ext cx="3857760" cy="3643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http://www.stihi.ru/pics/2009/12/17/4371.jpg"/>
          <p:cNvPicPr/>
          <p:nvPr/>
        </p:nvPicPr>
        <p:blipFill>
          <a:blip r:embed="rId2"/>
          <a:stretch/>
        </p:blipFill>
        <p:spPr>
          <a:xfrm>
            <a:off x="4857840" y="2857680"/>
            <a:ext cx="4071960" cy="34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езные эмоции, позитивно влияющие на формирование учебной мотив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дос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довольств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E:\94 шк\фото эмоции\School_foto9[1].jpg"/>
          <p:cNvPicPr/>
          <p:nvPr/>
        </p:nvPicPr>
        <p:blipFill>
          <a:blip r:embed="rId1"/>
          <a:stretch/>
        </p:blipFill>
        <p:spPr>
          <a:xfrm>
            <a:off x="357120" y="2357280"/>
            <a:ext cx="3571920" cy="4143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E:\94 шк\фото эмоции\1360226310-devochka-vunderkind-iz-rostova-na-donu[1].jpg"/>
          <p:cNvPicPr/>
          <p:nvPr/>
        </p:nvPicPr>
        <p:blipFill>
          <a:blip r:embed="rId2"/>
          <a:stretch/>
        </p:blipFill>
        <p:spPr>
          <a:xfrm>
            <a:off x="4786200" y="2857680"/>
            <a:ext cx="409572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езные эмоции, позитивно влияющие на формирование учебной мотив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дивлен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юбопытств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E:\94 шк\фото эмоции\7e880d83075d[1].jpg"/>
          <p:cNvPicPr/>
          <p:nvPr/>
        </p:nvPicPr>
        <p:blipFill>
          <a:blip r:embed="rId1"/>
          <a:stretch/>
        </p:blipFill>
        <p:spPr>
          <a:xfrm>
            <a:off x="285840" y="2286000"/>
            <a:ext cx="4071960" cy="30718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E:\94 шк\фото эмоции\1248366528_0003[1].jpg"/>
          <p:cNvPicPr/>
          <p:nvPr/>
        </p:nvPicPr>
        <p:blipFill>
          <a:blip r:embed="rId2"/>
          <a:stretch/>
        </p:blipFill>
        <p:spPr>
          <a:xfrm>
            <a:off x="5143680" y="3143160"/>
            <a:ext cx="34290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езные эмоции, позитивно влияющие на формирование учебной мотив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14200" y="1218960"/>
            <a:ext cx="8715600" cy="53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ветственнос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веренность в себ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2" descr="http://im7-tub-ru.yandex.net/i?id=71652765-21-72&amp;n=21"/>
          <p:cNvPicPr/>
          <p:nvPr/>
        </p:nvPicPr>
        <p:blipFill>
          <a:blip r:embed="rId1"/>
          <a:stretch/>
        </p:blipFill>
        <p:spPr>
          <a:xfrm>
            <a:off x="285840" y="2428920"/>
            <a:ext cx="3929040" cy="3429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http://im6-tub-ru.yandex.net/i?id=277575739-37-72&amp;n=21"/>
          <p:cNvPicPr/>
          <p:nvPr/>
        </p:nvPicPr>
        <p:blipFill>
          <a:blip r:embed="rId2"/>
          <a:stretch/>
        </p:blipFill>
        <p:spPr>
          <a:xfrm>
            <a:off x="4786200" y="3143160"/>
            <a:ext cx="41436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85840" y="142560"/>
            <a:ext cx="85723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Слова поддерживающие учебную мотивацию 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13840" y="1285920"/>
            <a:ext cx="42786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Зная тебя, я уверен, что ты все сделал хорош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Ты делаешь это очень хорош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У тебя есть некоторые соображения по этому поводу? Готов ли ты начать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Это серьезный вызов, но я уверен, что ты готов к нем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14520" y="928800"/>
            <a:ext cx="46782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Зная тебя и твои способности, я думаю ты сможешь сделать это гораздо лучш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 блестящий учитель – у Вас прекрасные учени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Подар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ребенку радость творчеств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на урок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Вед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учени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процессе обучения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от собственного опыта к общественном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Буд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 в процессе учебной деятельности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не «НАД», а «РЯДОМ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Раду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сь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вопро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м на уроках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 но отвечать не спеш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Уч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ащихся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анализировать каждый этап работ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Критикуя, стимулиру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учени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0" y="428760"/>
            <a:ext cx="804384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  <a:p>
            <a:pPr marL="419040" indent="-382680"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500" spc="-1" strike="noStrike">
                <a:solidFill>
                  <a:srgbClr val="7f7f7f"/>
                </a:solidFill>
                <a:latin typeface="Bookman Old Style"/>
              </a:rPr>
              <a:t>Спасибо за внимание!</a:t>
            </a: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039680" y="1341360"/>
            <a:ext cx="8104320" cy="37432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ct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138677"/>
                </a:solidFill>
                <a:latin typeface="Times New Roman"/>
              </a:rPr>
              <a:t>Роль психологической службы в реализации стандартов нового поколения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9680" y="642600"/>
            <a:ext cx="828684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исследования: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учение мотивационного состояния  у учащихся 5-х классов при переходе в среднее звено общеобразовательной школы.</a:t>
            </a:r>
            <a:br>
              <a:rPr sz="18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28760" y="2428560"/>
            <a:ext cx="828648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дач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. Определение уровня мотивационного состояния у  учащихся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. Выявление групп школьников, испытывающих трудности, определение природы и характера трудностей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3. Определение причин низкого уровня школьной мотивации  при переходе в среднее звено общеобразовательной школ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Сроки проведения исследования: февраль - март 2014 год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847260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5-х классов по методике изучения отношения к учебным предметам Г.Н. Казанцевой</a:t>
            </a:r>
            <a:br>
              <a:rPr sz="2200"/>
            </a:br>
            <a:br>
              <a:rPr sz="22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выявление мотивации учения, определение преобладающих мотивов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е чего делается соответствующий вывод о ведущих мотивах, лежащих в основе положительного или отрицательного отношения к отдельным предметам и к учению в целом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выявленной мотивации учащихся 1 классов представлены в таблице. </a:t>
            </a:r>
            <a:br>
              <a:rPr sz="22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00040" y="2470320"/>
          <a:ext cx="8072640" cy="4173480"/>
        </p:xfrm>
        <a:graphic>
          <a:graphicData uri="http://schemas.openxmlformats.org/drawingml/2006/table">
            <a:tbl>
              <a:tblPr/>
              <a:tblGrid>
                <a:gridCol w="2871720"/>
                <a:gridCol w="771480"/>
                <a:gridCol w="857520"/>
                <a:gridCol w="928440"/>
                <a:gridCol w="857520"/>
                <a:gridCol w="1785960"/>
              </a:tblGrid>
              <a:tr h="6426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тивы отношения к учению в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тив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- 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- 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- 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от паралл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Учеб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Соци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Отмет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Игров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1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 Позицион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 Внешня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1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ие мотив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4200" y="142560"/>
            <a:ext cx="871560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1500"/>
            </a:br>
            <a:br>
              <a:rPr sz="1500"/>
            </a:b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5-х классов по методике изучения отношения к учебным предметам Г.Н. Казанцевой</a:t>
            </a:r>
            <a:br>
              <a:rPr sz="14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выявление мотивации учения, определение преобладающих мотивов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е чего делается соответствующий вывод о ведущих мотивах, лежащих в основе положительного или отрицательного отношения к отдельным предметам и к учению в целом.</a:t>
            </a:r>
            <a:br>
              <a:rPr sz="18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выявленной мотивации учащихся представлены в таблице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57120" y="2500200"/>
          <a:ext cx="8501040" cy="3805200"/>
        </p:xfrm>
        <a:graphic>
          <a:graphicData uri="http://schemas.openxmlformats.org/drawingml/2006/table">
            <a:tbl>
              <a:tblPr/>
              <a:tblGrid>
                <a:gridCol w="3105360"/>
                <a:gridCol w="1035000"/>
                <a:gridCol w="885600"/>
                <a:gridCol w="814680"/>
                <a:gridCol w="879480"/>
                <a:gridCol w="1780920"/>
              </a:tblGrid>
              <a:tr h="6318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тивы отношения к учению в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ТИВ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- 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- 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- 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–Г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от паралл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Учебно-познавате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Социа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Внеш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Стремление к одобрени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Отсутствие мотив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рамма мотивы отношения учащихся 5-х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ов к процессу обучения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(сводные таблицы по параллел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Содержимое 56" descr=""/>
          <p:cNvPicPr/>
          <p:nvPr/>
        </p:nvPicPr>
        <p:blipFill>
          <a:blip r:embed="rId1"/>
          <a:stretch/>
        </p:blipFill>
        <p:spPr>
          <a:xfrm>
            <a:off x="809640" y="1571760"/>
            <a:ext cx="74818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равнительная таблица 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УРОВЕНЬ МОТИВАЦИИ УЧАЩИХСЯ в %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600200"/>
          <a:ext cx="8043840" cy="4759200"/>
        </p:xfrm>
        <a:graphic>
          <a:graphicData uri="http://schemas.openxmlformats.org/drawingml/2006/table">
            <a:tbl>
              <a:tblPr/>
              <a:tblGrid>
                <a:gridCol w="3757680"/>
                <a:gridCol w="2214360"/>
                <a:gridCol w="2071800"/>
              </a:tblGrid>
              <a:tr h="6426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тивы отношения к учению в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тив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от паралл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– х клас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от паралл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– х клас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Учеб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Социа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Отмет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Игрово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 Позицио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 Внеш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ие мотив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Стремление к одобрени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5-х классов по методике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Шкала Я-концепци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14200" y="1785960"/>
            <a:ext cx="87156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ала Я-концепции, переработанная А.М. Прихожан, позволяет оценить как общий уровень самоотношения подростка, так и оценить его отношение к себе в следующих сферах: поведение, интеллект, ситуация в школе, внешность, тревожность, общение, удовлетворенность жизненной ситуацией, положение в семье, уверенность в себ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возможных типов восприятия представлено в таблиц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методики 5-х классов, % (сводные таблицы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85840" y="785880"/>
          <a:ext cx="8643960" cy="5257800"/>
        </p:xfrm>
        <a:graphic>
          <a:graphicData uri="http://schemas.openxmlformats.org/drawingml/2006/table">
            <a:tbl>
              <a:tblPr/>
              <a:tblGrid>
                <a:gridCol w="2071440"/>
                <a:gridCol w="1987560"/>
                <a:gridCol w="941400"/>
                <a:gridCol w="928800"/>
                <a:gridCol w="760320"/>
                <a:gridCol w="719280"/>
                <a:gridCol w="12351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актор самоотнош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каза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 -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 - 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 - 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 - 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от параллел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оценка интеллекта, школьной успеш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зкий уровень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 уровень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сокий уровень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86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евожность эмоциональное благополуч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сокий уровень эмоционального благополуч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уровень тревожности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сокий уровень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евожност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04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частье и удовлетворе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удовлетворенность жизненной ситуацие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уровень удовлетворенност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сокий уровень удовлетворенности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1T08:01:18Z</dcterms:created>
  <dc:creator>RINAT</dc:creator>
  <dc:description/>
  <dc:language>en-US</dc:language>
  <cp:lastModifiedBy>Тукфеева Ю</cp:lastModifiedBy>
  <dcterms:modified xsi:type="dcterms:W3CDTF">2015-09-08T18:36:50Z</dcterms:modified>
  <cp:revision>240</cp:revision>
  <dc:subject/>
  <dc:title>Слайд 1</dc:title>
</cp:coreProperties>
</file>