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AC3-DA6D-42EB-BC0A-81FBCD81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EA2-34C8-44A0-BB3C-D50330A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10C-DA9D-4A3C-ABCB-32B903BB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E40-7C08-482A-A648-A62F10AE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30E-4B80-4C0E-BEBA-A376358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32E-33C7-4E95-9879-48DC2AAD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4E5-2FC9-4A8D-B004-4667FDF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72B9-4800-48F6-A3BA-453FBC84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6B5A-AB6D-4846-9DDC-92B70A3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377-ED98-44C1-A6A5-810F576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3F5-0E14-45D8-AE50-130E544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157-B8DE-412E-B020-2D8DADC7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8A3F-9815-46E8-8C82-37536BA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4ED-7DCE-440F-8A6F-62314B1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61A-8918-4EF6-BDF6-D4118F7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136C-3B66-4EC8-951A-4EED7848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919-E90F-4E38-88D0-66CEF3D0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64AF-C6AA-459C-90D6-CCCB6292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A286-9D3E-4976-8735-E0B3F2F6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0088-0FE6-4534-984D-F1489F0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3103-F5E5-4FEA-990C-FF2649C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40AD-B1D8-4436-8674-34453E0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44B-F70E-4DAC-972A-E36C7627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2306-D657-4287-9758-F116BEA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6574-31B8-40FF-9856-3D75CE3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241C-7061-44ED-A240-5FC4ADB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068B-2052-439F-B4BB-8FE0B0F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F8E3-2FF2-4BC0-B0F5-C3CAC8F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77F0-10D8-4026-85E5-081C00D2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2CC5-FA7B-43B4-8EEC-DFA47C49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EEE9-684C-43F0-A95A-FC0C3DF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ED78-0082-4BFC-94CA-7B7D003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AFA9A-1FD0-4299-BD37-38911F09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347-F822-44FB-8632-785750D6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84DA-1BE5-4ED3-BF99-3573A03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96F4-8214-4D70-88AB-B539C50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FB3E-68AE-4872-B9A8-707CBB6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79ED-C1A1-444D-BF83-666F32E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DEA4-F328-417B-BCF5-6F28802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DC27-5CB7-4284-B12E-53A3C39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25E7-BC41-4FA2-9FB3-5CC9EC4A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EC68-831F-4A3A-A539-FE803B68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2002-B131-40AA-8914-3CA6EA6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A610-1646-480B-B101-341E6704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0FC-142D-4C37-82CF-F65EDD7A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6C33-5A2B-4B53-A6E9-E5E8A0F3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5013-5FE0-49F0-94B5-05D7F0D6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AB48-CE3B-4ABD-8CE5-B23ED6B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A6B3-E06F-4F2E-967C-457FB56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3E90-32A2-47DD-B89B-CAD9906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FD3B-306F-467E-8548-FA042C5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F6BD-849B-4C09-B75D-30A6939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4A66-98D7-47CD-90F6-8A70BB7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F530-3F75-4CEE-A514-0453B47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CFDD-6DCE-47C2-84C2-63372774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7CF-A9E7-4178-A33A-4E17E7B2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EFE4-AA1D-46C1-8C5B-D32764D9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76B-F94A-43A1-A9CF-AA30DA1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10A-B036-41A7-97FC-681869D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652-2D71-46CE-8C31-3A11661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8786-5209-467D-B64E-1819A92DD622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91E-EC0A-40ED-ACD5-FFE39DC12101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613A-82D0-4AAF-9213-812AC83989F7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BD78-81BF-448C-B1E6-05C466644F35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cecec">
              <a:alpha val="33000"/>
            </a:srgbClr>
          </a:solidFill>
          <a:ln cap="rnd" w="324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bcbcb"/>
            </a:solidFill>
            <a:miter/>
          </a:ln>
          <a:effectLst>
            <a:outerShdw dist="12600" dir="5400000" blurRad="0" rotWithShape="0">
              <a:srgbClr val="3f3f3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5c1e55"/>
          </a:solidFill>
          <a:ln w="0">
            <a:noFill/>
          </a:ln>
          <a:effectLst>
            <a:outerShdw dist="38160" dir="10800000" blurRad="0" rotWithShape="0">
              <a:srgbClr val="27272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555555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59595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7C03-8010-46F7-90E3-DB706A58D1D9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8627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УГА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ЛАНТ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58" name="Picture 2" descr="C:\Documents and Settings\User\Рабочий стол\РАДУГА.   3 jpg.jpg"/>
          <p:cNvPicPr/>
          <p:nvPr/>
        </p:nvPicPr>
        <p:blipFill>
          <a:blip r:embed="rId1"/>
          <a:stretch/>
        </p:blipFill>
        <p:spPr>
          <a:xfrm>
            <a:off x="1000080" y="207180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>
            <a:off x="6572160" y="2857680"/>
            <a:ext cx="2571840" cy="18637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"/>
          <p:cNvSpPr/>
          <p:nvPr/>
        </p:nvSpPr>
        <p:spPr>
          <a:xfrm>
            <a:off x="1071720" y="388800"/>
            <a:ext cx="5500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стоки способностей и дарования детей - на кончиках пальцев. От пальцев, образно говоря, идут тончайшие нити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ручейки, которые питают источник творческой мысли. Другими словами, чем больше мастерства в детской руке, тем умнее ребёнок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 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Выноска-облако 4"/>
          <p:cNvSpPr/>
          <p:nvPr/>
        </p:nvSpPr>
        <p:spPr>
          <a:xfrm>
            <a:off x="4071960" y="1571760"/>
            <a:ext cx="4286160" cy="4429080"/>
          </a:xfrm>
          <a:prstGeom prst="cloudCallout">
            <a:avLst>
              <a:gd name="adj1" fmla="val -72388"/>
              <a:gd name="adj2" fmla="val 14157"/>
            </a:avLst>
          </a:prstGeom>
          <a:solidFill>
            <a:srgbClr val="c64fb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>
            <a:off x="1285920" y="357120"/>
            <a:ext cx="2571840" cy="18637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6"/>
          <p:cNvSpPr/>
          <p:nvPr/>
        </p:nvSpPr>
        <p:spPr>
          <a:xfrm>
            <a:off x="4857840" y="-188280"/>
            <a:ext cx="36432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нты трудно распозн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сякий может в них поверить                                                            Таланты надо восп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надо разви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их надо 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8" descr="й.jpg"/>
          <p:cNvPicPr/>
          <p:nvPr/>
        </p:nvPicPr>
        <p:blipFill>
          <a:blip r:embed="rId1"/>
          <a:stretch/>
        </p:blipFill>
        <p:spPr>
          <a:xfrm>
            <a:off x="1054080" y="98100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85" name="Выноска-облако 4"/>
          <p:cNvSpPr/>
          <p:nvPr/>
        </p:nvSpPr>
        <p:spPr>
          <a:xfrm>
            <a:off x="2714760" y="642960"/>
            <a:ext cx="5929200" cy="6215040"/>
          </a:xfrm>
          <a:prstGeom prst="cloudCallout">
            <a:avLst>
              <a:gd name="adj1" fmla="val -85703"/>
              <a:gd name="adj2" fmla="val 26148"/>
            </a:avLst>
          </a:prstGeom>
          <a:solidFill>
            <a:srgbClr val="c64fb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572000" y="1001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429000" y="137592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здесь, в нашем зале – лучшие из лучш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те, кто славится учебными достиж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те, кто, не жалея себя на беговых дорожках и игровых площадках, завоёвывает призы и мед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, кто дарит свой талант, своё творчество, своё искусство благодарным зр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142640" y="285480"/>
            <a:ext cx="80010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регите друг друга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лотой согревайте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гите друг друга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жать не давайте!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гите друг друга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ету позабудьте,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минуты досуга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ом вместе побудьте! »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357200" y="33840"/>
            <a:ext cx="74296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Как здорово что все мы здесь сегодня собралис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гиб гитары желтой ты обнимешь не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на осколком эха пронзит тугую вы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нется купол неба, большой и звездно-снежны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нется купол неба, большой и звездно-снежны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тблеск от заката, костер меж со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яш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 что грустишь, бродяга? А ну-ка, улыбн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то-то очень близкий тебе тихонько скаж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дорово, что все мы здесь сегодня собр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кто-то очень близкий тебе  тихонько скаж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 здорово,  что все мы здесь  сегодня собрали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Содержимое 3" descr="картинка-8.jpg"/>
          <p:cNvPicPr/>
          <p:nvPr/>
        </p:nvPicPr>
        <p:blipFill>
          <a:blip r:embed="rId1"/>
          <a:stretch/>
        </p:blipFill>
        <p:spPr>
          <a:xfrm>
            <a:off x="835200" y="1566720"/>
            <a:ext cx="8046720" cy="9461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0056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499760" y="1714680"/>
            <a:ext cx="7434360" cy="49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Выноска-облако 7"/>
          <p:cNvSpPr/>
          <p:nvPr/>
        </p:nvSpPr>
        <p:spPr>
          <a:xfrm rot="21344400">
            <a:off x="1323720" y="255600"/>
            <a:ext cx="7000920" cy="321480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643120" y="1150920"/>
            <a:ext cx="44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ишком много на свете людей, которым никто не помог пробудиться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.  Экзюп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1028800">
            <a:off x="5857560" y="4500360"/>
            <a:ext cx="2571840" cy="18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8" descr="й.jpg"/>
          <p:cNvPicPr/>
          <p:nvPr/>
        </p:nvPicPr>
        <p:blipFill>
          <a:blip r:embed="rId1"/>
          <a:stretch/>
        </p:blipFill>
        <p:spPr>
          <a:xfrm>
            <a:off x="1195560" y="407880"/>
            <a:ext cx="2023920" cy="23716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3357720" y="667080"/>
            <a:ext cx="528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бб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увлечень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и препровожден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-то марки собир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цветочки поли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смелый ходит в г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а даче у заб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блоневый сад саж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нью тот с урожа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лекайтесь, не лените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имайтесь и труд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Выноска-облако 7"/>
          <p:cNvSpPr/>
          <p:nvPr/>
        </p:nvSpPr>
        <p:spPr>
          <a:xfrm rot="20907600">
            <a:off x="1428480" y="642960"/>
            <a:ext cx="6357960" cy="400032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 rot="20997000">
            <a:off x="2170080" y="768960"/>
            <a:ext cx="4821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научный сотрудник с докладом  про св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лече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У ВСЕ ЗНАТЬ!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»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р  Зубчен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0964000">
            <a:off x="6357960" y="4428720"/>
            <a:ext cx="2571840" cy="20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Выноска-облако 7"/>
          <p:cNvSpPr/>
          <p:nvPr/>
        </p:nvSpPr>
        <p:spPr>
          <a:xfrm>
            <a:off x="1428840" y="0"/>
            <a:ext cx="6357960" cy="5786280"/>
          </a:xfrm>
          <a:prstGeom prst="cloudCallout">
            <a:avLst>
              <a:gd name="adj1" fmla="val 11495"/>
              <a:gd name="adj2" fmla="val 88541"/>
            </a:avLst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\\Ptr-srv2\курсовая подготовка\Утренние группы\логопеды\Картинки логопедия\212115455.gif"/>
          <p:cNvPicPr/>
          <p:nvPr/>
        </p:nvPicPr>
        <p:blipFill>
          <a:blip r:embed="rId1"/>
          <a:stretch/>
        </p:blipFill>
        <p:spPr>
          <a:xfrm rot="20964000">
            <a:off x="6357960" y="4428720"/>
            <a:ext cx="2571840" cy="2071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"/>
          <p:cNvSpPr/>
          <p:nvPr/>
        </p:nvSpPr>
        <p:spPr>
          <a:xfrm>
            <a:off x="2500200" y="732240"/>
            <a:ext cx="471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счастье, любовь и удач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летом поездки на дач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праздник, семейные да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, покупки, приятные тра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жденье детей, первый шаг, первый леп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чты о хорошем, волненье и треп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труд, друг о друге забо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много домашней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ва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сло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счастливо жить одному невозмож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Выноска-облако 4"/>
          <p:cNvSpPr/>
          <p:nvPr/>
        </p:nvSpPr>
        <p:spPr>
          <a:xfrm rot="828000">
            <a:off x="4191120" y="1609560"/>
            <a:ext cx="5000400" cy="400068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 rot="1018800">
            <a:off x="4704840" y="1811160"/>
            <a:ext cx="403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умеют наши ру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е знают ску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ут! клеят, вяжут, шь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е устаю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Выноска-облако 4"/>
          <p:cNvSpPr/>
          <p:nvPr/>
        </p:nvSpPr>
        <p:spPr>
          <a:xfrm rot="828000">
            <a:off x="3924360" y="1351080"/>
            <a:ext cx="5257800" cy="455760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эт, художник, музыкан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и сразу не родя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юбом из нас зарыт талан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шь стоит только покопаться.                              Серв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Выноска-облако 4"/>
          <p:cNvSpPr/>
          <p:nvPr/>
        </p:nvSpPr>
        <p:spPr>
          <a:xfrm rot="828000">
            <a:off x="3924360" y="1351080"/>
            <a:ext cx="5257800" cy="4557600"/>
          </a:xfrm>
          <a:prstGeom prst="cloudCallout">
            <a:avLst>
              <a:gd name="adj1" fmla="val -102333"/>
              <a:gd name="adj2" fmla="val 1902"/>
            </a:avLst>
          </a:prstGeom>
          <a:solidFill>
            <a:srgbClr val="637f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8" descr="й.jpg"/>
          <p:cNvPicPr/>
          <p:nvPr/>
        </p:nvPicPr>
        <p:blipFill>
          <a:blip r:embed="rId1"/>
          <a:stretch/>
        </p:blipFill>
        <p:spPr>
          <a:xfrm>
            <a:off x="1054080" y="-19080"/>
            <a:ext cx="2023920" cy="2365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4357800" y="1975680"/>
            <a:ext cx="44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дагог: творец и многогранник, с истоками добра, теплом ду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 руку  с ней в страну познаний шагают без сомненья малы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детских душ таинственных и хрупких шедевр неповторимый соз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rcRect l="0" t="0" r="0" b="22507"/>
          <a:stretch/>
        </p:blipFill>
        <p:spPr>
          <a:xfrm>
            <a:off x="1332000" y="907920"/>
            <a:ext cx="734364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1:06:21Z</dcterms:created>
  <dc:creator>Юли</dc:creator>
  <dc:description/>
  <dc:language>en-US</dc:language>
  <cp:lastModifiedBy>Пользователь</cp:lastModifiedBy>
  <dcterms:modified xsi:type="dcterms:W3CDTF">2015-09-02T11:37:23Z</dcterms:modified>
  <cp:revision>197</cp:revision>
  <dc:subject/>
  <dc:title>Слайд 1</dc:title>
</cp:coreProperties>
</file>