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64B-1C32-408E-9B82-2EAA2D5E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AFA8-95EC-4E83-8333-649AEE05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C116-1835-4401-B63D-503021AE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E9D9-F4BB-4EAB-870B-E3D098EE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3A3A-8974-42EB-BE31-A8F440DA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407D-CF96-4229-BF8A-16E0EAD8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E191-77B5-4E0B-B6BA-0E5DDD4C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F25D-C52A-4DD3-901F-B79562CA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4B6E-C57B-4225-A399-F7FAC024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DF48-C8E1-4223-81DC-EE051FEA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E99A-CD53-44EE-94ED-7869BA35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15CD-D52B-43B9-8AFE-FE90A304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B2D5-967E-429B-9588-67D8F82F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6100-6682-4CC6-93E9-CC068373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6B38-5FAA-41DE-874D-88CEEC5E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C576-8C4B-4D5A-B962-7A8AE7D4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31BE-86C7-4EAA-916C-31BC4B93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18B11-E07A-4CC6-AF3C-F794ECC6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67F7D-382D-4356-BA79-CC246568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EBE59-4704-460D-9F40-ADA3DD61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EA367-A0AA-4E49-BCA6-4C01FFC2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F44BE-BD57-4BBE-9E64-C492C553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409-5805-4041-8335-9B81F144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9E0C9-0397-4218-990C-2A3F80A1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9A1C4-BAF6-49EE-9CA7-AB98E0A2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94B86-D4BC-4F9F-A3AC-1BC02C41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C871C-D127-4133-8985-3F99252F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7D0D8-9215-472E-A9A5-FEC4AA46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80C38-EC24-4888-B4C3-2560F2C1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F9165-4C03-4522-9650-C4787FB8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70A10-739B-4B58-BA24-8C9510D5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F3A43-AE1E-4F4A-9576-173D9921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09174-C08A-46B5-9A7A-85D6B098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DFCF-E6E6-4509-BABA-4D1F8845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9ED89-A67C-4706-9AA9-E2FB91D0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07755-01F3-4335-ABC0-CC3E387A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80B71-87EA-46B1-B1E6-AC703EC5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FBC85-D854-4246-8641-E5F3C9DE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F55AD-38ED-4C9D-92DE-6F1CD50B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197E0-62BB-4846-A4A6-31D58333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466B2-0FBC-467D-9D0E-26D2CD26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D7896-0FB1-4534-B91D-43976505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FA224-7BCB-41CD-A46F-D35CA22B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CBE03-DF4D-4813-8372-72E58F9C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C7BC-79BE-42AF-843D-4047DAC7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2F7A5-18A2-4ED9-9692-8447C678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1C09D-1633-4ED3-883B-20412B59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A05E7-59DF-48F4-88E7-6F8AEF18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1C87A-EA80-4B4B-9A65-18F16397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1CACF-08BD-4960-9F30-39348E5A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BE28B-163D-4327-AA7A-13ECAF01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EC493-002F-419F-8C7E-490F7FB5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A4B06-4395-4D4B-A4CD-6CCD2DA0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5FF53-74B8-472B-A907-9A11B7C8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EF1B4-B995-43E5-B77E-0F12B2BA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AB8A-6C73-4E19-B03B-6C385197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50D26-7E2D-4CFB-B5AA-DE1D2957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6C82-4A1F-45DF-8249-FD2B8021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2FAA-1B22-4646-82D2-2A12D380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9ADE-7A1F-4FFB-AADE-3327F37D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cecec">
              <a:alpha val="33000"/>
            </a:srgbClr>
          </a:solidFill>
          <a:ln cap="rnd" w="324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cbcbcb"/>
            </a:solidFill>
            <a:miter/>
          </a:ln>
          <a:effectLst>
            <a:outerShdw dist="12600" dir="5400000" blurRad="0" rotWithShape="0">
              <a:srgbClr val="3f3f3f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CFEA-C75A-4C1B-BEB0-826098CB0660}" type="slidenum">
              <a:rPr b="0" lang="ru-RU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  <a:effectLst>
            <a:outerShdw dist="38160" dir="10800000" blurRad="0" rotWithShape="0">
              <a:srgbClr val="27272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cecec">
              <a:alpha val="33000"/>
            </a:srgbClr>
          </a:solidFill>
          <a:ln cap="rnd" w="324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cbcbcb"/>
            </a:solidFill>
            <a:miter/>
          </a:ln>
          <a:effectLst>
            <a:outerShdw dist="12600" dir="5400000" blurRad="0" rotWithShape="0">
              <a:srgbClr val="3f3f3f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  <a:effectLst>
            <a:outerShdw dist="38160" dir="10800000" blurRad="0" rotWithShape="0">
              <a:srgbClr val="27272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423B-2488-4F67-909F-59181FA25D48}" type="slidenum">
              <a:rPr b="0" lang="ru-RU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cecec">
              <a:alpha val="33000"/>
            </a:srgbClr>
          </a:solidFill>
          <a:ln cap="rnd" w="324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cbcbcb"/>
            </a:solidFill>
            <a:miter/>
          </a:ln>
          <a:effectLst>
            <a:outerShdw dist="12600" dir="5400000" blurRad="0" rotWithShape="0">
              <a:srgbClr val="3f3f3f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  <a:effectLst>
            <a:outerShdw dist="38160" dir="10800000" blurRad="0" rotWithShape="0">
              <a:srgbClr val="27272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  <a:effectLst>
            <a:outerShdw dist="38160" dir="10800000" blurRad="0" rotWithShape="0">
              <a:srgbClr val="27272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F95E-9E58-45D9-84A5-F8B9F0577341}" type="slidenum">
              <a:rPr b="0" lang="ru-RU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cecec">
              <a:alpha val="33000"/>
            </a:srgbClr>
          </a:solidFill>
          <a:ln cap="rnd" w="324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cbcbcb"/>
            </a:solidFill>
            <a:miter/>
          </a:ln>
          <a:effectLst>
            <a:outerShdw dist="12600" dir="5400000" blurRad="0" rotWithShape="0">
              <a:srgbClr val="3f3f3f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  <a:effectLst>
            <a:outerShdw dist="38160" dir="10800000" blurRad="0" rotWithShape="0">
              <a:srgbClr val="27272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  <a:effectLst>
            <a:outerShdw dist="38160" dir="10800000" blurRad="0" rotWithShape="0">
              <a:srgbClr val="27272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EFBB-D887-4257-B4E8-E6EA47773287}" type="slidenum">
              <a:rPr b="0" lang="ru-RU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cecec">
              <a:alpha val="33000"/>
            </a:srgbClr>
          </a:solidFill>
          <a:ln cap="rnd" w="324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cbcbcb"/>
            </a:solidFill>
            <a:miter/>
          </a:ln>
          <a:effectLst>
            <a:outerShdw dist="12600" dir="5400000" blurRad="0" rotWithShape="0">
              <a:srgbClr val="3f3f3f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  <a:effectLst>
            <a:outerShdw dist="38160" dir="10800000" blurRad="0" rotWithShape="0">
              <a:srgbClr val="27272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555555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59595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CCE7-5F64-4F70-B907-2B6312059861}" type="slidenum">
              <a:rPr b="0" lang="ru-RU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86276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ДУГА</a:t>
            </a:r>
            <a:br>
              <a:rPr sz="6000"/>
            </a:b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ЛАНТОВ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58" name="Picture 2" descr="C:\Documents and Settings\User\Рабочий стол\РАДУГА.   3 jpg.jpg"/>
          <p:cNvPicPr/>
          <p:nvPr/>
        </p:nvPicPr>
        <p:blipFill>
          <a:blip r:embed="rId1"/>
          <a:stretch/>
        </p:blipFill>
        <p:spPr>
          <a:xfrm>
            <a:off x="1000080" y="2071800"/>
            <a:ext cx="8143920" cy="45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" descr="\\Ptr-srv2\курсовая подготовка\Утренние группы\логопеды\Картинки логопедия\212115455.gif"/>
          <p:cNvPicPr/>
          <p:nvPr/>
        </p:nvPicPr>
        <p:blipFill>
          <a:blip r:embed="rId1"/>
          <a:stretch/>
        </p:blipFill>
        <p:spPr>
          <a:xfrm>
            <a:off x="6572160" y="2857680"/>
            <a:ext cx="2571840" cy="186372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1"/>
          <p:cNvSpPr/>
          <p:nvPr/>
        </p:nvSpPr>
        <p:spPr>
          <a:xfrm>
            <a:off x="1071720" y="388800"/>
            <a:ext cx="5500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«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стоки способностей и дарования детей - на кончиках пальцев. От пальцев, образно говоря, идут тончайшие нити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–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ручейки, которые питают источник творческой мысли. Другими словами, чем больше мастерства в детской руке, тем умнее ребёнок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»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 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.А.Сухомли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Выноска-облако 4"/>
          <p:cNvSpPr/>
          <p:nvPr/>
        </p:nvSpPr>
        <p:spPr>
          <a:xfrm>
            <a:off x="4071960" y="1571760"/>
            <a:ext cx="4286160" cy="4429080"/>
          </a:xfrm>
          <a:prstGeom prst="cloudCallout">
            <a:avLst>
              <a:gd name="adj1" fmla="val -72388"/>
              <a:gd name="adj2" fmla="val 14157"/>
            </a:avLst>
          </a:prstGeom>
          <a:solidFill>
            <a:srgbClr val="c64fb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1" descr="\\Ptr-srv2\курсовая подготовка\Утренние группы\логопеды\Картинки логопедия\212115455.gif"/>
          <p:cNvPicPr/>
          <p:nvPr/>
        </p:nvPicPr>
        <p:blipFill>
          <a:blip r:embed="rId1"/>
          <a:stretch/>
        </p:blipFill>
        <p:spPr>
          <a:xfrm>
            <a:off x="1285920" y="357120"/>
            <a:ext cx="2571840" cy="18637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6"/>
          <p:cNvSpPr/>
          <p:nvPr/>
        </p:nvSpPr>
        <p:spPr>
          <a:xfrm>
            <a:off x="4857840" y="-188280"/>
            <a:ext cx="364320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ланты трудно распозн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всякий может в них поверить                                                            Таланты надо воспит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х надо развива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их надо вер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75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Рисунок 8" descr="й.jpg"/>
          <p:cNvPicPr/>
          <p:nvPr/>
        </p:nvPicPr>
        <p:blipFill>
          <a:blip r:embed="rId1"/>
          <a:stretch/>
        </p:blipFill>
        <p:spPr>
          <a:xfrm>
            <a:off x="1054080" y="981000"/>
            <a:ext cx="2023920" cy="2365560"/>
          </a:xfrm>
          <a:prstGeom prst="rect">
            <a:avLst/>
          </a:prstGeom>
          <a:ln w="0">
            <a:noFill/>
          </a:ln>
        </p:spPr>
      </p:pic>
      <p:sp>
        <p:nvSpPr>
          <p:cNvPr id="285" name="Выноска-облако 4"/>
          <p:cNvSpPr/>
          <p:nvPr/>
        </p:nvSpPr>
        <p:spPr>
          <a:xfrm>
            <a:off x="2714760" y="642960"/>
            <a:ext cx="5929200" cy="6215040"/>
          </a:xfrm>
          <a:prstGeom prst="cloudCallout">
            <a:avLst>
              <a:gd name="adj1" fmla="val -85703"/>
              <a:gd name="adj2" fmla="val 26148"/>
            </a:avLst>
          </a:prstGeom>
          <a:solidFill>
            <a:srgbClr val="c64fb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4572000" y="10011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3429000" y="1375920"/>
            <a:ext cx="464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годня здесь, в нашем зале – лучшие из лучш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есь те, кто славится учебными достижен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есь те, кто, не жалея себя на беговых дорожках и игровых площадках, завоёвывает призы и меда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, кто дарит свой талант, своё творчество, своё искусство благодарным зрител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142640" y="285480"/>
            <a:ext cx="80010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ерегите друг друга!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плотой согревайте!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регите друг друга,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ижать не давайте!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регите друг друга,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ету позабудьте,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 минуты досуга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дом вместе побудьте! »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"/>
          <p:cNvSpPr/>
          <p:nvPr/>
        </p:nvSpPr>
        <p:spPr>
          <a:xfrm>
            <a:off x="1357200" y="33840"/>
            <a:ext cx="742968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 Как здорово что все мы здесь сегодня собралис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гиб гитары желтой ты обнимешь неж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на осколком эха пронзит тугую вы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чнется купол неба, большой и звездно-снежный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дорово, что все мы здесь сегодня собрали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чнется купол неба, большой и звездно-снежный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дорово, что все мы здесь сегодня собралис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отблеск от заката, костер меж сос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яш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ы что грустишь, бродяга? А ну-ка, улыбнис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кто-то очень близкий тебе тихонько скаж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дорово, что все мы здесь сегодня собрали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кто-то очень близкий тебе  тихонько скаж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 здорово,  что все мы здесь  сегодня собралис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Содержимое 3" descr="картинка-8.jpg"/>
          <p:cNvPicPr/>
          <p:nvPr/>
        </p:nvPicPr>
        <p:blipFill>
          <a:blip r:embed="rId1"/>
          <a:stretch/>
        </p:blipFill>
        <p:spPr>
          <a:xfrm>
            <a:off x="835200" y="1566720"/>
            <a:ext cx="8046720" cy="94615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800568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АСИБО </a:t>
            </a:r>
            <a:br>
              <a:rPr sz="6000"/>
            </a:b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ВНИМАНИЕ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1499760" y="1714680"/>
            <a:ext cx="7434360" cy="4929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Выноска-облако 7"/>
          <p:cNvSpPr/>
          <p:nvPr/>
        </p:nvSpPr>
        <p:spPr>
          <a:xfrm rot="21344400">
            <a:off x="1323720" y="255600"/>
            <a:ext cx="7000920" cy="3214800"/>
          </a:xfrm>
          <a:prstGeom prst="cloudCallout">
            <a:avLst>
              <a:gd name="adj1" fmla="val 11495"/>
              <a:gd name="adj2" fmla="val 88541"/>
            </a:avLst>
          </a:pr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2643120" y="1150920"/>
            <a:ext cx="442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«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лишком много на свете людей, которым никто не помог пробудиться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А.  Экзюпе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1" descr="\\Ptr-srv2\курсовая подготовка\Утренние группы\логопеды\Картинки логопедия\212115455.gif"/>
          <p:cNvPicPr/>
          <p:nvPr/>
        </p:nvPicPr>
        <p:blipFill>
          <a:blip r:embed="rId1"/>
          <a:stretch/>
        </p:blipFill>
        <p:spPr>
          <a:xfrm rot="21028800">
            <a:off x="5857560" y="4500360"/>
            <a:ext cx="2571840" cy="186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75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8" descr="й.jpg"/>
          <p:cNvPicPr/>
          <p:nvPr/>
        </p:nvPicPr>
        <p:blipFill>
          <a:blip r:embed="rId1"/>
          <a:stretch/>
        </p:blipFill>
        <p:spPr>
          <a:xfrm>
            <a:off x="1195560" y="407880"/>
            <a:ext cx="2023920" cy="237168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"/>
          <p:cNvSpPr/>
          <p:nvPr/>
        </p:nvSpPr>
        <p:spPr>
          <a:xfrm>
            <a:off x="3357720" y="667080"/>
            <a:ext cx="5286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бби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то увлечень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емени препровождень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-то марки собирае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цветочки полив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ый смелый ходит в го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на даче у заб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блоневый сад сажае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нью тот с урожа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лекайтесь, не ленитес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нимайтесь и трудитес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Выноска-облако 7"/>
          <p:cNvSpPr/>
          <p:nvPr/>
        </p:nvSpPr>
        <p:spPr>
          <a:xfrm rot="20907600">
            <a:off x="1428480" y="642960"/>
            <a:ext cx="6357960" cy="4000320"/>
          </a:xfrm>
          <a:prstGeom prst="cloudCallout">
            <a:avLst>
              <a:gd name="adj1" fmla="val 11495"/>
              <a:gd name="adj2" fmla="val 88541"/>
            </a:avLst>
          </a:pr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"/>
          <p:cNvSpPr/>
          <p:nvPr/>
        </p:nvSpPr>
        <p:spPr>
          <a:xfrm rot="20997000">
            <a:off x="2170080" y="768960"/>
            <a:ext cx="48211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ший научный сотрудник с докладом  про свое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лечение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ЧУ ВСЕ ЗНАТЬ!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»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ор  Зубченк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1" descr="\\Ptr-srv2\курсовая подготовка\Утренние группы\логопеды\Картинки логопедия\212115455.gif"/>
          <p:cNvPicPr/>
          <p:nvPr/>
        </p:nvPicPr>
        <p:blipFill>
          <a:blip r:embed="rId1"/>
          <a:stretch/>
        </p:blipFill>
        <p:spPr>
          <a:xfrm rot="20964000">
            <a:off x="6357960" y="4428720"/>
            <a:ext cx="2571840" cy="207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Выноска-облако 7"/>
          <p:cNvSpPr/>
          <p:nvPr/>
        </p:nvSpPr>
        <p:spPr>
          <a:xfrm>
            <a:off x="1428840" y="0"/>
            <a:ext cx="6357960" cy="5786280"/>
          </a:xfrm>
          <a:prstGeom prst="cloudCallout">
            <a:avLst>
              <a:gd name="adj1" fmla="val 11495"/>
              <a:gd name="adj2" fmla="val 88541"/>
            </a:avLst>
          </a:pr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" descr="\\Ptr-srv2\курсовая подготовка\Утренние группы\логопеды\Картинки логопедия\212115455.gif"/>
          <p:cNvPicPr/>
          <p:nvPr/>
        </p:nvPicPr>
        <p:blipFill>
          <a:blip r:embed="rId1"/>
          <a:stretch/>
        </p:blipFill>
        <p:spPr>
          <a:xfrm rot="20964000">
            <a:off x="6357960" y="4428720"/>
            <a:ext cx="2571840" cy="207180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"/>
          <p:cNvSpPr/>
          <p:nvPr/>
        </p:nvSpPr>
        <p:spPr>
          <a:xfrm>
            <a:off x="2500200" y="732240"/>
            <a:ext cx="4714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ья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то счастье, любовь и удач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ья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то летом поездки на дач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ья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то праздник, семейные дат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арки, покупки, приятные трат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жденье детей, первый шаг, первый лепе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чты о хорошем, волненье и трепе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ья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то труд, друг о друге забот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ья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то много домашней работ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ья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то важно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ья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то сложно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счастливо жить одному невозможно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75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Выноска-облако 4"/>
          <p:cNvSpPr/>
          <p:nvPr/>
        </p:nvSpPr>
        <p:spPr>
          <a:xfrm rot="828000">
            <a:off x="4191120" y="1609560"/>
            <a:ext cx="5000400" cy="4000680"/>
          </a:xfrm>
          <a:prstGeom prst="cloudCallout">
            <a:avLst>
              <a:gd name="adj1" fmla="val -102333"/>
              <a:gd name="adj2" fmla="val 1902"/>
            </a:avLst>
          </a:prstGeom>
          <a:solidFill>
            <a:srgbClr val="637f2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Рисунок 8" descr="й.jpg"/>
          <p:cNvPicPr/>
          <p:nvPr/>
        </p:nvPicPr>
        <p:blipFill>
          <a:blip r:embed="rId1"/>
          <a:stretch/>
        </p:blipFill>
        <p:spPr>
          <a:xfrm>
            <a:off x="1054080" y="-19080"/>
            <a:ext cx="2023920" cy="23655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5"/>
          <p:cNvSpPr/>
          <p:nvPr/>
        </p:nvSpPr>
        <p:spPr>
          <a:xfrm rot="1018800">
            <a:off x="4704840" y="1811160"/>
            <a:ext cx="4030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умеют наши рук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гда не знают скук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жут! клеят, вяжут, шью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гда не устаю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Выноска-облако 4"/>
          <p:cNvSpPr/>
          <p:nvPr/>
        </p:nvSpPr>
        <p:spPr>
          <a:xfrm rot="828000">
            <a:off x="3924360" y="1351080"/>
            <a:ext cx="5257800" cy="4557600"/>
          </a:xfrm>
          <a:prstGeom prst="cloudCallout">
            <a:avLst>
              <a:gd name="adj1" fmla="val -102333"/>
              <a:gd name="adj2" fmla="val 1902"/>
            </a:avLst>
          </a:prstGeom>
          <a:solidFill>
            <a:srgbClr val="637f2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эт, художник, музыкант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ими сразу не родя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любом из нас зарыт талант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шь стоит только покопаться.                              Серву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Рисунок 8" descr="й.jpg"/>
          <p:cNvPicPr/>
          <p:nvPr/>
        </p:nvPicPr>
        <p:blipFill>
          <a:blip r:embed="rId1"/>
          <a:stretch/>
        </p:blipFill>
        <p:spPr>
          <a:xfrm>
            <a:off x="1054080" y="-19080"/>
            <a:ext cx="2023920" cy="2365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Выноска-облако 4"/>
          <p:cNvSpPr/>
          <p:nvPr/>
        </p:nvSpPr>
        <p:spPr>
          <a:xfrm rot="828000">
            <a:off x="3924360" y="1351080"/>
            <a:ext cx="5257800" cy="4557600"/>
          </a:xfrm>
          <a:prstGeom prst="cloudCallout">
            <a:avLst>
              <a:gd name="adj1" fmla="val -102333"/>
              <a:gd name="adj2" fmla="val 1902"/>
            </a:avLst>
          </a:prstGeom>
          <a:solidFill>
            <a:srgbClr val="637f2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Рисунок 8" descr="й.jpg"/>
          <p:cNvPicPr/>
          <p:nvPr/>
        </p:nvPicPr>
        <p:blipFill>
          <a:blip r:embed="rId1"/>
          <a:stretch/>
        </p:blipFill>
        <p:spPr>
          <a:xfrm>
            <a:off x="1054080" y="-19080"/>
            <a:ext cx="2023920" cy="236556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"/>
          <p:cNvSpPr/>
          <p:nvPr/>
        </p:nvSpPr>
        <p:spPr>
          <a:xfrm>
            <a:off x="4357800" y="1975680"/>
            <a:ext cx="442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а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едагог: творец и многогранник, с истоками добра, теплом душ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за руку  с ней в страну познаний шагают без сомненья малыш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детских душ таинственных и хрупких шедевр неповторимый созд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rcRect l="0" t="0" r="0" b="22507"/>
          <a:stretch/>
        </p:blipFill>
        <p:spPr>
          <a:xfrm>
            <a:off x="1332000" y="907920"/>
            <a:ext cx="7343640" cy="463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1:06:21Z</dcterms:created>
  <dc:creator>Юли</dc:creator>
  <dc:description/>
  <dc:language>en-US</dc:language>
  <cp:lastModifiedBy>Пользователь</cp:lastModifiedBy>
  <dcterms:modified xsi:type="dcterms:W3CDTF">2015-09-02T11:37:23Z</dcterms:modified>
  <cp:revision>197</cp:revision>
  <dc:subject/>
  <dc:title>Слайд 1</dc:title>
</cp:coreProperties>
</file>