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68B-2054-4DE2-B5BB-9B6E6EE7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DC8-A699-4417-BFA1-BF6F019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7CEC-3D51-4C9A-879D-758CB515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5714-FD6F-4E13-99D6-8A87AC8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C6C7-0300-425A-BCB5-59A07BC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8EBDB-C4F5-4759-AFC9-F453FA8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C4F86-07C6-4989-8A03-E6ADF70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8E7A9-E2F1-468B-86D4-6CACFD3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6C74A-7A1D-4C0D-834A-C115FCA5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869F5-6D61-4B16-9EAB-0B3CD6C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5E9B0-5EDE-4153-AECF-9FF018AF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1DF-4FF3-453B-8230-0576B0B4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5C8-A4A0-4030-8AF9-1DB3AEAE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22D-7399-44DE-B783-B66FAFBB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3C62-B008-47A0-BEC1-55399FF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5315-58B4-4604-805C-1A0E7F8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068D-83FE-4336-956B-E17F4D26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936-7A48-47EE-B494-9BBA063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DF3-78B4-482C-B56B-5371059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91A-8F48-4D7A-89F3-BC68F17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7F1-C5B3-439A-B613-18FA2819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5CC6-7CAD-4EF7-B730-C0DB974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4AB0-5FCF-43D6-94EE-202A3C8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93F-83BB-4652-A516-E1C86ECE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A3A-FDE7-4C99-83D5-F194CEF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3AAC-894D-4B87-8A33-66D9C36B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35D7-5321-4665-B670-3003C09F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7E30-E798-44C4-8F12-3D067594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F625-D9EC-429D-8496-ACDB23B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BEE7-5EC1-4EC8-9E5B-211BAF4B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D734-2C05-40B3-A0FA-A6232BF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A8E-5977-444F-B97E-81366BC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1DFE-551B-4483-933B-8C67067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8DC7-E306-47AA-B79C-417E378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E5D2-0FB8-44B1-AFEB-C18D09A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5C2B-B9AE-40CC-AA98-FD0967A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4C6B-B07C-4F4A-8C3F-EA47F9E7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6F82-A852-4E86-A573-475582DD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128F-23AF-4C98-AA51-B564ADC4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D066-2142-4605-A390-FECF1BCA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C4A9-96F9-4319-8E4B-D3254DBC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5B1CA-5A17-46EE-A901-49CBD90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440-60EA-45C0-9052-7B129B6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2884-9A6B-40EB-A525-4E44DDD4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13FC-8090-466A-841C-F72B1CC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45B7-9D43-4EED-8634-F7E8110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1C65-854D-4212-9A25-113A829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9420-5324-452C-AC6F-4AD4569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9FE5-6498-4361-9422-495FEB6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F94C-F94C-445B-999F-D6EE124A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3B10-42E3-4753-B537-B07488F8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1017-E8E6-45E6-963A-DF62F829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5407-B134-458A-9EBF-1381D540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D1B-FBE5-4264-8554-EC4B349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7002-A65B-47F5-A5ED-011580E1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D84C-9C65-480F-B179-0856E2BB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7883-3620-4C82-AFDA-A2CD3D6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6A47-1508-47C5-AF47-E6F1996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67A1A-FF0A-4177-8F77-526C229E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5375-ADDD-4F7C-BC00-CEB9E4C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5CCA-CA98-4F50-966B-075F8DB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8C03-997D-4F02-8141-C350948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8360-0DC5-4589-A399-DADA40A6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6456-A12B-4863-B8CF-E9BD22F0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CBB-E36D-491E-B750-9C864FE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C043-7344-444A-9D01-2A4B9131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C637-A45D-4CB8-AE31-924BFD6F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701B-10C7-4F93-8790-9678944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889AD-68EA-41A9-A4C0-3C53B0B1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8BBF-4DE7-45F5-A2FF-4C8499D5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791C-3AC9-4A46-8C70-6970977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CE25-E797-495E-9727-F28C26A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35B7-2ABF-4C7F-8A5B-24AF187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B6E7-00ED-4631-843F-7018079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CCD0-7CFA-433C-B172-33415BA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E96-ADAF-429E-8DEA-9E45DD6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3430-D777-4988-BBA7-85B50976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D531-549B-4B41-AF74-43081E1C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91A3-B421-402D-B8BD-683DDDDE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9CA69-AF90-4BDE-99B3-A9DE988D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68E2-C585-425E-8ACF-588E1EC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13F4C-1E5A-4C87-B34C-3FCF74CD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3127-7853-4CB4-AE63-19BE8134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8887-6F1E-41E7-B1F8-9A40BB9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F8838-B01A-47FE-AF0C-5F9ED27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DB74-1A18-4517-8037-6E9023E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61B-B578-4CB1-A011-E5C06CA0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115C-6CD3-409D-B99E-13DFE06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5651-A4DC-4DAE-9333-BB7D7EB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512F-DDB0-4AAD-A756-28AB4A1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4C17F-749A-46DD-8BAC-69052005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740F-7A59-444F-B556-738E94E4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CB629-BB7B-403E-A21D-F2CF4C6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23F3-21CD-4883-827B-B7E04B7D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6177-27BE-42DE-B786-DAEE9CE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2536A-CA09-43FC-BD10-DA7FA98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E60E-3531-4D50-A082-FC7842D1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7D9-2CA7-4180-A449-B526B05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2275-02C2-4BBF-BF7A-7D7037E0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584C-2F60-4FAB-8CD7-8CE4E89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94F5-575D-4E44-B4C6-159F4E4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A652-BBD9-4241-B259-284ADF5A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3FB0-6EAF-47DA-B666-1271680E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D0FB-144B-4C17-95D8-5B1DCCE0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FFDB-0133-4E3A-8F11-4AC385BC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4DE15-A2AF-4692-8DEF-3DD39B45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DF9F2-4DD5-4E1D-A8B7-92B0665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FF15E-AEA7-4D00-BD97-EF1C241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696-4533-495D-9F81-CA293A0FEE8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C9D3-508E-486D-BB63-D3CA235FAB41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E31-DD4B-4A77-AEA0-94232D30266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979-050D-4846-B652-381A4187E28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12D1-7CA2-49F0-94F1-8EDE95229BF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6F4D-6B27-4886-9611-FD079FD709E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62FD-2317-4B2A-8348-2F27D054D3C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693A-4AEC-44A2-ACAA-8AE0CF4E0CF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E09-09E3-4AD5-A05F-8F293ACD67C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finwin.ru/wp-includes/js/tinymce/blue-salvia-flower-i11.jpg" TargetMode="External"/><Relationship Id="rId3" Type="http://schemas.openxmlformats.org/officeDocument/2006/relationships/hyperlink" Target="http://pisheblog.info/wp-content/uploads/2010/03/juniper.jpg" TargetMode="External"/><Relationship Id="rId4" Type="http://schemas.openxmlformats.org/officeDocument/2006/relationships/hyperlink" Target="http://shedevrs.ru/cvetovedenie/532-cvetnaya-picha.html" TargetMode="External"/><Relationship Id="rId5" Type="http://schemas.openxmlformats.org/officeDocument/2006/relationships/hyperlink" Target="http://zdoroviymir.com/images/articles/bc601c18b7632c7ee628859560320aa5/&#1073;&#1072;&#1082;&#1083;&#1072;&#1078;&#1072;&#1085;.jpg" TargetMode="External"/><Relationship Id="rId6" Type="http://schemas.openxmlformats.org/officeDocument/2006/relationships/hyperlink" Target="http://zdoroviymir.com/images/articles/bc601c18b7632c7ee628859560320aa5/&#1073;&#1072;&#1082;&#1083;&#1072;&#1078;&#1072;&#1085;.jpg" TargetMode="External"/><Relationship Id="rId7" Type="http://schemas.openxmlformats.org/officeDocument/2006/relationships/hyperlink" Target="http://zdoroviymir.com/images/articles/bc601c18b7632c7ee628859560320aa5/&#1073;&#1072;&#1082;&#1083;&#1072;&#1078;&#1072;&#1085;.jpg" TargetMode="External"/><Relationship Id="rId8" Type="http://schemas.openxmlformats.org/officeDocument/2006/relationships/hyperlink" Target="http://www.votevk.ru/uploads/posts/201201/thumbs/1327245552_800px.jpg" TargetMode="External"/><Relationship Id="rId9" Type="http://schemas.openxmlformats.org/officeDocument/2006/relationships/hyperlink" Target="http://moyhutor.net/images/ejevika2.jpg" TargetMode="External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071200" cy="2243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41440" y="1643040"/>
            <a:ext cx="8061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Franklin Gothic Book"/>
              </a:rPr>
              <a:t>«Поговорим о пользе продуктов голубого, синего и  фиолетового цвета».</a:t>
            </a:r>
            <a:endParaRPr b="0" lang="en-US" sz="6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2536920" y="5500800"/>
            <a:ext cx="63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357720" y="1285560"/>
            <a:ext cx="563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Им можно  лечить плохозаживающие открытые раны. (Нужно просто настоять в стакане воды несколько листочков базилика)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Хорошо улучшает работу желудочно-кишечного тракта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Снимает боль в горле и кашель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Помогает при повышенном давлении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Снимает жар при гриппе, обладает потогонным действием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Возвращает силы после трудной работы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Franklin Gothic Book"/>
              </a:rPr>
              <a:t>Успокаивает нервную систему;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Уничтожает зубной налет и неприятный запах изо рта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214200" y="464328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Franklin Gothic Book"/>
              </a:rPr>
              <a:t>Это базил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278604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2"/>
              </a:rPr>
              <a:t>http://finwin.ru/wp-includes/js/tinymce/blue-salvia-flower-i11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3"/>
              </a:rPr>
              <a:t>http://pisheblog.info/wp-content/uploads/2010/03/juniper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4"/>
              </a:rPr>
              <a:t>http://shedevrs.ru/cvetovedenie/532-cvetnaya-picha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5"/>
              </a:rPr>
              <a:t>http://zdoroviymir.com/images/articles/bc601c18b7632c7ee628859560320aa5/</a:t>
            </a:r>
            <a:r>
              <a:rPr b="0" lang="ru-RU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6"/>
              </a:rPr>
              <a:t>баклажан.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7"/>
              </a:rPr>
              <a:t>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8"/>
              </a:rPr>
              <a:t>http://www.votevk.ru/uploads/posts/201201/thumbs/1327245552_800px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2d700"/>
                </a:solidFill>
                <a:uFillTx/>
                <a:latin typeface="Franklin Gothic Book"/>
                <a:hlinkClick r:id="rId9"/>
              </a:rPr>
              <a:t>http://moyhutor.net/images/ejevika2.jpg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jivilegko.ru/tselebnyie-rasteniya/poleznyie-svoystva-bazilika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www.prozagadki.ru/245-zagadki-pro-slivu-dlja-detejj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edaplus.info/produce/plum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onwomen.ru/chernika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igraemirastem.ru/vozrast/do5/detskie-zagadki-s-gryadki-baklazhan-i-goroh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Franklin Gothic Book"/>
              </a:rPr>
              <a:t>http://www.inflora.ru/diet/diet316.html</a:t>
            </a:r>
            <a:r>
              <a:rPr b="0" lang="ru-RU" sz="19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4617b"/>
                </a:solidFill>
                <a:latin typeface="Franklin Gothic Book"/>
              </a:rPr>
              <a:t>http://www.inflora.ru/diet/diet344.html</a:t>
            </a:r>
            <a:r>
              <a:rPr b="0" lang="ru-RU" sz="19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ить, какую пользу для человека оказывают растения голубого, синего, фиолетового цвета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ить список растений, употребляемых в пищу, данных цветов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знакомиться с информацией о каждом растении из списка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обрать более ценные растения (признак – широкое применение)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формить о данных растениях презентацию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53036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5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Эти продукты способствуют хорошему сну и здоровому пищеварению,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гают при болезнях горла и активно борются с бактериям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357120" y="128592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Franklin Gothic Book"/>
              </a:rPr>
              <a:t>Фиолетовые продукты применяют при проблемах с нервной системой, так как они успокаивают и помогают в стрессовых ситуациях и при болезнях мочевого пуз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285840" y="14288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Голубика, черника, слива, чёрный вино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Franklin Gothic Book"/>
              </a:rPr>
              <a:t>чёрная рябина, чёрная смородина, оливки, фиолетовый базилик, баклажан, ежевика, фиолетовый базилик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44200" cy="10605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4"/>
          <p:cNvSpPr/>
          <p:nvPr/>
        </p:nvSpPr>
        <p:spPr>
          <a:xfrm>
            <a:off x="214200" y="542916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Сеть Интернет                Справочная  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420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285920"/>
            <a:ext cx="41907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за кустарник ароматный?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год вкус его приятный -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исят, как черный виноград,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 каждый пробовать их рад!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00680" y="1285560"/>
            <a:ext cx="499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вляется прекрасным средством профилактики проблем с сердечно - сосудистой системой и появления злокачественных новообразований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а способность черной смородины предупреждать развитие диабета, проблем со зрением и препятствовать ослаблению интеллектуальных способностей у пожилых людей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ется в лечении ангины, кашля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гает избавиться от пигментных пятен, веснушек и сделать кожу светлее;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ют её и для укрепления ногтей, с этой целью ее втирают в кожу вокруг ногтя и в сам ноготь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300024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2" name="TextBox 6"/>
          <p:cNvSpPr/>
          <p:nvPr/>
        </p:nvSpPr>
        <p:spPr>
          <a:xfrm>
            <a:off x="214200" y="5786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чёрная смород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560" y="1285920"/>
            <a:ext cx="41907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 листом на каждой ветке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дят маленькие детки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от, кто деток соберет,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уки вымажет и рот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7960" y="1356840"/>
            <a:ext cx="4343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ff"/>
                </a:solidFill>
                <a:uFillTx/>
                <a:latin typeface="Franklin Gothic Book"/>
              </a:rPr>
              <a:t>Польза :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отребление ягод черники может помочь в излечении заболеваний глаз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улярное употребление черники в пищу позволяет замедлить возрастные процессы и выглядеть моложе своих лет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огает очищать организм от накапливающихся в нем вредных веществ;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сахарном диабете чернику (чай из листьев) употребляют для снижения уровня сахара в крови.</a:t>
            </a:r>
            <a:endParaRPr b="0" lang="en-US" sz="2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857160" y="2928960"/>
            <a:ext cx="2643120" cy="26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7" name="TextBox 7"/>
          <p:cNvSpPr/>
          <p:nvPr/>
        </p:nvSpPr>
        <p:spPr>
          <a:xfrm>
            <a:off x="571680" y="57150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чер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2:12:22Z</dcterms:created>
  <dc:creator>Марина</dc:creator>
  <dc:description/>
  <dc:language>en-US</dc:language>
  <cp:lastModifiedBy>Марина</cp:lastModifiedBy>
  <dcterms:modified xsi:type="dcterms:W3CDTF">2015-09-09T19:35:05Z</dcterms:modified>
  <cp:revision>65</cp:revision>
  <dc:subject/>
  <dc:title>Презентация</dc:title>
</cp:coreProperties>
</file>