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C2C-B85D-4766-8947-A0E9DF83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C02-F459-4679-8D63-981BEFD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C0961-5151-4C8A-B543-DC98A7C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EBB72-F728-4EA3-BA60-A6F2D10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2FBB-498F-41F4-9B55-E14A2AF0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DCF5-4949-4583-8BC8-01B51C8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BBBBF-2C42-4EDD-B087-5295265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F0A5-608D-4437-A5B9-1654581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41738-F3CD-45E7-BA96-2FE42C47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D3D68-3A17-416C-96B1-52EBFA8F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5919E-D827-4939-9B75-0F05B57C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190-FE21-4E85-B799-D35C8922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7A1-369E-4BF6-BDC9-90D2F4EC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D31-BE6D-4E37-8E4C-F843C0FD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87CF-A733-4BDA-A065-B700EBC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357-CB1E-4B51-9DB9-E13CC8A7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AC03-B889-4AA3-A2D6-7BB7D7F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C7C1-B714-4FE1-8394-7D23B6C1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903-A9CE-4151-AF99-FCDD39B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B7D-BC2B-4A8E-8F0E-7E95897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D63-6DE4-48F6-8788-ED118D3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3D33-D01B-4E19-93D0-02F8401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AFE1-7538-457A-89FD-48DF31F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A9C6-BF06-45AB-8C76-33B648E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061D-47D3-46C3-AB8B-B4118D2A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9E1D-BD57-456E-B72B-E6DE872F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132B-389C-4B77-9731-E13E2B89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50E6-D0C5-40E1-BEF5-B47A9518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46E0-FF64-4B6C-8C95-E4919A60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9E49-058C-4786-AED1-DD41DF2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7F2E-5BE3-4BA8-A6CB-317E5D14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146-FAB2-4AC5-B9FB-5C5972F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030A-F485-496B-AD96-C822BBF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60E1-1BC1-4982-A687-D68644C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066C-A276-48FE-806C-0907542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6C0E-37BA-4D58-9231-B65BEC9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D134-DABE-4AFB-8E48-75D0C157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0CAD-97C2-48CA-A4F8-7FB44ED5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5724-1647-4353-9581-640CF919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786B-BB5E-4ED3-90E4-3C437002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195A-67B5-4255-842F-29A5202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AAFF-E536-4ED3-871F-4514A630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CEC-991B-4219-8C3A-E611B78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08E6-8D86-45FC-A078-F66E72F5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8FEB-1264-4AD9-83E4-B534F0CD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98EF-F9BA-4E88-BFEA-AD962768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46DA-4B95-4D17-82E2-BBB14992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0FBA-E0A1-4269-BBC8-F23D7D3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BC43-A0D8-4EF9-82B1-BB0F7A85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0DED-66F6-4C01-A9E7-9499102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51CB-72D8-468C-808B-00DA186D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0588-CE1C-4B40-9710-6376D021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7137-64AB-4351-9D7A-BD0EF3BB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04F-CC6C-433B-8C6F-CFADE35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6E36-292B-4ED3-BB8B-C81A5A9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8A8E-3907-4A4C-B9FB-2A110BC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6265-9700-4C7D-8C62-6CEA1CD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F374-6D3B-4BE5-BDF6-DF0C99A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C0A8-2748-4521-B4E8-4E6BED5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C7D8C-045B-4B5C-BEC0-736CD6C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056A-03BA-4B33-89AC-3EB9B37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737B-468B-443B-A78E-0E5883B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084D-C80B-43D5-9762-8B078B6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B565-79C0-4684-A6A0-ECD5E45E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4A5-00F5-4BE5-B49C-1830A7C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BE54-4AE5-47AC-B197-0902D8DE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CB3B-16C9-4CC0-82D3-9ABFC634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4CC4-03EF-4A4A-9491-A06693F3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BA0E-742B-494F-B6B8-41E7DE89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54D4-E703-458F-89EC-80611558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F948-F017-408D-B653-604BE71F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FFB8F-8700-4E03-BCF5-E8543C22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EA4C-452F-406C-A14C-17E8359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5F57-14B4-41D0-B956-6AEAE78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E0B51-3D73-4F40-8D41-CE3EAF0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7D6-F09D-4251-B754-37EE422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EF87-1223-4B02-B901-BD9C58A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6809-8F78-415E-9074-F860FCD0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ACFF-ECCC-410A-A78C-4DE41465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BDE44-3DD7-4220-A41C-5785BBDD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09DF-395A-4412-9E1A-CA784708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326FE-0F73-4AC2-A908-A3D4CD8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9B4D7-9376-4D07-ACC2-34B684E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BCC5E-B164-43CE-81DE-21352518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C363-27AF-4846-95F7-74DA2B70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CC864-EA8A-40CC-8BAC-D7FACD22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C79-F3FC-4064-B9E7-653CF7BF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5745-6525-470A-950A-4642FEBF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E214-9CFC-45C3-AF9D-3356BB5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5638-8E8D-40E1-8731-D486CECF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EFD7-6413-496D-A9C3-060F9D3D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72D9-E8C9-49BA-8618-909A0A3E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CAB2-8215-42CC-BEAD-2D7905B6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A333A-BC81-4086-8FD7-7456C5BA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357E-8C74-41D0-9639-64E5995E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027C-2F24-43C6-9D7C-CC775EB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A18B6-DD69-42B0-93B3-C7AE827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10C-ACD1-4B45-A2C9-35CF138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6D805-DFE3-49FA-8172-8F40562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0DBEA-7F09-4771-82D5-B041D14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A88B-0C67-48C8-B04E-436D6ED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3199E-2659-41EC-AA95-78CF72F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1D07F-9A3B-4CBA-AF40-159C840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D8809-BDA9-4B06-965B-A121DEC1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8163A-7C71-41A2-9282-42FFEB22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41DD-4D12-438B-BC49-B77B7CF9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63981-82BE-45D0-962F-9B57A21F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8219D-AC02-4C2F-8013-7FC9D69D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5152-F156-46BB-8EF8-3860290336F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5A0D-B47D-40CA-835B-96A70AEE413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A0F5-079B-4396-80D5-D6DDECDCCA2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5F4E-3A01-4D07-809A-E5DE5767E04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CBC3-E2B8-4F40-A9BA-BA47166D1176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F35-4D22-454E-A340-0D1D787281A3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C6C5-4748-4F92-976F-B3C2259072A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2C81-87D8-40EF-B1AF-731EF0956AC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380C-8DD1-4E47-9D42-CBC07640E6A7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finwin.ru/wp-includes/js/tinymce/blue-salvia-flower-i11.jpg" TargetMode="External"/><Relationship Id="rId3" Type="http://schemas.openxmlformats.org/officeDocument/2006/relationships/hyperlink" Target="http://pisheblog.info/wp-content/uploads/2010/03/juniper.jpg" TargetMode="External"/><Relationship Id="rId4" Type="http://schemas.openxmlformats.org/officeDocument/2006/relationships/hyperlink" Target="http://shedevrs.ru/cvetovedenie/532-cvetnaya-picha.html" TargetMode="External"/><Relationship Id="rId5" Type="http://schemas.openxmlformats.org/officeDocument/2006/relationships/hyperlink" Target="http://zdoroviymir.com/images/articles/bc601c18b7632c7ee628859560320aa5/&#1073;&#1072;&#1082;&#1083;&#1072;&#1078;&#1072;&#1085;.jpg" TargetMode="External"/><Relationship Id="rId6" Type="http://schemas.openxmlformats.org/officeDocument/2006/relationships/hyperlink" Target="http://zdoroviymir.com/images/articles/bc601c18b7632c7ee628859560320aa5/&#1073;&#1072;&#1082;&#1083;&#1072;&#1078;&#1072;&#1085;.jpg" TargetMode="External"/><Relationship Id="rId7" Type="http://schemas.openxmlformats.org/officeDocument/2006/relationships/hyperlink" Target="http://zdoroviymir.com/images/articles/bc601c18b7632c7ee628859560320aa5/&#1073;&#1072;&#1082;&#1083;&#1072;&#1078;&#1072;&#1085;.jpg" TargetMode="External"/><Relationship Id="rId8" Type="http://schemas.openxmlformats.org/officeDocument/2006/relationships/hyperlink" Target="http://www.votevk.ru/uploads/posts/201201/thumbs/1327245552_800px.jpg" TargetMode="External"/><Relationship Id="rId9" Type="http://schemas.openxmlformats.org/officeDocument/2006/relationships/hyperlink" Target="http://moyhutor.net/images/ejevika2.jpg" TargetMode="External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071200" cy="2243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41440" y="1643040"/>
            <a:ext cx="8061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Franklin Gothic Book"/>
              </a:rPr>
              <a:t>«Поговорим о пользе продуктов голубого, синего и  фиолетового цвета».</a:t>
            </a:r>
            <a:endParaRPr b="0" lang="en-US" sz="6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2536920" y="5500800"/>
            <a:ext cx="63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357720" y="1285560"/>
            <a:ext cx="563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Franklin Gothic Book"/>
              </a:rPr>
              <a:t>Польза :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Им можно  лечить плохозаживающие открытые раны. (Нужно просто настоять в стакане воды несколько листочков базилика)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Хорошо улучшает работу желудочно-кишечного тракта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Снимает боль в горле и кашель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Помогает при повышенном давлении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Снимает жар при гриппе, обладает потогонным действием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Возвращает силы после трудной работы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Успокаивает нервную систему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Уничтожает зубной налет и неприятный запах изо рта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214200" y="4643280"/>
            <a:ext cx="33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Franklin Gothic Book"/>
              </a:rPr>
              <a:t>Это базил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278604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2"/>
              </a:rPr>
              <a:t>http://finwin.ru/wp-includes/js/tinymce/blue-salvia-flower-i11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3"/>
              </a:rPr>
              <a:t>http://pisheblog.info/wp-content/uploads/2010/03/juniper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4"/>
              </a:rPr>
              <a:t>http://shedevrs.ru/cvetovedenie/532-cvetnaya-picha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5"/>
              </a:rPr>
              <a:t>http://zdoroviymir.com/images/articles/bc601c18b7632c7ee628859560320aa5/</a:t>
            </a:r>
            <a:r>
              <a:rPr b="0" lang="ru-RU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6"/>
              </a:rPr>
              <a:t>баклажан.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7"/>
              </a:rPr>
              <a:t>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8"/>
              </a:rPr>
              <a:t>http://www.votevk.ru/uploads/posts/201201/thumbs/1327245552_800px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9"/>
              </a:rPr>
              <a:t>http://moyhutor.net/images/ejevika2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jivilegko.ru/tselebnyie-rasteniya/poleznyie-svoystva-bazilika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www.prozagadki.ru/245-zagadki-pro-slivu-dlja-detejj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edaplus.info/produce/plum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onwomen.ru/chernika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igraemirastem.ru/vozrast/do5/detskie-zagadki-s-gryadki-baklazhan-i-goroh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www.inflora.ru/diet/diet316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4617b"/>
                </a:solidFill>
                <a:latin typeface="Franklin Gothic Book"/>
              </a:rPr>
              <a:t>http://www.inflora.ru/diet/diet344.html</a:t>
            </a:r>
            <a:r>
              <a:rPr b="0" lang="ru-RU" sz="19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ить, какую пользу для человека оказывают растения голубого, синего, фиолетового цвета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авить список растений, употребляемых в пищу, данных цветов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знакомиться с информацией о каждом растении из списка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обрать более ценные растения (признак – широкое применение)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формить о данных растениях презентацию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53036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5"/>
          <p:cNvSpPr/>
          <p:nvPr/>
        </p:nvSpPr>
        <p:spPr>
          <a:xfrm>
            <a:off x="357120" y="128592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Эти продукты способствуют хорошему сну и здоровому пищеварению,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гают при болезнях горла и активно борются с бактериями в орг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357120" y="128592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Franklin Gothic Book"/>
              </a:rPr>
              <a:t>Фиолетовые продукты применяют при проблемах с нервной системой, так как они успокаивают и помогают в стрессовых ситуациях и при болезнях мочевого пуз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285840" y="14288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Голубика, черника, слива, чёрный виногр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чёрная рябина, чёрная смородина, оливки, фиолетовый базилик, баклажан, ежевика, фиолетовый базилик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44200" cy="10605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4"/>
          <p:cNvSpPr/>
          <p:nvPr/>
        </p:nvSpPr>
        <p:spPr>
          <a:xfrm>
            <a:off x="214200" y="542916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Сеть Интернет                Справочная  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420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285920"/>
            <a:ext cx="41907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за кустарник ароматный?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Ягод вкус его приятный -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сят, как черный виноград,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 каждый пробовать их рад!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000680" y="1285560"/>
            <a:ext cx="499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Franklin Gothic Book"/>
              </a:rPr>
              <a:t>Польза :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вляется прекрасным средством профилактики проблем с сердечно - сосудистой системой и появления злокачественных новообразований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лена способность черной смородины предупреждать развитие диабета, проблем со зрением и препятствовать ослаблению интеллектуальных способностей у пожилых людей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ется в лечении ангины, кашля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гает избавиться от пигментных пятен, веснушек и сделать кожу светлее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ют её и для укрепления ногтей, с этой целью ее втирают в кожу вокруг ногтя и в сам ноготь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300024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2" name="TextBox 6"/>
          <p:cNvSpPr/>
          <p:nvPr/>
        </p:nvSpPr>
        <p:spPr>
          <a:xfrm>
            <a:off x="214200" y="57862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чёрная смород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560" y="1285920"/>
            <a:ext cx="41907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 листом на каждой ветке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дят маленькие детки.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от, кто деток соберет,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уки вымажет и рот.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7960" y="1356840"/>
            <a:ext cx="4343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ff"/>
                </a:solidFill>
                <a:uFillTx/>
                <a:latin typeface="Franklin Gothic Book"/>
              </a:rPr>
              <a:t>Польза :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отребление ягод черники может помочь в излечении заболеваний глаз;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улярное употребление черники в пищу позволяет замедлить возрастные процессы и выглядеть моложе своих лет;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огает очищать организм от накапливающихся в нем вредных веществ;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сахарном диабете чернику (чай из листьев) употребляют для снижения уровня сахара в крови.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857160" y="2928960"/>
            <a:ext cx="2643120" cy="26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7" name="TextBox 7"/>
          <p:cNvSpPr/>
          <p:nvPr/>
        </p:nvSpPr>
        <p:spPr>
          <a:xfrm>
            <a:off x="571680" y="57150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чер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2:12:22Z</dcterms:created>
  <dc:creator>Марина</dc:creator>
  <dc:description/>
  <dc:language>en-US</dc:language>
  <cp:lastModifiedBy>Марина</cp:lastModifiedBy>
  <dcterms:modified xsi:type="dcterms:W3CDTF">2015-09-09T19:35:05Z</dcterms:modified>
  <cp:revision>65</cp:revision>
  <dc:subject/>
  <dc:title>Презентация</dc:title>
</cp:coreProperties>
</file>