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0DE-E402-4F3C-9B4F-F2089CA6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DB5-672A-4796-8BB3-B13A2523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3D0-6380-4720-844A-86B2AFA4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079-1676-4AF7-BFE9-CCA761BD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18D-CD85-438F-A52D-19370D77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BD3-EA15-4C7C-90C0-E0BF209B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0A4-DB29-4590-A846-E409A15F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693-EC5E-4F61-89D0-0CBFD06F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E63-75EB-45EF-81A0-E401C0E2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71F-7C1F-4EA8-B3E5-37AECA5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F9B-B7DE-4C1F-AE8A-0D78CFDF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04C-8E0C-47B3-AA26-4E500A9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A93E-5223-4046-A77D-019F765B0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МАОУ Куровская гимн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Презентация к уроку английского язы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 4 классе по теме «Еда и здоровый                     образ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Учитель Павлова Н.Н. 2012-2013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1647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0400" y="1625760"/>
            <a:ext cx="5943600" cy="5537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80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el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3828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Watermel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45720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trawber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380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arro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533520" y="1003320"/>
            <a:ext cx="6934320" cy="585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05320" y="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Pineapp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89520" y="1600200"/>
            <a:ext cx="5154480" cy="5257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3049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On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7621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8760"/>
            <a:ext cx="1036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ood vegetables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ruit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for are you 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0" y="1675800"/>
            <a:ext cx="60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fruit lunch som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25360" y="3885480"/>
            <a:ext cx="82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tee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e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reakfast after you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40" y="2818800"/>
            <a:ext cx="86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you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bad for teeth food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40" y="151560"/>
            <a:ext cx="93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Fruit and vegetables are good for you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80" y="1065960"/>
            <a:ext cx="603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Eat some fruit for lun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40" y="1980360"/>
            <a:ext cx="85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Some foods are bad for your teet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0" y="2894760"/>
            <a:ext cx="798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Clean your teeth after breakfas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629400" cy="554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304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Radis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930320"/>
            <a:ext cx="7162920" cy="476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5335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ucumb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11480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48320" y="22860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Pepp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Lettu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586728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22860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abbag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5943600" cy="559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0492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oma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09-08T09:38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