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5A1-19CC-44ED-9EA2-35A4CE99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815-891D-4252-AF82-042D6A1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DC5-8511-446A-A86A-4211495B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C70-674F-4A1D-B246-25270BD7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37C-C9DC-4CA5-99CB-04CCFEC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E8B-98C8-422E-B969-D4B1CC4E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354-0E4D-4AA4-877A-9F6C7EC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AED-7684-47EB-B66D-7324C19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D7C-1386-42F5-8506-E948C0B8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D3F-ADD8-449B-A232-A55CEA0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325-69E3-4AC4-A4BE-31CE8F1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910-91D6-4CD7-9F9E-AACA740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E7F-485F-4C45-A02F-1815CC0E7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МАОУ Куровская гимн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резентация к уроку английского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4 классе по теме «Еда и здоровый                     образ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Учитель Павлова Н.Н. 2012-2013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1647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0400" y="1625760"/>
            <a:ext cx="5943600" cy="5537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l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atermel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572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trawber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380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arr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533520" y="1003320"/>
            <a:ext cx="6934320" cy="585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05320" y="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ineap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89520" y="1600200"/>
            <a:ext cx="515448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3049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On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7621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8760"/>
            <a:ext cx="103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ood vegetables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for are you 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0" y="1675800"/>
            <a:ext cx="60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fruit lunch som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5360" y="3885480"/>
            <a:ext cx="82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tee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reakfast after you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0" y="2818800"/>
            <a:ext cx="86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you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bad for teeth food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40" y="151560"/>
            <a:ext cx="93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Fruit and vegetables are good for yo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80" y="1065960"/>
            <a:ext cx="60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Eat some fruit for lun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0" y="1980360"/>
            <a:ext cx="85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Some foods are bad for your tee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0" y="2894760"/>
            <a:ext cx="79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Clean your teeth after breakfa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629400" cy="554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304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Rad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930320"/>
            <a:ext cx="7162920" cy="476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335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114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8320" y="22860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epp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86728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22860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943600" cy="559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049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oma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9-08T09:38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