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A36F-8261-4B85-A848-72A0AC5A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11C9-365E-428D-9862-69C7504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72DA-1165-4A3B-9902-7A3CA35A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F62F-6A76-4A0A-821B-5F0B92C4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556F-2233-4AD8-A4AD-41ED3876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0FFF-C4F0-4CED-8ACA-797D57C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58A3-DFC3-4D9F-AE9A-B5C0DCB6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787D-BC41-44F0-9209-5826CB44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480E-9296-4AF4-8308-2FC8F65E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7E7F-5D65-43E3-AEA8-7871E476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93F1-DF10-4A73-98C4-E7F4287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65A5-E4D4-49C4-9280-3794EA34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C2AE-F747-45AC-82C4-2778501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0535-202E-430B-BEB1-CEB1A8A5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B15D-B082-45FA-B442-252DCB41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7414-EE3A-4835-B82D-9E97DF83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999-EC72-401A-8CE4-5BA5BD61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31F0-02D8-4E92-BC54-3C997D80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DE61-C42B-4E83-8861-250925F2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5718-6DA2-45DF-B74B-09A833D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2FE3-C12C-436A-8AD5-FE10F2A9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5FC1-7603-42C2-9D98-901F66F1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E318-C08D-496F-90E3-4B6F57E8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694C-540A-40B7-8300-0CF00991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EB4-34C3-479B-AACC-AD803DEFE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CA3-A166-44F9-BA0A-89572C7BAC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журный звук  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 - РО - 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Р - ОР -  У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ронц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р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рков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ра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voron"/>
          <p:cNvPicPr/>
          <p:nvPr/>
        </p:nvPicPr>
        <p:blipFill>
          <a:blip r:embed="rId1"/>
          <a:stretch/>
        </p:blipFill>
        <p:spPr>
          <a:xfrm>
            <a:off x="4067280" y="1125360"/>
            <a:ext cx="424980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Слайд1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Слайд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веденская церков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Слайд83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10106_20080805_112939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хайло – Архангельский собор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Слайд63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Слайд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10105_20080805_113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544657688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Церковь Блаженной Ксении Петербуржско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10105_20081202_180329"/>
          <p:cNvPicPr/>
          <p:nvPr/>
        </p:nvPicPr>
        <p:blipFill>
          <a:blip r:embed="rId1"/>
          <a:stretch/>
        </p:blipFill>
        <p:spPr>
          <a:xfrm>
            <a:off x="1258920" y="1557360"/>
            <a:ext cx="58341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опросы по бесед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гда была заложена первая церковь, как она называлас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ая церковь была заложена в 1849 году, называлась она Покровск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аком году был построен собор Михаила Архангел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865 го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ловарная работ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рковь – здание для богослу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упол – выпуклая крыша в виде полушар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уд – русская мера веса = 16 к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града – заб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ёс – тонкие дос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люстрада – перила из фигурных столби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ила – ограда по краю лестницы, балкона.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Собор"/>
          <p:cNvPicPr/>
          <p:nvPr/>
        </p:nvPicPr>
        <p:blipFill>
          <a:blip r:embed="rId1"/>
          <a:stretch/>
        </p:blipFill>
        <p:spPr>
          <a:xfrm>
            <a:off x="6804000" y="2637000"/>
            <a:ext cx="2340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ркви Ейс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Пантелей ц"/>
          <p:cNvPicPr/>
          <p:nvPr/>
        </p:nvPicPr>
        <p:blipFill>
          <a:blip r:embed="rId1"/>
          <a:stretch/>
        </p:blipFill>
        <p:spPr>
          <a:xfrm>
            <a:off x="468360" y="1557360"/>
            <a:ext cx="3887640" cy="453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Покровская ц"/>
          <p:cNvPicPr/>
          <p:nvPr/>
        </p:nvPicPr>
        <p:blipFill>
          <a:blip r:embed="rId2"/>
          <a:stretch/>
        </p:blipFill>
        <p:spPr>
          <a:xfrm>
            <a:off x="4932360" y="1557360"/>
            <a:ext cx="3714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кровская церков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ровская церковь была заложена в 1849 году. Сначала ее построили из дерева, но во время пожара она сгорела. И в 1907 году на ее месте построили каменную, которую назвали Старо-Покровс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5"/>
          <p:cNvPicPr/>
          <p:nvPr/>
        </p:nvPicPr>
        <p:blipFill>
          <a:blip r:embed="rId1"/>
          <a:stretch/>
        </p:blipFill>
        <p:spPr>
          <a:xfrm>
            <a:off x="468360" y="1557360"/>
            <a:ext cx="4895640" cy="45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ихайло – Архангельский собор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хайло – Архангельский собор был построен в 1865 году в честь М.С. Воронц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бор был построен как раз на том месте, где происходило торжественное открытие города 31 августа 1848 го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i800"/>
          <p:cNvPicPr/>
          <p:nvPr/>
        </p:nvPicPr>
        <p:blipFill>
          <a:blip r:embed="rId1"/>
          <a:stretch/>
        </p:blipFill>
        <p:spPr>
          <a:xfrm>
            <a:off x="46836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антелемоновская церков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антелемоновская церковь была построена в 1890 году на месте, где сейчас площадь Револю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Пантелей ц"/>
          <p:cNvPicPr/>
          <p:nvPr/>
        </p:nvPicPr>
        <p:blipFill>
          <a:blip r:embed="rId1"/>
          <a:stretch/>
        </p:blipFill>
        <p:spPr>
          <a:xfrm>
            <a:off x="468360" y="1557360"/>
            <a:ext cx="5327640" cy="45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нотеатр «Октябрь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Октябрь1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Олтябрь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вято – Никольский кафедральный собор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Слайд12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6:07:09Z</dcterms:created>
  <dc:creator>IRINA</dc:creator>
  <dc:description/>
  <dc:language>en-US</dc:language>
  <cp:lastModifiedBy>DNA7 X86</cp:lastModifiedBy>
  <dcterms:modified xsi:type="dcterms:W3CDTF">2015-09-09T18:15:41Z</dcterms:modified>
  <cp:revision>6</cp:revision>
  <dc:subject/>
  <dc:title>Слайд 1</dc:title>
</cp:coreProperties>
</file>