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C6DC-D4E8-4D7C-8F1D-DDAE07C3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469A-F20F-42C2-BCA1-CE8D62E8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898D-DCCD-44C2-9065-E262709B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93F0-D85E-4232-9B49-66293C97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4CA5-739A-43A4-8DA4-A3899FC1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998C-FD95-4500-A26D-FCFF12D5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86DC-2871-4C3C-BBC1-68EA6ED2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1B0D-5CA0-43E4-9793-DCA99533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B99E-C23F-4CA4-944C-62F9F96F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CBAA-89C1-4D55-A45F-5DD5CFA2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A992-F2AC-4718-B5EC-53D98EA3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96B2-A83C-45DE-869E-8684F406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D4EF-44F8-4A3B-ACA4-E0BD8B85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2139-877A-42B4-B47F-E67ACEF2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6CBC-A72B-48C9-A24B-4F57DAD1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5437-DB1F-418C-9C89-5FE61C80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018C-0352-4C00-873B-FB62B4DD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2E32-42A4-4C8A-BAD8-CFAB7314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07C2-0E40-4256-AC9B-DD59DC40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9398-3732-4C36-A301-61223664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71F6-8847-42A0-A36F-FBB690E7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42D5-988D-4903-B795-6FEB16D2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B213-0001-4D9A-A47D-43D8F6CF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55C5-4451-4F8A-8FE0-7B8AE69D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E3BB-2A60-4069-99C9-C538CB7A2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DF6A-A038-4A7A-A2EB-7E64A31B40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журный звук  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 - РО - 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Р - ОР -  У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ронц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ор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рков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ра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voron"/>
          <p:cNvPicPr/>
          <p:nvPr/>
        </p:nvPicPr>
        <p:blipFill>
          <a:blip r:embed="rId1"/>
          <a:stretch/>
        </p:blipFill>
        <p:spPr>
          <a:xfrm>
            <a:off x="4067280" y="1125360"/>
            <a:ext cx="4249800" cy="57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Слайд1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Слайд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веденская церков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Слайд83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10106_20080805_112939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ихайло – Архангельский собор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Слайд63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Слайд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10105_20080805_113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544657688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Церковь Блаженной Ксении Петербуржско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4" descr="10105_20081202_180329"/>
          <p:cNvPicPr/>
          <p:nvPr/>
        </p:nvPicPr>
        <p:blipFill>
          <a:blip r:embed="rId1"/>
          <a:stretch/>
        </p:blipFill>
        <p:spPr>
          <a:xfrm>
            <a:off x="1258920" y="1557360"/>
            <a:ext cx="58341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опросы по беседе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гда была заложена первая церковь, как она называлас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вая церковь была заложена в 1849 году, называлась она Покровска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аком году был построен собор Михаила Архангел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865 год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ловарная работ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рковь – здание для богослу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упол – выпуклая крыша в виде полушар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уд – русская мера веса = 16 к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града – забо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ёс – тонкие дос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люстрада – перила из фигурных столбик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ила – ограда по краю лестницы, балкона.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5" descr="Собор"/>
          <p:cNvPicPr/>
          <p:nvPr/>
        </p:nvPicPr>
        <p:blipFill>
          <a:blip r:embed="rId1"/>
          <a:stretch/>
        </p:blipFill>
        <p:spPr>
          <a:xfrm>
            <a:off x="6804000" y="2637000"/>
            <a:ext cx="2340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ркви Ейс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5" descr="Пантелей ц"/>
          <p:cNvPicPr/>
          <p:nvPr/>
        </p:nvPicPr>
        <p:blipFill>
          <a:blip r:embed="rId1"/>
          <a:stretch/>
        </p:blipFill>
        <p:spPr>
          <a:xfrm>
            <a:off x="468360" y="1557360"/>
            <a:ext cx="3887640" cy="453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Покровская ц"/>
          <p:cNvPicPr/>
          <p:nvPr/>
        </p:nvPicPr>
        <p:blipFill>
          <a:blip r:embed="rId2"/>
          <a:stretch/>
        </p:blipFill>
        <p:spPr>
          <a:xfrm>
            <a:off x="4932360" y="1557360"/>
            <a:ext cx="37148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кровская церковь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кровская церковь была заложена в 1849 году. Сначала ее построили из дерева, но во время пожара она сгорела. И в 1907 году на ее месте построили каменную, которую назвали Старо-Покровск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5"/>
          <p:cNvPicPr/>
          <p:nvPr/>
        </p:nvPicPr>
        <p:blipFill>
          <a:blip r:embed="rId1"/>
          <a:stretch/>
        </p:blipFill>
        <p:spPr>
          <a:xfrm>
            <a:off x="468360" y="1557360"/>
            <a:ext cx="4895640" cy="45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Михайло – Архангельский собор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хайло – Архангельский собор был построен в 1865 году в честь М.С. Воронцо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бор был построен как раз на том месте, где происходило торжественное открытие города 31 августа 1848 го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i800"/>
          <p:cNvPicPr/>
          <p:nvPr/>
        </p:nvPicPr>
        <p:blipFill>
          <a:blip r:embed="rId1"/>
          <a:stretch/>
        </p:blipFill>
        <p:spPr>
          <a:xfrm>
            <a:off x="468360" y="1628640"/>
            <a:ext cx="4680000" cy="446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антелемоновская церков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антелемоновская церковь была построена в 1890 году на месте, где сейчас площадь Револю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Пантелей ц"/>
          <p:cNvPicPr/>
          <p:nvPr/>
        </p:nvPicPr>
        <p:blipFill>
          <a:blip r:embed="rId1"/>
          <a:stretch/>
        </p:blipFill>
        <p:spPr>
          <a:xfrm>
            <a:off x="468360" y="1557360"/>
            <a:ext cx="5327640" cy="45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инотеатр «Октябрь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Октябрь1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Олтябрь2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вято – Никольский кафедральный собор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Слайд12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6:07:09Z</dcterms:created>
  <dc:creator>IRINA</dc:creator>
  <dc:description/>
  <dc:language>en-US</dc:language>
  <cp:lastModifiedBy>DNA7 X86</cp:lastModifiedBy>
  <dcterms:modified xsi:type="dcterms:W3CDTF">2015-09-09T18:15:41Z</dcterms:modified>
  <cp:revision>6</cp:revision>
  <dc:subject/>
  <dc:title>Слайд 1</dc:title>
</cp:coreProperties>
</file>