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EB2-C16B-469B-A08C-1CE1C028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690-EA1F-4488-B6B6-8E1305DB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404-6C36-45A3-9683-737B7B04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BA5-5636-4C8D-AB5D-118019CD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9B77-1A26-4010-8891-14A5D1CB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5A2D-7400-4DB8-9139-FF87E0EE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4FBB-C0A1-4E04-BEE7-BD1C634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1868-B807-4F83-AA90-AD3AB0AB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2A26-7886-444E-A6AA-56A43D8C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DC93-8412-43CD-8FC6-A74C042C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3259-51EC-4C3C-918E-A65F41F5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A8F-4E71-4E85-A261-27AE2EDD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FE77-5C9A-49FA-B03D-CB40C657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4AD7-47CE-4BA7-BE4E-4CCC373F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CF35-F22B-4A98-831F-63A53FF5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FC68-84F4-46C1-B634-A1E914A8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EAD6-D718-4F1E-B6BB-2B898A01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FFE1-158E-484E-A063-838D9177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4B3BC-8974-456B-A9BC-2CC4AEB9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2A17-3BE6-4152-B134-9256E146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7E61-3032-4A83-8976-CB5F741D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3F42-F554-4DC0-AE4A-C91727EB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FEA-3BE7-4143-931C-DFA2BCFE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4564-2DDE-444D-8898-70A1D255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297D-BD60-4A01-BDB3-7B50CBE9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9E48D-7A44-44BD-A06A-6A3EAEAF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97C15-ED68-469A-AD71-619B2E2E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53D63-8FE4-4612-972A-FA6D1E9C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DBBF-22B2-4DBC-BAF6-C63A1FF1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2EEB2-A8AD-4712-86A5-68CE4BA2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34AC-7DBD-42C1-8E18-EDF07E4E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8A6FE-11CF-4DB2-AE8D-58E62E95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78B46-E6DB-47C1-98BC-03A9C8D8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273-7C31-4787-BE04-3C0B3407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EE068-8781-455B-B2A9-76250195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32B0-1D0E-48CD-A55D-709F3161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F69E9-C61B-476C-B27D-45AE85BA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DAE27-539B-455B-9758-0586663B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F3EC0-B9B9-4158-B3C1-04EE5FC5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35DD7-D605-4AA8-9419-59ED385C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D3D3-036C-48B6-847F-29518980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2753-0F01-4331-90F6-3AB54113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96026-6074-4BEF-B97F-6D1A0756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666-6C48-4B61-A98B-AD1B788D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D18-B70E-4774-AC5F-12A1320E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27A-4156-426C-B59E-BC06634F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923-B196-4825-8EDB-F3192BFF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882-DB52-4556-840D-233DB7CA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6CC7-B28F-465D-BA79-1AF3965B11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245C-3EB3-4325-A012-4729853DA4D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BC47-60CD-4FBC-8768-F2451F67C7E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49BF-EE82-4979-A5ED-27E416AA4A4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90600" y="1420920"/>
            <a:ext cx="80042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00040" y="7142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инни-Пух  для себя сделал вывод и сказал друзьям : «Ешьте  как можно  больше мёд, и тогда  будете всегда здоровы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Рисунок 3" descr="&amp;Vcy;&amp;icy;&amp;ncy;&amp;ncy;&amp;icy;-&amp;Pcy;&amp;ucy;&amp;khcy; &amp;icy; &amp;vcy;&amp;scy;&amp;iecy;-&amp;vcy;&amp;scy;&amp;iecy;-&amp;vcy;&amp;scy;&amp;iecy;."/>
          <p:cNvPicPr/>
          <p:nvPr/>
        </p:nvPicPr>
        <p:blipFill>
          <a:blip r:embed="rId1"/>
          <a:stretch/>
        </p:blipFill>
        <p:spPr>
          <a:xfrm>
            <a:off x="714240" y="1714680"/>
            <a:ext cx="74296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5462640" y="1639800"/>
            <a:ext cx="3711600" cy="3078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MTB MOS-COW &amp;Vcy;&amp;Kcy;&amp;ocy;&amp;ncy;&amp;tcy;&amp;acy;&amp;kcy;&amp;tcy;&amp;iecy;"/>
          <p:cNvPicPr/>
          <p:nvPr/>
        </p:nvPicPr>
        <p:blipFill>
          <a:blip r:embed="rId2"/>
          <a:stretch/>
        </p:blipFill>
        <p:spPr>
          <a:xfrm>
            <a:off x="285840" y="64296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614680" y="4705200"/>
            <a:ext cx="3657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&amp;Scy;&amp;kcy;&amp;ocy;&amp;lcy;&amp;softcy;&amp;kcy;&amp;ocy; &amp;lcy;&amp;iecy;&amp;tcy; &amp;Vcy;&amp;icy;&amp;ncy;&amp;ncy;&amp;icy;-&amp;Pcy;&amp;ucy;&amp;khcy;&amp;ucy;?"/>
          <p:cNvPicPr/>
          <p:nvPr/>
        </p:nvPicPr>
        <p:blipFill>
          <a:blip r:embed="rId2"/>
          <a:srcRect l="0" t="0" r="0" b="4021"/>
          <a:stretch/>
        </p:blipFill>
        <p:spPr>
          <a:xfrm>
            <a:off x="1357200" y="214200"/>
            <a:ext cx="60962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42960" y="5643720"/>
            <a:ext cx="7786800" cy="71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поиски пчёл с Винни-Пухом отправился и Пятачок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2" descr="&amp;Vcy;&amp;icy;&amp;ncy;&amp;ncy;&amp;icy; &amp;fcy;&amp;acy;&amp;kcy;&amp;icy;&amp;ncy;&amp;gcy; &amp;pcy;&amp;ucy;&amp;khcy; (&amp;scy; &amp;pcy;&amp;iecy;&amp;rcy;&amp;iecy;&amp;vcy;&amp;ocy;&amp;dcy;&amp;ocy;&amp;mcy; &amp;ncy;&amp;acy; &amp;rcy;&amp;ucy;&amp;scy;&amp;scy;&amp;kcy;&amp;icy;&amp;jcy;) &amp;mcy;&amp;ucy;&amp;lcy;&amp;softcy;&amp;tcy;&amp;fcy;&amp;icy;&amp;lcy;&amp;softcy;&amp;mcy; &amp;pcy;&amp;rcy;&amp;ocy; &amp;vcy;&amp;icy;&amp;ncy;&amp;icy; &amp;pcy;&amp;ucy;&amp;khcy;&amp;acy; &amp;scy; &amp;gcy;&amp;ocy;&amp;bcy;&amp;lcy;&amp;iecy;&amp;ncy;&amp;scy;&amp;kcy;&amp;icy;&amp;mcy; &amp;pcy;&amp;iecy;&amp;rcy;&amp;iecy;&amp;vcy;&amp;ocy;&amp;dcy;&amp;ocy;&amp;mcy; &quot; &amp;Tcy;&amp;vcy;&amp;ocy;&amp;iecy; &amp;zcy;&amp;dcy;&amp;ocy;&amp;rcy;&amp;ocy;&amp;vcy;&amp;softcy;&amp;iecy; &amp;icy; &amp;ucy;&amp;khcy;&amp;ocy;&amp;dcy;."/>
          <p:cNvPicPr/>
          <p:nvPr/>
        </p:nvPicPr>
        <p:blipFill>
          <a:blip r:embed="rId1"/>
          <a:stretch/>
        </p:blipFill>
        <p:spPr>
          <a:xfrm>
            <a:off x="857160" y="214200"/>
            <a:ext cx="72867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93560" y="4108320"/>
            <a:ext cx="4370400" cy="1328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YouPic.su - &amp;Tcy;&amp;vcy;&amp;ocy;&amp;jcy; &amp;khcy;&amp;ocy;&amp;scy;&amp;tcy;&amp;icy;&amp;ncy;&amp;gcy; &amp;icy;&amp;zcy;&amp;ocy;&amp;bcy;&amp;rcy;&amp;acy;&amp;zhcy;&amp;iecy;&amp;ncy;&amp;icy;&amp;jcy; :: &amp;Pcy;&amp;rcy;&amp;ocy;&amp;scy;&amp;mcy;&amp;ocy;&amp;tcy;&amp;rcy; &amp;kcy;&amp;acy;&amp;rcy;&amp;tcy;&amp;icy;&amp;ncy;&amp;ocy;&amp;kcy;"/>
          <p:cNvPicPr/>
          <p:nvPr/>
        </p:nvPicPr>
        <p:blipFill>
          <a:blip r:embed="rId2"/>
          <a:srcRect l="11" t="43" r="0" b="374"/>
          <a:stretch/>
        </p:blipFill>
        <p:spPr>
          <a:xfrm>
            <a:off x="428760" y="1071720"/>
            <a:ext cx="3930480" cy="3071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FreakFabric - &amp;Vcy;&amp;icy;&amp;ncy;&amp;ncy;&amp;icy; &amp;Pcy;&amp;ucy;&amp;khcy; &amp;icy; &amp;Pcy;&amp;yacy;&amp;tcy;&amp;acy;&amp;chcy;&amp;ocy;&amp;kcy; (&amp;pcy;&amp;rcy;&amp;icy;&amp;kcy;&amp;ocy;&amp;lcy;) / &amp;scy;&amp;mcy;&amp;ocy;&amp;tcy;&amp;rcy;&amp;iecy;&amp;tcy;&amp;softcy; &amp;vcy;&amp;icy;&amp;dcy;&amp;iecy;&amp;ocy; &amp;ncy;&amp;acy; Nirvana.FM &amp;bcy;&amp;iecy;&amp;scy;&amp;pcy;&amp;lcy;&amp;acy;&amp;tcy;&amp;ncy;&amp;ocy; &amp;ocy;&amp;ncy;&amp;lcy;&amp;acy;&amp;jcy;&amp;ncy;"/>
          <p:cNvPicPr/>
          <p:nvPr/>
        </p:nvPicPr>
        <p:blipFill>
          <a:blip r:embed="rId3"/>
          <a:stretch/>
        </p:blipFill>
        <p:spPr>
          <a:xfrm>
            <a:off x="4786200" y="1089000"/>
            <a:ext cx="4119840" cy="30909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"/>
          <p:cNvSpPr/>
          <p:nvPr/>
        </p:nvSpPr>
        <p:spPr>
          <a:xfrm>
            <a:off x="4929120" y="421488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воздушном шарике без тру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таешь ты туда и сю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429160" y="1143000"/>
            <a:ext cx="2857680" cy="30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ёлы удивились вдруг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раг ты нам или друг?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Винни-Пух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амучил меня недуг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ку хотел у вас просить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здоровым, сильным быт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итаминов там так много –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вкусней продукта нет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инералы, йод, железо -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крепят мой иммунитет!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Рисунок 3" descr="&amp;Vcy;&amp;icy;&amp;ncy;&amp;ncy;&amp;icy; &amp;pcy;&amp;ucy;&amp;khcy; &amp;icy; &amp;pcy;&amp;chcy;&amp;iecy;&amp;lcy;&amp;ycy; &amp;scy;&amp;mcy;&amp;ocy;&amp;tcy;&amp;rcy;&amp;iecy;&amp;tcy;&amp;softcy; &amp;ocy;&amp;ncy;&amp;lcy;&amp;acy;&amp;jcy;&amp;ncy; &amp;mcy;&amp;ucy;&amp;lcy;&amp;softcy;&amp;tcy;&amp;fcy;&amp;icy;&amp;lcy;&amp;softcy;&amp;mcy;"/>
          <p:cNvPicPr/>
          <p:nvPr/>
        </p:nvPicPr>
        <p:blipFill>
          <a:blip r:embed="rId1"/>
          <a:srcRect l="17007" t="0" r="0" b="0"/>
          <a:stretch/>
        </p:blipFill>
        <p:spPr>
          <a:xfrm>
            <a:off x="214200" y="857160"/>
            <a:ext cx="4929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14200" y="4643280"/>
            <a:ext cx="31435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ёлы мёдом угостили, и Винни-Пух отправился домой</a:t>
            </a: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3280" y="4643280"/>
            <a:ext cx="404208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н держал заветный горшочек, а в голове кружились слова Мудрой Совы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ятачок с надеждой смотрел на Винни-Пуха и думал о том, что испробует тоже  целебного  медк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Рисунок 6" descr="&amp;Mcy;&amp;ucy;&amp;lcy;&amp;softcy;&amp;tcy;&amp;icy;&amp;kcy; &amp;vcy;&amp;icy;&amp;ncy;&amp;icy; &amp;pcy;&amp;ucy;&amp;khcy; - &amp;ocy;&amp;bcy;&amp;zcy;&amp;ocy;&amp;rcy;&amp;ycy;, &amp;rcy;&amp;iecy;&amp;tscy;&amp;iecy;&amp;ncy;&amp;zcy;&amp;icy;&amp;icy;, &amp;pcy;&amp;rcy;&amp;iecy;&amp;vcy;&amp;softcy;&amp;yucy;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&amp;Vcy;&amp;icy;&amp;ncy;&amp;ncy;&amp;icy; &amp;Pcy;&amp;ucy;&amp;khcy;"/>
          <p:cNvPicPr/>
          <p:nvPr/>
        </p:nvPicPr>
        <p:blipFill>
          <a:blip r:embed="rId2"/>
          <a:stretch/>
        </p:blipFill>
        <p:spPr>
          <a:xfrm>
            <a:off x="4357800" y="1143000"/>
            <a:ext cx="4500360" cy="3357720"/>
          </a:xfrm>
          <a:prstGeom prst="rect">
            <a:avLst/>
          </a:prstGeom>
          <a:ln w="0">
            <a:noFill/>
          </a:ln>
        </p:spPr>
      </p:pic>
      <p:sp>
        <p:nvSpPr>
          <p:cNvPr id="212" name="Двойная стрелка влево/вправо 9"/>
          <p:cNvSpPr/>
          <p:nvPr/>
        </p:nvSpPr>
        <p:spPr>
          <a:xfrm>
            <a:off x="3286080" y="457200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64296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сти к Винни  заглянул и Кролик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го болело горло  и животик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вежонок в мисочки наложил медка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сал затылок: «А доза ли невелика?»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потом вспомнил Совушки слова: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ёда много не бывает никогда!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Рисунок 3" descr="&amp;Vcy;&amp;icy;&amp;ncy;&amp;ncy;&amp;icy;-&amp;Pcy;&amp;ucy;&amp;khcy; &amp;icy; &amp;vcy;&amp;scy;&amp;iecy;-&amp;vcy;&amp;scy;&amp;iecy;-&amp;vcy;&amp;scy;&amp;iecy;."/>
          <p:cNvPicPr/>
          <p:nvPr/>
        </p:nvPicPr>
        <p:blipFill>
          <a:blip r:embed="rId1"/>
          <a:stretch/>
        </p:blipFill>
        <p:spPr>
          <a:xfrm>
            <a:off x="3000240" y="2286000"/>
            <a:ext cx="58579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71680" y="55004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лик ел мёд и рассказывал о том, что этот продукт помогает при простуде, им лечат фурункулы,  делают компресс на больное место, пьют вместе с молоком при ангине и много-много  других полезных свойств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Рисунок 3" descr="&amp;Scy;&amp;kcy;&amp;acy;&amp;chcy;&amp;acy;&amp;tcy;&amp;softcy; &amp;mcy;&amp;ucy;&amp;lcy;&amp;softcy;&amp;tcy;&amp;fcy;&amp;icy;&amp;lcy;&amp;softcy;&amp;mcy; &quot;&amp;Vcy;&amp;icy;&amp;ncy;&amp;ncy;&amp;icy; &amp;Pcy;&amp;ucy;&amp;khcy;&quot; - &amp;Scy;&amp;tcy;&amp;acy;&amp;rcy;&amp;ycy;&amp;iecy; &amp;dcy;&amp;ocy;&amp;bcy;&amp;rcy;&amp;ycy;&amp;iecy; &amp;mcy;&amp;ucy;&amp;lcy;&amp;softcy;&amp;tcy;&amp;icy;&amp;kcy;&amp;icy;"/>
          <p:cNvPicPr/>
          <p:nvPr/>
        </p:nvPicPr>
        <p:blipFill>
          <a:blip r:embed="rId1"/>
          <a:stretch/>
        </p:blipFill>
        <p:spPr>
          <a:xfrm>
            <a:off x="785880" y="714240"/>
            <a:ext cx="76579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08:45:28Z</dcterms:created>
  <dc:creator>Информатика</dc:creator>
  <dc:description/>
  <dc:language>en-US</dc:language>
  <cp:lastModifiedBy>Информатика</cp:lastModifiedBy>
  <dcterms:modified xsi:type="dcterms:W3CDTF">2014-10-25T09:56:31Z</dcterms:modified>
  <cp:revision>33</cp:revision>
  <dc:subject/>
  <dc:title>Презентация – комикс  о пчелином мёде</dc:title>
</cp:coreProperties>
</file>