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21B-ADD4-4E02-B730-A44EA973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539-528C-46E0-BFD7-566A6C52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3CB-C9B3-48CE-A787-DE8D5251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31E-B1A5-4BAD-8F83-990B2E8C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60C2-D822-4E10-9DC8-D4C19DF7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882C-824E-446D-A927-297733A0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A247-598A-4268-BB6C-082C947B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A585-1872-4501-B381-4ED310B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F8CE-7697-4553-89A8-17F06718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8241-9B89-4A1F-90C4-B43DD1D9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335B-446C-4DAC-B441-A8C3449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4D7-2FA3-4353-90C2-907CB580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339C-D60E-4FBC-9DB7-17C2F12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12CB-91C0-4785-82FC-79CC423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FBF2-AAEF-4F51-AC5E-BDB12D4C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75B9-C2DD-4241-8913-A58E124B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8229-4DAE-4EBB-8B60-2358F5C5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A816-DEAB-4A2F-9CBF-74988D81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8A0B-5E6B-436B-8DA7-B7E43C21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EA68-0E01-41C1-8E46-58109AB3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6E5F-BD6E-407D-B1D6-A64A0626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CE0F-AC3F-4F91-BEBF-F8E9BF66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6BB-75AC-482B-97D2-E6389E7F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4E42-0386-4053-866C-9EF8FFD1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6D16-B473-4BFD-A7C2-8240F515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BDF5-03AD-4108-AEE6-F76F071D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F592-D67E-43DF-8722-3A9BEF7A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3F26-B7AF-4ABE-B88D-FB683F88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1FBB-13EE-44A1-A2AE-1C170610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CB09-ADD4-4DE4-B0BF-587C2363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11E6-7122-4D7D-8002-4C5E3798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526B-E911-4A0F-9F47-C6F7E5A2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1B94-E6E0-4361-8380-8BB9E1ED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87C-710E-45AC-BE23-D82A916A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93741-E4E3-4737-A7C0-E5F4CCA8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ADACF-606B-4494-90B0-D3891E33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582BC-F9DB-4A98-816D-4686FF70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099A-B212-4EAD-AB9A-B19DB3E3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BDBFD-0B31-493F-8548-319E65C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7A5F-9EBB-4BB7-B936-10A52AC6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D7532-0B04-40CF-B78E-6F10BB34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1C61-630A-4F2D-9A67-88594013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ADB6D-80C4-43C3-A0BE-BE48A0BB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B52-5AA4-49A2-84E8-8E7C8075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038-0419-44D6-BC27-3A8F2171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D27-40BC-4B7D-A1D7-BEDCEB8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292-A9D0-4521-A2BB-7A021B4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8AD-E3F6-402F-82A9-7045A55B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9FF9-9A98-4809-AFE1-64EF3F944D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E8B8-EDDB-46BB-B71F-06338AC690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A7AC-79AB-4742-8CD5-2DF85F8F10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28F0-5FB9-4A86-BF95-A222778FE4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90600" y="1420920"/>
            <a:ext cx="8004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инни-Пух  для себя сделал вывод и сказал друзьям : «Ешьте  как можно  больше мёд, и тогда  будете всегда здоровы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Рисунок 3" descr="&amp;Vcy;&amp;icy;&amp;ncy;&amp;ncy;&amp;icy;-&amp;Pcy;&amp;ucy;&amp;khcy; &amp;icy; &amp;vcy;&amp;scy;&amp;iecy;-&amp;vcy;&amp;scy;&amp;iecy;-&amp;vcy;&amp;scy;&amp;iecy;."/>
          <p:cNvPicPr/>
          <p:nvPr/>
        </p:nvPicPr>
        <p:blipFill>
          <a:blip r:embed="rId1"/>
          <a:stretch/>
        </p:blipFill>
        <p:spPr>
          <a:xfrm>
            <a:off x="714240" y="1714680"/>
            <a:ext cx="74296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5462640" y="1639800"/>
            <a:ext cx="3711600" cy="307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MTB MOS-COW &amp;Vcy;&amp;Kcy;&amp;ocy;&amp;ncy;&amp;tcy;&amp;acy;&amp;kcy;&amp;tcy;&amp;iecy;"/>
          <p:cNvPicPr/>
          <p:nvPr/>
        </p:nvPicPr>
        <p:blipFill>
          <a:blip r:embed="rId2"/>
          <a:stretch/>
        </p:blipFill>
        <p:spPr>
          <a:xfrm>
            <a:off x="285840" y="64296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614680" y="4705200"/>
            <a:ext cx="3657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&amp;Scy;&amp;kcy;&amp;ocy;&amp;lcy;&amp;softcy;&amp;kcy;&amp;ocy; &amp;lcy;&amp;iecy;&amp;tcy; &amp;Vcy;&amp;icy;&amp;ncy;&amp;ncy;&amp;icy;-&amp;Pcy;&amp;ucy;&amp;khcy;&amp;ucy;?"/>
          <p:cNvPicPr/>
          <p:nvPr/>
        </p:nvPicPr>
        <p:blipFill>
          <a:blip r:embed="rId2"/>
          <a:srcRect l="0" t="0" r="0" b="4021"/>
          <a:stretch/>
        </p:blipFill>
        <p:spPr>
          <a:xfrm>
            <a:off x="1357200" y="214200"/>
            <a:ext cx="60962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42960" y="5643720"/>
            <a:ext cx="778680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поиски пчёл с Винни-Пухом отправился и Пятачок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&amp;Vcy;&amp;icy;&amp;ncy;&amp;ncy;&amp;icy; &amp;fcy;&amp;acy;&amp;kcy;&amp;icy;&amp;ncy;&amp;gcy; &amp;pcy;&amp;ucy;&amp;khcy; (&amp;scy; &amp;pcy;&amp;iecy;&amp;rcy;&amp;iecy;&amp;vcy;&amp;ocy;&amp;dcy;&amp;ocy;&amp;mcy; &amp;ncy;&amp;acy; &amp;rcy;&amp;ucy;&amp;scy;&amp;scy;&amp;kcy;&amp;icy;&amp;jcy;) &amp;mcy;&amp;ucy;&amp;lcy;&amp;softcy;&amp;tcy;&amp;fcy;&amp;icy;&amp;lcy;&amp;softcy;&amp;mcy; &amp;pcy;&amp;rcy;&amp;ocy; &amp;vcy;&amp;icy;&amp;ncy;&amp;icy; &amp;pcy;&amp;ucy;&amp;khcy;&amp;acy; &amp;scy; &amp;gcy;&amp;ocy;&amp;bcy;&amp;lcy;&amp;iecy;&amp;ncy;&amp;scy;&amp;kcy;&amp;icy;&amp;mcy; &amp;pcy;&amp;iecy;&amp;rcy;&amp;iecy;&amp;vcy;&amp;ocy;&amp;dcy;&amp;ocy;&amp;mcy; &quot; &amp;Tcy;&amp;vcy;&amp;ocy;&amp;iecy; &amp;zcy;&amp;dcy;&amp;ocy;&amp;rcy;&amp;ocy;&amp;vcy;&amp;softcy;&amp;iecy; &amp;icy; &amp;ucy;&amp;khcy;&amp;ocy;&amp;dcy;."/>
          <p:cNvPicPr/>
          <p:nvPr/>
        </p:nvPicPr>
        <p:blipFill>
          <a:blip r:embed="rId1"/>
          <a:stretch/>
        </p:blipFill>
        <p:spPr>
          <a:xfrm>
            <a:off x="857160" y="214200"/>
            <a:ext cx="72867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93560" y="4108320"/>
            <a:ext cx="4370400" cy="1328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YouPic.su - &amp;Tcy;&amp;vcy;&amp;ocy;&amp;jcy; &amp;khcy;&amp;ocy;&amp;scy;&amp;tcy;&amp;icy;&amp;ncy;&amp;gcy; &amp;icy;&amp;zcy;&amp;ocy;&amp;bcy;&amp;rcy;&amp;acy;&amp;zhcy;&amp;iecy;&amp;ncy;&amp;icy;&amp;jcy; :: &amp;Pcy;&amp;rcy;&amp;ocy;&amp;scy;&amp;mcy;&amp;ocy;&amp;tcy;&amp;rcy; &amp;kcy;&amp;acy;&amp;rcy;&amp;tcy;&amp;icy;&amp;ncy;&amp;ocy;&amp;kcy;"/>
          <p:cNvPicPr/>
          <p:nvPr/>
        </p:nvPicPr>
        <p:blipFill>
          <a:blip r:embed="rId2"/>
          <a:srcRect l="11" t="43" r="0" b="374"/>
          <a:stretch/>
        </p:blipFill>
        <p:spPr>
          <a:xfrm>
            <a:off x="428760" y="1071720"/>
            <a:ext cx="3930480" cy="3071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FreakFabric - &amp;Vcy;&amp;icy;&amp;ncy;&amp;ncy;&amp;icy; &amp;Pcy;&amp;ucy;&amp;khcy; &amp;icy; &amp;Pcy;&amp;yacy;&amp;tcy;&amp;acy;&amp;chcy;&amp;ocy;&amp;kcy; (&amp;pcy;&amp;rcy;&amp;icy;&amp;kcy;&amp;ocy;&amp;lcy;) / &amp;scy;&amp;mcy;&amp;ocy;&amp;tcy;&amp;rcy;&amp;iecy;&amp;tcy;&amp;softcy; &amp;vcy;&amp;icy;&amp;dcy;&amp;iecy;&amp;ocy; &amp;ncy;&amp;acy; Nirvana.FM &amp;bcy;&amp;iecy;&amp;scy;&amp;pcy;&amp;lcy;&amp;acy;&amp;tcy;&amp;ncy;&amp;ocy; &amp;ocy;&amp;ncy;&amp;lcy;&amp;acy;&amp;jcy;&amp;ncy;"/>
          <p:cNvPicPr/>
          <p:nvPr/>
        </p:nvPicPr>
        <p:blipFill>
          <a:blip r:embed="rId3"/>
          <a:stretch/>
        </p:blipFill>
        <p:spPr>
          <a:xfrm>
            <a:off x="4786200" y="1089000"/>
            <a:ext cx="4119840" cy="30909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4929120" y="421488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воздушном шарике без тру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таешь ты туда и сю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429160" y="1143000"/>
            <a:ext cx="2857680" cy="30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ёлы удивились вдруг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аг ты нам или друг?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Винни-Пух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амучил меня недуг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ку хотел у вас проси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здоровым, сильным быт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итаминов там так много –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вкусней продукта нет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инералы, йод, железо -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крепят мой иммунитет!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Рисунок 3" descr="&amp;Vcy;&amp;icy;&amp;ncy;&amp;ncy;&amp;icy; &amp;pcy;&amp;ucy;&amp;khcy; &amp;icy; &amp;pcy;&amp;chcy;&amp;iecy;&amp;lcy;&amp;ycy; &amp;scy;&amp;mcy;&amp;ocy;&amp;tcy;&amp;rcy;&amp;iecy;&amp;tcy;&amp;softcy; &amp;ocy;&amp;ncy;&amp;lcy;&amp;acy;&amp;jcy;&amp;ncy; &amp;mcy;&amp;ucy;&amp;lcy;&amp;softcy;&amp;tcy;&amp;fcy;&amp;icy;&amp;lcy;&amp;softcy;&amp;mcy;"/>
          <p:cNvPicPr/>
          <p:nvPr/>
        </p:nvPicPr>
        <p:blipFill>
          <a:blip r:embed="rId1"/>
          <a:srcRect l="17007" t="0" r="0" b="0"/>
          <a:stretch/>
        </p:blipFill>
        <p:spPr>
          <a:xfrm>
            <a:off x="214200" y="857160"/>
            <a:ext cx="4929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14200" y="4643280"/>
            <a:ext cx="31435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ёлы мёдом угостили, и Винни-Пух отправился домой</a:t>
            </a: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3280" y="4643280"/>
            <a:ext cx="404208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 держал заветный горшочек, а в голове кружились слова Мудрой Совы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ятачок с надеждой смотрел на Винни-Пуха и думал о том, что испробует тоже  целебного  медк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Рисунок 6" descr="&amp;Mcy;&amp;ucy;&amp;lcy;&amp;softcy;&amp;tcy;&amp;icy;&amp;kcy; &amp;vcy;&amp;icy;&amp;ncy;&amp;icy; &amp;pcy;&amp;ucy;&amp;khcy; - &amp;ocy;&amp;bcy;&amp;zcy;&amp;ocy;&amp;rcy;&amp;ycy;, &amp;rcy;&amp;iecy;&amp;tscy;&amp;iecy;&amp;ncy;&amp;zcy;&amp;icy;&amp;icy;, &amp;pcy;&amp;rcy;&amp;iecy;&amp;vcy;&amp;softcy;&amp;yucy;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&amp;Vcy;&amp;icy;&amp;ncy;&amp;ncy;&amp;icy; &amp;Pcy;&amp;ucy;&amp;khcy;"/>
          <p:cNvPicPr/>
          <p:nvPr/>
        </p:nvPicPr>
        <p:blipFill>
          <a:blip r:embed="rId2"/>
          <a:stretch/>
        </p:blipFill>
        <p:spPr>
          <a:xfrm>
            <a:off x="4357800" y="1143000"/>
            <a:ext cx="4500360" cy="3357720"/>
          </a:xfrm>
          <a:prstGeom prst="rect">
            <a:avLst/>
          </a:prstGeom>
          <a:ln w="0">
            <a:noFill/>
          </a:ln>
        </p:spPr>
      </p:pic>
      <p:sp>
        <p:nvSpPr>
          <p:cNvPr id="212" name="Двойная стрелка влево/вправо 9"/>
          <p:cNvSpPr/>
          <p:nvPr/>
        </p:nvSpPr>
        <p:spPr>
          <a:xfrm>
            <a:off x="3286080" y="45720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64296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сти к Винни  заглянул и Кролик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го болело горло  и животик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вежонок в мисочки наложил медка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сал затылок: «А доза ли невелика?»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потом вспомнил Совушки слова: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ёда много не бывает никогда!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Рисунок 3" descr="&amp;Vcy;&amp;icy;&amp;ncy;&amp;ncy;&amp;icy;-&amp;Pcy;&amp;ucy;&amp;khcy; &amp;icy; &amp;vcy;&amp;scy;&amp;iecy;-&amp;vcy;&amp;scy;&amp;iecy;-&amp;vcy;&amp;scy;&amp;iecy;."/>
          <p:cNvPicPr/>
          <p:nvPr/>
        </p:nvPicPr>
        <p:blipFill>
          <a:blip r:embed="rId1"/>
          <a:stretch/>
        </p:blipFill>
        <p:spPr>
          <a:xfrm>
            <a:off x="3000240" y="2286000"/>
            <a:ext cx="58579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71680" y="55004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лик ел мёд и рассказывал о том, что этот продукт помогает при простуде, им лечат фурункулы,  делают компресс на больное место, пьют вместе с молоком при ангине и много-много  других полезных свойств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Рисунок 3" descr="&amp;Scy;&amp;kcy;&amp;acy;&amp;chcy;&amp;acy;&amp;tcy;&amp;softcy; &amp;mcy;&amp;ucy;&amp;lcy;&amp;softcy;&amp;tcy;&amp;fcy;&amp;icy;&amp;lcy;&amp;softcy;&amp;mcy; &quot;&amp;Vcy;&amp;icy;&amp;ncy;&amp;ncy;&amp;icy; &amp;Pcy;&amp;ucy;&amp;khcy;&quot; - &amp;Scy;&amp;tcy;&amp;acy;&amp;rcy;&amp;ycy;&amp;iecy; &amp;dcy;&amp;ocy;&amp;bcy;&amp;rcy;&amp;ycy;&amp;iecy; &amp;mcy;&amp;ucy;&amp;lcy;&amp;softcy;&amp;tcy;&amp;icy;&amp;kcy;&amp;icy;"/>
          <p:cNvPicPr/>
          <p:nvPr/>
        </p:nvPicPr>
        <p:blipFill>
          <a:blip r:embed="rId1"/>
          <a:stretch/>
        </p:blipFill>
        <p:spPr>
          <a:xfrm>
            <a:off x="785880" y="714240"/>
            <a:ext cx="76579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8:45:28Z</dcterms:created>
  <dc:creator>Информатика</dc:creator>
  <dc:description/>
  <dc:language>en-US</dc:language>
  <cp:lastModifiedBy>Информатика</cp:lastModifiedBy>
  <dcterms:modified xsi:type="dcterms:W3CDTF">2014-10-25T09:56:31Z</dcterms:modified>
  <cp:revision>33</cp:revision>
  <dc:subject/>
  <dc:title>Презентация – комикс  о пчелином мёде</dc:title>
</cp:coreProperties>
</file>