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F26-2F77-4F6E-85B0-AFE87E9F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34A-7D6E-4594-8AAB-51479253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04D-DA6C-4217-8314-77F223E1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F97-8A82-41BC-8977-C12A707A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9BBC-2975-4F60-BF87-FAAE4EB9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1861-C0BF-41B3-904B-13B89109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1010-26B1-4712-AF41-837A40FA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6151-1FBD-4B63-9F59-A4694EC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C2DA-5559-4D09-922D-B1A8289C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7C3E-C675-4837-BFDA-AF34CBDE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B0BB-95ED-4804-971C-3F3DC565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D7C-51C3-4163-9828-39E489C7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3FF7-A263-4E82-A520-87D3A6B2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46F4-D846-4C1E-B262-10334A9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2B97-239F-40AB-9DBD-B91FF889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CA65-25EB-4F52-B2AB-18BFF003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0B33-5DAE-4EE2-8C57-3516AC36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7E5-7A0B-4726-B84D-98213A00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FBC-4520-441C-AB5B-70607FA2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EC4-2C85-438D-A8F2-6C8D012A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FE6-AE36-4740-9BE6-7D4B2EC0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38C-F744-4ED2-BC69-76E429EF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FDF-859E-4F96-A651-5D91011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5F8-515D-45D6-80D9-3DD8104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9951-ACFC-40EB-97D7-59CB3669A8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726D-4B7C-44D0-96EB-AED0F4A47E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Анкета  к  педсовету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1413000"/>
            <a:ext cx="831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Цель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Изучение основных личностных качеств учащихся, на формирование которых учитель может оказать влияни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.Назовите три основных качества ученика, с которыми Вам приятно общаться на урок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89000"/>
            <a:ext cx="3492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Нач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юбозн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рганизов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ним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оспит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крыт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314172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989000"/>
            <a:ext cx="3240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Среднее зв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обр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рудолю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ним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1773360"/>
            <a:ext cx="313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Старшее зв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Целеустрем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еж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нтеллиг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обросовес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сполн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отрудничество-со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01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.Назовите три основных качества ученика, с которыми Вам чаще всего приходиться сталкиваться на урок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75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Рассеянность                 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Л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евнимательность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Безответствен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ассив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Быстрая утомляем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еуверенность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ебреж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206064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личие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ворческ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тзыв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3.Назовите три основных качества ученика, на формирование которых Вы     действительно оказываете влияни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6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чальные кла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тар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исципл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юбозна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ле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2492280"/>
            <a:ext cx="36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реднее зв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ультура общения внутри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рганиз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ера в себя,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трем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нтерес к предм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1628640"/>
            <a:ext cx="367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аршее зв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крытость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иал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ра,уве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влеч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удолюб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ряд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б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олера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трио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важение к школе и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09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словия, способствующие повышению социализации и самоактуализации подрастающего покол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03280" y="227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сприятие каждого учащегося как неповторимой личности и  атмосфера сотрудничества, сопереживания, взаимоподдержки и взаимопомощи во всех видах взаимодействия учителя и учащегос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Умение ставить чёткие цели и уметь находить верные пути решения, быть заинтересованным в мотиве достижения успеха через преодоление трудностей – этому важно учить не только учащихся уже с первого класса, но учиться сами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ажным условием психологической безопасности учащихся в школе является вера в свой успех, а он достигается только через веру учителя в успех ребён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ажно вселить уверенность в ребёнке, что он талантлив. А каждый ребёнок талантлив по-своем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ебастиане Еранте 1457-1521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бёнок учится том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 видит у себя в до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ителя пример 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то при детях груб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му язык распутства люб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усть помнит, что с лихвой получи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 них всё то, чему их уч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ль видят нас и слышат де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ы за дела свои в отве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 за слова: легко толкну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тей на нехороший пу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ржи в приличии свой дом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бы не каяться по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09:10:45Z</dcterms:created>
  <dc:creator>suhanovaev</dc:creator>
  <dc:description/>
  <dc:language>en-US</dc:language>
  <cp:lastModifiedBy>suhanovaev</cp:lastModifiedBy>
  <dcterms:modified xsi:type="dcterms:W3CDTF">2014-01-09T10:08:16Z</dcterms:modified>
  <cp:revision>5</cp:revision>
  <dc:subject/>
  <dc:title>Анкета  к  педсовету </dc:title>
</cp:coreProperties>
</file>