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C97-F906-4700-B6A8-31A1944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66B-4EAA-403B-ACE4-535BAA1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9A2-971B-41D8-9F7B-AA393A99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915-F313-4E1F-ACA0-B70536F9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6251-3A32-4E7C-8D75-7240A07F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13A-43F0-49E3-B34C-F77FA7B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0E70-0AA0-4832-8E51-4349EFC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F680-7708-41B3-8B2A-C302F9B3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7471-1BA2-4858-8438-6D9F5EF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564F-98DB-4BC1-B716-4E99B168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42FF-CF26-4D14-8BE8-F3F69C8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189-0A97-4ECD-88EC-FE5DA4C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FBAC-4C08-4796-A22E-98E1785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33A-8C63-4670-A91B-F30878A0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F989-4333-4684-A8C4-AB86C2B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44BA-DCF7-4D20-BBDA-6E67B5C3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1571-3F19-4F6C-9982-292D302F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1CA-14F2-4925-AE25-79B8F81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12C-D79D-4C77-A7E6-411F40C7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3DF-19FD-418B-B973-E4F97392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14F-706A-470B-9D17-AD20557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AE8-B280-42C7-A3A3-3FD6093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A54-AD3E-45EC-BA55-F44047E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FB1-1BDF-4D3B-8A09-A0DC4D4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C473-4C37-46AD-B233-D9B37C5A71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5064-B9DB-435E-870E-2B35E1E937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Анкета  к  педсовету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1413000"/>
            <a:ext cx="831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Цель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Изучение основных личностных качеств учащихся, на формирование которых учитель может оказать влияни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.Назовите три основных качества ученика, с которыми Вам приятно общаться на урок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89000"/>
            <a:ext cx="3492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Нач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юбозн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рганизов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ним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спит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31417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989000"/>
            <a:ext cx="3240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Среднее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бр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рудолю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ним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1773360"/>
            <a:ext cx="313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Старшее зв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леустрем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еж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ллиг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обросов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сполн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отрудничество-со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01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.Назовите три основных качества ученика, с которыми Вам чаще всего приходиться сталкиваться на урок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7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Рассеянность                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Л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внимательность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Безответствен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асс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Быстрая утомляем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уверенность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бреж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06064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личие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ворческ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тзыв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.Назовите три основных качества ученика, на формирование которых Вы     действительно оказываете влияни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чальные кла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ар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исцип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юбозн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ле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492280"/>
            <a:ext cx="36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реднее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ультура общения внутри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рганиз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ера в себя,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рем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нтерес к предм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628640"/>
            <a:ext cx="367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ршее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крытость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иал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ра,уве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влеч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удолюб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ряд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лера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трио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важение к школе и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словия, способствующие повышению социализации и самоактуализации подрастающего покол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сприятие каждого учащегося как неповторимой личности и  атмосфера сотрудничества, сопереживания, взаимоподдержки и взаимопомощи во всех видах взаимодействия учителя и учащегос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Умение ставить чёткие цели и уметь находить верные пути решения, быть заинтересованным в мотиве достижения успеха через преодоление трудностей – этому важно учить не только учащихся уже с первого класса, но учиться сами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ажным условием психологической безопасности учащихся в школе является вера в свой успех, а он достигается только через веру учителя в успех ребён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ажно вселить уверенность в ребёнке, что он талантлив. А каждый ребёнок талантлив по-своем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ебастиане Еранте 1457-1521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бёнок учится том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 видит у себя в до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ителя пример 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то при детях груб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му язык распутства люб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ть помнит, что с лихвой получ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 них всё то, чему их уч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ль видят нас и слышат де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ы за дела свои в отве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 за слова: легко толкну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тей на нехороший пу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ржи в приличии свой до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бы не каяться по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9:10:45Z</dcterms:created>
  <dc:creator>suhanovaev</dc:creator>
  <dc:description/>
  <dc:language>en-US</dc:language>
  <cp:lastModifiedBy>suhanovaev</cp:lastModifiedBy>
  <dcterms:modified xsi:type="dcterms:W3CDTF">2014-01-09T10:08:16Z</dcterms:modified>
  <cp:revision>5</cp:revision>
  <dc:subject/>
  <dc:title>Анкета  к  педсовету </dc:title>
</cp:coreProperties>
</file>