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285-D091-4185-B572-AE90804C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EAC-20A1-4779-9822-6B594209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13D-AEE7-4F65-8659-34701C6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2FD-3B03-478B-996F-6525CB1B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382-6513-4521-957C-8EC721F2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996-B0BF-450D-A370-6E405EC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C53-770D-4A1D-99A0-53B7ABB1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239-4B71-41D0-AEC9-23BC5B4B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B9D-9408-4285-8AD3-0A66FE3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92F-8727-48BF-8940-2DB5D337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549-58A1-4886-9816-B091092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652-A668-4BB2-98BA-D1BFC28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A61-36AB-45D1-8600-7740890DA7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КОУ «Средняя общеобразовательная школа № 10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АДРИНСКИЙ ФУТБО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и: учащиеся 7 а                                            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Кузнецова Екатери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Карлин Святосла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Руководитель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учитель физической культур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Н.А.Герасимо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Шадринск 2013 г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СТРЕЕ! ВЫШЕ! СИЛЬНЕ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9" descr="4-1"/>
          <p:cNvPicPr/>
          <p:nvPr/>
        </p:nvPicPr>
        <p:blipFill>
          <a:blip r:embed="rId1"/>
          <a:stretch/>
        </p:blipFill>
        <p:spPr>
          <a:xfrm>
            <a:off x="322200" y="-387360"/>
            <a:ext cx="84978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Цель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анализировать развитие футбола в Шадринске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1.Изучить историю возникновения городской команды «Торпедо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2.Изучить выступление команды в областных турнирах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3.Проанализировать влияние футбола на общество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3" name="Picture 5" descr="sk-torpedo"/>
          <p:cNvPicPr/>
          <p:nvPr/>
        </p:nvPicPr>
        <p:blipFill>
          <a:blip r:embed="rId1"/>
          <a:stretch/>
        </p:blipFill>
        <p:spPr>
          <a:xfrm>
            <a:off x="3780000" y="189000"/>
            <a:ext cx="1439640" cy="84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торпедо шадринск"/>
          <p:cNvPicPr/>
          <p:nvPr/>
        </p:nvPicPr>
        <p:blipFill>
          <a:blip r:embed="rId2"/>
          <a:stretch/>
        </p:blipFill>
        <p:spPr>
          <a:xfrm>
            <a:off x="3708360" y="45417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ф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у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564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А. Ма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маслов"/>
          <p:cNvPicPr/>
          <p:nvPr/>
        </p:nvPicPr>
        <p:blipFill>
          <a:blip r:embed="rId1"/>
          <a:stretch/>
        </p:blipFill>
        <p:spPr>
          <a:xfrm>
            <a:off x="1763640" y="404640"/>
            <a:ext cx="6193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C:\Users\School10\Desktop\футбол\t195010_jpg_840x840_q85[1].jpg"/>
          <p:cNvPicPr/>
          <p:nvPr/>
        </p:nvPicPr>
        <p:blipFill>
          <a:blip r:embed="rId1"/>
          <a:stretch/>
        </p:blipFill>
        <p:spPr>
          <a:xfrm>
            <a:off x="-396720" y="549360"/>
            <a:ext cx="99932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.Виль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vilnikov_small"/>
          <p:cNvPicPr/>
          <p:nvPr/>
        </p:nvPicPr>
        <p:blipFill>
          <a:blip r:embed="rId1"/>
          <a:stretch/>
        </p:blipFill>
        <p:spPr>
          <a:xfrm>
            <a:off x="0" y="2565360"/>
            <a:ext cx="3211560" cy="429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виля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Г.Пясто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л"/>
          <p:cNvPicPr/>
          <p:nvPr/>
        </p:nvPicPr>
        <p:blipFill>
          <a:blip r:embed="rId1"/>
          <a:stretch/>
        </p:blipFill>
        <p:spPr>
          <a:xfrm>
            <a:off x="2700360" y="260280"/>
            <a:ext cx="3770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о"/>
          <p:cNvPicPr/>
          <p:nvPr/>
        </p:nvPicPr>
        <p:blipFill>
          <a:blip r:embed="rId1"/>
          <a:stretch/>
        </p:blipFill>
        <p:spPr>
          <a:xfrm>
            <a:off x="0" y="0"/>
            <a:ext cx="10188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51:34Z</dcterms:created>
  <dc:creator>олег</dc:creator>
  <dc:description/>
  <dc:language>en-US</dc:language>
  <cp:lastModifiedBy>School10</cp:lastModifiedBy>
  <dcterms:modified xsi:type="dcterms:W3CDTF">2013-11-28T05:41:01Z</dcterms:modified>
  <cp:revision>4</cp:revision>
  <dc:subject/>
  <dc:title>            МКОУ «Средняя общеобразовательная школа № 10»                     ШАДРИНСКИЙ ФУТБОЛ                                                 Выполнили: учащиеся 7 а кл.   Кузнецова Екат       </dc:title>
</cp:coreProperties>
</file>