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47E3-3C31-4CE0-A34C-7A5014FF3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E3F1-DF31-444B-A22D-CCE2D3B9B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0556-71E0-4522-BC86-8DC67E5CF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7AB1-CE95-445C-8B83-F2781596D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6D1B-DC6D-455B-B34A-BDB47CF86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69E5-A1F1-4784-9E2D-169ED0737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C5FE-9A95-4ACD-A876-6C7DDF5B2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547A-C832-45FF-BD21-F53EEBEF9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D830-3E36-44F1-A2F4-3C32BCBC2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1FF2-1A8F-46E5-9CB1-5F445534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52A6-92CE-458A-A221-2272EB31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4213-4475-47C7-932E-B76B0CD5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25A54-A112-4110-A7C0-46573135C08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КОУ «Средняя общеобразовательная школа № 10»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ШАДРИНСКИЙ ФУТБОЛ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ыполнили: учащиеся 7 а                                                                                                                              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Кузнецова Екатерина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Карлин Святослав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Руководитель: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учитель физической культуры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Н.А.Герасимова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    Шадринск 2013 г.</a:t>
            </a:r>
            <a:br>
              <a:rPr sz="2000"/>
            </a:b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ЫСТРЕЕ! ВЫШЕ! СИЛЬНЕЕ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" name="Picture 9" descr="4-1"/>
          <p:cNvPicPr/>
          <p:nvPr/>
        </p:nvPicPr>
        <p:blipFill>
          <a:blip r:embed="rId1"/>
          <a:stretch/>
        </p:blipFill>
        <p:spPr>
          <a:xfrm>
            <a:off x="322200" y="-387360"/>
            <a:ext cx="8497800" cy="56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62800" cy="592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Цель исследования: 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проанализировать развитие футбола в Шадринске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Задачи: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1.Изучить историю возникновения городской команды «Торпедо»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2.Изучить выступление команды в областных турнирах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3.Проанализировать влияние футбола на общество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3" name="Picture 5" descr="sk-torpedo"/>
          <p:cNvPicPr/>
          <p:nvPr/>
        </p:nvPicPr>
        <p:blipFill>
          <a:blip r:embed="rId1"/>
          <a:stretch/>
        </p:blipFill>
        <p:spPr>
          <a:xfrm>
            <a:off x="3780000" y="189000"/>
            <a:ext cx="1439640" cy="847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торпедо шадринск"/>
          <p:cNvPicPr/>
          <p:nvPr/>
        </p:nvPicPr>
        <p:blipFill>
          <a:blip r:embed="rId2"/>
          <a:stretch/>
        </p:blipFill>
        <p:spPr>
          <a:xfrm>
            <a:off x="3708360" y="454176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" name="Picture 4" descr="ф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2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" name="Picture 4" descr="у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656400" cy="24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.А. Масл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7" descr="маслов"/>
          <p:cNvPicPr/>
          <p:nvPr/>
        </p:nvPicPr>
        <p:blipFill>
          <a:blip r:embed="rId1"/>
          <a:stretch/>
        </p:blipFill>
        <p:spPr>
          <a:xfrm>
            <a:off x="1763640" y="404640"/>
            <a:ext cx="619308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5" name="Picture 2" descr="C:\Users\School10\Desktop\футбол\t195010_jpg_840x840_q85[1].jpg"/>
          <p:cNvPicPr/>
          <p:nvPr/>
        </p:nvPicPr>
        <p:blipFill>
          <a:blip r:embed="rId1"/>
          <a:stretch/>
        </p:blipFill>
        <p:spPr>
          <a:xfrm>
            <a:off x="-396720" y="549360"/>
            <a:ext cx="999324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                  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А.Вильников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7" name="Picture 5" descr="vilnikov_small"/>
          <p:cNvPicPr/>
          <p:nvPr/>
        </p:nvPicPr>
        <p:blipFill>
          <a:blip r:embed="rId1"/>
          <a:stretch/>
        </p:blipFill>
        <p:spPr>
          <a:xfrm>
            <a:off x="0" y="2565360"/>
            <a:ext cx="3211560" cy="4292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виля"/>
          <p:cNvPicPr/>
          <p:nvPr/>
        </p:nvPicPr>
        <p:blipFill>
          <a:blip r:embed="rId2"/>
          <a:stretch/>
        </p:blipFill>
        <p:spPr>
          <a:xfrm>
            <a:off x="3238560" y="0"/>
            <a:ext cx="590544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.Г.Пястол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4" descr="л"/>
          <p:cNvPicPr/>
          <p:nvPr/>
        </p:nvPicPr>
        <p:blipFill>
          <a:blip r:embed="rId1"/>
          <a:stretch/>
        </p:blipFill>
        <p:spPr>
          <a:xfrm>
            <a:off x="2700360" y="260280"/>
            <a:ext cx="37702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Picture 4" descr="о"/>
          <p:cNvPicPr/>
          <p:nvPr/>
        </p:nvPicPr>
        <p:blipFill>
          <a:blip r:embed="rId1"/>
          <a:stretch/>
        </p:blipFill>
        <p:spPr>
          <a:xfrm>
            <a:off x="0" y="0"/>
            <a:ext cx="10188720" cy="682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23:51:34Z</dcterms:created>
  <dc:creator>олег</dc:creator>
  <dc:description/>
  <dc:language>en-US</dc:language>
  <cp:lastModifiedBy>School10</cp:lastModifiedBy>
  <dcterms:modified xsi:type="dcterms:W3CDTF">2013-11-28T05:41:01Z</dcterms:modified>
  <cp:revision>4</cp:revision>
  <dc:subject/>
  <dc:title>            МКОУ «Средняя общеобразовательная школа № 10»                     ШАДРИНСКИЙ ФУТБОЛ                                                 Выполнили: учащиеся 7 а кл.   Кузнецова Екат       </dc:title>
</cp:coreProperties>
</file>