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2BB9-370F-40F2-950F-18CD4EFDE8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44A7-F8C1-407F-8C5B-D24AEF3B502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CCF-174A-4214-B186-F61DC4C0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30D-ACF5-4A4E-BF1D-4DB39D27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81F-A1B7-448C-9193-97B58E03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4FD-47FF-451C-96D7-1344FF71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F601-2DB5-4A6B-95A2-D6F88C95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BAAA-5A74-4A77-A7FC-42461230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2B8E-7F65-42DD-8EF0-0C3176F7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58E9-F412-49F9-9798-A1A00EBF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2A8A-14DD-4991-8F27-3C3D2A71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0BD5-06AF-4241-B1C4-B9BE74A6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9762-1184-4DE0-926B-275DACB2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5E0-56AE-444F-A040-AE0A9B29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6388-99F6-41F2-B2F6-BF785DA3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1C93-2F9A-4023-A1E4-6FD8ED0E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7167-8F88-4ACF-A167-58C37647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0918-908E-4E45-AE94-A3A65F66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659A-984B-4CFC-946E-2D03C688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557-17B7-48A3-B003-EE5E3BD2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76B-741C-4138-AAC8-AE916082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D49-8DF3-44A6-990B-6A933714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A797-67DE-47CE-BD0B-3D699EC4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058-7E3A-473F-8A13-440DD9D8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5AF-9C1F-4525-B93A-D7A29484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1B0-0589-4DF8-9D83-37263B3D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BAC0-A425-4D34-8444-BF7125EC361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19BE-019A-4AF9-8599-F246DC7350F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146160" y="914400"/>
            <a:ext cx="9217080" cy="2554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42600" y="3642840"/>
            <a:ext cx="507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istral"/>
              </a:rPr>
              <a:t>«Последний поэт деревни»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" descr="C:\Documents and Settings\дом\Рабочий стол\pe_013.bmp"/>
          <p:cNvPicPr/>
          <p:nvPr/>
        </p:nvPicPr>
        <p:blipFill>
          <a:blip r:embed="rId3"/>
          <a:stretch/>
        </p:blipFill>
        <p:spPr>
          <a:xfrm>
            <a:off x="5715000" y="3143160"/>
            <a:ext cx="3000240" cy="3338640"/>
          </a:xfrm>
          <a:prstGeom prst="rect">
            <a:avLst/>
          </a:prstGeom>
          <a:ln w="0">
            <a:noFill/>
          </a:ln>
        </p:spPr>
      </p:pic>
      <p:pic>
        <p:nvPicPr>
          <p:cNvPr id="92" name="презентация.mp3" descr=""/>
          <p:cNvPicPr/>
          <p:nvPr/>
        </p:nvPicPr>
        <p:blipFill>
          <a:blip r:embed="rId4"/>
          <a:stretch/>
        </p:blipFill>
        <p:spPr>
          <a:xfrm>
            <a:off x="-304920" y="3571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7826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2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42960" y="1357200"/>
            <a:ext cx="7786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зентацию подготовил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3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линов Александр и Шепетинский Ант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3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3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3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3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3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материалам БЭКМ2007. Использованы песни на стихотворения Сергея Александровича Есенина «Клен ты мой, опавший» (группа «Чайф») и «Пой же, пой» (группа «Кукрыниксы»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Детство и юность поэ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Литературный дебю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еволю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мажиниз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йсед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следние годы. Трагический коне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pull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963720" y="-353880"/>
            <a:ext cx="8692920" cy="1512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071680" y="714240"/>
            <a:ext cx="407196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Родился 21 сентября (3 октября) 1895 года, с.Константиново Рязанской губерн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1909 год—закончил Константиновское четырехклассное училищ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1909-12 гг.—обучение в Спас-Клепиковской учительской школ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Летом  1912 года—переезжает в Москву, а с 1913 по 1915 год он занимается на историко-философском отделении университета Шанявског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0" y="1143000"/>
            <a:ext cx="4656240" cy="4359240"/>
          </a:xfrm>
          <a:prstGeom prst="rect">
            <a:avLst/>
          </a:prstGeom>
          <a:ln w="0">
            <a:noFill/>
          </a:ln>
        </p:spPr>
      </p:pic>
      <p:cxnSp>
        <p:nvCxnSpPr>
          <p:cNvPr id="98" name="Скругленная соединительная линия 25"/>
          <p:cNvCxnSpPr/>
          <p:nvPr/>
        </p:nvCxnSpPr>
        <p:spPr>
          <a:xfrm rot="10800000">
            <a:off x="642240" y="1356480"/>
            <a:ext cx="3643920" cy="1072440"/>
          </a:xfrm>
          <a:prstGeom prst="curvedConnector5">
            <a:avLst>
              <a:gd name="adj1" fmla="val 43819"/>
              <a:gd name="adj2" fmla="val 50000"/>
              <a:gd name="adj3" fmla="val 43819"/>
            </a:avLst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9" name="Стрелка углом вверх 14"/>
          <p:cNvSpPr/>
          <p:nvPr/>
        </p:nvSpPr>
        <p:spPr>
          <a:xfrm>
            <a:off x="2928960" y="2643120"/>
            <a:ext cx="1571760" cy="785880"/>
          </a:xfrm>
          <a:prstGeom prst="pie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Прямая соединительная линия 22"/>
          <p:cNvSpPr/>
          <p:nvPr/>
        </p:nvSpPr>
        <p:spPr>
          <a:xfrm>
            <a:off x="2857680" y="3714840"/>
            <a:ext cx="16430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ая соединительная линия 20"/>
          <p:cNvSpPr/>
          <p:nvPr/>
        </p:nvSpPr>
        <p:spPr>
          <a:xfrm>
            <a:off x="2857680" y="3857760"/>
            <a:ext cx="16430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3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3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3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C:\Documents and Settings\дом\Рабочий стол\05lit004i.bmp"/>
          <p:cNvPicPr/>
          <p:nvPr/>
        </p:nvPicPr>
        <p:blipFill>
          <a:blip r:embed="rId2"/>
          <a:stretch/>
        </p:blipFill>
        <p:spPr>
          <a:xfrm>
            <a:off x="6566040" y="1133640"/>
            <a:ext cx="2369880" cy="2639880"/>
          </a:xfrm>
          <a:prstGeom prst="rect">
            <a:avLst/>
          </a:prstGeom>
          <a:ln w="0">
            <a:noFill/>
          </a:ln>
        </p:spPr>
      </p:pic>
      <p:pic>
        <p:nvPicPr>
          <p:cNvPr id="103" name="Заголовок 4" descr=""/>
          <p:cNvPicPr/>
          <p:nvPr/>
        </p:nvPicPr>
        <p:blipFill>
          <a:blip r:embed="rId3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500040" y="1599840"/>
            <a:ext cx="61437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77400" indent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В1914 году начинает печататься в московских детских журналах (дебют — стихотворение «Береза»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7400" indent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В 1915 году переезжает в Петербур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7400" indent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В 1916  публикует первый сборник стихов  «Радуница», а 1918 выходят «Голубень», «Преображение», «Сельский часослов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7400" indent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4 июля 1917г.—венчается с Зинаидой Рай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7400" indent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7400" indent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7400" indent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5" descr="C:\Documents and Settings\дом\Рабочий стол\pk_029.bmp"/>
          <p:cNvPicPr/>
          <p:nvPr/>
        </p:nvPicPr>
        <p:blipFill>
          <a:blip r:embed="rId4"/>
          <a:stretch/>
        </p:blipFill>
        <p:spPr>
          <a:xfrm>
            <a:off x="6595920" y="4005360"/>
            <a:ext cx="23958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:\Documents and Settings\дом\Рабочий стол\05pg009i.bmp"/>
          <p:cNvPicPr/>
          <p:nvPr/>
        </p:nvPicPr>
        <p:blipFill>
          <a:blip r:embed="rId2"/>
          <a:stretch/>
        </p:blipFill>
        <p:spPr>
          <a:xfrm>
            <a:off x="214200" y="3357720"/>
            <a:ext cx="2632320" cy="2928960"/>
          </a:xfrm>
          <a:prstGeom prst="rect">
            <a:avLst/>
          </a:prstGeom>
          <a:ln w="0">
            <a:noFill/>
          </a:ln>
        </p:spPr>
      </p:pic>
      <p:pic>
        <p:nvPicPr>
          <p:cNvPr id="107" name="Заголовок 1" descr=""/>
          <p:cNvPicPr/>
          <p:nvPr/>
        </p:nvPicPr>
        <p:blipFill>
          <a:blip r:embed="rId3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785680" y="1285920"/>
            <a:ext cx="590076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36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В начале 1918 Есенин переезжает в Москв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Есенин, воспевая новую действительность и ее героев, пытался соответствовать времени («Кантата», 1919). Позже им были написаны «Песнь о великом походе» (1924), «Капитан земли» (1925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2" descr="C:\Documents and Settings\дом\Рабочий стол\a00068i.bmp"/>
          <p:cNvPicPr/>
          <p:nvPr/>
        </p:nvPicPr>
        <p:blipFill>
          <a:blip r:embed="rId4"/>
          <a:stretch/>
        </p:blipFill>
        <p:spPr>
          <a:xfrm>
            <a:off x="214200" y="428760"/>
            <a:ext cx="235764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Documents and Settings\дом\Рабочий стол\05dor016i.bmp"/>
          <p:cNvPicPr/>
          <p:nvPr/>
        </p:nvPicPr>
        <p:blipFill>
          <a:blip r:embed="rId2"/>
          <a:stretch/>
        </p:blipFill>
        <p:spPr>
          <a:xfrm>
            <a:off x="6643800" y="428760"/>
            <a:ext cx="2228760" cy="2500200"/>
          </a:xfrm>
          <a:prstGeom prst="rect">
            <a:avLst/>
          </a:prstGeom>
          <a:ln w="0">
            <a:noFill/>
          </a:ln>
        </p:spPr>
      </p:pic>
      <p:pic>
        <p:nvPicPr>
          <p:cNvPr id="111" name="Заголовок 1" descr=""/>
          <p:cNvPicPr/>
          <p:nvPr/>
        </p:nvPicPr>
        <p:blipFill>
          <a:blip r:embed="rId3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85480" y="1357200"/>
            <a:ext cx="57150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64160" indent="344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 начале 1919 Есенин, Мариенгоф, Шершеневич, Ивнев объединяются в группу имажинис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4160" indent="344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 1920 распался длившийся около трех лет брак с З. Н. Рай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4160" indent="344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1921г.—«Исповедь хулигана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4160" indent="344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же в 1921 Есенин выступает в печати с критикой имажинис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4160" indent="344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4160" indent="344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4160" indent="3448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4" descr="C:\Documents and Settings\дом\Рабочий стол\BE_05f0413i.bmp"/>
          <p:cNvPicPr/>
          <p:nvPr/>
        </p:nvPicPr>
        <p:blipFill>
          <a:blip r:embed="rId4"/>
          <a:stretch/>
        </p:blipFill>
        <p:spPr>
          <a:xfrm>
            <a:off x="6072120" y="3429000"/>
            <a:ext cx="271476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9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2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61149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268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сенью 1921 года Есенин знакомится с Айседорой Дункан, а через полгода она становится его жен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268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 мая 1922 по август 1923 путешествуют по Европе. По возвращении в России они расстаю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2" descr="C:\Documents and Settings\дом\Рабочий стол\pd_032.bmp"/>
          <p:cNvPicPr/>
          <p:nvPr/>
        </p:nvPicPr>
        <p:blipFill>
          <a:blip r:embed="rId3"/>
          <a:stretch/>
        </p:blipFill>
        <p:spPr>
          <a:xfrm>
            <a:off x="6512040" y="2133720"/>
            <a:ext cx="2631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77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77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0" y="171360"/>
            <a:ext cx="9259920" cy="1255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357120" y="1599840"/>
            <a:ext cx="8501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36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 период с 1922 по 1925 создаются его лучшие строки: «Отговорила роща золотая...», «Письмо к матери», «Персидские мотивы», «Анна Снегина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1925—сборники «Русь Советская», «Страна Советская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 конце ноября 1925 поэт попадает в психоневрологическую клини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23 декабря Есенин поехал в Ленинград, где в ночь на 28 декабря покончил с соб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363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93560" y="46980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286000" y="2214720"/>
            <a:ext cx="450072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ироко распространенные версии о других обстоятельствах смерти поэта специально созданная комиссия в 1993 не подтверди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31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2:22:54Z</dcterms:created>
  <dc:creator>дом</dc:creator>
  <dc:description/>
  <dc:language>en-US</dc:language>
  <cp:lastModifiedBy>www.PHILka.RU</cp:lastModifiedBy>
  <dcterms:modified xsi:type="dcterms:W3CDTF">2008-11-30T18:30:22Z</dcterms:modified>
  <cp:revision>24</cp:revision>
  <dc:subject/>
  <dc:title>Сергей Александрович Есенин.</dc:title>
</cp:coreProperties>
</file>