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0F6-8772-43B2-AC7B-DD8676410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6D47-8180-4E51-B5C4-EA210E1EFF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3E4-A173-4BF0-AE1D-C6D26FFD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66B-E2FA-4E6E-96A3-1C3EBFD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C56-5417-4927-B8E0-BF997CD8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412-C195-4DE4-BDEF-F42D54A8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654-903C-4E82-8077-5F14F05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259-7F56-434B-98B4-2E96F8A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C3D7-FAA2-45AD-B305-14B627D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4D3-16D1-4922-85B5-FFD093B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8DD1-14DD-4EA4-A7D0-940B6906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7D1-10A7-471F-A183-E7DDED12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675-77E5-475A-8C1C-5710F3B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DDE-DE36-48CD-99D6-E9837E1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8DB-DA24-478A-93A0-7E0C859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12A0-2113-42B4-8207-D3C7504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A67D-E64A-4BAE-A306-2C5898F3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D6D-CDD1-4388-A638-B4654619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5004-1292-4AD8-8633-16C7D18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EB0-CA4E-4138-8BE8-9EEBE3F6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FAB-656B-43FB-A9E7-687EE23E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D57-60F9-4C34-B806-EC592DE0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A2F-F11B-42FD-A014-6A8A3AA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3C9-551F-4ACE-8A97-1C909CD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B66-6E89-4AB4-9CE4-00E0A78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36C-C880-4D17-AE59-D297B63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029-0E74-438A-8C29-0877B36B7BE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8FA-5756-448C-8236-8AE438FF171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46160" y="914400"/>
            <a:ext cx="9217080" cy="2554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42600" y="3642840"/>
            <a:ext cx="507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stral"/>
              </a:rPr>
              <a:t>«Последний поэт деревни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C:\Documents and Settings\дом\Рабочий стол\pe_013.bmp"/>
          <p:cNvPicPr/>
          <p:nvPr/>
        </p:nvPicPr>
        <p:blipFill>
          <a:blip r:embed="rId3"/>
          <a:stretch/>
        </p:blipFill>
        <p:spPr>
          <a:xfrm>
            <a:off x="5715000" y="3143160"/>
            <a:ext cx="3000240" cy="3338640"/>
          </a:xfrm>
          <a:prstGeom prst="rect">
            <a:avLst/>
          </a:prstGeom>
          <a:ln w="0">
            <a:noFill/>
          </a:ln>
        </p:spPr>
      </p:pic>
      <p:pic>
        <p:nvPicPr>
          <p:cNvPr id="92" name="презентация.mp3" descr=""/>
          <p:cNvPicPr/>
          <p:nvPr/>
        </p:nvPicPr>
        <p:blipFill>
          <a:blip r:embed="rId4"/>
          <a:stretch/>
        </p:blipFill>
        <p:spPr>
          <a:xfrm>
            <a:off x="-304920" y="3571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7826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35720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ю подготов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инов Александр и Шепетинский Ант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материалам БЭКМ2007. Использованы песни на стихотворения Сергея Александровича Есенина «Клен ты мой, опавший» (группа «Чайф») и «Пой же, пой» (группа «Кукрыниксы»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етство и юность поэ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итературный деб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волю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мажи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йсед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ледние годы. Трагический коне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963720" y="-353880"/>
            <a:ext cx="8692920" cy="151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71680" y="714240"/>
            <a:ext cx="40719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Родился 21 сентября (3 октября) 1895 года, с.Константиново Рязанской губер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1909 год—закончил Константиновское четырехклассное учили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1909-12 гг.—обучение в Спас-Клепиковской учительской школ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Летом  1912 года—переезжает в Москву, а с 1913 по 1915 год он занимается на историко-философском отделении университета Шанявск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0" y="1143000"/>
            <a:ext cx="4656240" cy="4359240"/>
          </a:xfrm>
          <a:prstGeom prst="rect">
            <a:avLst/>
          </a:prstGeom>
          <a:ln w="0">
            <a:noFill/>
          </a:ln>
        </p:spPr>
      </p:pic>
      <p:cxnSp>
        <p:nvCxnSpPr>
          <p:cNvPr id="98" name="Скругленная соединительная линия 25"/>
          <p:cNvCxnSpPr/>
          <p:nvPr/>
        </p:nvCxnSpPr>
        <p:spPr>
          <a:xfrm rot="10800000">
            <a:off x="642240" y="1356480"/>
            <a:ext cx="3643920" cy="1072440"/>
          </a:xfrm>
          <a:prstGeom prst="curvedConnector5">
            <a:avLst>
              <a:gd name="adj1" fmla="val 43819"/>
              <a:gd name="adj2" fmla="val 50000"/>
              <a:gd name="adj3" fmla="val 43819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9" name="Стрелка углом вверх 14"/>
          <p:cNvSpPr/>
          <p:nvPr/>
        </p:nvSpPr>
        <p:spPr>
          <a:xfrm>
            <a:off x="2928960" y="2643120"/>
            <a:ext cx="1571760" cy="78588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22"/>
          <p:cNvSpPr/>
          <p:nvPr/>
        </p:nvSpPr>
        <p:spPr>
          <a:xfrm>
            <a:off x="2857680" y="3714840"/>
            <a:ext cx="1643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>
            <a:off x="2857680" y="3857760"/>
            <a:ext cx="1643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дом\Рабочий стол\05lit004i.bmp"/>
          <p:cNvPicPr/>
          <p:nvPr/>
        </p:nvPicPr>
        <p:blipFill>
          <a:blip r:embed="rId2"/>
          <a:stretch/>
        </p:blipFill>
        <p:spPr>
          <a:xfrm>
            <a:off x="6566040" y="1133640"/>
            <a:ext cx="2369880" cy="263988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4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00040" y="1599840"/>
            <a:ext cx="61437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1914 году начинает печататься в московских детских журналах (дебют — стихотворение «Береза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 1915 году переезжает в Петербур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 1916  публикует первый сборник стихов  «Радуница», а 1918 выходят «Голубень», «Преображение», «Сельский часослов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4 июля 1917г.—венчается с Зинаидой Рай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C:\Documents and Settings\дом\Рабочий стол\pk_029.bmp"/>
          <p:cNvPicPr/>
          <p:nvPr/>
        </p:nvPicPr>
        <p:blipFill>
          <a:blip r:embed="rId4"/>
          <a:stretch/>
        </p:blipFill>
        <p:spPr>
          <a:xfrm>
            <a:off x="6595920" y="4005360"/>
            <a:ext cx="23958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ocuments and Settings\дом\Рабочий стол\05pg009i.bmp"/>
          <p:cNvPicPr/>
          <p:nvPr/>
        </p:nvPicPr>
        <p:blipFill>
          <a:blip r:embed="rId2"/>
          <a:stretch/>
        </p:blipFill>
        <p:spPr>
          <a:xfrm>
            <a:off x="214200" y="3357720"/>
            <a:ext cx="263232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785680" y="1285920"/>
            <a:ext cx="590076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В начале 1918 Есенин переезжает в Моск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Есенин, воспевая новую действительность и ее героев, пытался соответствовать времени («Кантата», 1919). Позже им были написаны «Песнь о великом походе» (1924), «Капитан земли» (1925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Documents and Settings\дом\Рабочий стол\a00068i.bmp"/>
          <p:cNvPicPr/>
          <p:nvPr/>
        </p:nvPicPr>
        <p:blipFill>
          <a:blip r:embed="rId4"/>
          <a:stretch/>
        </p:blipFill>
        <p:spPr>
          <a:xfrm>
            <a:off x="214200" y="428760"/>
            <a:ext cx="23576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дом\Рабочий стол\05dor016i.bmp"/>
          <p:cNvPicPr/>
          <p:nvPr/>
        </p:nvPicPr>
        <p:blipFill>
          <a:blip r:embed="rId2"/>
          <a:stretch/>
        </p:blipFill>
        <p:spPr>
          <a:xfrm>
            <a:off x="6643800" y="428760"/>
            <a:ext cx="2228760" cy="250020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85480" y="1357200"/>
            <a:ext cx="5715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начале 1919 Есенин, Мариенгоф, Шершеневич, Ивнев объединяются в группу имажин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1920 распался длившийся около трех лет брак с З. Н. Рай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921г.—«Исповедь хулигана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же в 1921 Есенин выступает в печати с критикой имажин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C:\Documents and Settings\дом\Рабочий стол\BE_05f0413i.bmp"/>
          <p:cNvPicPr/>
          <p:nvPr/>
        </p:nvPicPr>
        <p:blipFill>
          <a:blip r:embed="rId4"/>
          <a:stretch/>
        </p:blipFill>
        <p:spPr>
          <a:xfrm>
            <a:off x="6072120" y="3429000"/>
            <a:ext cx="2714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61149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енью 1921 года Есенин знакомится с Айседорой Дункан, а через полгода она становится его же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268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 мая 1922 по август 1923 путешествуют по Европе. По возвращении в России они расстаю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дом\Рабочий стол\pd_032.bmp"/>
          <p:cNvPicPr/>
          <p:nvPr/>
        </p:nvPicPr>
        <p:blipFill>
          <a:blip r:embed="rId3"/>
          <a:stretch/>
        </p:blipFill>
        <p:spPr>
          <a:xfrm>
            <a:off x="6512040" y="2133720"/>
            <a:ext cx="263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0" y="171360"/>
            <a:ext cx="9259920" cy="125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57120" y="1599840"/>
            <a:ext cx="8501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период с 1922 по 1925 создаются его лучшие строки: «Отговорила роща золотая...», «Письмо к матери», «Персидские мотивы», «Анна Снегин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925—сборники «Русь Советская», «Страна Советска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конце ноября 1925 поэт попадает в психоневрологическую клин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3 декабря Есенин поехал в Ленинград, где в ночь на 28 декабря покончил с соб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93560" y="4698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0" y="2214720"/>
            <a:ext cx="450072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о распространенные версии о других обстоятельствах смерти поэта специально созданная комиссия в 1993 не подтверди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22:54Z</dcterms:created>
  <dc:creator>дом</dc:creator>
  <dc:description/>
  <dc:language>en-US</dc:language>
  <cp:lastModifiedBy>www.PHILka.RU</cp:lastModifiedBy>
  <dcterms:modified xsi:type="dcterms:W3CDTF">2008-11-30T18:30:22Z</dcterms:modified>
  <cp:revision>24</cp:revision>
  <dc:subject/>
  <dc:title>Сергей Александрович Есенин.</dc:title>
</cp:coreProperties>
</file>