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32D-7D65-4F90-9DB2-7718EFD5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1D8-236B-4746-95E0-312B610D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6DB-1394-4812-AE14-A1173472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85B-38B6-4642-ADF1-1D2A0B3B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4423-47E6-420E-B5CE-EA1E7AB6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7774-8543-4654-A80C-83838E6A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551F-508B-4142-9A28-D9EED1C5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5278-00DD-411F-9686-3294DF49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922A-6086-4C92-BFDA-E5C8DE8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2295-F10D-445C-A449-286DBDB8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0445-DFB4-4C9B-8F1A-45788E42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CA2-B5F8-4CD6-AB27-DCF3C78F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ADAF-ECD6-4291-B7D2-6B52C8C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E4A0-F20A-4E99-8242-1F2B481D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879B-1F26-4C72-A89F-D763B940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BF89-16E0-4078-8039-C1D09DF3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8AB6-5A4F-4BA8-8E19-BAED620A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365-61B5-42DE-A759-3E0B07C0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531-A0D5-4992-83F9-78B41780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530-A40D-4646-ACB7-DC4BD653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4DD-9C97-45D5-9111-6E61F75E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3E7-D894-4EFA-A03D-0A79BA53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E5C-1F02-46A5-B143-E5789165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358-C80B-4D16-BF59-A8B311D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30B9-40D5-4B2E-8724-5022A6CDE93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E79C-3AB6-4D72-A3F4-62F4C762D32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Игра-путешеств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«В стране дорожных знаков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0" t="0" r="0" b="14315"/>
          <a:stretch/>
        </p:blipFill>
        <p:spPr>
          <a:xfrm>
            <a:off x="0" y="0"/>
            <a:ext cx="914400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95560" y="52560"/>
            <a:ext cx="675288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19320" y="358920"/>
            <a:ext cx="693396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3198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3511" t="4709" r="0" b="5445"/>
          <a:stretch/>
        </p:blipFill>
        <p:spPr>
          <a:xfrm>
            <a:off x="533520" y="1849320"/>
            <a:ext cx="7924680" cy="5008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хема-маршру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2T09:36:10Z</dcterms:created>
  <dc:creator>Минор38</dc:creator>
  <dc:description/>
  <dc:language>en-US</dc:language>
  <cp:lastModifiedBy>Минор38</cp:lastModifiedBy>
  <dcterms:modified xsi:type="dcterms:W3CDTF">2015-09-12T09:55:1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