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2660-CF3D-46A9-A8A5-6516ACAEF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0752-FAF7-42BF-AEA1-09FD1D2D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C510-4FB5-4709-A0EC-A3D930476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B487-FE8E-4F66-9DBE-5D113630E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1EAA-F603-4972-A1C7-B35CFEE0E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C673-FA32-418D-B187-0861B8FE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F500-61B0-4E41-8A12-02263317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6F84-FDCA-4A4E-8859-547FD9D1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66F9-CB89-4E10-AFA3-D4719C41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2706-66D0-4347-8830-1F7DE4B1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22A6-C9E7-41E0-B096-F629FFEF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FB92-E7B8-4DFC-AEB1-1223187B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2762-FD10-4C99-8098-BDB18016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C067-E771-4C27-A8B1-3DEFF546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7440-04F7-456E-BB34-536C8ED7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ACA5-91B0-4B63-83FA-492E0BDE7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3B78-AC85-4182-A43D-20CD9369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B5B1-678E-4BEE-A803-86E71B70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F056-7641-4946-B937-9209E4D8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3174-6B9D-45E1-BB43-4DCF7C93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1738-B41F-49BD-8BA9-F1B56F0E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640F-E61C-45C1-9BE9-CC634C96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A370-F133-4E39-B3D4-E4501661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DD43-6AF9-46C2-B959-05A557AD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C775-6EE0-443C-BEA3-F81D725D1C9C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11B6-9CE7-4D4C-9B32-741072F4B63E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Игра-путешествие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«В стране дорожных знаков»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rcRect l="0" t="0" r="0" b="14315"/>
          <a:stretch/>
        </p:blipFill>
        <p:spPr>
          <a:xfrm>
            <a:off x="0" y="0"/>
            <a:ext cx="9144000" cy="58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195560" y="52560"/>
            <a:ext cx="6752880" cy="67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219320" y="358920"/>
            <a:ext cx="6933960" cy="63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400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31980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8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rcRect l="3511" t="4709" r="0" b="5445"/>
          <a:stretch/>
        </p:blipFill>
        <p:spPr>
          <a:xfrm>
            <a:off x="533520" y="1849320"/>
            <a:ext cx="7924680" cy="50086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хема-маршру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2T09:36:10Z</dcterms:created>
  <dc:creator>Минор38</dc:creator>
  <dc:description/>
  <dc:language>en-US</dc:language>
  <cp:lastModifiedBy>Минор38</cp:lastModifiedBy>
  <dcterms:modified xsi:type="dcterms:W3CDTF">2015-09-12T09:55:1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