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7.png" ContentType="image/pn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E96-1343-414E-B37F-8262E0EB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659-3752-4039-A8B1-0AF08183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8D8-706D-4888-907C-E651AAC1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288-0201-4B16-B057-4F4BB9C5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A28-9EFF-497B-A223-B7B48CD3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3EB-AD45-45D8-B140-B408F6E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497-4B88-47E7-8A84-AEEF464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62C-2D4D-4031-B0A6-D4F320C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0C6-5DBE-4A14-A518-020A924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539-2EFE-4A5F-A892-BFB65BD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C06-C6AB-426C-BD53-6AAF16E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94F-E48B-43AB-A8E5-A859833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9145-60D4-4563-968C-D19DAFA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34A9-62BE-49A3-9CD3-6AA7475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AD22-54A6-4DB8-899B-B9B3FE7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933B-D33F-4470-874C-534E8BAE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F38-665C-412B-B27F-E59536B9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61E-9383-4031-8CAF-CA13D76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255-7B01-4E45-9098-72A08318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7B3-5365-4475-A082-D799968D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B84-F728-4B8D-BBFB-48E29BB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2F9-433A-4C89-878C-13A906E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541-3D8E-42FC-8FA8-BF8CEE5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547-5E96-470A-A8FA-2036AE7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A785-C9BA-4D98-9E39-F04464C272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785-9E7F-42AA-BF03-4C2243B633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present.ru/katalog/matrstra/0001524b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J0287641"/>
          <p:cNvPicPr/>
          <p:nvPr/>
        </p:nvPicPr>
        <p:blipFill>
          <a:blip r:embed="rId1"/>
          <a:stretch/>
        </p:blipFill>
        <p:spPr>
          <a:xfrm>
            <a:off x="6300720" y="2060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0" y="177336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лассификация           химических реакц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66"/>
                </a:solidFill>
                <a:latin typeface="Arial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66"/>
                </a:solidFill>
                <a:latin typeface="Arial"/>
              </a:rPr>
              <a:t>«Средняя общеобразовательная школа № 5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48436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Times New Roman"/>
              </a:rPr>
              <a:t>г. Когалым 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010920" y="580536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Arial"/>
              </a:rPr>
              <a:t>Бороздина Оль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66"/>
                </a:solidFill>
                <a:latin typeface="Arial"/>
              </a:rPr>
              <a:t>11 «Б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виду энергии, инициирующей реакции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тохимически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х инициирует световая энергия. Реакции, проходят под действием с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=N-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2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диационны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ни инициируются излучениями большой энергии -рентгеновскими лучами, ядерными излуч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2 [ OH]       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+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979640" y="3213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 flipH="1">
            <a:off x="2123280" y="465300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214800" y="55008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143160" y="3643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рмохимические реакции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ициирует тепловая энер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=CH2+CH3-CH3-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-CH2-CH2-CH3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4+CH3-CH=CH2-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лектрохимические реакци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ициируются электрическим то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+Cl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C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3HCl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708360" y="3357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140360" y="2924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140360" y="378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141440" y="26370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141440" y="34290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3635280" y="5013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3708000" y="522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числу и составу реагирующих и образующих вещест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С изменением состава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1.реакции 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2S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      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ции раз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2KN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2987640" y="3284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2987640" y="3429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987640" y="2852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276720" y="2852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429000" y="39290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2860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050920" y="49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464328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269800" y="4508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484360" y="55166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8" descr="partb2"/>
          <p:cNvPicPr/>
          <p:nvPr/>
        </p:nvPicPr>
        <p:blipFill>
          <a:blip r:embed="rId1"/>
          <a:stretch/>
        </p:blipFill>
        <p:spPr>
          <a:xfrm>
            <a:off x="6084720" y="2492280"/>
            <a:ext cx="2749680" cy="2344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0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3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акция замещен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+Cu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+H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2411280" y="134136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411280" y="9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203640" y="5157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3708000" y="57340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Vitesnenie metallov iz solei. Himiy. --lovi.tv.wmv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755640" y="4508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акции обмен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+HN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NaN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+NaOH           Na(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)+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2484360" y="90792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378000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Без изменения состава веществ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2000160"/>
            <a:ext cx="82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аф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алмаз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-CH-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Прямая со стрелкой 5"/>
          <p:cNvCxnSpPr/>
          <p:nvPr/>
        </p:nvCxnSpPr>
        <p:spPr>
          <a:xfrm>
            <a:off x="2142720" y="228600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Прямая со стрелкой 7"/>
          <p:cNvCxnSpPr/>
          <p:nvPr/>
        </p:nvCxnSpPr>
        <p:spPr>
          <a:xfrm flipH="1" flipV="1">
            <a:off x="2142360" y="2428560"/>
            <a:ext cx="715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>
            <a:off x="5071680" y="285768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Rectangle 6"/>
          <p:cNvSpPr/>
          <p:nvPr/>
        </p:nvSpPr>
        <p:spPr>
          <a:xfrm>
            <a:off x="5072040" y="25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643720" y="25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Snap ITC"/>
              </a:rPr>
              <a:t>Химические реакции в нашей жиз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chemistry1"/>
          <p:cNvPicPr/>
          <p:nvPr/>
        </p:nvPicPr>
        <p:blipFill>
          <a:blip r:embed="rId1"/>
          <a:stretch/>
        </p:blipFill>
        <p:spPr>
          <a:xfrm>
            <a:off x="1042920" y="3538440"/>
            <a:ext cx="3241800" cy="2889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hemistry_em"/>
          <p:cNvPicPr/>
          <p:nvPr/>
        </p:nvPicPr>
        <p:blipFill>
          <a:blip r:embed="rId2"/>
          <a:stretch/>
        </p:blipFill>
        <p:spPr>
          <a:xfrm>
            <a:off x="5508720" y="3586320"/>
            <a:ext cx="3460680" cy="2892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290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normal_Red%20rose"/>
          <p:cNvPicPr/>
          <p:nvPr/>
        </p:nvPicPr>
        <p:blipFill>
          <a:blip r:embed="rId2"/>
          <a:stretch/>
        </p:blipFill>
        <p:spPr>
          <a:xfrm>
            <a:off x="4859280" y="189000"/>
            <a:ext cx="3672000" cy="2879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55200" y="2993040"/>
            <a:ext cx="667620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571320" rIns="90000" tIns="253800" bIns="63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ядание цветка- необратимая реа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2625840" y="289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-324000" y="3677400"/>
            <a:ext cx="9901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g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2Na OH  = Mg(OH)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033360" y="494100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643280" y="47973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3565080" y="4797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509800" y="4797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374160" y="4724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6215040" y="37148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680400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1667520" y="35719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2286000" y="3571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306960" y="357192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4088880" y="35719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5092920" y="357192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5869440" y="3571920"/>
            <a:ext cx="3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6858000" y="357192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7518240" y="357192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2" descr="463c5b3d77ebf"/>
          <p:cNvPicPr/>
          <p:nvPr/>
        </p:nvPicPr>
        <p:blipFill>
          <a:blip r:embed="rId1"/>
          <a:stretch/>
        </p:blipFill>
        <p:spPr>
          <a:xfrm>
            <a:off x="395280" y="260280"/>
            <a:ext cx="1655640" cy="2708280"/>
          </a:xfrm>
          <a:prstGeom prst="rect">
            <a:avLst/>
          </a:prstGeom>
          <a:ln w="0">
            <a:noFill/>
          </a:ln>
        </p:spPr>
      </p:pic>
      <p:sp>
        <p:nvSpPr>
          <p:cNvPr id="238" name="Line 23"/>
          <p:cNvSpPr/>
          <p:nvPr/>
        </p:nvSpPr>
        <p:spPr>
          <a:xfrm flipH="1">
            <a:off x="2268000" y="1484280"/>
            <a:ext cx="8002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 flipH="1">
            <a:off x="2268000" y="1773360"/>
            <a:ext cx="8002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5" descr="апнопн"/>
          <p:cNvPicPr/>
          <p:nvPr/>
        </p:nvPicPr>
        <p:blipFill>
          <a:blip r:embed="rId2"/>
          <a:stretch/>
        </p:blipFill>
        <p:spPr>
          <a:xfrm>
            <a:off x="3132000" y="549360"/>
            <a:ext cx="1297080" cy="252072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26"/>
          <p:cNvSpPr/>
          <p:nvPr/>
        </p:nvSpPr>
        <p:spPr>
          <a:xfrm>
            <a:off x="4643280" y="1413000"/>
            <a:ext cx="457200" cy="458640"/>
          </a:xfrm>
          <a:prstGeom prst="plus">
            <a:avLst>
              <a:gd name="adj" fmla="val 38889"/>
            </a:avLst>
          </a:prstGeom>
          <a:solidFill>
            <a:srgbClr val="ffff0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7" descr="спрб"/>
          <p:cNvPicPr/>
          <p:nvPr/>
        </p:nvPicPr>
        <p:blipFill>
          <a:blip r:embed="rId3"/>
          <a:stretch/>
        </p:blipFill>
        <p:spPr>
          <a:xfrm>
            <a:off x="5364000" y="765000"/>
            <a:ext cx="1152720" cy="2376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28"/>
          <p:cNvSpPr/>
          <p:nvPr/>
        </p:nvSpPr>
        <p:spPr>
          <a:xfrm>
            <a:off x="6732720" y="1413000"/>
            <a:ext cx="457200" cy="458640"/>
          </a:xfrm>
          <a:prstGeom prst="plus">
            <a:avLst>
              <a:gd name="adj" fmla="val 38889"/>
            </a:avLst>
          </a:prstGeom>
          <a:solidFill>
            <a:srgbClr val="ffff0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i-main-pic" descr="Картинка 76 из 12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1197000"/>
            <a:ext cx="1168560" cy="19940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0"/>
          <p:cNvSpPr/>
          <p:nvPr/>
        </p:nvSpPr>
        <p:spPr>
          <a:xfrm>
            <a:off x="1987200" y="364428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рёшка- реакция разлож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2451960" y="4581000"/>
            <a:ext cx="39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OH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Cu O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3924360" y="472428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2700360" y="48690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341964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4572000" y="48690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5076720" y="4869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>
            <a:off x="5726160" y="4869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1"/>
          <p:cNvSpPr/>
          <p:nvPr/>
        </p:nvSpPr>
        <p:spPr>
          <a:xfrm>
            <a:off x="6158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2"/>
          <p:cNvSpPr/>
          <p:nvPr/>
        </p:nvSpPr>
        <p:spPr>
          <a:xfrm>
            <a:off x="3780000" y="530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MCj04298150000[1]"/>
          <p:cNvPicPr/>
          <p:nvPr/>
        </p:nvPicPr>
        <p:blipFill>
          <a:blip r:embed="rId1"/>
          <a:stretch/>
        </p:blipFill>
        <p:spPr>
          <a:xfrm>
            <a:off x="3635280" y="0"/>
            <a:ext cx="1905120" cy="2019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MCj04302510000[1]"/>
          <p:cNvPicPr/>
          <p:nvPr/>
        </p:nvPicPr>
        <p:blipFill>
          <a:blip r:embed="rId2"/>
          <a:stretch/>
        </p:blipFill>
        <p:spPr>
          <a:xfrm>
            <a:off x="826920" y="692280"/>
            <a:ext cx="1447920" cy="1933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Cj04302490000[1]"/>
          <p:cNvPicPr/>
          <p:nvPr/>
        </p:nvPicPr>
        <p:blipFill>
          <a:blip r:embed="rId3"/>
          <a:stretch/>
        </p:blipFill>
        <p:spPr>
          <a:xfrm>
            <a:off x="3924360" y="2205000"/>
            <a:ext cx="14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MCj04302530000[1]"/>
          <p:cNvPicPr/>
          <p:nvPr/>
        </p:nvPicPr>
        <p:blipFill>
          <a:blip r:embed="rId4"/>
          <a:stretch/>
        </p:blipFill>
        <p:spPr>
          <a:xfrm>
            <a:off x="6732720" y="836640"/>
            <a:ext cx="1447560" cy="1895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3290400" y="407592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мия заг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sol2"/>
          <p:cNvPicPr/>
          <p:nvPr/>
        </p:nvPicPr>
        <p:blipFill>
          <a:blip r:embed="rId5"/>
          <a:stretch/>
        </p:blipFill>
        <p:spPr>
          <a:xfrm>
            <a:off x="971640" y="4797360"/>
            <a:ext cx="7665840" cy="1559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3772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 flipH="1">
            <a:off x="1258920" y="1052640"/>
            <a:ext cx="2160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20" y="184464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4788000" y="1052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711600" y="2060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е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5867280" y="1052640"/>
            <a:ext cx="180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7097040" y="1844640"/>
            <a:ext cx="18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0" descr="Рисунок1"/>
          <p:cNvPicPr/>
          <p:nvPr/>
        </p:nvPicPr>
        <p:blipFill>
          <a:blip r:embed="rId1"/>
          <a:stretch/>
        </p:blipFill>
        <p:spPr>
          <a:xfrm>
            <a:off x="324000" y="2492280"/>
            <a:ext cx="244764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Брожение"/>
          <p:cNvPicPr/>
          <p:nvPr/>
        </p:nvPicPr>
        <p:blipFill>
          <a:blip r:embed="rId2"/>
          <a:stretch/>
        </p:blipFill>
        <p:spPr>
          <a:xfrm>
            <a:off x="0" y="5589720"/>
            <a:ext cx="428472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Брожение"/>
          <p:cNvPicPr/>
          <p:nvPr/>
        </p:nvPicPr>
        <p:blipFill>
          <a:blip r:embed="rId3"/>
          <a:stretch/>
        </p:blipFill>
        <p:spPr>
          <a:xfrm>
            <a:off x="5398920" y="5589720"/>
            <a:ext cx="3745080" cy="649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post-80420-1214429658"/>
          <p:cNvPicPr/>
          <p:nvPr/>
        </p:nvPicPr>
        <p:blipFill>
          <a:blip r:embed="rId4"/>
          <a:stretch/>
        </p:blipFill>
        <p:spPr>
          <a:xfrm>
            <a:off x="6875640" y="2421000"/>
            <a:ext cx="2268360" cy="3024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4de38818c00f"/>
          <p:cNvPicPr/>
          <p:nvPr/>
        </p:nvPicPr>
        <p:blipFill>
          <a:blip r:embed="rId5"/>
          <a:stretch/>
        </p:blipFill>
        <p:spPr>
          <a:xfrm>
            <a:off x="3132000" y="2781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634920" y="691920"/>
            <a:ext cx="5977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лассификация           химических реакц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5"/>
          <p:cNvPicPr/>
          <p:nvPr/>
        </p:nvPicPr>
        <p:blipFill>
          <a:blip r:embed="rId1"/>
          <a:stretch/>
        </p:blipFill>
        <p:spPr>
          <a:xfrm>
            <a:off x="179280" y="1125360"/>
            <a:ext cx="3810240" cy="5196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photo"/>
          <p:cNvPicPr/>
          <p:nvPr/>
        </p:nvPicPr>
        <p:blipFill>
          <a:blip r:embed="rId1"/>
          <a:stretch/>
        </p:blipFill>
        <p:spPr>
          <a:xfrm>
            <a:off x="1332000" y="189000"/>
            <a:ext cx="6696000" cy="412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428760" y="443700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екинг нефти и нефтепроду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1785960" y="5072040"/>
            <a:ext cx="62643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Прямая со стрелкой 8"/>
          <p:cNvCxnSpPr/>
          <p:nvPr/>
        </p:nvCxnSpPr>
        <p:spPr>
          <a:xfrm>
            <a:off x="2786040" y="5285880"/>
            <a:ext cx="929520" cy="2520"/>
          </a:xfrm>
          <a:prstGeom prst="straightConnector1">
            <a:avLst/>
          </a:prstGeom>
          <a:ln w="9360">
            <a:solidFill>
              <a:srgbClr val="004000"/>
            </a:solidFill>
            <a:miter/>
            <a:tailEnd len="med" type="arrow" w="med"/>
          </a:ln>
        </p:spPr>
      </p:cxnSp>
      <p:sp>
        <p:nvSpPr>
          <p:cNvPr id="277" name="Прямоугольник 9"/>
          <p:cNvSpPr/>
          <p:nvPr/>
        </p:nvSpPr>
        <p:spPr>
          <a:xfrm>
            <a:off x="2931840" y="50007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3147120" y="5000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Прямая со стрелкой 12"/>
          <p:cNvCxnSpPr/>
          <p:nvPr/>
        </p:nvCxnSpPr>
        <p:spPr>
          <a:xfrm>
            <a:off x="2642760" y="5715000"/>
            <a:ext cx="715320" cy="21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sp>
        <p:nvSpPr>
          <p:cNvPr id="280" name="Прямоугольник 14"/>
          <p:cNvSpPr/>
          <p:nvPr/>
        </p:nvSpPr>
        <p:spPr>
          <a:xfrm>
            <a:off x="2717280" y="54291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2861280" y="54291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19"/>
          <p:cNvCxnSpPr/>
          <p:nvPr/>
        </p:nvCxnSpPr>
        <p:spPr>
          <a:xfrm>
            <a:off x="2642760" y="6143760"/>
            <a:ext cx="857880" cy="21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sp>
        <p:nvSpPr>
          <p:cNvPr id="283" name="Прямоугольник 20"/>
          <p:cNvSpPr/>
          <p:nvPr/>
        </p:nvSpPr>
        <p:spPr>
          <a:xfrm>
            <a:off x="3004200" y="58579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1"/>
          <p:cNvSpPr/>
          <p:nvPr/>
        </p:nvSpPr>
        <p:spPr>
          <a:xfrm>
            <a:off x="2788920" y="5857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Documents and Settings\Admin\Рабочий стол\фото4ки\flower7.jpg"/>
          <p:cNvPicPr/>
          <p:nvPr/>
        </p:nvPicPr>
        <p:blipFill>
          <a:blip r:embed="rId1"/>
          <a:stretch/>
        </p:blipFill>
        <p:spPr>
          <a:xfrm>
            <a:off x="1857240" y="428760"/>
            <a:ext cx="5529240" cy="414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http://www.bigpi.biysk.ru/encicl/articles/03/1000335/Image480.gif"/>
          <p:cNvPicPr/>
          <p:nvPr/>
        </p:nvPicPr>
        <p:blipFill>
          <a:blip r:embed="rId2"/>
          <a:stretch/>
        </p:blipFill>
        <p:spPr>
          <a:xfrm>
            <a:off x="1428840" y="5216400"/>
            <a:ext cx="6715080" cy="12128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9"/>
          <p:cNvSpPr/>
          <p:nvPr/>
        </p:nvSpPr>
        <p:spPr>
          <a:xfrm>
            <a:off x="4362840" y="316692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10"/>
          <p:cNvSpPr/>
          <p:nvPr/>
        </p:nvSpPr>
        <p:spPr>
          <a:xfrm>
            <a:off x="4362840" y="316692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11"/>
          <p:cNvSpPr/>
          <p:nvPr/>
        </p:nvSpPr>
        <p:spPr>
          <a:xfrm>
            <a:off x="2214720" y="46432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Documents and Settings\Admin\Рабочий стол\ОЛЯ бОРОЗДИНА\картинки химия\u1282_1212385022.jpg"/>
          <p:cNvPicPr/>
          <p:nvPr/>
        </p:nvPicPr>
        <p:blipFill>
          <a:blip r:embed="rId1"/>
          <a:stretch/>
        </p:blipFill>
        <p:spPr>
          <a:xfrm>
            <a:off x="928800" y="428760"/>
            <a:ext cx="3781440" cy="2909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Documents and Settings\Admin\Рабочий стол\ОЛЯ бОРОЗДИНА\картинки химия\24236419_espresso_pc_9.jpg"/>
          <p:cNvPicPr/>
          <p:nvPr/>
        </p:nvPicPr>
        <p:blipFill>
          <a:blip r:embed="rId2"/>
          <a:stretch/>
        </p:blipFill>
        <p:spPr>
          <a:xfrm>
            <a:off x="5072040" y="357120"/>
            <a:ext cx="3786120" cy="30718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5"/>
          <p:cNvSpPr/>
          <p:nvPr/>
        </p:nvSpPr>
        <p:spPr>
          <a:xfrm>
            <a:off x="0" y="3571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ит и алмаз - без изменения состава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857160" y="49291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алмаз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Прямая со стрелкой 8"/>
          <p:cNvCxnSpPr/>
          <p:nvPr/>
        </p:nvCxnSpPr>
        <p:spPr>
          <a:xfrm>
            <a:off x="4142880" y="5072040"/>
            <a:ext cx="786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5" name="Прямая со стрелкой 10"/>
          <p:cNvCxnSpPr/>
          <p:nvPr/>
        </p:nvCxnSpPr>
        <p:spPr>
          <a:xfrm flipH="1" flipV="1">
            <a:off x="4071240" y="5285520"/>
            <a:ext cx="8578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240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Химические реакции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– это явления, при которых из одних веществ получаются другие, отличающиеся по строению и состав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image114"/>
          <p:cNvPicPr/>
          <p:nvPr/>
        </p:nvPicPr>
        <p:blipFill>
          <a:blip r:embed="rId1"/>
          <a:stretch/>
        </p:blipFill>
        <p:spPr>
          <a:xfrm>
            <a:off x="4211640" y="3933720"/>
            <a:ext cx="4105440" cy="2498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лассификации химических реакций по различным признака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По тепловому эффект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3"/>
          <p:cNvSpPr/>
          <p:nvPr/>
        </p:nvSpPr>
        <p:spPr>
          <a:xfrm>
            <a:off x="1332000" y="2637000"/>
            <a:ext cx="691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зотермическ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с выделением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Р + 5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2Р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 С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ндотермическ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отекают с поглощением 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9"/>
          <p:cNvSpPr/>
          <p:nvPr/>
        </p:nvSpPr>
        <p:spPr>
          <a:xfrm>
            <a:off x="2987640" y="3716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0"/>
          <p:cNvSpPr/>
          <p:nvPr/>
        </p:nvSpPr>
        <p:spPr>
          <a:xfrm>
            <a:off x="284328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2484360" y="587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фазовому состоянию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етерог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сходные вещества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ы реакции находятся в разных агрегатных состояния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р-р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р-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т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+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→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a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р-р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мог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сходные вещества и продукты реакции находятся в одном агрегатном состоян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ж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(ж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>
            <a:off x="2642760" y="5428800"/>
            <a:ext cx="5007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II.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направле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обратим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в данных условиях только в одном направлении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→  С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ратим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текают в данных условиях одновременно в двух противоположных направл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↔ 2N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;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↔ C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148360" y="278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284720" y="3141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V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изменению степени окисления атомов элементо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8858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ез степени окисления атомов элемен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реакции, идущие без изменения степени окисл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кислительно-восстанов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реакции, идущие с изменением степени окисл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OH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01200" y="4214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44040" y="4214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787120" y="4214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509440" y="5515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286800" y="421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5820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44400" y="471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5824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14408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271584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786680" y="41425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1320" y="47149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3644280" y="47149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50112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786960" y="2500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93004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215880" y="2500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2644200" y="25002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Okislenie skipidara azotnoi kislotoi-lovi.tv.wmv" descr=""/>
          <p:cNvPicPr/>
          <p:nvPr/>
        </p:nvPicPr>
        <p:blipFill>
          <a:blip r:embed="rId1"/>
          <a:stretch/>
        </p:blipFill>
        <p:spPr>
          <a:xfrm>
            <a:off x="5500800" y="4357800"/>
            <a:ext cx="342900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использованию катализатор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214280"/>
            <a:ext cx="7091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талитические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щие с участием катализат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каталитические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щие без участия катализат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000160" y="2286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2071800" y="20001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428920" y="27147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2428920" y="242892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071800" y="60008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2216520" y="56437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Katalizatori himiceskih reakcii. - -lovi.tv.wmv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408492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I.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 механизму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онные реа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дут между уже имеющимся или образующимся в ходе реакции и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+y        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+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OH+H       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O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дикальные реакц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ду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уже имеющимся или образующимся в ходе реакции радикалами и молекула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l            C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+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0509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565800" y="2637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61080" y="2565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348000" y="36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 flipH="1">
            <a:off x="4284720" y="3170160"/>
            <a:ext cx="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132000" y="306864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5797800" y="306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268360" y="5516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979640" y="4869000"/>
            <a:ext cx="8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39:48Z</dcterms:created>
  <dc:creator>Customer</dc:creator>
  <dc:description/>
  <dc:language>en-US</dc:language>
  <cp:lastModifiedBy>Customer</cp:lastModifiedBy>
  <dcterms:modified xsi:type="dcterms:W3CDTF">2008-12-18T16:55:11Z</dcterms:modified>
  <cp:revision>20</cp:revision>
  <dc:subject/>
  <dc:title> </dc:title>
</cp:coreProperties>
</file>