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3.png" ContentType="image/png"/>
  <Override PartName="/ppt/media/image26.jpeg" ContentType="image/jpeg"/>
  <Override PartName="/ppt/media/image5.jpeg" ContentType="image/jpeg"/>
  <Override PartName="/ppt/media/projctor.wav" ContentType="audio/x-wav"/>
  <Override PartName="/ppt/media/image22.jpeg" ContentType="image/jpeg"/>
  <Override PartName="/ppt/media/image7.png" ContentType="image/png"/>
  <Override PartName="/ppt/media/image6.wmf" ContentType="image/x-wmf"/>
  <Override PartName="/ppt/media/image12.png" ContentType="image/png"/>
  <Override PartName="/ppt/media/image2.gif" ContentType="image/gif"/>
  <Override PartName="/ppt/media/image8.jpeg" ContentType="image/jpeg"/>
  <Override PartName="/ppt/media/image29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15.png" ContentType="image/png"/>
  <Override PartName="/ppt/media/image4.jpeg" ContentType="image/jpeg"/>
  <Override PartName="/ppt/media/image10.wmf" ContentType="image/x-wmf"/>
  <Override PartName="/ppt/media/image25.jpeg" ContentType="image/jpeg"/>
  <Override PartName="/ppt/media/image3.png" ContentType="image/png"/>
  <Override PartName="/ppt/media/image17.jpeg" ContentType="image/jpeg"/>
  <Override PartName="/ppt/media/image1.png" ContentType="image/png"/>
  <Override PartName="/ppt/media/image24.png" ContentType="image/png"/>
  <Override PartName="/ppt/media/image13.png" ContentType="image/png"/>
  <Override PartName="/ppt/media/image14.png" ContentType="image/png"/>
  <Override PartName="/ppt/media/image16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9.png" ContentType="image/png"/>
  <Override PartName="/ppt/media/image21.jpeg" ContentType="image/jpe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4825" cy="9666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146F-3146-48D5-8615-CBF254F26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89C0-5C6A-43A1-B830-BFCF6F9B8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56F8-FC1A-414C-847B-3C1CF123E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5FF7-AB4C-4948-8F23-BDD6F01EF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54F2-FAE6-4DE0-BB96-1B4F70D34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4D07-13BB-4FBB-AE2E-18E8371E9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DE99-FD96-4507-8A0B-435320C88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E652-2C96-4411-BEC5-2B04D1B6A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4926-4DD6-42EC-9FE6-C3490A292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9975-6EBA-4F88-B4B4-9F47E4E55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68DD-2846-476A-990D-609EF15F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5A68-F64D-4A26-99C5-5F59E9C5E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E5A2B-0BED-42B8-947A-DCF8BA9B95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audio" Target="../media/projctor.wav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b/b2/Prussian_blue.jpg" TargetMode="Externa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rudata.ru/w/index.php?title=1917&amp;action=edit" TargetMode="External"/><Relationship Id="rId3" Type="http://schemas.openxmlformats.org/officeDocument/2006/relationships/hyperlink" Target="http://www.rudata.ru/w/index.php?title=&#1041;&#1086;&#1089;&#1090;&#1086;&#1085;&amp;action=edit" TargetMode="External"/><Relationship Id="rId4" Type="http://schemas.openxmlformats.org/officeDocument/2006/relationships/hyperlink" Target="http://www.rudata.ru/wiki/&#1057;&#1064;&#1040;" TargetMode="External"/><Relationship Id="rId5" Type="http://schemas.openxmlformats.org/officeDocument/2006/relationships/hyperlink" Target="http://www.rudata.ru/w/index.php?title=1979&amp;action=edit" TargetMode="External"/><Relationship Id="rId6" Type="http://schemas.openxmlformats.org/officeDocument/2006/relationships/hyperlink" Target="http://www.rudata.ru/w/index.php?title=&#1061;&#1080;&#1085;&#1080;&#1085;&amp;action=edit" TargetMode="External"/><Relationship Id="rId7" Type="http://schemas.openxmlformats.org/officeDocument/2006/relationships/hyperlink" Target="http://www.rudata.ru/w/index.php?title=1944&amp;action=edit" TargetMode="External"/><Relationship Id="rId8" Type="http://schemas.openxmlformats.org/officeDocument/2006/relationships/hyperlink" Target="http://www.rudata.ru/w/index.php?title=&#1050;&#1086;&#1088;&#1090;&#1080;&#1079;&#1086;&#1085;&amp;action=edit" TargetMode="External"/><Relationship Id="rId9" Type="http://schemas.openxmlformats.org/officeDocument/2006/relationships/hyperlink" Target="http://www.rudata.ru/w/index.php?title=1951&amp;action=edit" TargetMode="External"/><Relationship Id="rId10" Type="http://schemas.openxmlformats.org/officeDocument/2006/relationships/hyperlink" Target="http://www.rudata.ru/w/index.php?title=&#1056;&#1077;&#1079;&#1077;&#1088;&#1087;&#1080;&#1085;&amp;action=edit" TargetMode="External"/><Relationship Id="rId11" Type="http://schemas.openxmlformats.org/officeDocument/2006/relationships/hyperlink" Target="http://www.rudata.ru/w/index.php?title=1956&amp;action=edit" TargetMode="External"/><Relationship Id="rId12" Type="http://schemas.openxmlformats.org/officeDocument/2006/relationships/hyperlink" Target="http://www.rudata.ru/w/index.php?title=&#1061;&#1083;&#1086;&#1088;&#1086;&#1092;&#1080;&#1083;&#1083;&amp;action=edit" TargetMode="External"/><Relationship Id="rId13" Type="http://schemas.openxmlformats.org/officeDocument/2006/relationships/hyperlink" Target="http://www.rudata.ru/w/index.php?title=1960&amp;action=edit" TargetMode="External"/><Relationship Id="rId14" Type="http://schemas.openxmlformats.org/officeDocument/2006/relationships/hyperlink" Target="http://www.rudata.ru/w/index.php?title=&#1058;&#1077;&#1090;&#1088;&#1072;&#1094;&#1080;&#1082;&#1083;&#1080;&#1085;&amp;action=edit" TargetMode="External"/><Relationship Id="rId15" Type="http://schemas.openxmlformats.org/officeDocument/2006/relationships/hyperlink" Target="http://www.rudata.ru/w/index.php?title=1962&amp;action=edit" TargetMode="External"/><Relationship Id="rId16" Type="http://schemas.openxmlformats.org/officeDocument/2006/relationships/hyperlink" Target="http://www.rudata.ru/w/index.php?title=&#1057;&#1090;&#1088;&#1080;&#1093;&#1085;&#1080;&#1085;&amp;action=edit" TargetMode="External"/><Relationship Id="rId17" Type="http://schemas.openxmlformats.org/officeDocument/2006/relationships/hyperlink" Target="http://www.rudata.ru/w/index.php?title=&#1058;&#1077;&#1088;&#1088;&#1072;&#1084;&#1080;&#1094;&#1080;&#1085;&amp;action=edit" TargetMode="External"/><Relationship Id="rId18" Type="http://schemas.openxmlformats.org/officeDocument/2006/relationships/hyperlink" Target="http://www.rudata.ru/w/index.php?title=&#1040;&#1091;&#1088;&#1077;&#1086;&#1084;&#1080;&#1094;&#1080;&#1085;&amp;action=edit" TargetMode="External"/><Relationship Id="rId19" Type="http://schemas.openxmlformats.org/officeDocument/2006/relationships/hyperlink" Target="http://www.rudata.ru/w/index.php?title=&#1052;&#1072;&#1075;&#1085;&#1072;&#1084;&#1080;&#1094;&#1080;&#1085;&amp;action=edit" TargetMode="External"/><Relationship Id="rId20" Type="http://schemas.openxmlformats.org/officeDocument/2006/relationships/hyperlink" Target="http://www.rudata.ru/w/index.php?title=&#1058;&#1077;&#1090;&#1088;&#1086;&#1076;&#1086;&#1082;&#1089;&#1080;&#1085;&amp;action=edit" TargetMode="External"/><Relationship Id="rId2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84360" y="404640"/>
            <a:ext cx="426744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Муниципальное образовательное учре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«Средняя общеобразовательная школа № 5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2514600"/>
            <a:ext cx="403848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400800"/>
            <a:ext cx="175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5050"/>
                </a:solidFill>
                <a:latin typeface="Times New Roman"/>
              </a:rPr>
              <a:t>г. Когалым 2008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57200" y="5257800"/>
            <a:ext cx="971640" cy="982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00000" y="1413000"/>
            <a:ext cx="784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500" spc="-1" strike="noStrike">
                <a:solidFill>
                  <a:srgbClr val="333399"/>
                </a:solidFill>
                <a:latin typeface="Times New Roman"/>
              </a:rPr>
              <a:t>Комплексные соединения в живых системах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000" y="5661000"/>
            <a:ext cx="21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Алексеева Алё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11 «Б»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4284720" y="3141720"/>
            <a:ext cx="3029040" cy="2271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>
            <a:lum contrast="12000"/>
          </a:blip>
          <a:stretch/>
        </p:blipFill>
        <p:spPr>
          <a:xfrm>
            <a:off x="6732720" y="3860640"/>
            <a:ext cx="2120760" cy="275112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1" descr="http://www.nrk.cross-ipk.ru/body/pie-5/6/algae/%FD%E2%E3.%E2%EE%E4.jpg"/>
          <p:cNvPicPr/>
          <p:nvPr/>
        </p:nvPicPr>
        <p:blipFill>
          <a:blip r:embed="rId5"/>
          <a:stretch/>
        </p:blipFill>
        <p:spPr>
          <a:xfrm>
            <a:off x="7596360" y="260280"/>
            <a:ext cx="1295280" cy="9558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  <p:sndAc>
      <p:stSnd>
        <p:snd r:embed="rId6" name="projcto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5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62120" y="851040"/>
            <a:ext cx="7619760" cy="5155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2627280" y="333360"/>
            <a:ext cx="45147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емоглобин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9" name="" descr="1101-34.jpg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763640" y="692280"/>
            <a:ext cx="6480360" cy="30556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1101-47.jpg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1908000" y="3933720"/>
            <a:ext cx="2692440" cy="26164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716360" y="5013360"/>
            <a:ext cx="381636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Зависимость содержания оксигемоглобина от порциального давления О</a:t>
            </a:r>
            <a:r>
              <a:rPr b="1" lang="ru-RU" sz="1800" spc="-1" strike="noStrike" baseline="-25000">
                <a:solidFill>
                  <a:srgbClr val="660033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457200" y="304920"/>
            <a:ext cx="868680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Calibri"/>
              </a:rPr>
              <a:t>Гемоглобин </a:t>
            </a:r>
            <a:r>
              <a:rPr b="1" lang="ru-RU" sz="1800" spc="-1" strike="noStrike">
                <a:solidFill>
                  <a:srgbClr val="cc0000"/>
                </a:solidFill>
                <a:latin typeface="Calibri"/>
              </a:rPr>
              <a:t>– транспорт кислорода в плазм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Calibri"/>
              </a:rPr>
              <a:t>4 атома железа (</a:t>
            </a:r>
            <a:r>
              <a:rPr b="1" lang="en-US" sz="1800" spc="-1" strike="noStrike">
                <a:solidFill>
                  <a:srgbClr val="cc0000"/>
                </a:solidFill>
                <a:latin typeface="Calibri"/>
              </a:rPr>
              <a:t>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468360" y="1484280"/>
            <a:ext cx="7696080" cy="20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Calibri"/>
              </a:rPr>
              <a:t>Миоглобин </a:t>
            </a:r>
            <a:r>
              <a:rPr b="1" lang="ru-RU" sz="1800" spc="-1" strike="noStrike">
                <a:solidFill>
                  <a:srgbClr val="0000cc"/>
                </a:solidFill>
                <a:latin typeface="Calibri"/>
              </a:rPr>
              <a:t>– хранение кислорода в мускул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Calibri"/>
              </a:rPr>
              <a:t>1 атом железа (</a:t>
            </a:r>
            <a:r>
              <a:rPr b="1" lang="en-US" sz="1800" spc="-1" strike="noStrike">
                <a:solidFill>
                  <a:srgbClr val="0000cc"/>
                </a:solidFill>
                <a:latin typeface="Calibri"/>
              </a:rPr>
              <a:t>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Calibri"/>
              </a:rPr>
              <a:t>В растениях роль переносчика кислорода играет </a:t>
            </a:r>
            <a:r>
              <a:rPr b="1" i="1" lang="ru-RU" sz="1800" spc="-1" strike="noStrike">
                <a:solidFill>
                  <a:srgbClr val="0000cc"/>
                </a:solidFill>
                <a:latin typeface="Calibri"/>
              </a:rPr>
              <a:t>леггемоглобин </a:t>
            </a:r>
            <a:r>
              <a:rPr b="1" lang="ru-RU" sz="1800" spc="-1" strike="noStrike">
                <a:solidFill>
                  <a:srgbClr val="0000cc"/>
                </a:solidFill>
                <a:latin typeface="Calibri"/>
              </a:rPr>
              <a:t>(1 атом желез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bio4"/>
          <p:cNvPicPr/>
          <p:nvPr/>
        </p:nvPicPr>
        <p:blipFill>
          <a:blip r:embed="rId1"/>
          <a:srcRect l="0" t="0" r="3619" b="0"/>
          <a:stretch/>
        </p:blipFill>
        <p:spPr>
          <a:xfrm>
            <a:off x="2771640" y="3141720"/>
            <a:ext cx="3384720" cy="2730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11280" y="293400"/>
            <a:ext cx="8136000" cy="59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660033"/>
                </a:solidFill>
                <a:latin typeface="Times New Roman"/>
              </a:rPr>
              <a:t>Применение комплексных соединени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1. Из комплексных соединений добывают металлы, используемые для нанесения покрыт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2. Многие металлы, особенно тяжелые, образуют с органическими соединениями комплексоны, т.е. происходит связывание токсичных металлов в комплексоны, что приводит к понижению их концентрации. Это используется для очистки загрязненной воды и для производства лекарств, которые выводят тяжелые металлы из организ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3. Первые вещества, отнесенные к комплексным, использовались берлинским цехом художников как краски – турнбулева синь и берлинская лазурь. Сегодня эти вещества используются в аналитической химии как реагенты на ионы  </a:t>
            </a:r>
            <a:r>
              <a:rPr b="1" lang="en-US" sz="2000" spc="-1" strike="noStrike">
                <a:solidFill>
                  <a:srgbClr val="660033"/>
                </a:solidFill>
                <a:latin typeface="Times New Roman"/>
              </a:rPr>
              <a:t>Fe</a:t>
            </a: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2+ и </a:t>
            </a:r>
            <a:r>
              <a:rPr b="1" lang="en-US" sz="2000" spc="-1" strike="noStrike">
                <a:solidFill>
                  <a:srgbClr val="660033"/>
                </a:solidFill>
                <a:latin typeface="Times New Roman"/>
              </a:rPr>
              <a:t>Fe</a:t>
            </a: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3+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4. Гемоглобин и хлорофилл, без которых невозможно представить жизнь на Земле, - это тоже комплексные соедин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5. На процессах комплексообразования основано отделение золота от пустой пор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6. Фотографический процесс также немыслим без комплексных соедин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Рисунок 6" descr="http://www.tekrus.ru/companyimg/5/ii3.gif"/>
          <p:cNvPicPr/>
          <p:nvPr/>
        </p:nvPicPr>
        <p:blipFill>
          <a:blip r:embed="rId1"/>
          <a:stretch/>
        </p:blipFill>
        <p:spPr>
          <a:xfrm>
            <a:off x="395280" y="260280"/>
            <a:ext cx="3166920" cy="32940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4" descr="http://www.tekrus.ru/companyimg/5/ii1.gif"/>
          <p:cNvPicPr/>
          <p:nvPr/>
        </p:nvPicPr>
        <p:blipFill>
          <a:blip r:embed="rId2"/>
          <a:stretch/>
        </p:blipFill>
        <p:spPr>
          <a:xfrm>
            <a:off x="6300720" y="4869000"/>
            <a:ext cx="2519280" cy="169992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1" descr="http://www.studs.ru/chembd/6042-15.jpg"/>
          <p:cNvPicPr/>
          <p:nvPr/>
        </p:nvPicPr>
        <p:blipFill>
          <a:blip r:embed="rId3"/>
          <a:stretch/>
        </p:blipFill>
        <p:spPr>
          <a:xfrm>
            <a:off x="1332000" y="3789360"/>
            <a:ext cx="1571400" cy="11714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24000" y="5157720"/>
            <a:ext cx="453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я разделения и глубокой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чист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ЗЭ методами ионного обмена, экстракции.Получают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мплексн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е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284720" y="404640"/>
            <a:ext cx="4032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стоящее время экстракционные методы стали основными в схемах разделения РЗЭ. В промышленной практике для разделения преимущественно используют фосфорорганические экстрагенты - ТБФ, Д2ЭГФК и карбоновые кислоты. Разделение основано на закономерном изменении значений коэффициентов распределения в ряду лантанои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3699000" cy="3824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716360" y="404640"/>
            <a:ext cx="4032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ординационная химия (химия комплексных соединений) длительное время считалась одним из разделов неорганической химии; объяснялось это тем, что большинство известных ранее координационных соединений содержало в качестве лигандов, как правило, типичные неорганические молекулы и ионы - аммиак, воду, нитро-, роданогруппу и т.п. Экспериментальные исследования неорганических комплексных соединений были начаты за несколько десятилетий до того, как стала бурно развиваться органическая хим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4724280"/>
            <a:ext cx="417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В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наши дни координационная химия - интенсивно развивающаяся в различных направлениях наука, тесно переплетающаяся с другими областями хим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1535040" y="228600"/>
            <a:ext cx="607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Calibri"/>
              </a:rPr>
              <a:t>Цитохром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Calibri"/>
              </a:rPr>
              <a:t>Р-4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243828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alibri"/>
              </a:rPr>
              <a:t>R-H  + 1/2O2  = R-O-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cyc1902c"/>
          <p:cNvPicPr/>
          <p:nvPr/>
        </p:nvPicPr>
        <p:blipFill>
          <a:blip r:embed="rId1"/>
          <a:stretch/>
        </p:blipFill>
        <p:spPr>
          <a:xfrm>
            <a:off x="228600" y="1219320"/>
            <a:ext cx="4140360" cy="50814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4427640" y="5529240"/>
            <a:ext cx="5003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зложение лекарств, стероидов и пестици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 стадии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 - Fe(IV), a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 – Fe(III),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 –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e(I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P450"/>
          <p:cNvPicPr/>
          <p:nvPr/>
        </p:nvPicPr>
        <p:blipFill>
          <a:blip r:embed="rId2"/>
          <a:stretch/>
        </p:blipFill>
        <p:spPr>
          <a:xfrm>
            <a:off x="5257800" y="1563840"/>
            <a:ext cx="358128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3203640" y="189000"/>
            <a:ext cx="27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Кофермент В</a:t>
            </a:r>
            <a:r>
              <a:rPr b="1" lang="en-US" sz="2000" spc="-1" strike="noStrike">
                <a:solidFill>
                  <a:srgbClr val="cc0000"/>
                </a:solidFill>
                <a:latin typeface="Calibri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Б10"/>
          <p:cNvPicPr/>
          <p:nvPr/>
        </p:nvPicPr>
        <p:blipFill>
          <a:blip r:embed="rId1"/>
          <a:stretch/>
        </p:blipFill>
        <p:spPr>
          <a:xfrm>
            <a:off x="457200" y="1684440"/>
            <a:ext cx="3429000" cy="3319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Б11"/>
          <p:cNvPicPr/>
          <p:nvPr/>
        </p:nvPicPr>
        <p:blipFill>
          <a:blip r:embed="rId2"/>
          <a:stretch/>
        </p:blipFill>
        <p:spPr>
          <a:xfrm>
            <a:off x="4125960" y="1143000"/>
            <a:ext cx="4033800" cy="52578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685800" y="51055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Calibri"/>
              </a:rPr>
              <a:t>Dorothy Hodgkin, 19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Первые вещества, отнесенные к комплексным, использовались берлинским цехом художников как крас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i-main-pic" descr="Картинка 1 из 11"/>
          <p:cNvPicPr/>
          <p:nvPr/>
        </p:nvPicPr>
        <p:blipFill>
          <a:blip r:embed="rId1"/>
          <a:stretch/>
        </p:blipFill>
        <p:spPr>
          <a:xfrm>
            <a:off x="4284720" y="3141720"/>
            <a:ext cx="4438440" cy="285732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1" descr="http://www.3-color.ru/image/goods/preview5863.jpg"/>
          <p:cNvPicPr/>
          <p:nvPr/>
        </p:nvPicPr>
        <p:blipFill>
          <a:blip r:embed="rId2"/>
          <a:stretch/>
        </p:blipFill>
        <p:spPr>
          <a:xfrm>
            <a:off x="611280" y="3213000"/>
            <a:ext cx="238104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Рисунок 19" descr="Изображение:Prussian blu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4076640"/>
            <a:ext cx="7489800" cy="16477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816200" y="2297160"/>
            <a:ext cx="650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8360" y="692280"/>
            <a:ext cx="806436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рлинская лазурь (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железная лазур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урнбулева син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усский сини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арижская лазур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усская лазур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амбургская син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ейблау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илор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 — синий пигмент, смесь гексацианоферратов (II) от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Fe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CN)6] до Fe4[Fe(CN)6]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современной точки зрения, получение берлинской лазури состояло в осаждении гексацианоферрата (II) железа (II) путём добавления к «жёлтой кровяной соли» солей железа (II) (например, «железного купороса») и последующему окислению до гексацианоферрата (II) железа (III). Можно было обойтись и без окисления, если сразу добавлять к «жёлтой кровяной соли» соли железа (III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62880" y="5949360"/>
            <a:ext cx="65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Измельчённая берлинская лазурь, размывка на бумаг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62120" y="380880"/>
            <a:ext cx="77724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124000" y="404640"/>
          <a:ext cx="5246640" cy="103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404640"/>
                    <a:ext cx="5246640" cy="10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1763640" y="2025000"/>
            <a:ext cx="5761080" cy="1008000"/>
          </a:xfrm>
          <a:prstGeom prst="rect">
            <a:avLst/>
          </a:prstGeom>
          <a:solidFill>
            <a:srgbClr val="f8f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Комплексные неэлектроли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[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e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CN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)3]0- тритиоциано железа 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[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r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)3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l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3]0- триакватрихлоро хрома 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3331080"/>
            <a:ext cx="8442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Комплексные электролиты подразделяются на </a:t>
            </a: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кислот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гидроксиды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и со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[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uCl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3] –трихлорозолотая кисло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2[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tCl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6] – гексахлороплатиновая кисл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[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u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H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3)4](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H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)2 – гидроксид тетрааммин меди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[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i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H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3)6]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O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4- сульфат гексааммин никеля (2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Фотографический процесс также немыслим без комплексных соединений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Рисунок 1" descr="http://oleksenko.ru/mini/mini102.jpg"/>
          <p:cNvPicPr/>
          <p:nvPr/>
        </p:nvPicPr>
        <p:blipFill>
          <a:blip r:embed="rId1"/>
          <a:srcRect l="0" t="36779" r="0" b="0"/>
          <a:stretch/>
        </p:blipFill>
        <p:spPr>
          <a:xfrm>
            <a:off x="2700360" y="1484280"/>
            <a:ext cx="40654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Хлорофил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Структура хлорофилла c1, и c2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826920" y="1197000"/>
            <a:ext cx="3975120" cy="4968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076720" y="1700280"/>
            <a:ext cx="36212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Хлорофилл</a:t>
            </a:r>
            <a:r>
              <a:rPr b="0" lang="ru-RU" sz="18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1800" spc="-1" strike="noStrike">
                <a:solidFill>
                  <a:srgbClr val="003399"/>
                </a:solidFill>
                <a:latin typeface="Times New Roman"/>
              </a:rPr>
              <a:t>зелёный пигмен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imes New Roman"/>
              </a:rPr>
              <a:t>Обуславливающий окраску растений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imes New Roman"/>
              </a:rPr>
              <a:t>при  его участии осуществляе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imes New Roman"/>
              </a:rPr>
              <a:t>процесс фотосинте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imes New Roman"/>
              </a:rPr>
              <a:t>Синтезирован Робертом Бёрнсом Вудвордом в 1960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imes New Roman"/>
              </a:rPr>
              <a:t>Обнаружен в растениях, водорослях, цианобактериях и простейших животных таких как эвглена зеле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4716360" y="1125360"/>
            <a:ext cx="3888000" cy="5040360"/>
            <a:chOff x="4716360" y="1125360"/>
            <a:chExt cx="3888000" cy="5040360"/>
          </a:xfrm>
        </p:grpSpPr>
        <p:sp>
          <p:nvSpPr>
            <p:cNvPr id="61" name=""/>
            <p:cNvSpPr/>
            <p:nvPr/>
          </p:nvSpPr>
          <p:spPr>
            <a:xfrm>
              <a:off x="4716360" y="1125360"/>
              <a:ext cx="3888000" cy="5040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861080" y="1269720"/>
              <a:ext cx="3673440" cy="47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Эвглена (Euglena) - эвглена зеленая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Клетка эвглены, эвглены зеленой обычно веретеновидной формы и зеленого цвета, с красным глазком      (светочувствительный орган) у переднего конца. Имеет растение эвглена, эвглена зеленая поступательное и вращательное движение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одоросль эвглена, эвглена зеленая распространена в сильно загрязненных водоемах, но встречается и в чистых, как с пресной, так и с солоноватой водой.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" name="Рисунок 1" descr="http://www.nrk.cross-ipk.ru/body/pie-5/6/algae/%FD%E2%E3.%E2%EE%E4.jpg"/>
          <p:cNvPicPr/>
          <p:nvPr/>
        </p:nvPicPr>
        <p:blipFill>
          <a:blip r:embed="rId1"/>
          <a:stretch/>
        </p:blipFill>
        <p:spPr>
          <a:xfrm>
            <a:off x="324000" y="476280"/>
            <a:ext cx="3708360" cy="2735280"/>
          </a:xfrm>
          <a:prstGeom prst="rect">
            <a:avLst/>
          </a:prstGeom>
          <a:ln w="0">
            <a:noFill/>
          </a:ln>
        </p:spPr>
      </p:pic>
      <p:pic>
        <p:nvPicPr>
          <p:cNvPr id="64" name="i-main-pic" descr="Картинка 2 из 31"/>
          <p:cNvPicPr/>
          <p:nvPr/>
        </p:nvPicPr>
        <p:blipFill>
          <a:blip r:embed="rId2"/>
          <a:stretch/>
        </p:blipFill>
        <p:spPr>
          <a:xfrm>
            <a:off x="324000" y="3716280"/>
            <a:ext cx="378288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" descr="РОБЕРТ БЕРНС ВУДВОРД (Слева)"/>
          <p:cNvPicPr/>
          <p:nvPr/>
        </p:nvPicPr>
        <p:blipFill>
          <a:blip r:embed="rId1"/>
          <a:srcRect l="0" t="0" r="52175" b="10330"/>
          <a:stretch/>
        </p:blipFill>
        <p:spPr>
          <a:xfrm>
            <a:off x="395280" y="1125360"/>
            <a:ext cx="3149640" cy="4464360"/>
          </a:xfrm>
          <a:prstGeom prst="rect">
            <a:avLst/>
          </a:prstGeom>
          <a:ln w="0">
            <a:noFill/>
          </a:ln>
        </p:spPr>
      </p:pic>
      <p:grpSp>
        <p:nvGrpSpPr>
          <p:cNvPr id="66" name=""/>
          <p:cNvGrpSpPr/>
          <p:nvPr/>
        </p:nvGrpSpPr>
        <p:grpSpPr>
          <a:xfrm>
            <a:off x="3780000" y="981000"/>
            <a:ext cx="4535280" cy="4968720"/>
            <a:chOff x="3780000" y="981000"/>
            <a:chExt cx="4535280" cy="4968720"/>
          </a:xfrm>
        </p:grpSpPr>
        <p:sp>
          <p:nvSpPr>
            <p:cNvPr id="67" name=""/>
            <p:cNvSpPr/>
            <p:nvPr/>
          </p:nvSpPr>
          <p:spPr>
            <a:xfrm>
              <a:off x="3780000" y="981000"/>
              <a:ext cx="4535280" cy="496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780000" y="1341360"/>
              <a:ext cx="4535280" cy="39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Роберт Бёрнс Вудворд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(англ. Robert Burns Woodward) (р. 10 апреля </a:t>
              </a:r>
              <a:r>
                <a:rPr b="0" lang="ru-RU" sz="1800" spc="-1" strike="noStrike" u="sng">
                  <a:solidFill>
                    <a:srgbClr val="009999"/>
                  </a:solidFill>
                  <a:uFillTx/>
                  <a:latin typeface="Arial"/>
                  <a:hlinkClick r:id="rId2"/>
                </a:rPr>
                <a:t>1917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ru-RU" sz="1800" spc="-1" strike="noStrike" u="sng">
                  <a:solidFill>
                    <a:srgbClr val="009999"/>
                  </a:solidFill>
                  <a:uFillTx/>
                  <a:latin typeface="Arial"/>
                  <a:hlinkClick r:id="rId3"/>
                </a:rPr>
                <a:t>Бостон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ru-RU" sz="1800" spc="-1" strike="noStrike" u="sng">
                  <a:solidFill>
                    <a:srgbClr val="009999"/>
                  </a:solidFill>
                  <a:uFillTx/>
                  <a:latin typeface="Arial"/>
                  <a:hlinkClick r:id="rId4"/>
                </a:rPr>
                <a:t>США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- у. 8 июля </a:t>
              </a:r>
              <a:r>
                <a:rPr b="0" lang="ru-RU" sz="1800" spc="-1" strike="noStrike" u="sng">
                  <a:solidFill>
                    <a:srgbClr val="009999"/>
                  </a:solidFill>
                  <a:uFillTx/>
                  <a:latin typeface="Arial"/>
                  <a:hlinkClick r:id="rId5"/>
                </a:rPr>
                <a:t>1979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) — американский химик-органик, член Национальной АН и Американской академии искусств и наук. Вудворд синтезировал сложные и биологически важные органические соединения: </a:t>
              </a:r>
              <a:r>
                <a:rPr b="0" lang="ru-RU" sz="1800" spc="-1" strike="noStrike" u="sng">
                  <a:solidFill>
                    <a:srgbClr val="009999"/>
                  </a:solidFill>
                  <a:uFillTx/>
                  <a:latin typeface="Arial"/>
                  <a:hlinkClick r:id="rId6"/>
                </a:rPr>
                <a:t>хинин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lang="ru-RU" sz="1800" spc="-1" strike="noStrike" u="sng">
                  <a:solidFill>
                    <a:srgbClr val="009999"/>
                  </a:solidFill>
                  <a:uFillTx/>
                  <a:latin typeface="Arial"/>
                  <a:hlinkClick r:id="rId7"/>
                </a:rPr>
                <a:t>1944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), </a:t>
              </a:r>
              <a:r>
                <a:rPr b="0" lang="ru-RU" sz="1800" spc="-1" strike="noStrike" u="sng">
                  <a:solidFill>
                    <a:srgbClr val="009999"/>
                  </a:solidFill>
                  <a:uFillTx/>
                  <a:latin typeface="Arial"/>
                  <a:hlinkClick r:id="rId8"/>
                </a:rPr>
                <a:t>кортизон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lang="ru-RU" sz="1800" spc="-1" strike="noStrike" u="sng">
                  <a:solidFill>
                    <a:srgbClr val="009999"/>
                  </a:solidFill>
                  <a:uFillTx/>
                  <a:latin typeface="Arial"/>
                  <a:hlinkClick r:id="rId9"/>
                </a:rPr>
                <a:t>195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), </a:t>
              </a:r>
              <a:r>
                <a:rPr b="0" lang="ru-RU" sz="1800" spc="-1" strike="noStrike" u="sng">
                  <a:solidFill>
                    <a:srgbClr val="009999"/>
                  </a:solidFill>
                  <a:uFillTx/>
                  <a:latin typeface="Arial"/>
                  <a:hlinkClick r:id="rId10"/>
                </a:rPr>
                <a:t>резерпин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lang="ru-RU" sz="1800" spc="-1" strike="noStrike" u="sng">
                  <a:solidFill>
                    <a:srgbClr val="009999"/>
                  </a:solidFill>
                  <a:uFillTx/>
                  <a:latin typeface="Arial"/>
                  <a:hlinkClick r:id="rId11"/>
                </a:rPr>
                <a:t>1956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), </a:t>
              </a:r>
              <a:r>
                <a:rPr b="0" lang="ru-RU" sz="1800" spc="-1" strike="noStrike" u="sng">
                  <a:solidFill>
                    <a:srgbClr val="009999"/>
                  </a:solidFill>
                  <a:uFillTx/>
                  <a:latin typeface="Arial"/>
                  <a:hlinkClick r:id="rId12"/>
                </a:rPr>
                <a:t>хлорофилл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lang="ru-RU" sz="1800" spc="-1" strike="noStrike" u="sng">
                  <a:solidFill>
                    <a:srgbClr val="009999"/>
                  </a:solidFill>
                  <a:uFillTx/>
                  <a:latin typeface="Arial"/>
                  <a:hlinkClick r:id="rId13"/>
                </a:rPr>
                <a:t>1960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), </a:t>
              </a:r>
              <a:r>
                <a:rPr b="0" lang="ru-RU" sz="1800" spc="-1" strike="noStrike" u="sng">
                  <a:solidFill>
                    <a:srgbClr val="009999"/>
                  </a:solidFill>
                  <a:uFillTx/>
                  <a:latin typeface="Arial"/>
                  <a:hlinkClick r:id="rId14"/>
                </a:rPr>
                <a:t>тетрациклин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lang="ru-RU" sz="1800" spc="-1" strike="noStrike" u="sng">
                  <a:solidFill>
                    <a:srgbClr val="009999"/>
                  </a:solidFill>
                  <a:uFillTx/>
                  <a:latin typeface="Arial"/>
                  <a:hlinkClick r:id="rId15"/>
                </a:rPr>
                <a:t>1962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), а также установил строение ряда важных природных соединений: </a:t>
              </a:r>
              <a:r>
                <a:rPr b="0" lang="ru-RU" sz="1800" spc="-1" strike="noStrike" u="sng">
                  <a:solidFill>
                    <a:srgbClr val="009999"/>
                  </a:solidFill>
                  <a:uFillTx/>
                  <a:latin typeface="Arial"/>
                  <a:hlinkClick r:id="rId16"/>
                </a:rPr>
                <a:t>стрихнина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ru-RU" sz="1800" spc="-1" strike="noStrike" u="sng">
                  <a:solidFill>
                    <a:srgbClr val="009999"/>
                  </a:solidFill>
                  <a:uFillTx/>
                  <a:latin typeface="Arial"/>
                  <a:hlinkClick r:id="rId17"/>
                </a:rPr>
                <a:t>террамицина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и </a:t>
              </a:r>
              <a:r>
                <a:rPr b="0" lang="ru-RU" sz="1800" spc="-1" strike="noStrike" u="sng">
                  <a:solidFill>
                    <a:srgbClr val="009999"/>
                  </a:solidFill>
                  <a:uFillTx/>
                  <a:latin typeface="Arial"/>
                  <a:hlinkClick r:id="rId18"/>
                </a:rPr>
                <a:t>ауреомицина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ru-RU" sz="1800" spc="-1" strike="noStrike" u="sng">
                  <a:solidFill>
                    <a:srgbClr val="009999"/>
                  </a:solidFill>
                  <a:uFillTx/>
                  <a:latin typeface="Arial"/>
                  <a:hlinkClick r:id="rId19"/>
                </a:rPr>
                <a:t>магнамицина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ru-RU" sz="1800" spc="-1" strike="noStrike" u="sng">
                  <a:solidFill>
                    <a:srgbClr val="009999"/>
                  </a:solidFill>
                  <a:uFillTx/>
                  <a:latin typeface="Arial"/>
                  <a:hlinkClick r:id="rId20"/>
                </a:rPr>
                <a:t>тетродоксина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и др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250920" y="1090440"/>
          <a:ext cx="8642160" cy="5218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090440"/>
                    <a:ext cx="8642160" cy="521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 txBox="1"/>
          <p:nvPr/>
        </p:nvSpPr>
        <p:spPr>
          <a:xfrm>
            <a:off x="2627280" y="333360"/>
            <a:ext cx="451476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Химическая структур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cover dir="d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43px-Chlorophyll_structure" descr=""/>
          <p:cNvPicPr/>
          <p:nvPr/>
        </p:nvPicPr>
        <p:blipFill>
          <a:blip r:embed="rId1"/>
          <a:stretch/>
        </p:blipFill>
        <p:spPr>
          <a:xfrm>
            <a:off x="1619280" y="1484280"/>
            <a:ext cx="990720" cy="2790720"/>
          </a:xfrm>
          <a:prstGeom prst="rect">
            <a:avLst/>
          </a:prstGeom>
          <a:ln w="0">
            <a:noFill/>
          </a:ln>
        </p:spPr>
      </p:pic>
      <p:pic>
        <p:nvPicPr>
          <p:cNvPr id="73" name="120px-Chlorophyll_ab_spectra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4788000" y="1484280"/>
            <a:ext cx="3168720" cy="28116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853880" y="4581360"/>
            <a:ext cx="3686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Оптический спектр поглощения хлорофилл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зеленый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и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красный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90120" y="4581360"/>
            <a:ext cx="343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Общая структура хлорофилла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09480" y="3808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Фотосинтез (фотосистема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I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и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I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876920" y="2133720"/>
            <a:ext cx="3512880" cy="34574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990720" y="1066680"/>
            <a:ext cx="7467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6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CO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6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H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O = 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С</a:t>
            </a:r>
            <a:r>
              <a:rPr b="1" lang="ru-RU" sz="2800" spc="-1" strike="noStrike" baseline="-25000">
                <a:solidFill>
                  <a:srgbClr val="0000cc"/>
                </a:solidFill>
                <a:latin typeface="Times New Roman"/>
              </a:rPr>
              <a:t>6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Н</a:t>
            </a:r>
            <a:r>
              <a:rPr b="1" lang="ru-RU" sz="2800" spc="-1" strike="noStrike" baseline="-25000">
                <a:solidFill>
                  <a:srgbClr val="0000cc"/>
                </a:solidFill>
                <a:latin typeface="Times New Roman"/>
              </a:rPr>
              <a:t>12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О</a:t>
            </a:r>
            <a:r>
              <a:rPr b="1" lang="ru-RU" sz="2800" spc="-1" strike="noStrike" baseline="-25000">
                <a:solidFill>
                  <a:srgbClr val="0000cc"/>
                </a:solidFill>
                <a:latin typeface="Times New Roman"/>
              </a:rPr>
              <a:t>6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 + 6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O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838080" y="1828800"/>
            <a:ext cx="3467160" cy="44956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62485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В хлоропластах зеленых листь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2339280" y="380880"/>
            <a:ext cx="45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Calibri"/>
              </a:rPr>
              <a:t>Фотосинтез (фотосистема 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I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cyc1903c"/>
          <p:cNvPicPr/>
          <p:nvPr/>
        </p:nvPicPr>
        <p:blipFill>
          <a:blip r:embed="rId1"/>
          <a:stretch/>
        </p:blipFill>
        <p:spPr>
          <a:xfrm>
            <a:off x="2209680" y="1219320"/>
            <a:ext cx="4575240" cy="46432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4"/>
          <p:cNvSpPr/>
          <p:nvPr/>
        </p:nvSpPr>
        <p:spPr>
          <a:xfrm>
            <a:off x="1447920" y="6019920"/>
            <a:ext cx="70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Calibri"/>
              </a:rPr>
              <a:t>2H</a:t>
            </a:r>
            <a:r>
              <a:rPr b="1" lang="en-US" sz="1600" spc="-1" strike="noStrike">
                <a:solidFill>
                  <a:srgbClr val="6600cc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6600cc"/>
                </a:solidFill>
                <a:latin typeface="Calibri"/>
              </a:rPr>
              <a:t>O = 4H</a:t>
            </a:r>
            <a:r>
              <a:rPr b="1" lang="en-US" sz="1800" spc="-1" strike="noStrike" baseline="30000">
                <a:solidFill>
                  <a:srgbClr val="6600cc"/>
                </a:solidFill>
                <a:latin typeface="Calibri"/>
              </a:rPr>
              <a:t>+</a:t>
            </a:r>
            <a:r>
              <a:rPr b="1" lang="en-US" sz="1800" spc="-1" strike="noStrike">
                <a:solidFill>
                  <a:srgbClr val="6600cc"/>
                </a:solidFill>
                <a:latin typeface="Calibri"/>
              </a:rPr>
              <a:t> + O</a:t>
            </a:r>
            <a:r>
              <a:rPr b="1" lang="en-US" sz="1600" spc="-1" strike="noStrike">
                <a:solidFill>
                  <a:srgbClr val="6600cc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6600cc"/>
                </a:solidFill>
                <a:latin typeface="Calibri"/>
              </a:rPr>
              <a:t> +4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31T04:23:14Z</dcterms:created>
  <dc:creator>Admin</dc:creator>
  <dc:description/>
  <dc:language>en-US</dc:language>
  <cp:lastModifiedBy>HOME</cp:lastModifiedBy>
  <dcterms:modified xsi:type="dcterms:W3CDTF">2008-12-18T14:14:07Z</dcterms:modified>
  <cp:revision>49</cp:revision>
  <dc:subject/>
  <dc:title>Слайд 1</dc:title>
</cp:coreProperties>
</file>