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96BB-1D06-4757-BC30-02D29F092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7DE7-2222-42C5-AE8E-1C8047937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CD1B-D50E-431B-8AB0-1C31D7B95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4EF7-EC3F-4CE0-98F6-1BC96957F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D077-DE78-47E6-964B-A8BE092CC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2961-01A3-47F1-BA00-4F8777AEB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E24C-E214-470A-9EE3-FD43B0D3C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2263-61B7-449A-A91D-7ADECC4F6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FCB1-BF30-4534-85EF-2CC31689F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9BC8-C26C-4BEC-84F5-8145D9A9B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F905-10EA-4BBD-A526-BE54482B2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2A12-9BAF-462F-965E-EEC6164FB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65736-58AE-4FFE-B8B7-BFF31154E39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62120" y="23760"/>
            <a:ext cx="7619760" cy="6810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80880" y="285840"/>
            <a:ext cx="8382240" cy="628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57200" y="138240"/>
            <a:ext cx="8229600" cy="658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2T17:48:41Z</dcterms:created>
  <dc:creator>эльвира</dc:creator>
  <dc:description/>
  <dc:language>en-US</dc:language>
  <cp:lastModifiedBy>эльвира</cp:lastModifiedBy>
  <dcterms:modified xsi:type="dcterms:W3CDTF">2015-09-12T18:06:23Z</dcterms:modified>
  <cp:revision>4</cp:revision>
  <dc:subject/>
  <dc:title>Слайд 1</dc:title>
</cp:coreProperties>
</file>