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5F4-0B8F-4D56-BAFE-84C80A39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B60-7D0B-4E4A-8D8F-080EF3D9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71F-5005-4E5A-848C-25869DEF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A95-211D-4440-BD0E-A7DC4154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97C-5960-4EA4-8FE6-EAA4254A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30C-6579-4457-BD99-E0401882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BC3-3FF2-4068-A332-8B5B85C9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4EF-1F73-4CFE-97A1-A1F9A85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6FC-76AB-4B23-A084-8AAB2358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61C-57B4-424F-81D6-1097C29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918-8CBD-4557-BBDC-7DC2609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56A-45E2-40E6-A534-2095A0C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C08F-D294-450A-8F45-4D09657FD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3760"/>
            <a:ext cx="7619760" cy="681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38240"/>
            <a:ext cx="82296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2T17:48:41Z</dcterms:created>
  <dc:creator>эльвира</dc:creator>
  <dc:description/>
  <dc:language>en-US</dc:language>
  <cp:lastModifiedBy>эльвира</cp:lastModifiedBy>
  <dcterms:modified xsi:type="dcterms:W3CDTF">2015-09-12T18:06:23Z</dcterms:modified>
  <cp:revision>4</cp:revision>
  <dc:subject/>
  <dc:title>Слайд 1</dc:title>
</cp:coreProperties>
</file>