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131-8382-4CEA-8DB4-50CC92D5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265-B4E2-450D-8E3E-F8073FE8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249-477E-4CD6-9203-8A3A1695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CF9-F9EE-4DC0-ACDA-68742DFE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1C83-79BF-448C-AD52-FC36E920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21D4-393B-4D21-963D-D652D814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A411-5BA9-4176-ABA7-1402573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D2F7-7B19-4EFB-B10E-AB324CF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F853-8895-45B6-8EBE-B10E7A5A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9ADD-C581-48D6-8AF2-AC983D6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614-BCD6-4162-A36E-47845B9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81E-ACF1-4C7F-9D5A-F26E9AB5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2FC9-6FC9-40D3-921B-D3B31C9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EF0D-FDCC-4439-BDF2-2C0B422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359-0B40-427A-BAA4-B881DCA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349E-4D50-4D63-B38C-F053BCD0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92B4-1A43-44F0-B539-3B1ADB76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456-28EC-4F45-957B-C5E05726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889-7F07-49BB-9740-AFCF00B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8C3-D915-411F-BBBE-13688639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153-590A-462C-A2B7-F8F3395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AE6-A10C-4F44-9FF0-FDD6F3A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9E1-632B-4B99-B345-B64B295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4BD-A17D-4041-8A0D-65168E8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634-9CB2-4F5D-A14E-D3BF31298B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4B40-90E0-41CD-9506-567257852B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озвенел зво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1520" y="3676320"/>
            <a:ext cx="598464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</a:rPr>
              <a:t>Начинаем у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920" y="285840"/>
            <a:ext cx="7013520" cy="59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класс как ветер залетай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е вокруг себя смета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Ставьте стулья аккуратн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Чтобы было всем приятно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колько проводов вокруг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ргай их смелее друг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Клавиши ПК – не гвозди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Не стучи по ним со злостью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успел поесть – это не беда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ешь за компьютером кушать хоть когд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Пальцами экран не трогай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Здесь такой порядок строг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"/>
          <p:cNvPicPr/>
          <p:nvPr/>
        </p:nvPicPr>
        <p:blipFill>
          <a:blip r:embed="rId4"/>
          <a:stretch/>
        </p:blipFill>
        <p:spPr>
          <a:xfrm>
            <a:off x="3492360" y="3068640"/>
            <a:ext cx="4762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чинаем составлять словарик ТЕРМИНОВ по инфор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граф учебника и задание в рабочей тетр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98100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майлик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ассматривайте, склонив голову влев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-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есел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Cyr"/>
              </a:rPr>
              <a:t>:-)))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о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-)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тро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:-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гру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-)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ивленное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-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недово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йтральн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4969080" cy="3727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171960" cy="47628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3780000" y="3068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, что каждый знает об объекте или помнит – это его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личное понят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представление об объе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раз (представление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может соответствовать реальному объекту, 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жет и не соответствова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389560" cy="4041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081320" cy="5448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4284720" y="1197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нятие возникает в результате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заимодейств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человека с объек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ществуют два мира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р объектов реальной действительности и мир понятий об объекта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енны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объекта, которые известны человеку об объекте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ляют содержание понятия  об этом объек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ятие возникает в результат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заимодейств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человека с объек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708520" cy="35719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1835280" y="4941720"/>
            <a:ext cx="60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ие человека об объекте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жет изменять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если человек получает больше информации об объе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Терм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ерм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слово или устойчивое словосочетание, обозначающее объект из мира искусства, науки и техн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ПОНЯТ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НЯТИЕ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ючевое слово (что это такое) + существенные признак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0-11-18T12:44:56Z</dcterms:modified>
  <cp:revision>9</cp:revision>
  <dc:subject/>
  <dc:title>Прозвенел звонок</dc:title>
</cp:coreProperties>
</file>