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572-0DDB-4E59-BE7C-26258A4F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5C6-B38F-4736-A1FC-9031CAB4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120-F272-44F3-9E41-7FD68F41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C64-EB08-4282-AD51-8E5D2491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92A-2292-41FF-8E6F-ACE0F68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C15-A91F-4A7C-AF72-F56DD9F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9683-5AE2-4065-A566-227F782A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DFD5-6034-4F22-A2D8-25F0F694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8C58-9276-4624-9AC9-F3EC617E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D39-C783-4580-8C38-2439EF3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12EE-CE49-4222-A24A-910A12B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204-1721-4A6D-9B87-73223E6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7495-90EE-4282-BD9F-F353A66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CB4A-FF6B-4BCB-9F4C-D1273F5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663D-3BA8-4674-9B8F-4E90C6A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EE33-8B4E-43B8-AC75-7A9A50D2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E0C7-0464-4B19-8978-EE84F22F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78A-8D3D-430C-AB64-2635105A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A55-8F85-448E-A4DB-B902FA3C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CF9-C7C6-4A5C-9551-076D870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077-3878-4C58-8C8C-8609088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E78-8A82-403B-A3B3-96028518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DF5-DB85-4CC4-9703-443F096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E2C-D4F7-449F-A310-9FA9800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C1A-4111-46FA-AEDC-E500EF1E36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BC07-AC90-4660-9502-052B224CD0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озвенел зво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1520" y="3676320"/>
            <a:ext cx="598464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</a:rPr>
              <a:t>Начинаем у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285840"/>
            <a:ext cx="7013520" cy="59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класс как ветер залета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е вокруг себя смета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Ставьте стулья аккуратн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Чтобы было всем приятно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колько проводов вокруг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ргай их смелее друг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Клавиши ПК – не гвозди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Не стучи по ним со злостью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успел поесть – это не беда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ешь за компьютером кушать хоть когд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Пальцами экран не трога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Здесь такой порядок строг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"/>
          <p:cNvPicPr/>
          <p:nvPr/>
        </p:nvPicPr>
        <p:blipFill>
          <a:blip r:embed="rId4"/>
          <a:stretch/>
        </p:blipFill>
        <p:spPr>
          <a:xfrm>
            <a:off x="3492360" y="3068640"/>
            <a:ext cx="4762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чинаем составлять словарик ТЕРМИНОВ по инфор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граф учебника и задание в рабочей тетр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98100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майлик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ассматривайте, склонив голову вле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есел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Cyr"/>
              </a:rPr>
              <a:t>:-)))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-)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тро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:-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гру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-)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ивленное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недово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йтраль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4969080" cy="3727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171960" cy="47628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3780000" y="3068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, что каждый знает об объекте или помнит – это его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личное понят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представление об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раз (представление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может соответствовать реальному объекту, 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и не соответствова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389560" cy="4041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081320" cy="5448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4284720" y="1197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нятие возникает в результате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заимодейств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человека с объек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ществуют два мир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р объектов реальной действительности и мир понятий об объекта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енны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бъекта, которые известны человеку об объекте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ляют содержание понятия  об этом объек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ие возникает в результат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заимодейств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человека с объек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708520" cy="35719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1835280" y="4941720"/>
            <a:ext cx="60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ие человека об объекте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изменять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если человек получает больше информации об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Терм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ерм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слово или устойчивое словосочетание, обозначающее объект из мира искусства, науки и тех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ПОНЯТ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НЯТИЕ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ючевое слово (что это такое) + существенные признак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0-11-18T12:44:56Z</dcterms:modified>
  <cp:revision>9</cp:revision>
  <dc:subject/>
  <dc:title>Прозвенел звонок</dc:title>
</cp:coreProperties>
</file>