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E03-CD64-4D46-8013-FD4EFBE5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43D-188B-42BD-B6BB-0EE20E1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418-6028-44DC-87B6-D600C094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909-8A6D-4B00-92FC-9FD53BD8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E80-E2EE-41C4-82C3-579337B5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A3B-F64A-4D0B-9147-816BDCD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2241-B915-4D26-87D5-1079944D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DDE5-7DDC-4530-96CD-C0328F6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FA79-D9D2-4D1D-8057-A6E47CBF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17A-1512-4E3E-AD81-22C7B29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74E1-1B97-468A-98E5-6FD1A74C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844-ED9F-4364-9B3C-DCFB114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00D-4C19-4332-9F6E-1F64D26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6A24-6C0F-4CE6-B737-7832839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8445-AAA8-4710-B614-A2A189B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E784-141D-40A4-A0B5-3FC2B1E5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1522-1E46-4D8C-B60E-AFB7A845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1A4-0E39-4331-BCD3-43F91D8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E02-4819-46C1-B0B6-C5EEA34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C8B-1985-41DD-B163-74339C3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627-1D11-4401-B6E2-AE1C8146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911-AC4A-4874-B0A9-6096C32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E7A-02D7-4E2C-920E-8ECEDE5B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7CB-DFF0-4F62-94FB-88EC7F9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f17f"/>
            </a:gs>
            <a:gs pos="100000">
              <a:srgbClr val="c6f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A92-B7DF-4D89-8A0C-23C75548ED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f17f"/>
            </a:gs>
            <a:gs pos="100000">
              <a:srgbClr val="c6f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2A5E-3FF7-47D0-9260-7E2A7286D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G:\&#1041;&#1077;&#1074;&#1079; &#1040;.&#1042;.&#1053;&#1080;&#1078;&#1085;&#1077;&#1074;&#1072;&#1088;&#1090;&#1086;&#1074;&#1089;&#1082; &#1044;&#1054;&#1059; &#8470;45\e42ad3d10874.mp3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1"/>
          <p:cNvSpPr/>
          <p:nvPr/>
        </p:nvSpPr>
        <p:spPr>
          <a:xfrm>
            <a:off x="1187280" y="476280"/>
            <a:ext cx="698508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Муниципальное бюджетное дошкольное образовательное учреждение детский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сад комбинированного вида № 27  «Филипп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924360" y="2276640"/>
            <a:ext cx="4778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Gothic"/>
              </a:rPr>
              <a:t>Мультимедийная разрабо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Непосредственно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«Речевое развит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 группе общеразвивающей направленности для детей 4-5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entury Gothic"/>
              </a:rPr>
              <a:t>образовательной области «Коммуникация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одержимое 1"/>
          <p:cNvSpPr/>
          <p:nvPr/>
        </p:nvSpPr>
        <p:spPr>
          <a:xfrm>
            <a:off x="3851280" y="5157720"/>
            <a:ext cx="4786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Воспитатель:</a:t>
            </a:r>
            <a:r>
              <a:rPr b="0" i="1" lang="ru-RU" sz="2000" spc="-1" strike="noStrike">
                <a:solidFill>
                  <a:srgbClr val="8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Юсупова Венера Фарит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одержимое 1"/>
          <p:cNvSpPr/>
          <p:nvPr/>
        </p:nvSpPr>
        <p:spPr>
          <a:xfrm>
            <a:off x="2124000" y="6072120"/>
            <a:ext cx="4786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г.Нижневартов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48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49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Прямоугольник 8"/>
          <p:cNvSpPr/>
          <p:nvPr/>
        </p:nvSpPr>
        <p:spPr>
          <a:xfrm>
            <a:off x="642960" y="750960"/>
            <a:ext cx="7929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оказывает детям небольшое пуховое белое перыш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это?  (Перышко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 Какое оно – черное или бел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Гладкое или пушистое? - Длинное или корот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Легкое или тяжел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Перышко это не простое, а волшебно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тоит на него поду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 оно покажет п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 какую сторону ид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Чтоб хозяина най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Интересно, кто хозяин этого перышка? (Ответы дет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Положила перышко на ладонь вытянутой руки и протянула руку к детям: попросила всех вместе по команде подуть на волшебное перышк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«Раз, два, тр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ышко лети!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29000" y="464328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286680" y="4714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0"/>
          <p:cNvSpPr/>
          <p:nvPr/>
        </p:nvSpPr>
        <p:spPr>
          <a:xfrm>
            <a:off x="-928800" y="121428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57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58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Прямоугольник 7"/>
          <p:cNvSpPr/>
          <p:nvPr/>
        </p:nvSpPr>
        <p:spPr>
          <a:xfrm>
            <a:off x="571680" y="1214280"/>
            <a:ext cx="7500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ивело нас перышко на птичий двор.  Куда мы с вами попали? Давайте вместе скажем – птичий двор. А каких птиц не хватает в птичьем дворе? А теперь присяд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: Вспомните названия домашних птиц. (Курица, индюк, утка, петух, гуси).  Как вы думаете, о ком мы сегодня будем говорить? (О домашних птиц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Упражнение «Подбери действия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(Цель: закреплять умение называть особен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ведения птиц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ыставляется  картинка с изображением индю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ндюк что делает? (Болоболит, кричит, шипи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надуваетс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Затем выставляются картинки с изображ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утки и курицы. Аналогич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одбираются действ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(Курица – ходит, клюе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мотрит, бегает, оберегае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Утка - крякает, ходит, плав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143760" y="307188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3714840" y="500076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0"/>
          <p:cNvSpPr/>
          <p:nvPr/>
        </p:nvSpPr>
        <p:spPr>
          <a:xfrm>
            <a:off x="428760" y="1225440"/>
            <a:ext cx="817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тение рассказа «Куроч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оспитатель:  А сейчас, я вам прочитаю рассказ « Курочка», который написал детский писатель Евгений Чарушин. Вы его внимательно слушайте.  Потом будем составлять краткий пересказ расск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итается рассказ с показом по иллюстрации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Вы слышали новое слово – заквохтала. Это означает, что курочка так говорит: квох- квох- квох. Давайте вместе скажем – заквохта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Вопросы к дет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ак называется рассказ? (Кур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то его написа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Где курочка с цыплятами ходила? (По двор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случилось? (Пошел дождик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сделала курочка? ( На землю присела, в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ышки растопырила и заквохтал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Как цыплята прятались под крылышки курицы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(Один совсем спрятался, у него только ножки видны, у кого головка торчит, у кого только глаз выглядыв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А кто не спрятался? (Два цыплен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Что они стали делать? (стоят, пищат и удивляются: что это им на голову капае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Группа 6"/>
          <p:cNvGrpSpPr/>
          <p:nvPr/>
        </p:nvGrpSpPr>
        <p:grpSpPr>
          <a:xfrm>
            <a:off x="642960" y="428760"/>
            <a:ext cx="8136000" cy="536400"/>
            <a:chOff x="642960" y="428760"/>
            <a:chExt cx="8136000" cy="536400"/>
          </a:xfrm>
        </p:grpSpPr>
        <p:grpSp>
          <p:nvGrpSpPr>
            <p:cNvPr id="167" name="Группа 21"/>
            <p:cNvGrpSpPr/>
            <p:nvPr/>
          </p:nvGrpSpPr>
          <p:grpSpPr>
            <a:xfrm>
              <a:off x="642960" y="428760"/>
              <a:ext cx="8136000" cy="536400"/>
              <a:chOff x="642960" y="428760"/>
              <a:chExt cx="8136000" cy="536400"/>
            </a:xfrm>
          </p:grpSpPr>
          <p:sp>
            <p:nvSpPr>
              <p:cNvPr id="168" name="Скругленный прямоугольник 9"/>
              <p:cNvSpPr/>
              <p:nvPr/>
            </p:nvSpPr>
            <p:spPr>
              <a:xfrm>
                <a:off x="714240" y="42876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Скругленный прямоугольник 4"/>
              <p:cNvSpPr/>
              <p:nvPr/>
            </p:nvSpPr>
            <p:spPr>
              <a:xfrm>
                <a:off x="642960" y="490680"/>
                <a:ext cx="78584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6357960" y="292896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73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74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8"/>
          <p:cNvSpPr/>
          <p:nvPr/>
        </p:nvSpPr>
        <p:spPr>
          <a:xfrm>
            <a:off x="428760" y="136260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Игра «Наседка и цыплята» (под музык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: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Давайте скорее играть, выходите на лужок и вставайте все в кружок. Я, буду курочка – мама, а вы цыплята. Когда светит солнце, цыплята бегают, зерна клюют. Начинается дождик – к маме бег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Игра проводится 2 р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500040" y="3643200"/>
            <a:ext cx="23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3286080" y="3643200"/>
            <a:ext cx="2571840" cy="2428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6">
            <a:hlinkClick r:id="rId3"/>
          </p:cNvPr>
          <p:cNvSpPr/>
          <p:nvPr/>
        </p:nvSpPr>
        <p:spPr>
          <a:xfrm>
            <a:off x="4572000" y="6165720"/>
            <a:ext cx="395280" cy="46692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66920"/>
              <a:gd name="textAreaBottom" fmla="*/ 441360 h 466920"/>
            </a:gdLst>
            <a:ahLst/>
            <a:rect l="textAreaLeft" t="textAreaTop" r="textAreaRight" b="textAreaBottom"/>
            <a:pathLst>
              <a:path w="21600" h="25511">
                <a:moveTo>
                  <a:pt x="0" y="0"/>
                </a:moveTo>
                <a:lnTo>
                  <a:pt x="21600" y="0"/>
                </a:lnTo>
                <a:lnTo>
                  <a:pt x="21600" y="25511"/>
                </a:lnTo>
                <a:lnTo>
                  <a:pt x="0" y="25511"/>
                </a:lnTo>
                <a:close/>
              </a:path>
              <a:path fill="lightenLess" w="21600" h="255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1">
                <a:moveTo>
                  <a:pt x="21600" y="0"/>
                </a:moveTo>
                <a:lnTo>
                  <a:pt x="21600" y="25511"/>
                </a:lnTo>
                <a:lnTo>
                  <a:pt x="20200" y="24111"/>
                </a:lnTo>
                <a:lnTo>
                  <a:pt x="20200" y="1400"/>
                </a:lnTo>
                <a:close/>
              </a:path>
              <a:path fill="darkenLess" w="21600" h="25511">
                <a:moveTo>
                  <a:pt x="21600" y="25511"/>
                </a:moveTo>
                <a:lnTo>
                  <a:pt x="0" y="25511"/>
                </a:lnTo>
                <a:lnTo>
                  <a:pt x="1400" y="24111"/>
                </a:lnTo>
                <a:lnTo>
                  <a:pt x="20200" y="24111"/>
                </a:lnTo>
                <a:close/>
              </a:path>
              <a:path fill="lighten" w="21600" h="25511">
                <a:moveTo>
                  <a:pt x="0" y="255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1"/>
                </a:lnTo>
                <a:close/>
              </a:path>
              <a:path fill="darken" w="21600" h="25511">
                <a:moveTo>
                  <a:pt x="3794" y="10362"/>
                </a:moveTo>
                <a:lnTo>
                  <a:pt x="8224" y="10362"/>
                </a:lnTo>
                <a:lnTo>
                  <a:pt x="12645" y="5749"/>
                </a:lnTo>
                <a:lnTo>
                  <a:pt x="12645" y="19762"/>
                </a:lnTo>
                <a:lnTo>
                  <a:pt x="8224" y="15149"/>
                </a:lnTo>
                <a:lnTo>
                  <a:pt x="3794" y="15149"/>
                </a:lnTo>
                <a:close/>
              </a:path>
              <a:path fill="darken" w="21600" h="25511">
                <a:moveTo>
                  <a:pt x="14299" y="12756"/>
                </a:moveTo>
                <a:lnTo>
                  <a:pt x="17806" y="12756"/>
                </a:lnTo>
              </a:path>
              <a:path fill="darken" w="21600" h="25511">
                <a:moveTo>
                  <a:pt x="14299" y="10362"/>
                </a:moveTo>
                <a:lnTo>
                  <a:pt x="17806" y="7594"/>
                </a:lnTo>
              </a:path>
              <a:path fill="darken" w="21600" h="25511">
                <a:moveTo>
                  <a:pt x="14299" y="15149"/>
                </a:moveTo>
                <a:lnTo>
                  <a:pt x="17806" y="17917"/>
                </a:lnTo>
              </a:path>
            </a:pathLst>
          </a:custGeom>
          <a:noFill/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4"/>
          <a:stretch/>
        </p:blipFill>
        <p:spPr>
          <a:xfrm>
            <a:off x="6215040" y="364320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611280" y="1413000"/>
            <a:ext cx="79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Чтение рассказа 2-ой раз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Пересказ расск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: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Сейчас вы будете пересказывать рассказ Е, Чарушина  «Курочка », а помогут вам  иллюст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 Кто хочет рассказать про куроч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едлагается, двоим детям составить краткий пересказ рассказа, с использованием иллюстра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Сейчас, Катя  расскажет: как называется рассказ? Что делала курочка с цыплятами? Что произошло потом? Что курочка сделала, когда пошел дождь? А, ………  продолжит, что же было дальше. Все ли цыплята спрятались под крылом у курочки? Что сделали два цыпленка? Чему удивляю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84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85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5929200" y="4500720"/>
            <a:ext cx="2189160" cy="207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928800" y="4643280"/>
            <a:ext cx="4143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14200" y="1095120"/>
            <a:ext cx="821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 давайте, ребята, немного отдохн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ышла курочка гуля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вежей травки пощипа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 за ней цыплятки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Желтые ребя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Ко-ко-ко да ко-ко-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е ходите далек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Лапками гребите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ернышко ищит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ашли  толстого жука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Дождевого червяк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ыпили  водицы 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олное  копыт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92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93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928800" y="3500280"/>
            <a:ext cx="2714400" cy="2571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6110280" y="1201680"/>
            <a:ext cx="2390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5280" y="105264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еперь нужно пересказать рассказ целик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редложить Кириллу и Карине пересказать рассказ целик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00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01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214440" cy="348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2"/>
          <a:stretch/>
        </p:blipFill>
        <p:spPr>
          <a:xfrm>
            <a:off x="5143680" y="3000240"/>
            <a:ext cx="2786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07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08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новно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1"/>
          <p:cNvSpPr/>
          <p:nvPr/>
        </p:nvSpPr>
        <p:spPr>
          <a:xfrm>
            <a:off x="500040" y="13572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Дидактическая игра «Один – много» с мяч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Я вам предлагаю поиграть еще в одн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гру, которая называется «Один – мног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урица – много к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Цыплята – много цыпл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ь – много гус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тка – много у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етух – много петух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елезень – много селез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енок – много гус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усыня – много гусы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1" descr=""/>
          <p:cNvPicPr/>
          <p:nvPr/>
        </p:nvPicPr>
        <p:blipFill>
          <a:blip r:embed="rId1"/>
          <a:stretch/>
        </p:blipFill>
        <p:spPr>
          <a:xfrm>
            <a:off x="500040" y="3714840"/>
            <a:ext cx="2714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611280" y="1197000"/>
            <a:ext cx="792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215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216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Прямоугольник 7"/>
          <p:cNvSpPr/>
          <p:nvPr/>
        </p:nvSpPr>
        <p:spPr>
          <a:xfrm>
            <a:off x="285840" y="1500120"/>
            <a:ext cx="464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Воспитатель.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Наше занятие подходит к концу. Чем мы сегодня с вами занимались? (Пересказывали рассказ). Как называется рассказ? Кто его написал? А правильно ли поступили 2 цыпленка? Что с ними могло                                       произойти? А вы слушаетесь своих родителе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- Сегодня необычный день – День Святого Валентина, я вам дарю вот такие сердечки в знак своей любви к вам, а вы дома поздравьте своих родителей с этим прекрасным днем. И всегда старайтесь слушаться взрослых . Молодц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2241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714240" y="2357280"/>
            <a:ext cx="7858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художественной литературы в воспитании детей определяется ее общественной, а также воспитательно-образовательной рол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Искусство слова отражает действительность через художественные образы, показывает наиболее типичное, осмысливая и обобщая реальные жизненные факты. Это помогает ребенку познавать жизнь, формирует его отношение к окружающему. Художественные произведения, раскрывая внутренний мир героев, заставляют детей волноваться, переживать, как свои, радости и горести героев. У старших дошкольников появляется способность мысленно действовать в воображаемых обстоятельствах, как бы становиться на место героев. Например, вместе с героями сказки дети испытывают чувство страха в напряженные драматические моменты, чувство облегчения, удовлетворения при победе справедливости. Ясно видно, что в данное понятие входят и формирование связной речи, словарная работ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9"/>
          <p:cNvSpPr/>
          <p:nvPr/>
        </p:nvSpPr>
        <p:spPr>
          <a:xfrm>
            <a:off x="1285920" y="357120"/>
            <a:ext cx="671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етоды и при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11"/>
          <p:cNvSpPr/>
          <p:nvPr/>
        </p:nvSpPr>
        <p:spPr>
          <a:xfrm>
            <a:off x="1500120" y="857160"/>
            <a:ext cx="6983640" cy="1785960"/>
          </a:xfrm>
          <a:prstGeom prst="flowChartAlternateProcess">
            <a:avLst/>
          </a:prstGeom>
          <a:noFill/>
          <a:ln cap="rnd" w="6480">
            <a:solidFill>
              <a:srgbClr val="8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Артикуляционная гимна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ассматривание картины «Курочка и цыплят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движная игра « Наседка и цыплят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ение рассказа Е. Чарушина «Курочк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пражнение «Подбери действие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- Дидактическая игра «Один - мног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Группа 12"/>
          <p:cNvGrpSpPr/>
          <p:nvPr/>
        </p:nvGrpSpPr>
        <p:grpSpPr>
          <a:xfrm>
            <a:off x="1928880" y="2786040"/>
            <a:ext cx="5790960" cy="415800"/>
            <a:chOff x="1928880" y="2786040"/>
            <a:chExt cx="5790960" cy="415800"/>
          </a:xfrm>
        </p:grpSpPr>
        <p:grpSp>
          <p:nvGrpSpPr>
            <p:cNvPr id="99" name="Группа 21"/>
            <p:cNvGrpSpPr/>
            <p:nvPr/>
          </p:nvGrpSpPr>
          <p:grpSpPr>
            <a:xfrm>
              <a:off x="1928880" y="2786040"/>
              <a:ext cx="5790960" cy="415800"/>
              <a:chOff x="1928880" y="2786040"/>
              <a:chExt cx="5790960" cy="415800"/>
            </a:xfrm>
          </p:grpSpPr>
          <p:sp>
            <p:nvSpPr>
              <p:cNvPr id="100" name="Скругленный прямоугольник 15"/>
              <p:cNvSpPr/>
              <p:nvPr/>
            </p:nvSpPr>
            <p:spPr>
              <a:xfrm>
                <a:off x="1928880" y="2786040"/>
                <a:ext cx="5651280" cy="415800"/>
              </a:xfrm>
              <a:prstGeom prst="roundRect">
                <a:avLst>
                  <a:gd name="adj" fmla="val 10000"/>
                </a:avLst>
              </a:prstGeom>
              <a:noFill/>
              <a:ln cap="rnd" w="6480">
                <a:solidFill>
                  <a:srgbClr val="000080"/>
                </a:solidFill>
                <a:miter/>
              </a:ln>
              <a:effectLst>
                <a:outerShdw dist="1260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Скругленный прямоугольник 4"/>
              <p:cNvSpPr/>
              <p:nvPr/>
            </p:nvSpPr>
            <p:spPr>
              <a:xfrm>
                <a:off x="2214360" y="2786040"/>
                <a:ext cx="5505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Прямоугольник 14"/>
            <p:cNvSpPr/>
            <p:nvPr/>
          </p:nvSpPr>
          <p:spPr>
            <a:xfrm>
              <a:off x="2286000" y="2786040"/>
              <a:ext cx="422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Оборудование и сред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Блок-схема: альтернативный процесс 17"/>
          <p:cNvSpPr/>
          <p:nvPr/>
        </p:nvSpPr>
        <p:spPr>
          <a:xfrm>
            <a:off x="2143080" y="3429000"/>
            <a:ext cx="5884920" cy="1000080"/>
          </a:xfrm>
          <a:prstGeom prst="flowChartAlternateProcess">
            <a:avLst/>
          </a:prstGeom>
          <a:noFill/>
          <a:ln w="6480">
            <a:solidFill>
              <a:srgbClr val="800000"/>
            </a:solidFill>
            <a:prstDash val="sysDot"/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Группа 18"/>
          <p:cNvGrpSpPr/>
          <p:nvPr/>
        </p:nvGrpSpPr>
        <p:grpSpPr>
          <a:xfrm>
            <a:off x="2556000" y="4581360"/>
            <a:ext cx="5263920" cy="478080"/>
            <a:chOff x="2556000" y="4581360"/>
            <a:chExt cx="5263920" cy="478080"/>
          </a:xfrm>
        </p:grpSpPr>
        <p:sp>
          <p:nvSpPr>
            <p:cNvPr id="105" name="Скругленный прямоугольник 4"/>
            <p:cNvSpPr/>
            <p:nvPr/>
          </p:nvSpPr>
          <p:spPr>
            <a:xfrm>
              <a:off x="2556000" y="4581360"/>
              <a:ext cx="5263920" cy="478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Прямоугольник 20"/>
            <p:cNvSpPr/>
            <p:nvPr/>
          </p:nvSpPr>
          <p:spPr>
            <a:xfrm>
              <a:off x="2627280" y="4589280"/>
              <a:ext cx="40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ПРЕДВАРИТЕЛЬНАЯ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РАБОТА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Блок-схема: альтернативный процесс 23"/>
          <p:cNvSpPr/>
          <p:nvPr/>
        </p:nvSpPr>
        <p:spPr>
          <a:xfrm>
            <a:off x="2214720" y="5214960"/>
            <a:ext cx="5398920" cy="1428840"/>
          </a:xfrm>
          <a:prstGeom prst="flowChartAlternateProcess">
            <a:avLst/>
          </a:prstGeom>
          <a:noFill/>
          <a:ln w="6480">
            <a:solidFill>
              <a:srgbClr val="800000"/>
            </a:solidFill>
            <a:prstDash val="sysDot"/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Рассматривание иллюстраций с изображением домашних п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осмотр мультфильма «Гадкий утен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наблюдение за птицами во время прогул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оведение НОД по изображению домашних п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2357280" y="335772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еро,  картинки с изображением домашних птиц, иллюстрации  для последовательного пересказа рассказа «птичий двор»,  мяч, маски, костюм насед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64296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ое занятие явля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ланов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цель которого усвоение программного материала по разделу коммуник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занятии использована игровая мотивация, включающая в себя методы и приемы традиционного обучения. Сюжетно ролевая игра – это ведущий вид деятельности дошколь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е проводилось с детьми средней группы. Состоит из трех этапов, на каждом из которых решались определенные задачи. Задача первого этапа решалась путем создания эмоциональной обстановки и направлена на формирование интереса и желания заним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тором этапе решалась основная задача - уточнение знаний умений навыков по области «Коммуникация», разделу «Речевое развитие». Детям были предложены задания на развитие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ния пересказывать содержание рассказа, с использованием наглядной опоры;   знаний о домашних птицах;  умений детей называть птиц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Скругленный прямоугольник 3"/>
          <p:cNvSpPr/>
          <p:nvPr/>
        </p:nvSpPr>
        <p:spPr>
          <a:xfrm>
            <a:off x="1508040" y="1211400"/>
            <a:ext cx="5689800" cy="792000"/>
          </a:xfrm>
          <a:prstGeom prst="roundRect">
            <a:avLst>
              <a:gd name="adj" fmla="val 16667"/>
            </a:avLst>
          </a:prstGeom>
          <a:solidFill>
            <a:srgbClr val="bfea3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АМО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14240" y="2071800"/>
            <a:ext cx="792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сть занятия согласно требованиям СанПиНа 2.4.1.2660-10 "Санитарно-эпидемиологические требования к устройству, содержанию и организации режима работы в дошкольных организациях" составила – 20 минут; во время занятия происходила смена видов деятельности, использование игрового метода позволило сделать процесс занятия доступным, привлекательным, содержатель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ротяжении всего занятия, проводилась оценка педагогом деятельности детей. В конце занятия дети оценили свою деятель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занятия достигнута, дети получили положительный эмоциональный настрой, проконтролировали свои знания, умения и навыки по разделу «Речевое развитие». Показали уровень своих знаний через самоконтроль и взаимоконтроль. Затруднений в ходе проведенного занятия не выявлено по причине соответствия поставленных задач возрасту и индивидуальным особенностям детей. Примененные на занятии технологии способствовали развитию смекалки, зрительной памяти, формированию мыслительных операций, развитию ре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714240"/>
            <a:ext cx="735804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785880" y="214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комбинированного вида №27 «Филиппок» г. Нижневартов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WordArt 12" descr=""/>
          <p:cNvPicPr/>
          <p:nvPr/>
        </p:nvPicPr>
        <p:blipFill>
          <a:blip r:embed="rId1"/>
          <a:stretch/>
        </p:blipFill>
        <p:spPr>
          <a:xfrm>
            <a:off x="1474920" y="1779480"/>
            <a:ext cx="7016760" cy="1408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786040" y="3286080"/>
            <a:ext cx="3857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4"/>
          <p:cNvSpPr/>
          <p:nvPr/>
        </p:nvSpPr>
        <p:spPr>
          <a:xfrm>
            <a:off x="1692360" y="2133720"/>
            <a:ext cx="1846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Блок-схема: альтернативный процесс 29"/>
          <p:cNvSpPr/>
          <p:nvPr/>
        </p:nvSpPr>
        <p:spPr>
          <a:xfrm>
            <a:off x="73080" y="5907240"/>
            <a:ext cx="2428920" cy="57600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оспит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42"/>
          <p:cNvSpPr/>
          <p:nvPr/>
        </p:nvSpPr>
        <p:spPr>
          <a:xfrm>
            <a:off x="3203640" y="5643720"/>
            <a:ext cx="571500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оспитывать доброе отношение к домашним животным, уважение к родителям,  воспитывать желание говорить как взрослые, понятно для слушателей отвечать на вопросы, понятн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41"/>
          <p:cNvSpPr/>
          <p:nvPr/>
        </p:nvSpPr>
        <p:spPr>
          <a:xfrm>
            <a:off x="2786040" y="4357800"/>
            <a:ext cx="619272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родолжать развивать психические процессы: память, внимание, наглядно-действенное мышл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Блок-схема: альтернативный процесс 30"/>
          <p:cNvSpPr/>
          <p:nvPr/>
        </p:nvSpPr>
        <p:spPr>
          <a:xfrm>
            <a:off x="74520" y="4681440"/>
            <a:ext cx="2500560" cy="57168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азвива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Скругленный прямоугольник 44"/>
          <p:cNvSpPr/>
          <p:nvPr/>
        </p:nvSpPr>
        <p:spPr>
          <a:xfrm>
            <a:off x="250920" y="2205000"/>
            <a:ext cx="22860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바탕"/>
                <a:ea typeface="바탕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Блок-схема: альтернативный процесс 23"/>
          <p:cNvSpPr/>
          <p:nvPr/>
        </p:nvSpPr>
        <p:spPr>
          <a:xfrm>
            <a:off x="74520" y="2955960"/>
            <a:ext cx="2500560" cy="638280"/>
          </a:xfrm>
          <a:prstGeom prst="flowChartAlternateProcess">
            <a:avLst/>
          </a:prstGeom>
          <a:gradFill rotWithShape="0">
            <a:gsLst>
              <a:gs pos="0">
                <a:srgbClr val="9cb86e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21"/>
          <p:cNvSpPr/>
          <p:nvPr/>
        </p:nvSpPr>
        <p:spPr>
          <a:xfrm>
            <a:off x="2700360" y="2071800"/>
            <a:ext cx="625320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родолжать обучать  детей в умении рассказывать содержание рассказа, с использованием наглядной опор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закреплять умение составлять рассказ связно, в логической последовательности, закреплять знания о домашних птицах;  развивать умение детей называть птиц во множественном числ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928800" y="214200"/>
            <a:ext cx="7495920" cy="673200"/>
          </a:xfrm>
          <a:prstGeom prst="rect">
            <a:avLst/>
          </a:prstGeom>
          <a:noFill/>
          <a:ln w="93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Тема заняти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ресказ рассказа Е. Чарушина «Курочк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357120" y="1000080"/>
            <a:ext cx="856944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выявить уровень усвоения программного материала по разделу речевое развитие, развитие самоконтроля и взаимоконтро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8"/>
          <p:cNvSpPr/>
          <p:nvPr/>
        </p:nvSpPr>
        <p:spPr>
          <a:xfrm>
            <a:off x="24382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5920" y="1856880"/>
            <a:ext cx="7500960" cy="20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63600" indent="0" algn="just">
              <a:lnSpc>
                <a:spcPct val="115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  <a:ea typeface="Times New Roman"/>
              </a:rPr>
              <a:t>Данное занятие является фронтальным обобщающим по разделу «Речевое развитие» образовательной области «Познание».  В дальнейшем, с детьми продолжится работа в повседневной жизни детского сада, в самостоятельной деятельности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Использовались приемы беседа, подвижные игры, занятие по изображению птиц, наблюдения. </a:t>
            </a:r>
            <a:endParaRPr b="0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21" name="Группа 21"/>
          <p:cNvGrpSpPr/>
          <p:nvPr/>
        </p:nvGrpSpPr>
        <p:grpSpPr>
          <a:xfrm>
            <a:off x="539640" y="333360"/>
            <a:ext cx="8064720" cy="1008000"/>
            <a:chOff x="539640" y="333360"/>
            <a:chExt cx="8064720" cy="1008000"/>
          </a:xfrm>
        </p:grpSpPr>
        <p:sp>
          <p:nvSpPr>
            <p:cNvPr id="122" name="Скругленный прямоугольник 8"/>
            <p:cNvSpPr/>
            <p:nvPr/>
          </p:nvSpPr>
          <p:spPr>
            <a:xfrm>
              <a:off x="539640" y="333360"/>
              <a:ext cx="8064720" cy="1008000"/>
            </a:xfrm>
            <a:prstGeom prst="roundRect">
              <a:avLst>
                <a:gd name="adj" fmla="val 10000"/>
              </a:avLst>
            </a:prstGeom>
            <a:noFill/>
            <a:ln w="0">
              <a:noFill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Скругленный прямоугольник 4"/>
            <p:cNvSpPr/>
            <p:nvPr/>
          </p:nvSpPr>
          <p:spPr>
            <a:xfrm>
              <a:off x="642600" y="361800"/>
              <a:ext cx="78584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7"/>
          <p:cNvSpPr/>
          <p:nvPr/>
        </p:nvSpPr>
        <p:spPr>
          <a:xfrm>
            <a:off x="1042920" y="260280"/>
            <a:ext cx="784872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заимосвязь целей данного занятия с целями других занятий и направленность целей на практическую деятельность воспитанни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F:\100_PANA\P1000362.JPG"/>
          <p:cNvPicPr/>
          <p:nvPr/>
        </p:nvPicPr>
        <p:blipFill>
          <a:blip r:embed="rId1"/>
          <a:stretch/>
        </p:blipFill>
        <p:spPr>
          <a:xfrm>
            <a:off x="5715000" y="435780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2286000" y="4357800"/>
            <a:ext cx="2357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539640" y="134136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Содержание обучающих, развивающих и воспитательных задач 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построено с учетом интеграции образовательных областей «Познание», «Коммуникация», «Чтение художественной литературы» в рамках федеральных </a:t>
            </a:r>
            <a:r>
              <a:rPr b="0" lang="ru-RU" sz="1600" spc="-1" strike="noStrike">
                <a:solidFill>
                  <a:srgbClr val="990000"/>
                </a:solidFill>
                <a:latin typeface="Century Gothic"/>
              </a:rPr>
              <a:t>государственных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 требо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Занятие является логически выстроенным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, т. к. все компоненты занятия (три этапа) направлены на решение ведущей цели: уточнение знаний, умений, навы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На данном этапе обучения предложенный материал, а также методы и приемы 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доступны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 для детей в соответствии с возрастными особенностями старш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0000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716040" y="642960"/>
            <a:ext cx="785664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ОДЕРЖА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785880" y="2286000"/>
            <a:ext cx="8072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28800" y="928800"/>
          <a:ext cx="8001000" cy="5754600"/>
        </p:xfrm>
        <a:graphic>
          <a:graphicData uri="http://schemas.openxmlformats.org/drawingml/2006/table">
            <a:tbl>
              <a:tblPr/>
              <a:tblGrid>
                <a:gridCol w="426960"/>
                <a:gridCol w="1920960"/>
                <a:gridCol w="4451400"/>
                <a:gridCol w="1201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Эта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ин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282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рганиз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здание благоприятной эмоциональной обстановки. Формирование интереса и желания занимать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6c2"/>
                    </a:solidFill>
                  </a:tcPr>
                </a:tc>
              </a:tr>
              <a:tr h="34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утешествие на «Птичий двор», беседа о домашних пт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идактическая игра «Подбери действи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Чтение рассказа Е. Чарушина «Куроч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опросы по тек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ересказ текста рассказа, с использованием наглядной опо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движная игра «Наседка и цыпля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торичное чт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ересказ. Пальчиковая гимнаст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идактическая игра « Один-мног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890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11"/>
          <p:cNvSpPr/>
          <p:nvPr/>
        </p:nvSpPr>
        <p:spPr>
          <a:xfrm>
            <a:off x="858960" y="357120"/>
            <a:ext cx="792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ЭТАПЫ ЗАНЯ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1"/>
          <p:cNvSpPr/>
          <p:nvPr/>
        </p:nvSpPr>
        <p:spPr>
          <a:xfrm>
            <a:off x="2414880" y="50364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ид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340000" y="404640"/>
            <a:ext cx="5040360" cy="649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28840" y="1428840"/>
          <a:ext cx="6732360" cy="4730760"/>
        </p:xfrm>
        <a:graphic>
          <a:graphicData uri="http://schemas.openxmlformats.org/drawingml/2006/table">
            <a:tbl>
              <a:tblPr/>
              <a:tblGrid>
                <a:gridCol w="2238120"/>
                <a:gridCol w="4494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Дет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9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Двигатель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Артикуляционная гимнаст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альчиковая гимна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ов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Ситуативный разго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Речев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Составление предлож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ознавательно-исследо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Решение проблемных ситу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гры с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Музыкально-художеств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пров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Чтение художественной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Перес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Обсу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8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98100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</a:rPr>
              <a:t>Аппарат для оценивания представлен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положительной индивидуально-дифференцированной оценкой педагога деятельности всех воспитанников. Дарит детям символы - сердеч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entury Gothic"/>
              </a:rPr>
              <a:t>Целесообразность и характер постановки домашнего задания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заключается в продолжении работы в режимных моментах в детском саду и дом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ля закрепления знаний детей в самостоятельной, совместной деятельности и с родителя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ля воспитания у детей интереса к познан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Century Gothic"/>
              </a:rPr>
              <a:t>Примечание</a:t>
            </a:r>
            <a:r>
              <a:rPr b="1" i="1" lang="ru-RU" sz="2000" spc="-1" strike="noStrike">
                <a:solidFill>
                  <a:srgbClr val="800000"/>
                </a:solidFill>
                <a:latin typeface="Century Gothic"/>
              </a:rPr>
              <a:t>: домашнее задание в детском саду носит условный характе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одержимое 4"/>
          <p:cNvSpPr/>
          <p:nvPr/>
        </p:nvSpPr>
        <p:spPr>
          <a:xfrm>
            <a:off x="395280" y="2421000"/>
            <a:ext cx="7677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2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Вход детей в группу. Дети садятся полукругом. Приветствие</a:t>
            </a:r>
            <a:r>
              <a:rPr b="0" lang="ru-RU" sz="1600" spc="-1" strike="noStrike">
                <a:solidFill>
                  <a:srgbClr val="8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2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Организационный момент. (Формирование положительного эмоционального настро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2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Воспитатель:  </a:t>
            </a:r>
            <a:r>
              <a:rPr b="1" lang="ru-RU" sz="1600" spc="-1" strike="noStrike">
                <a:solidFill>
                  <a:srgbClr val="80000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ядьте рядышком друг с другом, словно месяц – полукругом.  Я дарю вам свою улыбку. А вы в ответ улыбаетесь мне. Порадуйте своей улыбкой тех, кто с вами рядом. Улыбнитесь друг другу, вашим друзьям. И поздоровайтесь, так как вам этого хочется. Посмотрите, что у меня в ру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Блок-схема: альтернативный процесс 13"/>
          <p:cNvGrpSpPr/>
          <p:nvPr/>
        </p:nvGrpSpPr>
        <p:grpSpPr>
          <a:xfrm>
            <a:off x="755640" y="1268280"/>
            <a:ext cx="7497720" cy="939960"/>
            <a:chOff x="755640" y="1268280"/>
            <a:chExt cx="7497720" cy="939960"/>
          </a:xfrm>
        </p:grpSpPr>
        <p:pic>
          <p:nvPicPr>
            <p:cNvPr id="138" name="Блок-схема: альтернативный процесс 13" descr=""/>
            <p:cNvPicPr/>
            <p:nvPr/>
          </p:nvPicPr>
          <p:blipFill>
            <a:blip r:embed="rId1"/>
            <a:stretch/>
          </p:blipFill>
          <p:spPr>
            <a:xfrm>
              <a:off x="755640" y="1268280"/>
              <a:ext cx="7497720" cy="939960"/>
            </a:xfrm>
            <a:prstGeom prst="rect">
              <a:avLst/>
            </a:prstGeom>
            <a:ln w="9360">
              <a:solidFill>
                <a:srgbClr val="800000"/>
              </a:solidFill>
              <a:prstDash val="sysDot"/>
              <a:miter/>
            </a:ln>
          </p:spPr>
        </p:pic>
        <p:sp>
          <p:nvSpPr>
            <p:cNvPr id="139" name="Text Box 14"/>
            <p:cNvSpPr/>
            <p:nvPr/>
          </p:nvSpPr>
          <p:spPr>
            <a:xfrm>
              <a:off x="874800" y="1344600"/>
              <a:ext cx="72691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Calibri"/>
                </a:rPr>
                <a:t>Создание благоприятной эмоциональной обстановки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Calibri"/>
                </a:rPr>
                <a:t>Формирование интереса и желания  заниматься, учиться, играть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6"/>
          <p:cNvGrpSpPr/>
          <p:nvPr/>
        </p:nvGrpSpPr>
        <p:grpSpPr>
          <a:xfrm>
            <a:off x="539640" y="476280"/>
            <a:ext cx="8064720" cy="503280"/>
            <a:chOff x="539640" y="476280"/>
            <a:chExt cx="8064720" cy="503280"/>
          </a:xfrm>
        </p:grpSpPr>
        <p:grpSp>
          <p:nvGrpSpPr>
            <p:cNvPr id="141" name="Группа 21"/>
            <p:cNvGrpSpPr/>
            <p:nvPr/>
          </p:nvGrpSpPr>
          <p:grpSpPr>
            <a:xfrm>
              <a:off x="539640" y="476280"/>
              <a:ext cx="8064720" cy="503280"/>
              <a:chOff x="539640" y="476280"/>
              <a:chExt cx="8064720" cy="503280"/>
            </a:xfrm>
          </p:grpSpPr>
          <p:sp>
            <p:nvSpPr>
              <p:cNvPr id="142" name="Скругленный прямоугольник 9"/>
              <p:cNvSpPr/>
              <p:nvPr/>
            </p:nvSpPr>
            <p:spPr>
              <a:xfrm>
                <a:off x="539640" y="476280"/>
                <a:ext cx="8064720" cy="5032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Скругленный прямоугольник 4"/>
              <p:cNvSpPr/>
              <p:nvPr/>
            </p:nvSpPr>
            <p:spPr>
              <a:xfrm>
                <a:off x="642600" y="490320"/>
                <a:ext cx="785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Прямоугольник 8"/>
            <p:cNvSpPr/>
            <p:nvPr/>
          </p:nvSpPr>
          <p:spPr>
            <a:xfrm>
              <a:off x="684000" y="547560"/>
              <a:ext cx="79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рганизационный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12" descr=""/>
          <p:cNvPicPr/>
          <p:nvPr/>
        </p:nvPicPr>
        <p:blipFill>
          <a:blip r:embed="rId2"/>
          <a:stretch/>
        </p:blipFill>
        <p:spPr>
          <a:xfrm>
            <a:off x="1928880" y="4857840"/>
            <a:ext cx="2266920" cy="170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8" descr=""/>
          <p:cNvPicPr/>
          <p:nvPr/>
        </p:nvPicPr>
        <p:blipFill>
          <a:blip r:embed="rId3"/>
          <a:stretch/>
        </p:blipFill>
        <p:spPr>
          <a:xfrm>
            <a:off x="5500800" y="4857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11:53Z</dcterms:created>
  <dc:creator>XP GAME 2008</dc:creator>
  <dc:description/>
  <dc:language>en-US</dc:language>
  <cp:lastModifiedBy>User</cp:lastModifiedBy>
  <dcterms:modified xsi:type="dcterms:W3CDTF">2012-03-14T14:04:42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50</vt:lpwstr>
  </property>
  <property fmtid="{D5CDD505-2E9C-101B-9397-08002B2CF9AE}" pid="7" name="AssetType">
    <vt:lpwstr>TP</vt:lpwstr>
  </property>
  <property fmtid="{D5CDD505-2E9C-101B-9397-08002B2CF9AE}" pid="8" name="AuthoringAssetId">
    <vt:lpwstr>TP00106905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Math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Math design template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rustLevel">
    <vt:lpwstr>Microsoft Managed Content</vt:lpwstr>
  </property>
  <property fmtid="{D5CDD505-2E9C-101B-9397-08002B2CF9AE}" pid="36" name="UACurrentWords">
    <vt:lpwstr>0</vt:lpwstr>
  </property>
  <property fmtid="{D5CDD505-2E9C-101B-9397-08002B2CF9AE}" pid="37" name="UALocComments">
    <vt:lpwstr/>
  </property>
  <property fmtid="{D5CDD505-2E9C-101B-9397-08002B2CF9AE}" pid="38" name="UALocRecommendation">
    <vt:lpwstr>Localize</vt:lpwstr>
  </property>
  <property fmtid="{D5CDD505-2E9C-101B-9397-08002B2CF9AE}" pid="39" name="UANotes">
    <vt:lpwstr>LEGACY PPTDT. 421488L. June 2003 retrofit. SEO Pilot 2008</vt:lpwstr>
  </property>
  <property fmtid="{D5CDD505-2E9C-101B-9397-08002B2CF9AE}" pid="40" name="Version">
    <vt:r8>1</vt:r8>
  </property>
  <property fmtid="{D5CDD505-2E9C-101B-9397-08002B2CF9AE}" pid="41" name="display_urn:schemas-microsoft-com:office:office#APAuthor">
    <vt:lpwstr>REDMOND\cynvey</vt:lpwstr>
  </property>
  <property fmtid="{D5CDD505-2E9C-101B-9397-08002B2CF9AE}" pid="42" name="display_urn:schemas-microsoft-com:office:office#APEditor">
    <vt:lpwstr>REDMOND\v-luannv</vt:lpwstr>
  </property>
</Properties>
</file>