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9E3F-120E-47C2-A67F-FC3955ED7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0909-18D5-46EE-976C-F84D7C80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46E9-5B7C-4461-A346-E7D8EFB80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44D4-1558-41F1-8992-75FE95453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9206-B62A-43A3-8A65-98D5447CB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C8A5-FA4D-46B7-8CB2-2FEAC641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FE44-59DF-4F00-9094-FFE26A19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009E-3EF6-4B78-9FD0-DB8FB673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2B49-7ACF-4FAF-9FB2-474F0A35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6FBA-C814-496A-B756-0260CABD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6364-D4DC-49E9-A9AC-1A996047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F3F0-6FC1-40E0-95D1-8FB704BA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3ADE-AF96-43CB-9EF4-4C93A4B5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FA0A-60E7-4E1F-8126-801F53DC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7180-203A-4470-A522-DF596CDE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8F02-D1A9-4B35-A123-0549EB7B9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F5FD-C0AB-4411-B0FE-D8E5F3F38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BDB9-2631-4214-B8EF-53780745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6C99-A4F4-4EDC-80F7-254136E3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1D7C-EDD1-4345-AB9D-3A150667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FD62-26E2-48C8-8521-6772380A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C6A8-3AB4-458E-8FBF-908D160A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3478-3B7B-4538-AA4A-8C94B542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0FB6-AC34-4ADB-A825-4ABDC363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f17f"/>
            </a:gs>
            <a:gs pos="100000">
              <a:srgbClr val="c6fe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eeece1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eeece1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4f81bd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AE4B-4FEF-4919-B5B0-C54C26CFDD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f17f"/>
            </a:gs>
            <a:gs pos="100000">
              <a:srgbClr val="c6fe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eeece1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eeece1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4f81bd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6370-4325-4812-9704-F0B5B0D500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G:\&#1041;&#1077;&#1074;&#1079; &#1040;.&#1042;.&#1053;&#1080;&#1078;&#1085;&#1077;&#1074;&#1072;&#1088;&#1090;&#1086;&#1074;&#1089;&#1082; &#1044;&#1054;&#1059; &#8470;45\e42ad3d10874.mp3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Заголовок 1"/>
          <p:cNvSpPr/>
          <p:nvPr/>
        </p:nvSpPr>
        <p:spPr>
          <a:xfrm>
            <a:off x="1187280" y="476280"/>
            <a:ext cx="6985080" cy="115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entury Gothic"/>
                <a:ea typeface="Times New Roman"/>
              </a:rPr>
              <a:t>Муниципальное бюджетное дошкольное образовательное учреждение детский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Century Gothic"/>
                <a:ea typeface="Times New Roman"/>
              </a:rPr>
              <a:t>сад комбинированного вида № 27  «Филиппок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924360" y="2276640"/>
            <a:ext cx="477828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entury Gothic"/>
              </a:rPr>
              <a:t>Мультимедийная разработ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Непосредственно образовательной деятель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«Речевое развитие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в группе общеразвивающей направленности для детей 4-5 л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Century Gothic"/>
              </a:rPr>
              <a:t>образовательной области «Коммуникация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Содержимое 1"/>
          <p:cNvSpPr/>
          <p:nvPr/>
        </p:nvSpPr>
        <p:spPr>
          <a:xfrm>
            <a:off x="3851280" y="5157720"/>
            <a:ext cx="4786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Century Gothic"/>
              </a:rPr>
              <a:t>Воспитатель:</a:t>
            </a:r>
            <a:r>
              <a:rPr b="0" i="1" lang="ru-RU" sz="2000" spc="-1" strike="noStrike">
                <a:solidFill>
                  <a:srgbClr val="800000"/>
                </a:solidFill>
                <a:latin typeface="Century Gothic"/>
              </a:rPr>
              <a:t> </a:t>
            </a:r>
            <a:r>
              <a:rPr b="1" i="1" lang="ru-RU" sz="2000" spc="-1" strike="noStrike">
                <a:solidFill>
                  <a:srgbClr val="800000"/>
                </a:solidFill>
                <a:latin typeface="Century Gothic"/>
              </a:rPr>
              <a:t>Юсупова Венера Фаритов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Содержимое 1"/>
          <p:cNvSpPr/>
          <p:nvPr/>
        </p:nvSpPr>
        <p:spPr>
          <a:xfrm>
            <a:off x="2124000" y="6072120"/>
            <a:ext cx="47865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г.Нижневартовс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2012 г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Группа 6"/>
          <p:cNvGrpSpPr/>
          <p:nvPr/>
        </p:nvGrpSpPr>
        <p:grpSpPr>
          <a:xfrm>
            <a:off x="539640" y="476280"/>
            <a:ext cx="8064720" cy="503280"/>
            <a:chOff x="539640" y="476280"/>
            <a:chExt cx="8064720" cy="503280"/>
          </a:xfrm>
        </p:grpSpPr>
        <p:grpSp>
          <p:nvGrpSpPr>
            <p:cNvPr id="148" name="Группа 21"/>
            <p:cNvGrpSpPr/>
            <p:nvPr/>
          </p:nvGrpSpPr>
          <p:grpSpPr>
            <a:xfrm>
              <a:off x="539640" y="476280"/>
              <a:ext cx="8064720" cy="503280"/>
              <a:chOff x="539640" y="476280"/>
              <a:chExt cx="8064720" cy="503280"/>
            </a:xfrm>
          </p:grpSpPr>
          <p:sp>
            <p:nvSpPr>
              <p:cNvPr id="149" name="Скругленный прямоугольник 9"/>
              <p:cNvSpPr/>
              <p:nvPr/>
            </p:nvSpPr>
            <p:spPr>
              <a:xfrm>
                <a:off x="539640" y="476280"/>
                <a:ext cx="8064720" cy="50328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0">
                    <a:srgbClr val="cb6c1d"/>
                  </a:gs>
                  <a:gs pos="100000">
                    <a:srgbClr val="ff8f26"/>
                  </a:gs>
                </a:gsLst>
                <a:lin ang="16200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Скругленный прямоугольник 4"/>
              <p:cNvSpPr/>
              <p:nvPr/>
            </p:nvSpPr>
            <p:spPr>
              <a:xfrm>
                <a:off x="642600" y="490320"/>
                <a:ext cx="78584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3280" rIns="53280" tIns="53280" bIns="53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225"/>
                  </a:spcAft>
                  <a:tabLst>
                    <a:tab algn="l" pos="0"/>
                    <a:tab algn="l" pos="622440"/>
                    <a:tab algn="l" pos="1244520"/>
                    <a:tab algn="l" pos="1866960"/>
                    <a:tab algn="l" pos="2489040"/>
                    <a:tab algn="l" pos="3111480"/>
                    <a:tab algn="l" pos="3733920"/>
                    <a:tab algn="l" pos="4356000"/>
                    <a:tab algn="l" pos="4978440"/>
                    <a:tab algn="l" pos="5600880"/>
                    <a:tab algn="l" pos="6222960"/>
                    <a:tab algn="l" pos="6845400"/>
                    <a:tab algn="l" pos="7467480"/>
                    <a:tab algn="l" pos="8089920"/>
                    <a:tab algn="l" pos="8712360"/>
                    <a:tab algn="l" pos="9334440"/>
                    <a:tab algn="l" pos="9956880"/>
                    <a:tab algn="l" pos="10578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Прямоугольник 8"/>
            <p:cNvSpPr/>
            <p:nvPr/>
          </p:nvSpPr>
          <p:spPr>
            <a:xfrm>
              <a:off x="684000" y="547560"/>
              <a:ext cx="79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Организационный эта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Прямоугольник 8"/>
          <p:cNvSpPr/>
          <p:nvPr/>
        </p:nvSpPr>
        <p:spPr>
          <a:xfrm>
            <a:off x="642960" y="750960"/>
            <a:ext cx="7929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Times New Roman"/>
              </a:rPr>
              <a:t>Воспитатель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показывает детям небольшое пуховое белое перышк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- Что это?  (Перышко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-  Какое оно – черное или белое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- Гладкое или пушистое? - Длинное или короткое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- Легкое или тяжелое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- Перышко это не простое, а волшебно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Стоит на него подуть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И оно покажет пу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В какую сторону идт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Чтоб хозяина най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- Интересно, кто хозяин этого перышка? (Ответы детей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Times New Roman"/>
              </a:rPr>
              <a:t>Воспитатель.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Положила перышко на ладонь вытянутой руки и протянула руку к детям: попросила всех вместе по команде подуть на волшебное перышко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«Раз, два, три 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перышко лети!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3429000" y="4643280"/>
            <a:ext cx="2357280" cy="2071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6286680" y="4714920"/>
            <a:ext cx="22860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0"/>
          <p:cNvSpPr/>
          <p:nvPr/>
        </p:nvSpPr>
        <p:spPr>
          <a:xfrm>
            <a:off x="-928800" y="1214280"/>
            <a:ext cx="46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Times New Roman"/>
              </a:rPr>
              <a:t>Воспитатель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Группа 6"/>
          <p:cNvGrpSpPr/>
          <p:nvPr/>
        </p:nvGrpSpPr>
        <p:grpSpPr>
          <a:xfrm>
            <a:off x="539640" y="476280"/>
            <a:ext cx="8064720" cy="503280"/>
            <a:chOff x="539640" y="476280"/>
            <a:chExt cx="8064720" cy="503280"/>
          </a:xfrm>
        </p:grpSpPr>
        <p:grpSp>
          <p:nvGrpSpPr>
            <p:cNvPr id="157" name="Группа 21"/>
            <p:cNvGrpSpPr/>
            <p:nvPr/>
          </p:nvGrpSpPr>
          <p:grpSpPr>
            <a:xfrm>
              <a:off x="539640" y="476280"/>
              <a:ext cx="8064720" cy="503280"/>
              <a:chOff x="539640" y="476280"/>
              <a:chExt cx="8064720" cy="503280"/>
            </a:xfrm>
          </p:grpSpPr>
          <p:sp>
            <p:nvSpPr>
              <p:cNvPr id="158" name="Скругленный прямоугольник 9"/>
              <p:cNvSpPr/>
              <p:nvPr/>
            </p:nvSpPr>
            <p:spPr>
              <a:xfrm>
                <a:off x="539640" y="476280"/>
                <a:ext cx="8064720" cy="50328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0">
                    <a:srgbClr val="cb6c1d"/>
                  </a:gs>
                  <a:gs pos="100000">
                    <a:srgbClr val="ff8f26"/>
                  </a:gs>
                </a:gsLst>
                <a:lin ang="16200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Скругленный прямоугольник 4"/>
              <p:cNvSpPr/>
              <p:nvPr/>
            </p:nvSpPr>
            <p:spPr>
              <a:xfrm>
                <a:off x="642600" y="490320"/>
                <a:ext cx="78584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3280" rIns="53280" tIns="53280" bIns="53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225"/>
                  </a:spcAft>
                  <a:tabLst>
                    <a:tab algn="l" pos="0"/>
                    <a:tab algn="l" pos="622440"/>
                    <a:tab algn="l" pos="1244520"/>
                    <a:tab algn="l" pos="1866960"/>
                    <a:tab algn="l" pos="2489040"/>
                    <a:tab algn="l" pos="3111480"/>
                    <a:tab algn="l" pos="3733920"/>
                    <a:tab algn="l" pos="4356000"/>
                    <a:tab algn="l" pos="4978440"/>
                    <a:tab algn="l" pos="5600880"/>
                    <a:tab algn="l" pos="6222960"/>
                    <a:tab algn="l" pos="6845400"/>
                    <a:tab algn="l" pos="7467480"/>
                    <a:tab algn="l" pos="8089920"/>
                    <a:tab algn="l" pos="8712360"/>
                    <a:tab algn="l" pos="9334440"/>
                    <a:tab algn="l" pos="9956880"/>
                    <a:tab algn="l" pos="10578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Прямоугольник 8"/>
            <p:cNvSpPr/>
            <p:nvPr/>
          </p:nvSpPr>
          <p:spPr>
            <a:xfrm>
              <a:off x="684000" y="547560"/>
              <a:ext cx="79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Организационный эта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Прямоугольник 7"/>
          <p:cNvSpPr/>
          <p:nvPr/>
        </p:nvSpPr>
        <p:spPr>
          <a:xfrm>
            <a:off x="571680" y="1214280"/>
            <a:ext cx="75006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                          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Привело нас перышко на птичий двор.  Куда мы с вами попали? Давайте вместе скажем – птичий двор. А каких птиц не хватает в птичьем дворе? А теперь присяде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Times New Roman"/>
              </a:rPr>
              <a:t>Воспитатель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: Вспомните названия домашних птиц. (Курица, индюк, утка, петух, гуси).  Как вы думаете, о ком мы сегодня будем говорить? (О домашних птицах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990000"/>
                </a:solidFill>
                <a:uFillTx/>
                <a:latin typeface="Times New Roman"/>
              </a:rPr>
              <a:t>Упражнение «Подбери действия»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00"/>
                </a:solidFill>
                <a:latin typeface="Times New Roman"/>
              </a:rPr>
              <a:t>(Цель: закреплять умение называть особенност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00"/>
                </a:solidFill>
                <a:latin typeface="Times New Roman"/>
              </a:rPr>
              <a:t>поведения птиц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Выставляется  картинка с изображением индю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Индюк что делает? (Болоболит, кричит, шипит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надувается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Затем выставляются картинки с изображени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утки и курицы. Аналогичн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подбираются действ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(Курица – ходит, клюет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смотрит, бегает, оберегает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Утка - крякает, ходит, плавает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8" descr=""/>
          <p:cNvPicPr/>
          <p:nvPr/>
        </p:nvPicPr>
        <p:blipFill>
          <a:blip r:embed="rId1"/>
          <a:stretch/>
        </p:blipFill>
        <p:spPr>
          <a:xfrm>
            <a:off x="6143760" y="3071880"/>
            <a:ext cx="2143080" cy="1643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2"/>
          <a:stretch/>
        </p:blipFill>
        <p:spPr>
          <a:xfrm>
            <a:off x="6143760" y="5000760"/>
            <a:ext cx="2143080" cy="1500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"/>
          <p:cNvPicPr/>
          <p:nvPr/>
        </p:nvPicPr>
        <p:blipFill>
          <a:blip r:embed="rId3"/>
          <a:stretch/>
        </p:blipFill>
        <p:spPr>
          <a:xfrm>
            <a:off x="3714840" y="5000760"/>
            <a:ext cx="20714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10"/>
          <p:cNvSpPr/>
          <p:nvPr/>
        </p:nvSpPr>
        <p:spPr>
          <a:xfrm>
            <a:off x="428760" y="1225440"/>
            <a:ext cx="81770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990000"/>
                </a:solidFill>
                <a:uFillTx/>
                <a:latin typeface="Times New Roman"/>
              </a:rPr>
              <a:t>Чтение рассказа «Курочка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Воспитатель:  А сейчас, я вам прочитаю рассказ « Курочка», который написал детский писатель Евгений Чарушин. Вы его внимательно слушайте.  Потом будем составлять краткий пересказ рассказ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990000"/>
                </a:solidFill>
                <a:uFillTx/>
                <a:latin typeface="Times New Roman"/>
              </a:rPr>
              <a:t>Читается рассказ с показом по иллюстрации</a:t>
            </a:r>
            <a:r>
              <a:rPr b="1" i="1" lang="ru-RU" sz="1800" spc="-1" strike="noStrike">
                <a:solidFill>
                  <a:srgbClr val="99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- Вы слышали новое слово – заквохтала. Это означает, что курочка так говорит: квох- квох- квох. Давайте вместе скажем – заквохтал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Вопросы к детям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- Как называется рассказ? (Курочка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- Кто его написал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- Где курочка с цыплятами ходила? (По двору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- Что случилось? (Пошел дождик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- Что сделала курочка? ( На землю присела, вс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перышки растопырила и заквохтала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- Как цыплята прятались под крылышки курицы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(Один совсем спрятался, у него только ножки видны, у кого головка торчит, у кого только глаз выглядывает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- А кто не спрятался? (Два цыпленка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- Что они стали делать? (стоят, пищат и удивляются: что это им на голову капает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Группа 6"/>
          <p:cNvGrpSpPr/>
          <p:nvPr/>
        </p:nvGrpSpPr>
        <p:grpSpPr>
          <a:xfrm>
            <a:off x="642960" y="428760"/>
            <a:ext cx="8136000" cy="536400"/>
            <a:chOff x="642960" y="428760"/>
            <a:chExt cx="8136000" cy="536400"/>
          </a:xfrm>
        </p:grpSpPr>
        <p:grpSp>
          <p:nvGrpSpPr>
            <p:cNvPr id="167" name="Группа 21"/>
            <p:cNvGrpSpPr/>
            <p:nvPr/>
          </p:nvGrpSpPr>
          <p:grpSpPr>
            <a:xfrm>
              <a:off x="642960" y="428760"/>
              <a:ext cx="8136000" cy="536400"/>
              <a:chOff x="642960" y="428760"/>
              <a:chExt cx="8136000" cy="536400"/>
            </a:xfrm>
          </p:grpSpPr>
          <p:sp>
            <p:nvSpPr>
              <p:cNvPr id="168" name="Скругленный прямоугольник 9"/>
              <p:cNvSpPr/>
              <p:nvPr/>
            </p:nvSpPr>
            <p:spPr>
              <a:xfrm>
                <a:off x="714240" y="428760"/>
                <a:ext cx="8064720" cy="50328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0">
                    <a:srgbClr val="cb6c1d"/>
                  </a:gs>
                  <a:gs pos="100000">
                    <a:srgbClr val="ff8f26"/>
                  </a:gs>
                </a:gsLst>
                <a:lin ang="16200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Скругленный прямоугольник 4"/>
              <p:cNvSpPr/>
              <p:nvPr/>
            </p:nvSpPr>
            <p:spPr>
              <a:xfrm>
                <a:off x="642960" y="490680"/>
                <a:ext cx="7858440" cy="4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3280" rIns="53280" tIns="53280" bIns="53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225"/>
                  </a:spcAft>
                  <a:tabLst>
                    <a:tab algn="l" pos="0"/>
                    <a:tab algn="l" pos="622440"/>
                    <a:tab algn="l" pos="1244520"/>
                    <a:tab algn="l" pos="1866960"/>
                    <a:tab algn="l" pos="2489040"/>
                    <a:tab algn="l" pos="3111480"/>
                    <a:tab algn="l" pos="3733920"/>
                    <a:tab algn="l" pos="4356000"/>
                    <a:tab algn="l" pos="4978440"/>
                    <a:tab algn="l" pos="5600880"/>
                    <a:tab algn="l" pos="6222960"/>
                    <a:tab algn="l" pos="6845400"/>
                    <a:tab algn="l" pos="7467480"/>
                    <a:tab algn="l" pos="8089920"/>
                    <a:tab algn="l" pos="8712360"/>
                    <a:tab algn="l" pos="9334440"/>
                    <a:tab algn="l" pos="9956880"/>
                    <a:tab algn="l" pos="10578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Прямоугольник 8"/>
            <p:cNvSpPr/>
            <p:nvPr/>
          </p:nvSpPr>
          <p:spPr>
            <a:xfrm>
              <a:off x="684000" y="547560"/>
              <a:ext cx="79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Организационный эта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1" name="Picture 9" descr=""/>
          <p:cNvPicPr/>
          <p:nvPr/>
        </p:nvPicPr>
        <p:blipFill>
          <a:blip r:embed="rId1"/>
          <a:stretch/>
        </p:blipFill>
        <p:spPr>
          <a:xfrm>
            <a:off x="6357960" y="2928960"/>
            <a:ext cx="21430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Группа 6"/>
          <p:cNvGrpSpPr/>
          <p:nvPr/>
        </p:nvGrpSpPr>
        <p:grpSpPr>
          <a:xfrm>
            <a:off x="539640" y="476280"/>
            <a:ext cx="8064720" cy="503280"/>
            <a:chOff x="539640" y="476280"/>
            <a:chExt cx="8064720" cy="503280"/>
          </a:xfrm>
        </p:grpSpPr>
        <p:grpSp>
          <p:nvGrpSpPr>
            <p:cNvPr id="173" name="Группа 21"/>
            <p:cNvGrpSpPr/>
            <p:nvPr/>
          </p:nvGrpSpPr>
          <p:grpSpPr>
            <a:xfrm>
              <a:off x="539640" y="476280"/>
              <a:ext cx="8064720" cy="503280"/>
              <a:chOff x="539640" y="476280"/>
              <a:chExt cx="8064720" cy="503280"/>
            </a:xfrm>
          </p:grpSpPr>
          <p:sp>
            <p:nvSpPr>
              <p:cNvPr id="174" name="Скругленный прямоугольник 9"/>
              <p:cNvSpPr/>
              <p:nvPr/>
            </p:nvSpPr>
            <p:spPr>
              <a:xfrm>
                <a:off x="539640" y="476280"/>
                <a:ext cx="8064720" cy="50328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0">
                    <a:srgbClr val="cb6c1d"/>
                  </a:gs>
                  <a:gs pos="100000">
                    <a:srgbClr val="ff8f26"/>
                  </a:gs>
                </a:gsLst>
                <a:lin ang="16200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Скругленный прямоугольник 4"/>
              <p:cNvSpPr/>
              <p:nvPr/>
            </p:nvSpPr>
            <p:spPr>
              <a:xfrm>
                <a:off x="642600" y="490320"/>
                <a:ext cx="78584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3280" rIns="53280" tIns="53280" bIns="53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225"/>
                  </a:spcAft>
                  <a:tabLst>
                    <a:tab algn="l" pos="0"/>
                    <a:tab algn="l" pos="622440"/>
                    <a:tab algn="l" pos="1244520"/>
                    <a:tab algn="l" pos="1866960"/>
                    <a:tab algn="l" pos="2489040"/>
                    <a:tab algn="l" pos="3111480"/>
                    <a:tab algn="l" pos="3733920"/>
                    <a:tab algn="l" pos="4356000"/>
                    <a:tab algn="l" pos="4978440"/>
                    <a:tab algn="l" pos="5600880"/>
                    <a:tab algn="l" pos="6222960"/>
                    <a:tab algn="l" pos="6845400"/>
                    <a:tab algn="l" pos="7467480"/>
                    <a:tab algn="l" pos="8089920"/>
                    <a:tab algn="l" pos="8712360"/>
                    <a:tab algn="l" pos="9334440"/>
                    <a:tab algn="l" pos="9956880"/>
                    <a:tab algn="l" pos="10578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Прямоугольник 8"/>
            <p:cNvSpPr/>
            <p:nvPr/>
          </p:nvSpPr>
          <p:spPr>
            <a:xfrm>
              <a:off x="684000" y="547560"/>
              <a:ext cx="79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Основной эта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Rectangle 8"/>
          <p:cNvSpPr/>
          <p:nvPr/>
        </p:nvSpPr>
        <p:spPr>
          <a:xfrm>
            <a:off x="428760" y="1362600"/>
            <a:ext cx="835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</a:rPr>
              <a:t>Игра «Наседка и цыплята» (под музыку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Воспитатель: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Давайте скорее играть, выходите на лужок и вставайте все в кружок. Я, буду курочка – мама, а вы цыплята. Когда светит солнце, цыплята бегают, зерна клюют. Начинается дождик – к маме бегу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</a:rPr>
              <a:t>Игра проводится 2 раз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9" descr=""/>
          <p:cNvPicPr/>
          <p:nvPr/>
        </p:nvPicPr>
        <p:blipFill>
          <a:blip r:embed="rId1"/>
          <a:stretch/>
        </p:blipFill>
        <p:spPr>
          <a:xfrm>
            <a:off x="500040" y="3643200"/>
            <a:ext cx="2357640" cy="2428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"/>
          <p:cNvPicPr/>
          <p:nvPr/>
        </p:nvPicPr>
        <p:blipFill>
          <a:blip r:embed="rId2"/>
          <a:stretch/>
        </p:blipFill>
        <p:spPr>
          <a:xfrm>
            <a:off x="3286080" y="3643200"/>
            <a:ext cx="2571840" cy="242892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16">
            <a:hlinkClick r:id="rId3"/>
          </p:cNvPr>
          <p:cNvSpPr/>
          <p:nvPr/>
        </p:nvSpPr>
        <p:spPr>
          <a:xfrm>
            <a:off x="4572000" y="6165720"/>
            <a:ext cx="395280" cy="46692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66920"/>
              <a:gd name="textAreaBottom" fmla="*/ 441360 h 466920"/>
            </a:gdLst>
            <a:ahLst/>
            <a:rect l="textAreaLeft" t="textAreaTop" r="textAreaRight" b="textAreaBottom"/>
            <a:pathLst>
              <a:path w="21600" h="25511">
                <a:moveTo>
                  <a:pt x="0" y="0"/>
                </a:moveTo>
                <a:lnTo>
                  <a:pt x="21600" y="0"/>
                </a:lnTo>
                <a:lnTo>
                  <a:pt x="21600" y="25511"/>
                </a:lnTo>
                <a:lnTo>
                  <a:pt x="0" y="25511"/>
                </a:lnTo>
                <a:close/>
              </a:path>
              <a:path fill="lightenLess" w="21600" h="255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11">
                <a:moveTo>
                  <a:pt x="21600" y="0"/>
                </a:moveTo>
                <a:lnTo>
                  <a:pt x="21600" y="25511"/>
                </a:lnTo>
                <a:lnTo>
                  <a:pt x="20200" y="24111"/>
                </a:lnTo>
                <a:lnTo>
                  <a:pt x="20200" y="1400"/>
                </a:lnTo>
                <a:close/>
              </a:path>
              <a:path fill="darkenLess" w="21600" h="25511">
                <a:moveTo>
                  <a:pt x="21600" y="25511"/>
                </a:moveTo>
                <a:lnTo>
                  <a:pt x="0" y="25511"/>
                </a:lnTo>
                <a:lnTo>
                  <a:pt x="1400" y="24111"/>
                </a:lnTo>
                <a:lnTo>
                  <a:pt x="20200" y="24111"/>
                </a:lnTo>
                <a:close/>
              </a:path>
              <a:path fill="lighten" w="21600" h="25511">
                <a:moveTo>
                  <a:pt x="0" y="255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11"/>
                </a:lnTo>
                <a:close/>
              </a:path>
              <a:path fill="darken" w="21600" h="25511">
                <a:moveTo>
                  <a:pt x="3794" y="10362"/>
                </a:moveTo>
                <a:lnTo>
                  <a:pt x="8224" y="10362"/>
                </a:lnTo>
                <a:lnTo>
                  <a:pt x="12645" y="5749"/>
                </a:lnTo>
                <a:lnTo>
                  <a:pt x="12645" y="19762"/>
                </a:lnTo>
                <a:lnTo>
                  <a:pt x="8224" y="15149"/>
                </a:lnTo>
                <a:lnTo>
                  <a:pt x="3794" y="15149"/>
                </a:lnTo>
                <a:close/>
              </a:path>
              <a:path fill="darken" w="21600" h="25511">
                <a:moveTo>
                  <a:pt x="14299" y="12756"/>
                </a:moveTo>
                <a:lnTo>
                  <a:pt x="17806" y="12756"/>
                </a:lnTo>
              </a:path>
              <a:path fill="darken" w="21600" h="25511">
                <a:moveTo>
                  <a:pt x="14299" y="10362"/>
                </a:moveTo>
                <a:lnTo>
                  <a:pt x="17806" y="7594"/>
                </a:lnTo>
              </a:path>
              <a:path fill="darken" w="21600" h="25511">
                <a:moveTo>
                  <a:pt x="14299" y="15149"/>
                </a:moveTo>
                <a:lnTo>
                  <a:pt x="17806" y="17917"/>
                </a:lnTo>
              </a:path>
            </a:pathLst>
          </a:custGeom>
          <a:noFill/>
          <a:ln cap="rnd" w="936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11" descr=""/>
          <p:cNvPicPr/>
          <p:nvPr/>
        </p:nvPicPr>
        <p:blipFill>
          <a:blip r:embed="rId4"/>
          <a:stretch/>
        </p:blipFill>
        <p:spPr>
          <a:xfrm>
            <a:off x="6215040" y="3643200"/>
            <a:ext cx="2500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611280" y="1413000"/>
            <a:ext cx="7961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990000"/>
                </a:solidFill>
                <a:uFillTx/>
                <a:latin typeface="Times New Roman"/>
              </a:rPr>
              <a:t>Чтение рассказа 2-ой раз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990000"/>
                </a:solidFill>
                <a:uFillTx/>
                <a:latin typeface="Times New Roman"/>
              </a:rPr>
              <a:t>Пересказ рассказ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990000"/>
                </a:solidFill>
                <a:latin typeface="Times New Roman"/>
              </a:rPr>
              <a:t>Воспитатель: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Сейчас вы будете пересказывать рассказ Е, Чарушина  «Курочка », а помогут вам  иллюстра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-  Кто хочет рассказать про курочку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Предлагается, двоим детям составить краткий пересказ рассказа, с использованием иллюстрац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- Сейчас, Катя  расскажет: как называется рассказ? Что делала курочка с цыплятами? Что произошло потом? Что курочка сделала, когда пошел дождь? А, ………  продолжит, что же было дальше. Все ли цыплята спрятались под крылом у курочки? Что сделали два цыпленка? Чему удивляются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Группа 6"/>
          <p:cNvGrpSpPr/>
          <p:nvPr/>
        </p:nvGrpSpPr>
        <p:grpSpPr>
          <a:xfrm>
            <a:off x="539640" y="476280"/>
            <a:ext cx="8064720" cy="503280"/>
            <a:chOff x="539640" y="476280"/>
            <a:chExt cx="8064720" cy="503280"/>
          </a:xfrm>
        </p:grpSpPr>
        <p:grpSp>
          <p:nvGrpSpPr>
            <p:cNvPr id="184" name="Группа 21"/>
            <p:cNvGrpSpPr/>
            <p:nvPr/>
          </p:nvGrpSpPr>
          <p:grpSpPr>
            <a:xfrm>
              <a:off x="539640" y="476280"/>
              <a:ext cx="8064720" cy="503280"/>
              <a:chOff x="539640" y="476280"/>
              <a:chExt cx="8064720" cy="503280"/>
            </a:xfrm>
          </p:grpSpPr>
          <p:sp>
            <p:nvSpPr>
              <p:cNvPr id="185" name="Скругленный прямоугольник 9"/>
              <p:cNvSpPr/>
              <p:nvPr/>
            </p:nvSpPr>
            <p:spPr>
              <a:xfrm>
                <a:off x="539640" y="476280"/>
                <a:ext cx="8064720" cy="50328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0">
                    <a:srgbClr val="cb6c1d"/>
                  </a:gs>
                  <a:gs pos="100000">
                    <a:srgbClr val="ff8f26"/>
                  </a:gs>
                </a:gsLst>
                <a:lin ang="16200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Скругленный прямоугольник 4"/>
              <p:cNvSpPr/>
              <p:nvPr/>
            </p:nvSpPr>
            <p:spPr>
              <a:xfrm>
                <a:off x="642600" y="490320"/>
                <a:ext cx="78584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3280" rIns="53280" tIns="53280" bIns="53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225"/>
                  </a:spcAft>
                  <a:tabLst>
                    <a:tab algn="l" pos="0"/>
                    <a:tab algn="l" pos="622440"/>
                    <a:tab algn="l" pos="1244520"/>
                    <a:tab algn="l" pos="1866960"/>
                    <a:tab algn="l" pos="2489040"/>
                    <a:tab algn="l" pos="3111480"/>
                    <a:tab algn="l" pos="3733920"/>
                    <a:tab algn="l" pos="4356000"/>
                    <a:tab algn="l" pos="4978440"/>
                    <a:tab algn="l" pos="5600880"/>
                    <a:tab algn="l" pos="6222960"/>
                    <a:tab algn="l" pos="6845400"/>
                    <a:tab algn="l" pos="7467480"/>
                    <a:tab algn="l" pos="8089920"/>
                    <a:tab algn="l" pos="8712360"/>
                    <a:tab algn="l" pos="9334440"/>
                    <a:tab algn="l" pos="9956880"/>
                    <a:tab algn="l" pos="10578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Прямоугольник 8"/>
            <p:cNvSpPr/>
            <p:nvPr/>
          </p:nvSpPr>
          <p:spPr>
            <a:xfrm>
              <a:off x="684000" y="547560"/>
              <a:ext cx="79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Основной эта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8" name="Picture 8" descr=""/>
          <p:cNvPicPr/>
          <p:nvPr/>
        </p:nvPicPr>
        <p:blipFill>
          <a:blip r:embed="rId1"/>
          <a:stretch/>
        </p:blipFill>
        <p:spPr>
          <a:xfrm>
            <a:off x="5929200" y="4500720"/>
            <a:ext cx="2189160" cy="20714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"/>
          <p:cNvPicPr/>
          <p:nvPr/>
        </p:nvPicPr>
        <p:blipFill>
          <a:blip r:embed="rId2"/>
          <a:stretch/>
        </p:blipFill>
        <p:spPr>
          <a:xfrm>
            <a:off x="928800" y="4643280"/>
            <a:ext cx="414324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214200" y="1095120"/>
            <a:ext cx="8215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Times New Roman"/>
              </a:rPr>
              <a:t>Воспитатель. </a:t>
            </a: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А давайте, ребята, немного отдохне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800000"/>
                </a:solidFill>
                <a:uFillTx/>
                <a:latin typeface="Times New Roman"/>
              </a:rPr>
              <a:t> </a:t>
            </a:r>
            <a:r>
              <a:rPr b="1" i="1" lang="ru-RU" sz="1800" spc="-1" strike="noStrike" u="sng">
                <a:solidFill>
                  <a:srgbClr val="800000"/>
                </a:solidFill>
                <a:uFillTx/>
                <a:latin typeface="Times New Roman"/>
              </a:rPr>
              <a:t>Пальчиковая гимнаст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Вышла курочка гуля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Свежей травки пощипать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                               </a:t>
            </a: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А за ней цыплятки –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                               </a:t>
            </a: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Желтые ребят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Ко-ко-ко да ко-ко-к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Не ходите далеко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Лапками гребите 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Зернышко ищите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                                                                      </a:t>
            </a: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Нашли  толстого жука 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                                                                      </a:t>
            </a: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Дождевого червяка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                                                                                         </a:t>
            </a: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Выпили  водицы  –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                                                                                          </a:t>
            </a: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Полное  копытц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Группа 6"/>
          <p:cNvGrpSpPr/>
          <p:nvPr/>
        </p:nvGrpSpPr>
        <p:grpSpPr>
          <a:xfrm>
            <a:off x="539640" y="476280"/>
            <a:ext cx="8064720" cy="503280"/>
            <a:chOff x="539640" y="476280"/>
            <a:chExt cx="8064720" cy="503280"/>
          </a:xfrm>
        </p:grpSpPr>
        <p:grpSp>
          <p:nvGrpSpPr>
            <p:cNvPr id="192" name="Группа 21"/>
            <p:cNvGrpSpPr/>
            <p:nvPr/>
          </p:nvGrpSpPr>
          <p:grpSpPr>
            <a:xfrm>
              <a:off x="539640" y="476280"/>
              <a:ext cx="8064720" cy="503280"/>
              <a:chOff x="539640" y="476280"/>
              <a:chExt cx="8064720" cy="503280"/>
            </a:xfrm>
          </p:grpSpPr>
          <p:sp>
            <p:nvSpPr>
              <p:cNvPr id="193" name="Скругленный прямоугольник 9"/>
              <p:cNvSpPr/>
              <p:nvPr/>
            </p:nvSpPr>
            <p:spPr>
              <a:xfrm>
                <a:off x="539640" y="476280"/>
                <a:ext cx="8064720" cy="50328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0">
                    <a:srgbClr val="cb6c1d"/>
                  </a:gs>
                  <a:gs pos="100000">
                    <a:srgbClr val="ff8f26"/>
                  </a:gs>
                </a:gsLst>
                <a:lin ang="16200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Скругленный прямоугольник 4"/>
              <p:cNvSpPr/>
              <p:nvPr/>
            </p:nvSpPr>
            <p:spPr>
              <a:xfrm>
                <a:off x="642600" y="490320"/>
                <a:ext cx="78584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3280" rIns="53280" tIns="53280" bIns="53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225"/>
                  </a:spcAft>
                  <a:tabLst>
                    <a:tab algn="l" pos="0"/>
                    <a:tab algn="l" pos="622440"/>
                    <a:tab algn="l" pos="1244520"/>
                    <a:tab algn="l" pos="1866960"/>
                    <a:tab algn="l" pos="2489040"/>
                    <a:tab algn="l" pos="3111480"/>
                    <a:tab algn="l" pos="3733920"/>
                    <a:tab algn="l" pos="4356000"/>
                    <a:tab algn="l" pos="4978440"/>
                    <a:tab algn="l" pos="5600880"/>
                    <a:tab algn="l" pos="6222960"/>
                    <a:tab algn="l" pos="6845400"/>
                    <a:tab algn="l" pos="7467480"/>
                    <a:tab algn="l" pos="8089920"/>
                    <a:tab algn="l" pos="8712360"/>
                    <a:tab algn="l" pos="9334440"/>
                    <a:tab algn="l" pos="9956880"/>
                    <a:tab algn="l" pos="10578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Прямоугольник 8"/>
            <p:cNvSpPr/>
            <p:nvPr/>
          </p:nvSpPr>
          <p:spPr>
            <a:xfrm>
              <a:off x="684000" y="547560"/>
              <a:ext cx="79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Основной эта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6" name="Picture 8" descr=""/>
          <p:cNvPicPr/>
          <p:nvPr/>
        </p:nvPicPr>
        <p:blipFill>
          <a:blip r:embed="rId1"/>
          <a:stretch/>
        </p:blipFill>
        <p:spPr>
          <a:xfrm>
            <a:off x="928800" y="3500280"/>
            <a:ext cx="2714400" cy="25718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"/>
          <p:cNvPicPr/>
          <p:nvPr/>
        </p:nvPicPr>
        <p:blipFill>
          <a:blip r:embed="rId2"/>
          <a:stretch/>
        </p:blipFill>
        <p:spPr>
          <a:xfrm>
            <a:off x="6110280" y="1201680"/>
            <a:ext cx="23907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5"/>
          <p:cNvSpPr/>
          <p:nvPr/>
        </p:nvSpPr>
        <p:spPr>
          <a:xfrm>
            <a:off x="395280" y="1052640"/>
            <a:ext cx="817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Times New Roman"/>
              </a:rPr>
              <a:t>Воспитатель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Теперь нужно пересказать рассказ целико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Предложить Кириллу и Карине пересказать рассказ целико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Группа 6"/>
          <p:cNvGrpSpPr/>
          <p:nvPr/>
        </p:nvGrpSpPr>
        <p:grpSpPr>
          <a:xfrm>
            <a:off x="539640" y="476280"/>
            <a:ext cx="8064720" cy="503280"/>
            <a:chOff x="539640" y="476280"/>
            <a:chExt cx="8064720" cy="503280"/>
          </a:xfrm>
        </p:grpSpPr>
        <p:grpSp>
          <p:nvGrpSpPr>
            <p:cNvPr id="200" name="Группа 21"/>
            <p:cNvGrpSpPr/>
            <p:nvPr/>
          </p:nvGrpSpPr>
          <p:grpSpPr>
            <a:xfrm>
              <a:off x="539640" y="476280"/>
              <a:ext cx="8064720" cy="503280"/>
              <a:chOff x="539640" y="476280"/>
              <a:chExt cx="8064720" cy="503280"/>
            </a:xfrm>
          </p:grpSpPr>
          <p:sp>
            <p:nvSpPr>
              <p:cNvPr id="201" name="Скругленный прямоугольник 9"/>
              <p:cNvSpPr/>
              <p:nvPr/>
            </p:nvSpPr>
            <p:spPr>
              <a:xfrm>
                <a:off x="539640" y="476280"/>
                <a:ext cx="8064720" cy="50328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0">
                    <a:srgbClr val="cb6c1d"/>
                  </a:gs>
                  <a:gs pos="100000">
                    <a:srgbClr val="ff8f26"/>
                  </a:gs>
                </a:gsLst>
                <a:lin ang="16200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Скругленный прямоугольник 4"/>
              <p:cNvSpPr/>
              <p:nvPr/>
            </p:nvSpPr>
            <p:spPr>
              <a:xfrm>
                <a:off x="642600" y="490320"/>
                <a:ext cx="78584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3280" rIns="53280" tIns="53280" bIns="53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225"/>
                  </a:spcAft>
                  <a:tabLst>
                    <a:tab algn="l" pos="0"/>
                    <a:tab algn="l" pos="622440"/>
                    <a:tab algn="l" pos="1244520"/>
                    <a:tab algn="l" pos="1866960"/>
                    <a:tab algn="l" pos="2489040"/>
                    <a:tab algn="l" pos="3111480"/>
                    <a:tab algn="l" pos="3733920"/>
                    <a:tab algn="l" pos="4356000"/>
                    <a:tab algn="l" pos="4978440"/>
                    <a:tab algn="l" pos="5600880"/>
                    <a:tab algn="l" pos="6222960"/>
                    <a:tab algn="l" pos="6845400"/>
                    <a:tab algn="l" pos="7467480"/>
                    <a:tab algn="l" pos="8089920"/>
                    <a:tab algn="l" pos="8712360"/>
                    <a:tab algn="l" pos="9334440"/>
                    <a:tab algn="l" pos="9956880"/>
                    <a:tab algn="l" pos="10578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Прямоугольник 8"/>
            <p:cNvSpPr/>
            <p:nvPr/>
          </p:nvSpPr>
          <p:spPr>
            <a:xfrm>
              <a:off x="684000" y="547560"/>
              <a:ext cx="79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Основной эта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4" name="Picture 10" descr=""/>
          <p:cNvPicPr/>
          <p:nvPr/>
        </p:nvPicPr>
        <p:blipFill>
          <a:blip r:embed="rId1"/>
          <a:stretch/>
        </p:blipFill>
        <p:spPr>
          <a:xfrm>
            <a:off x="571680" y="2500200"/>
            <a:ext cx="3214440" cy="3483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"/>
          <p:cNvPicPr/>
          <p:nvPr/>
        </p:nvPicPr>
        <p:blipFill>
          <a:blip r:embed="rId2"/>
          <a:stretch/>
        </p:blipFill>
        <p:spPr>
          <a:xfrm>
            <a:off x="5143680" y="3000240"/>
            <a:ext cx="278604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Группа 6"/>
          <p:cNvGrpSpPr/>
          <p:nvPr/>
        </p:nvGrpSpPr>
        <p:grpSpPr>
          <a:xfrm>
            <a:off x="539640" y="476280"/>
            <a:ext cx="8064720" cy="503280"/>
            <a:chOff x="539640" y="476280"/>
            <a:chExt cx="8064720" cy="503280"/>
          </a:xfrm>
        </p:grpSpPr>
        <p:grpSp>
          <p:nvGrpSpPr>
            <p:cNvPr id="207" name="Группа 21"/>
            <p:cNvGrpSpPr/>
            <p:nvPr/>
          </p:nvGrpSpPr>
          <p:grpSpPr>
            <a:xfrm>
              <a:off x="539640" y="476280"/>
              <a:ext cx="8064720" cy="503280"/>
              <a:chOff x="539640" y="476280"/>
              <a:chExt cx="8064720" cy="503280"/>
            </a:xfrm>
          </p:grpSpPr>
          <p:sp>
            <p:nvSpPr>
              <p:cNvPr id="208" name="Скругленный прямоугольник 9"/>
              <p:cNvSpPr/>
              <p:nvPr/>
            </p:nvSpPr>
            <p:spPr>
              <a:xfrm>
                <a:off x="539640" y="476280"/>
                <a:ext cx="8064720" cy="50328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0">
                    <a:srgbClr val="cb6c1d"/>
                  </a:gs>
                  <a:gs pos="100000">
                    <a:srgbClr val="ff8f26"/>
                  </a:gs>
                </a:gsLst>
                <a:lin ang="16200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Скругленный прямоугольник 4"/>
              <p:cNvSpPr/>
              <p:nvPr/>
            </p:nvSpPr>
            <p:spPr>
              <a:xfrm>
                <a:off x="642600" y="490320"/>
                <a:ext cx="78584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3280" rIns="53280" tIns="53280" bIns="53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225"/>
                  </a:spcAft>
                  <a:tabLst>
                    <a:tab algn="l" pos="0"/>
                    <a:tab algn="l" pos="622440"/>
                    <a:tab algn="l" pos="1244520"/>
                    <a:tab algn="l" pos="1866960"/>
                    <a:tab algn="l" pos="2489040"/>
                    <a:tab algn="l" pos="3111480"/>
                    <a:tab algn="l" pos="3733920"/>
                    <a:tab algn="l" pos="4356000"/>
                    <a:tab algn="l" pos="4978440"/>
                    <a:tab algn="l" pos="5600880"/>
                    <a:tab algn="l" pos="6222960"/>
                    <a:tab algn="l" pos="6845400"/>
                    <a:tab algn="l" pos="7467480"/>
                    <a:tab algn="l" pos="8089920"/>
                    <a:tab algn="l" pos="8712360"/>
                    <a:tab algn="l" pos="9334440"/>
                    <a:tab algn="l" pos="9956880"/>
                    <a:tab algn="l" pos="10578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Прямоугольник 8"/>
            <p:cNvSpPr/>
            <p:nvPr/>
          </p:nvSpPr>
          <p:spPr>
            <a:xfrm>
              <a:off x="684000" y="547560"/>
              <a:ext cx="79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Основной эта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Прямоугольник 11"/>
          <p:cNvSpPr/>
          <p:nvPr/>
        </p:nvSpPr>
        <p:spPr>
          <a:xfrm>
            <a:off x="500040" y="1357200"/>
            <a:ext cx="8001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</a:rPr>
              <a:t>Дидактическая игра «Один – много» с мяч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Воспитатель.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Я вам предлагаю поиграть еще в одну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игру, которая называется «Один – много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Курица – много ку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Цыплята – много цыпля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Гусь – много гус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Утка – много ут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етух – много петух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Селезень – много селезн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                                                                        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Гусенок – много гуся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                                                                         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Гусыня – много гусы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11" descr=""/>
          <p:cNvPicPr/>
          <p:nvPr/>
        </p:nvPicPr>
        <p:blipFill>
          <a:blip r:embed="rId1"/>
          <a:stretch/>
        </p:blipFill>
        <p:spPr>
          <a:xfrm>
            <a:off x="500040" y="3714840"/>
            <a:ext cx="27147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"/>
          <p:cNvSpPr/>
          <p:nvPr/>
        </p:nvSpPr>
        <p:spPr>
          <a:xfrm>
            <a:off x="611280" y="1197000"/>
            <a:ext cx="7929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Группа 6"/>
          <p:cNvGrpSpPr/>
          <p:nvPr/>
        </p:nvGrpSpPr>
        <p:grpSpPr>
          <a:xfrm>
            <a:off x="539640" y="476280"/>
            <a:ext cx="8064720" cy="503280"/>
            <a:chOff x="539640" y="476280"/>
            <a:chExt cx="8064720" cy="503280"/>
          </a:xfrm>
        </p:grpSpPr>
        <p:grpSp>
          <p:nvGrpSpPr>
            <p:cNvPr id="215" name="Группа 21"/>
            <p:cNvGrpSpPr/>
            <p:nvPr/>
          </p:nvGrpSpPr>
          <p:grpSpPr>
            <a:xfrm>
              <a:off x="539640" y="476280"/>
              <a:ext cx="8064720" cy="503280"/>
              <a:chOff x="539640" y="476280"/>
              <a:chExt cx="8064720" cy="503280"/>
            </a:xfrm>
          </p:grpSpPr>
          <p:sp>
            <p:nvSpPr>
              <p:cNvPr id="216" name="Скругленный прямоугольник 9"/>
              <p:cNvSpPr/>
              <p:nvPr/>
            </p:nvSpPr>
            <p:spPr>
              <a:xfrm>
                <a:off x="539640" y="476280"/>
                <a:ext cx="8064720" cy="50328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0">
                    <a:srgbClr val="cb6c1d"/>
                  </a:gs>
                  <a:gs pos="100000">
                    <a:srgbClr val="ff8f26"/>
                  </a:gs>
                </a:gsLst>
                <a:lin ang="16200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Скругленный прямоугольник 4"/>
              <p:cNvSpPr/>
              <p:nvPr/>
            </p:nvSpPr>
            <p:spPr>
              <a:xfrm>
                <a:off x="642600" y="490320"/>
                <a:ext cx="78584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3280" rIns="53280" tIns="53280" bIns="53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225"/>
                  </a:spcAft>
                  <a:tabLst>
                    <a:tab algn="l" pos="0"/>
                    <a:tab algn="l" pos="622440"/>
                    <a:tab algn="l" pos="1244520"/>
                    <a:tab algn="l" pos="1866960"/>
                    <a:tab algn="l" pos="2489040"/>
                    <a:tab algn="l" pos="3111480"/>
                    <a:tab algn="l" pos="3733920"/>
                    <a:tab algn="l" pos="4356000"/>
                    <a:tab algn="l" pos="4978440"/>
                    <a:tab algn="l" pos="5600880"/>
                    <a:tab algn="l" pos="6222960"/>
                    <a:tab algn="l" pos="6845400"/>
                    <a:tab algn="l" pos="7467480"/>
                    <a:tab algn="l" pos="8089920"/>
                    <a:tab algn="l" pos="8712360"/>
                    <a:tab algn="l" pos="9334440"/>
                    <a:tab algn="l" pos="9956880"/>
                    <a:tab algn="l" pos="10578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" name="Прямоугольник 8"/>
            <p:cNvSpPr/>
            <p:nvPr/>
          </p:nvSpPr>
          <p:spPr>
            <a:xfrm>
              <a:off x="684000" y="547560"/>
              <a:ext cx="79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Заключительный эта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Прямоугольник 7"/>
          <p:cNvSpPr/>
          <p:nvPr/>
        </p:nvSpPr>
        <p:spPr>
          <a:xfrm>
            <a:off x="285840" y="1500120"/>
            <a:ext cx="4643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Times New Roman"/>
              </a:rPr>
              <a:t>Воспитатель.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Наше занятие подходит к концу. Чем мы сегодня с вами занимались? (Пересказывали рассказ). Как называется рассказ? Кто его написал? А правильно ли поступили 2 цыпленка? Что с ними могло                                       произойти? А вы слушаетесь своих родителей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- Сегодня необычный день – День Святого Валентина, я вам дарю вот такие сердечки в знак своей любви к вам, а вы дома поздравьте своих родителей с этим прекрасным днем. И всегда старайтесь слушаться взрослых . Молодцы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10" descr=""/>
          <p:cNvPicPr/>
          <p:nvPr/>
        </p:nvPicPr>
        <p:blipFill>
          <a:blip r:embed="rId1"/>
          <a:stretch/>
        </p:blipFill>
        <p:spPr>
          <a:xfrm>
            <a:off x="5357880" y="1857240"/>
            <a:ext cx="3224160" cy="32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2"/>
          <p:cNvSpPr/>
          <p:nvPr/>
        </p:nvSpPr>
        <p:spPr>
          <a:xfrm>
            <a:off x="785880" y="21420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сад комбинированного вида №27 «Филиппок» г. Нижневартовс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Скругленный прямоугольник 3"/>
          <p:cNvSpPr/>
          <p:nvPr/>
        </p:nvSpPr>
        <p:spPr>
          <a:xfrm>
            <a:off x="1508040" y="1211400"/>
            <a:ext cx="5689800" cy="792000"/>
          </a:xfrm>
          <a:prstGeom prst="roundRect">
            <a:avLst>
              <a:gd name="adj" fmla="val 16667"/>
            </a:avLst>
          </a:prstGeom>
          <a:solidFill>
            <a:srgbClr val="bfea3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АМОАНАЛИ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Прямоугольник 4"/>
          <p:cNvSpPr/>
          <p:nvPr/>
        </p:nvSpPr>
        <p:spPr>
          <a:xfrm>
            <a:off x="714240" y="2357280"/>
            <a:ext cx="7858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начение художественной литературы в воспитании детей определяется ее общественной, а также воспитательно-образовательной роль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Искусство слова отражает действительность через художественные образы, показывает наиболее типичное, осмысливая и обобщая реальные жизненные факты. Это помогает ребенку познавать жизнь, формирует его отношение к окружающему. Художественные произведения, раскрывая внутренний мир героев, заставляют детей волноваться, переживать, как свои, радости и горести героев. У старших дошкольников появляется способность мысленно действовать в воображаемых обстоятельствах, как бы становиться на место героев. Например, вместе с героями сказки дети испытывают чувство страха в напряженные драматические моменты, чувство облегчения, удовлетворения при победе справедливости. Ясно видно, что в данное понятие входят и формирование связной речи, словарная работа и др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9"/>
          <p:cNvSpPr/>
          <p:nvPr/>
        </p:nvSpPr>
        <p:spPr>
          <a:xfrm>
            <a:off x="1285920" y="357120"/>
            <a:ext cx="67150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Методы и прием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Блок-схема: альтернативный процесс 11"/>
          <p:cNvSpPr/>
          <p:nvPr/>
        </p:nvSpPr>
        <p:spPr>
          <a:xfrm>
            <a:off x="1500120" y="857160"/>
            <a:ext cx="6983640" cy="1785960"/>
          </a:xfrm>
          <a:prstGeom prst="flowChartAlternateProcess">
            <a:avLst/>
          </a:prstGeom>
          <a:noFill/>
          <a:ln cap="rnd" w="6480">
            <a:solidFill>
              <a:srgbClr val="800000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-Артикуляционная гимнастик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Рассматривание картины «Курочка и цыплята»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одвижная игра « Наседка и цыплята»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Чтение рассказа Е. Чарушина «Курочка»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Упражнение «Подбери действие»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- Дидактическая игра «Один - много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Группа 12"/>
          <p:cNvGrpSpPr/>
          <p:nvPr/>
        </p:nvGrpSpPr>
        <p:grpSpPr>
          <a:xfrm>
            <a:off x="1928880" y="2786040"/>
            <a:ext cx="5790960" cy="415800"/>
            <a:chOff x="1928880" y="2786040"/>
            <a:chExt cx="5790960" cy="415800"/>
          </a:xfrm>
        </p:grpSpPr>
        <p:grpSp>
          <p:nvGrpSpPr>
            <p:cNvPr id="99" name="Группа 21"/>
            <p:cNvGrpSpPr/>
            <p:nvPr/>
          </p:nvGrpSpPr>
          <p:grpSpPr>
            <a:xfrm>
              <a:off x="1928880" y="2786040"/>
              <a:ext cx="5790960" cy="415800"/>
              <a:chOff x="1928880" y="2786040"/>
              <a:chExt cx="5790960" cy="415800"/>
            </a:xfrm>
          </p:grpSpPr>
          <p:sp>
            <p:nvSpPr>
              <p:cNvPr id="100" name="Скругленный прямоугольник 15"/>
              <p:cNvSpPr/>
              <p:nvPr/>
            </p:nvSpPr>
            <p:spPr>
              <a:xfrm>
                <a:off x="1928880" y="2786040"/>
                <a:ext cx="5651280" cy="415800"/>
              </a:xfrm>
              <a:prstGeom prst="roundRect">
                <a:avLst>
                  <a:gd name="adj" fmla="val 10000"/>
                </a:avLst>
              </a:prstGeom>
              <a:noFill/>
              <a:ln cap="rnd" w="6480">
                <a:solidFill>
                  <a:srgbClr val="000080"/>
                </a:solidFill>
                <a:miter/>
              </a:ln>
              <a:effectLst>
                <a:outerShdw dist="1260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Скругленный прямоугольник 4"/>
              <p:cNvSpPr/>
              <p:nvPr/>
            </p:nvSpPr>
            <p:spPr>
              <a:xfrm>
                <a:off x="2214360" y="2786040"/>
                <a:ext cx="55054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3280" rIns="53280" tIns="53280" bIns="53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225"/>
                  </a:spcAft>
                  <a:tabLst>
                    <a:tab algn="l" pos="0"/>
                    <a:tab algn="l" pos="622440"/>
                    <a:tab algn="l" pos="1244520"/>
                    <a:tab algn="l" pos="1866960"/>
                    <a:tab algn="l" pos="2489040"/>
                    <a:tab algn="l" pos="3111480"/>
                    <a:tab algn="l" pos="3733920"/>
                    <a:tab algn="l" pos="4356000"/>
                    <a:tab algn="l" pos="4978440"/>
                    <a:tab algn="l" pos="5600880"/>
                    <a:tab algn="l" pos="6222960"/>
                    <a:tab algn="l" pos="6845400"/>
                    <a:tab algn="l" pos="7467480"/>
                    <a:tab algn="l" pos="8089920"/>
                    <a:tab algn="l" pos="8712360"/>
                    <a:tab algn="l" pos="9334440"/>
                    <a:tab algn="l" pos="9956880"/>
                    <a:tab algn="l" pos="10578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Прямоугольник 14"/>
            <p:cNvSpPr/>
            <p:nvPr/>
          </p:nvSpPr>
          <p:spPr>
            <a:xfrm>
              <a:off x="2286000" y="2786040"/>
              <a:ext cx="422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entury Gothic"/>
                </a:rPr>
                <a:t>Оборудование и средств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Блок-схема: альтернативный процесс 17"/>
          <p:cNvSpPr/>
          <p:nvPr/>
        </p:nvSpPr>
        <p:spPr>
          <a:xfrm>
            <a:off x="2143080" y="3429000"/>
            <a:ext cx="5884920" cy="1000080"/>
          </a:xfrm>
          <a:prstGeom prst="flowChartAlternateProcess">
            <a:avLst/>
          </a:prstGeom>
          <a:noFill/>
          <a:ln w="6480">
            <a:solidFill>
              <a:srgbClr val="800000"/>
            </a:solidFill>
            <a:prstDash val="sysDot"/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Группа 18"/>
          <p:cNvGrpSpPr/>
          <p:nvPr/>
        </p:nvGrpSpPr>
        <p:grpSpPr>
          <a:xfrm>
            <a:off x="2556000" y="4581360"/>
            <a:ext cx="5263920" cy="478080"/>
            <a:chOff x="2556000" y="4581360"/>
            <a:chExt cx="5263920" cy="478080"/>
          </a:xfrm>
        </p:grpSpPr>
        <p:sp>
          <p:nvSpPr>
            <p:cNvPr id="105" name="Скругленный прямоугольник 4"/>
            <p:cNvSpPr/>
            <p:nvPr/>
          </p:nvSpPr>
          <p:spPr>
            <a:xfrm>
              <a:off x="2556000" y="4581360"/>
              <a:ext cx="5263920" cy="4780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Прямоугольник 20"/>
            <p:cNvSpPr/>
            <p:nvPr/>
          </p:nvSpPr>
          <p:spPr>
            <a:xfrm>
              <a:off x="2627280" y="4589280"/>
              <a:ext cx="403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entury Gothic"/>
                </a:rPr>
                <a:t>ПРЕДВАРИТЕЛЬНАЯ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000" spc="-1" strike="noStrike">
                  <a:solidFill>
                    <a:srgbClr val="000000"/>
                  </a:solidFill>
                  <a:latin typeface="Century Gothic"/>
                </a:rPr>
                <a:t>РАБОТА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Блок-схема: альтернативный процесс 23"/>
          <p:cNvSpPr/>
          <p:nvPr/>
        </p:nvSpPr>
        <p:spPr>
          <a:xfrm>
            <a:off x="2214720" y="5214960"/>
            <a:ext cx="5398920" cy="1428840"/>
          </a:xfrm>
          <a:prstGeom prst="flowChartAlternateProcess">
            <a:avLst/>
          </a:prstGeom>
          <a:noFill/>
          <a:ln w="6480">
            <a:solidFill>
              <a:srgbClr val="800000"/>
            </a:solidFill>
            <a:prstDash val="sysDot"/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Рассматривание иллюстраций с изображением домашних пти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просмотр мультфильма «Гадкий утенок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наблюдение за птицами во время прогул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проведение НОД по изображению домашних пти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оугольник 19"/>
          <p:cNvSpPr/>
          <p:nvPr/>
        </p:nvSpPr>
        <p:spPr>
          <a:xfrm>
            <a:off x="2357280" y="3357720"/>
            <a:ext cx="567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Перо,  картинки с изображением домашних птиц, иллюстрации  для последовательного пересказа рассказа «птичий двор»,  мяч, маски, костюм насед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2"/>
          <p:cNvSpPr/>
          <p:nvPr/>
        </p:nvSpPr>
        <p:spPr>
          <a:xfrm>
            <a:off x="785880" y="21420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сад комбинированного вида №27 «Филиппок» г. Нижневартовс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Скругленный прямоугольник 3"/>
          <p:cNvSpPr/>
          <p:nvPr/>
        </p:nvSpPr>
        <p:spPr>
          <a:xfrm>
            <a:off x="1508040" y="1211400"/>
            <a:ext cx="5689800" cy="792000"/>
          </a:xfrm>
          <a:prstGeom prst="roundRect">
            <a:avLst>
              <a:gd name="adj" fmla="val 16667"/>
            </a:avLst>
          </a:prstGeom>
          <a:solidFill>
            <a:srgbClr val="bfea3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АМОАНАЛИ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оугольник 6"/>
          <p:cNvSpPr/>
          <p:nvPr/>
        </p:nvSpPr>
        <p:spPr>
          <a:xfrm>
            <a:off x="642960" y="2286000"/>
            <a:ext cx="8286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нное занятие является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лановы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цель которого усвоение программного материала по разделу коммуникац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занятии использована игровая мотивация, включающая в себя методы и приемы традиционного обучения. Сюжетно ролевая игра – это ведущий вид деятельности дошкольни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нятие проводилось с детьми средней группы. Состоит из трех этапов, на каждом из которых решались определенные задачи. Задача первого этапа решалась путем создания эмоциональной обстановки и направлена на формирование интереса и желания заниматьс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втором этапе решалась основная задача - уточнение знаний умений навыков по области «Коммуникация», разделу «Речевое развитие». Детям были предложены задания на развитие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мения пересказывать содержание рассказа, с использованием наглядной опоры;   знаний о домашних птицах;  умений детей называть птиц во множественном числ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2"/>
          <p:cNvSpPr/>
          <p:nvPr/>
        </p:nvSpPr>
        <p:spPr>
          <a:xfrm>
            <a:off x="785880" y="21420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сад комбинированного вида №27 «Филиппок» г. Нижневартовс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Скругленный прямоугольник 3"/>
          <p:cNvSpPr/>
          <p:nvPr/>
        </p:nvSpPr>
        <p:spPr>
          <a:xfrm>
            <a:off x="1508040" y="1211400"/>
            <a:ext cx="5689800" cy="792000"/>
          </a:xfrm>
          <a:prstGeom prst="roundRect">
            <a:avLst>
              <a:gd name="adj" fmla="val 16667"/>
            </a:avLst>
          </a:prstGeom>
          <a:solidFill>
            <a:srgbClr val="bfea3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АМОАНАЛИ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Прямоугольник 4"/>
          <p:cNvSpPr/>
          <p:nvPr/>
        </p:nvSpPr>
        <p:spPr>
          <a:xfrm>
            <a:off x="714240" y="2071800"/>
            <a:ext cx="7929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ительность занятия согласно требованиям СанПиНа 2.4.1.2660-10 "Санитарно-эпидемиологические требования к устройству, содержанию и организации режима работы в дошкольных организациях" составила – 20 минут; во время занятия происходила смена видов деятельности, использование игрового метода позволило сделать процесс занятия доступным, привлекательным, содержательны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протяжении всего занятия, проводилась оценка педагогом деятельности детей. В конце занятия дети оценили свою деятельность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ль занятия достигнута, дети получили положительный эмоциональный настрой, проконтролировали свои знания, умения и навыки по разделу «Речевое развитие». Показали уровень своих знаний через самоконтроль и взаимоконтроль. Затруднений в ходе проведенного занятия не выявлено по причине соответствия поставленных задач возрасту и индивидуальным особенностям детей. Примененные на занятии технологии способствовали развитию смекалки, зрительной памяти, формированию мыслительных операций, развитию реч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28480" y="714240"/>
            <a:ext cx="7358040" cy="121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31" name="Прямоугольник 2"/>
          <p:cNvSpPr/>
          <p:nvPr/>
        </p:nvSpPr>
        <p:spPr>
          <a:xfrm>
            <a:off x="785880" y="21420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сад комбинированного вида №27 «Филиппок» г. Нижневартовс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WordArt 12" descr=""/>
          <p:cNvPicPr/>
          <p:nvPr/>
        </p:nvPicPr>
        <p:blipFill>
          <a:blip r:embed="rId1"/>
          <a:stretch/>
        </p:blipFill>
        <p:spPr>
          <a:xfrm>
            <a:off x="1474920" y="1779480"/>
            <a:ext cx="7016760" cy="14083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"/>
          <p:cNvPicPr/>
          <p:nvPr/>
        </p:nvPicPr>
        <p:blipFill>
          <a:blip r:embed="rId2"/>
          <a:stretch/>
        </p:blipFill>
        <p:spPr>
          <a:xfrm>
            <a:off x="2786040" y="3286080"/>
            <a:ext cx="38577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Скругленный прямоугольник 4"/>
          <p:cNvSpPr/>
          <p:nvPr/>
        </p:nvSpPr>
        <p:spPr>
          <a:xfrm>
            <a:off x="1692360" y="2133720"/>
            <a:ext cx="18460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Блок-схема: альтернативный процесс 29"/>
          <p:cNvSpPr/>
          <p:nvPr/>
        </p:nvSpPr>
        <p:spPr>
          <a:xfrm>
            <a:off x="73080" y="5907240"/>
            <a:ext cx="2428920" cy="576000"/>
          </a:xfrm>
          <a:prstGeom prst="flowChartAlternateProcess">
            <a:avLst/>
          </a:prstGeom>
          <a:gradFill rotWithShape="0">
            <a:gsLst>
              <a:gs pos="0">
                <a:srgbClr val="9cb86e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Воспитатель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Скругленный прямоугольник 42"/>
          <p:cNvSpPr/>
          <p:nvPr/>
        </p:nvSpPr>
        <p:spPr>
          <a:xfrm>
            <a:off x="3203640" y="5643720"/>
            <a:ext cx="5715000" cy="101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1908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990000"/>
                </a:solidFill>
                <a:latin typeface="Times New Roman"/>
              </a:rPr>
              <a:t>Воспитывать доброе отношение к домашним животным, уважение к родителям,  воспитывать желание говорить как взрослые, понятно для слушателей отвечать на вопросы, понятно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Скругленный прямоугольник 41"/>
          <p:cNvSpPr/>
          <p:nvPr/>
        </p:nvSpPr>
        <p:spPr>
          <a:xfrm>
            <a:off x="2786040" y="4357800"/>
            <a:ext cx="6192720" cy="92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1908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Times New Roman"/>
              </a:rPr>
              <a:t>Продолжать развивать психические процессы: память, внимание, наглядно-действенное мышлени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Блок-схема: альтернативный процесс 30"/>
          <p:cNvSpPr/>
          <p:nvPr/>
        </p:nvSpPr>
        <p:spPr>
          <a:xfrm>
            <a:off x="74520" y="4681440"/>
            <a:ext cx="2500560" cy="571680"/>
          </a:xfrm>
          <a:prstGeom prst="flowChartAlternateProcess">
            <a:avLst/>
          </a:prstGeom>
          <a:gradFill rotWithShape="0">
            <a:gsLst>
              <a:gs pos="0">
                <a:srgbClr val="9cb86e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Развивающ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Скругленный прямоугольник 44"/>
          <p:cNvSpPr/>
          <p:nvPr/>
        </p:nvSpPr>
        <p:spPr>
          <a:xfrm>
            <a:off x="250920" y="2205000"/>
            <a:ext cx="228600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바탕"/>
                <a:ea typeface="바탕"/>
              </a:rPr>
              <a:t>ЗАДАЧ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Блок-схема: альтернативный процесс 23"/>
          <p:cNvSpPr/>
          <p:nvPr/>
        </p:nvSpPr>
        <p:spPr>
          <a:xfrm>
            <a:off x="74520" y="2955960"/>
            <a:ext cx="2500560" cy="638280"/>
          </a:xfrm>
          <a:prstGeom prst="flowChartAlternateProcess">
            <a:avLst/>
          </a:prstGeom>
          <a:gradFill rotWithShape="0">
            <a:gsLst>
              <a:gs pos="0">
                <a:srgbClr val="9cb86e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Образователь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Скругленный прямоугольник 21"/>
          <p:cNvSpPr/>
          <p:nvPr/>
        </p:nvSpPr>
        <p:spPr>
          <a:xfrm>
            <a:off x="2700360" y="2071800"/>
            <a:ext cx="6253200" cy="2000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1908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Times New Roman"/>
              </a:rPr>
              <a:t>Продолжать обучать  детей в умении рассказывать содержание рассказа, с использованием наглядной опоры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Times New Roman"/>
              </a:rPr>
              <a:t>закреплять умение составлять рассказ связно, в логической последовательности, закреплять знания о домашних птицах;  развивать умение детей называть птиц во множественном числ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оугольник 9"/>
          <p:cNvSpPr/>
          <p:nvPr/>
        </p:nvSpPr>
        <p:spPr>
          <a:xfrm>
            <a:off x="928800" y="214200"/>
            <a:ext cx="7495920" cy="673200"/>
          </a:xfrm>
          <a:prstGeom prst="rect">
            <a:avLst/>
          </a:prstGeom>
          <a:noFill/>
          <a:ln w="936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entury Gothic"/>
              </a:rPr>
              <a:t>Тема занятия: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Пересказ рассказа Е. Чарушина «Курочка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Заголовок 1"/>
          <p:cNvSpPr/>
          <p:nvPr/>
        </p:nvSpPr>
        <p:spPr>
          <a:xfrm>
            <a:off x="357120" y="1000080"/>
            <a:ext cx="8569440" cy="719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Century Gothic"/>
                <a:ea typeface="Times New Roman"/>
              </a:rPr>
              <a:t>Цель: 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выявить уровень усвоения программного материала по разделу речевое развитие, развитие самоконтроля и взаимоконтрол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Прямоугольник 18"/>
          <p:cNvSpPr/>
          <p:nvPr/>
        </p:nvSpPr>
        <p:spPr>
          <a:xfrm>
            <a:off x="243828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85920" y="1856880"/>
            <a:ext cx="7500960" cy="209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63600" indent="0" algn="just">
              <a:lnSpc>
                <a:spcPct val="115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1600" spc="-1" strike="noStrike">
                <a:solidFill>
                  <a:srgbClr val="800000"/>
                </a:solidFill>
                <a:latin typeface="Century Gothic"/>
                <a:ea typeface="Times New Roman"/>
              </a:rPr>
              <a:t>Данное занятие является фронтальным обобщающим по разделу «Речевое развитие» образовательной области «Познание».  В дальнейшем, с детьми продолжится работа в повседневной жизни детского сада, в самостоятельной деятельности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. </a:t>
            </a:r>
            <a:r>
              <a:rPr b="0" lang="ru-RU" sz="1600" spc="-1" strike="noStrike">
                <a:solidFill>
                  <a:srgbClr val="800000"/>
                </a:solidFill>
                <a:latin typeface="Century Gothic"/>
              </a:rPr>
              <a:t>Использовались приемы беседа, подвижные игры, занятие по изображению птиц, наблюдения. </a:t>
            </a:r>
            <a:endParaRPr b="0" lang="en-US" sz="1600" spc="-1" strike="noStrike">
              <a:solidFill>
                <a:srgbClr val="1f497d"/>
              </a:solidFill>
              <a:latin typeface="Times New Roman"/>
            </a:endParaRPr>
          </a:p>
        </p:txBody>
      </p:sp>
      <p:grpSp>
        <p:nvGrpSpPr>
          <p:cNvPr id="121" name="Группа 21"/>
          <p:cNvGrpSpPr/>
          <p:nvPr/>
        </p:nvGrpSpPr>
        <p:grpSpPr>
          <a:xfrm>
            <a:off x="539640" y="333360"/>
            <a:ext cx="8064720" cy="1008000"/>
            <a:chOff x="539640" y="333360"/>
            <a:chExt cx="8064720" cy="1008000"/>
          </a:xfrm>
        </p:grpSpPr>
        <p:sp>
          <p:nvSpPr>
            <p:cNvPr id="122" name="Скругленный прямоугольник 8"/>
            <p:cNvSpPr/>
            <p:nvPr/>
          </p:nvSpPr>
          <p:spPr>
            <a:xfrm>
              <a:off x="539640" y="333360"/>
              <a:ext cx="8064720" cy="1008000"/>
            </a:xfrm>
            <a:prstGeom prst="roundRect">
              <a:avLst>
                <a:gd name="adj" fmla="val 10000"/>
              </a:avLst>
            </a:prstGeom>
            <a:noFill/>
            <a:ln w="0">
              <a:noFill/>
            </a:ln>
            <a:effectLst>
              <a:outerShdw dist="1260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Скругленный прямоугольник 4"/>
            <p:cNvSpPr/>
            <p:nvPr/>
          </p:nvSpPr>
          <p:spPr>
            <a:xfrm>
              <a:off x="642600" y="361800"/>
              <a:ext cx="785844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Прямоугольник 7"/>
          <p:cNvSpPr/>
          <p:nvPr/>
        </p:nvSpPr>
        <p:spPr>
          <a:xfrm>
            <a:off x="1042920" y="260280"/>
            <a:ext cx="7848720" cy="1008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Взаимосвязь целей данного занятия с целями других занятий и направленность целей на практическую деятельность воспитанников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7" descr="F:\100_PANA\P1000362.JPG"/>
          <p:cNvPicPr/>
          <p:nvPr/>
        </p:nvPicPr>
        <p:blipFill>
          <a:blip r:embed="rId1"/>
          <a:stretch/>
        </p:blipFill>
        <p:spPr>
          <a:xfrm>
            <a:off x="5715000" y="4357800"/>
            <a:ext cx="2428920" cy="1822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"/>
          <p:cNvPicPr/>
          <p:nvPr/>
        </p:nvPicPr>
        <p:blipFill>
          <a:blip r:embed="rId2"/>
          <a:stretch/>
        </p:blipFill>
        <p:spPr>
          <a:xfrm>
            <a:off x="2286000" y="4357800"/>
            <a:ext cx="23572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6"/>
          <p:cNvSpPr/>
          <p:nvPr/>
        </p:nvSpPr>
        <p:spPr>
          <a:xfrm>
            <a:off x="539640" y="1341360"/>
            <a:ext cx="81360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1600" spc="-1" strike="noStrike">
                <a:solidFill>
                  <a:srgbClr val="800000"/>
                </a:solidFill>
                <a:latin typeface="Century Gothic"/>
              </a:rPr>
              <a:t>Содержание обучающих, развивающих и воспитательных задач </a:t>
            </a:r>
            <a:r>
              <a:rPr b="0" lang="ru-RU" sz="1600" spc="-1" strike="noStrike">
                <a:solidFill>
                  <a:srgbClr val="800000"/>
                </a:solidFill>
                <a:latin typeface="Century Gothic"/>
              </a:rPr>
              <a:t>построено с учетом интеграции образовательных областей «Познание», «Коммуникация», «Чтение художественной литературы» в рамках федеральных </a:t>
            </a:r>
            <a:r>
              <a:rPr b="0" lang="ru-RU" sz="1600" spc="-1" strike="noStrike">
                <a:solidFill>
                  <a:srgbClr val="990000"/>
                </a:solidFill>
                <a:latin typeface="Century Gothic"/>
              </a:rPr>
              <a:t>государственных</a:t>
            </a:r>
            <a:r>
              <a:rPr b="0" lang="ru-RU" sz="1600" spc="-1" strike="noStrike">
                <a:solidFill>
                  <a:srgbClr val="800000"/>
                </a:solidFill>
                <a:latin typeface="Century Gothic"/>
              </a:rPr>
              <a:t> требовани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Century Gothic"/>
              </a:rPr>
              <a:t>	</a:t>
            </a:r>
            <a:r>
              <a:rPr b="1" lang="ru-RU" sz="1600" spc="-1" strike="noStrike">
                <a:solidFill>
                  <a:srgbClr val="800000"/>
                </a:solidFill>
                <a:latin typeface="Century Gothic"/>
              </a:rPr>
              <a:t>Занятие является логически выстроенным</a:t>
            </a:r>
            <a:r>
              <a:rPr b="0" lang="ru-RU" sz="1600" spc="-1" strike="noStrike">
                <a:solidFill>
                  <a:srgbClr val="800000"/>
                </a:solidFill>
                <a:latin typeface="Century Gothic"/>
              </a:rPr>
              <a:t>, т. к. все компоненты занятия (три этапа) направлены на решение ведущей цели: уточнение знаний, умений, навык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Century Gothic"/>
              </a:rPr>
              <a:t>	</a:t>
            </a:r>
            <a:r>
              <a:rPr b="0" lang="ru-RU" sz="1600" spc="-1" strike="noStrike">
                <a:solidFill>
                  <a:srgbClr val="800000"/>
                </a:solidFill>
                <a:latin typeface="Century Gothic"/>
              </a:rPr>
              <a:t>На данном этапе обучения предложенный материал, а также методы и приемы </a:t>
            </a:r>
            <a:r>
              <a:rPr b="1" lang="ru-RU" sz="1600" spc="-1" strike="noStrike">
                <a:solidFill>
                  <a:srgbClr val="800000"/>
                </a:solidFill>
                <a:latin typeface="Century Gothic"/>
              </a:rPr>
              <a:t>доступны</a:t>
            </a:r>
            <a:r>
              <a:rPr b="0" lang="ru-RU" sz="1600" spc="-1" strike="noStrike">
                <a:solidFill>
                  <a:srgbClr val="800000"/>
                </a:solidFill>
                <a:latin typeface="Century Gothic"/>
              </a:rPr>
              <a:t> для детей в соответствии с возрастными особенностями старшего дошкольного возраст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800000"/>
                </a:solidFill>
                <a:latin typeface="Century Gothic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Прямоугольник 8"/>
          <p:cNvSpPr/>
          <p:nvPr/>
        </p:nvSpPr>
        <p:spPr>
          <a:xfrm>
            <a:off x="716040" y="642960"/>
            <a:ext cx="785664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СОДЕРЖАНИЕ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4"/>
          <p:cNvSpPr/>
          <p:nvPr/>
        </p:nvSpPr>
        <p:spPr>
          <a:xfrm>
            <a:off x="785880" y="2286000"/>
            <a:ext cx="80722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28800" y="928800"/>
          <a:ext cx="8001000" cy="5754600"/>
        </p:xfrm>
        <a:graphic>
          <a:graphicData uri="http://schemas.openxmlformats.org/drawingml/2006/table">
            <a:tbl>
              <a:tblPr/>
              <a:tblGrid>
                <a:gridCol w="426960"/>
                <a:gridCol w="1920960"/>
                <a:gridCol w="4451400"/>
                <a:gridCol w="120168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п/п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2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Этап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2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Це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2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Количеств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Мину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282"/>
                    </a:solidFill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6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Организацио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6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Создание благоприятной эмоциональной обстановки. Формирование интереса и желания заниматьс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6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6c2"/>
                    </a:solidFill>
                  </a:tcPr>
                </a:tc>
              </a:tr>
              <a:tr h="34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Основ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Артикуляционная гимна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Путешествие на «Птичий двор», беседа о домашних птиц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Дидактическая игра «Подбери действие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Чтение рассказа Е. Чарушина «Курочк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Вопросы по текс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Пересказ текста рассказа, с использованием наглядной опор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Подвижная игра «Наседка и цыплят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Вторичное чте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Пересказ. Пальчиковая гимнасти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Дидактическая игра « Один-много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82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8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Заключите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8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Подведение итог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8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890"/>
                    </a:solidFill>
                  </a:tcPr>
                </a:tc>
              </a:tr>
            </a:tbl>
          </a:graphicData>
        </a:graphic>
      </p:graphicFrame>
      <p:sp>
        <p:nvSpPr>
          <p:cNvPr id="131" name="Прямоугольник 11"/>
          <p:cNvSpPr/>
          <p:nvPr/>
        </p:nvSpPr>
        <p:spPr>
          <a:xfrm>
            <a:off x="858960" y="357120"/>
            <a:ext cx="7920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ЭТАПЫ ЗАНЯТ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1"/>
          <p:cNvSpPr/>
          <p:nvPr/>
        </p:nvSpPr>
        <p:spPr>
          <a:xfrm>
            <a:off x="2414880" y="503640"/>
            <a:ext cx="40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Виды детской деятель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Заголовок 1"/>
          <p:cNvSpPr/>
          <p:nvPr/>
        </p:nvSpPr>
        <p:spPr>
          <a:xfrm>
            <a:off x="2340000" y="404640"/>
            <a:ext cx="5040360" cy="649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428840" y="1428840"/>
          <a:ext cx="6732360" cy="4730760"/>
        </p:xfrm>
        <a:graphic>
          <a:graphicData uri="http://schemas.openxmlformats.org/drawingml/2006/table">
            <a:tbl>
              <a:tblPr/>
              <a:tblGrid>
                <a:gridCol w="2238120"/>
                <a:gridCol w="44942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Детская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8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Формы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89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Двигательн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Артикуляционная гимнасти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Пальчиковая гимна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8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Игров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Игры с правил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8c0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Коммуникати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Ситуативный разгов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Речевая ситу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Составление предлож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Игры с правил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8c0"/>
                    </a:solidFill>
                  </a:tcPr>
                </a:tc>
              </a:tr>
              <a:tr h="75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Познавательно-исследователь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Решение проблемных ситуа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Игры с правил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8c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Музыкально-художествен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Импровиз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8c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Чтение художественной литерату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Переск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Обсуж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8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11280" y="981000"/>
            <a:ext cx="814392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800000"/>
                </a:solidFill>
                <a:latin typeface="Century Gothic"/>
              </a:rPr>
              <a:t>Аппарат для оценивания представлен </a:t>
            </a:r>
            <a:r>
              <a:rPr b="1" lang="ru-RU" sz="2000" spc="-1" strike="noStrike">
                <a:solidFill>
                  <a:srgbClr val="800000"/>
                </a:solidFill>
                <a:latin typeface="Century Gothic"/>
              </a:rPr>
              <a:t>положительной индивидуально-дифференцированной оценкой педагога деятельности всех воспитанников. Дарит детям символы - сердечк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800000"/>
                </a:solidFill>
                <a:latin typeface="Century Gothic"/>
              </a:rPr>
              <a:t>Целесообразность и характер постановки домашнего задания </a:t>
            </a:r>
            <a:r>
              <a:rPr b="1" lang="ru-RU" sz="2000" spc="-1" strike="noStrike">
                <a:solidFill>
                  <a:srgbClr val="800000"/>
                </a:solidFill>
                <a:latin typeface="Century Gothic"/>
              </a:rPr>
              <a:t>заключается в продолжении работы в режимных моментах в детском саду и дома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entury Gothic"/>
              </a:rPr>
              <a:t>для закрепления знаний детей в самостоятельной, совместной деятельности и с родителями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entury Gothic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Century Gothic"/>
              </a:rPr>
              <a:t>для воспитания у детей интереса к познани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800000"/>
                </a:solidFill>
                <a:uFillTx/>
                <a:latin typeface="Century Gothic"/>
              </a:rPr>
              <a:t>Примечание</a:t>
            </a:r>
            <a:r>
              <a:rPr b="1" i="1" lang="ru-RU" sz="2000" spc="-1" strike="noStrike">
                <a:solidFill>
                  <a:srgbClr val="800000"/>
                </a:solidFill>
                <a:latin typeface="Century Gothic"/>
              </a:rPr>
              <a:t>: домашнее задание в детском саду носит условный характер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Содержимое 4"/>
          <p:cNvSpPr/>
          <p:nvPr/>
        </p:nvSpPr>
        <p:spPr>
          <a:xfrm>
            <a:off x="395280" y="2421000"/>
            <a:ext cx="7677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2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Century Gothic"/>
              </a:rPr>
              <a:t>Вход детей в группу. Дети садятся полукругом. Приветствие</a:t>
            </a:r>
            <a:r>
              <a:rPr b="0" lang="ru-RU" sz="1600" spc="-1" strike="noStrike">
                <a:solidFill>
                  <a:srgbClr val="800000"/>
                </a:solidFill>
                <a:latin typeface="Century Gothic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20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Times New Roman"/>
              </a:rPr>
              <a:t>Организационный момент. (Формирование положительного эмоционального настроя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2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Century Gothic"/>
              </a:rPr>
              <a:t>Воспитатель:  </a:t>
            </a:r>
            <a:r>
              <a:rPr b="1" lang="ru-RU" sz="1600" spc="-1" strike="noStrike">
                <a:solidFill>
                  <a:srgbClr val="800000"/>
                </a:solidFill>
                <a:latin typeface="Century Gothic"/>
              </a:rPr>
              <a:t>	</a:t>
            </a:r>
            <a:r>
              <a:rPr b="0" i="1" lang="ru-RU" sz="16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Сядьте рядышком друг с другом, словно месяц – полукругом.  Я дарю вам свою улыбку. А вы в ответ улыбаетесь мне. Порадуйте своей улыбкой тех, кто с вами рядом. Улыбнитесь друг другу, вашим друзьям. И поздоровайтесь, так как вам этого хочется. Посмотрите, что у меня в рук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Блок-схема: альтернативный процесс 13"/>
          <p:cNvGrpSpPr/>
          <p:nvPr/>
        </p:nvGrpSpPr>
        <p:grpSpPr>
          <a:xfrm>
            <a:off x="755640" y="1268280"/>
            <a:ext cx="7497720" cy="939960"/>
            <a:chOff x="755640" y="1268280"/>
            <a:chExt cx="7497720" cy="939960"/>
          </a:xfrm>
        </p:grpSpPr>
        <p:pic>
          <p:nvPicPr>
            <p:cNvPr id="138" name="Блок-схема: альтернативный процесс 13" descr=""/>
            <p:cNvPicPr/>
            <p:nvPr/>
          </p:nvPicPr>
          <p:blipFill>
            <a:blip r:embed="rId1"/>
            <a:stretch/>
          </p:blipFill>
          <p:spPr>
            <a:xfrm>
              <a:off x="755640" y="1268280"/>
              <a:ext cx="7497720" cy="939960"/>
            </a:xfrm>
            <a:prstGeom prst="rect">
              <a:avLst/>
            </a:prstGeom>
            <a:ln w="9360">
              <a:solidFill>
                <a:srgbClr val="800000"/>
              </a:solidFill>
              <a:prstDash val="sysDot"/>
              <a:miter/>
            </a:ln>
          </p:spPr>
        </p:pic>
        <p:sp>
          <p:nvSpPr>
            <p:cNvPr id="139" name="Text Box 14"/>
            <p:cNvSpPr/>
            <p:nvPr/>
          </p:nvSpPr>
          <p:spPr>
            <a:xfrm>
              <a:off x="874800" y="1344600"/>
              <a:ext cx="7269120" cy="70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Calibri"/>
                </a:rPr>
                <a:t>Создание благоприятной эмоциональной обстановки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Calibri"/>
                </a:rPr>
                <a:t>Формирование интереса и желания  заниматься, учиться, играть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Группа 6"/>
          <p:cNvGrpSpPr/>
          <p:nvPr/>
        </p:nvGrpSpPr>
        <p:grpSpPr>
          <a:xfrm>
            <a:off x="539640" y="476280"/>
            <a:ext cx="8064720" cy="503280"/>
            <a:chOff x="539640" y="476280"/>
            <a:chExt cx="8064720" cy="503280"/>
          </a:xfrm>
        </p:grpSpPr>
        <p:grpSp>
          <p:nvGrpSpPr>
            <p:cNvPr id="141" name="Группа 21"/>
            <p:cNvGrpSpPr/>
            <p:nvPr/>
          </p:nvGrpSpPr>
          <p:grpSpPr>
            <a:xfrm>
              <a:off x="539640" y="476280"/>
              <a:ext cx="8064720" cy="503280"/>
              <a:chOff x="539640" y="476280"/>
              <a:chExt cx="8064720" cy="503280"/>
            </a:xfrm>
          </p:grpSpPr>
          <p:sp>
            <p:nvSpPr>
              <p:cNvPr id="142" name="Скругленный прямоугольник 9"/>
              <p:cNvSpPr/>
              <p:nvPr/>
            </p:nvSpPr>
            <p:spPr>
              <a:xfrm>
                <a:off x="539640" y="476280"/>
                <a:ext cx="8064720" cy="50328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0">
                    <a:srgbClr val="cb6c1d"/>
                  </a:gs>
                  <a:gs pos="100000">
                    <a:srgbClr val="ff8f26"/>
                  </a:gs>
                </a:gsLst>
                <a:lin ang="16200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Скругленный прямоугольник 4"/>
              <p:cNvSpPr/>
              <p:nvPr/>
            </p:nvSpPr>
            <p:spPr>
              <a:xfrm>
                <a:off x="642600" y="490320"/>
                <a:ext cx="78584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3280" rIns="53280" tIns="53280" bIns="53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225"/>
                  </a:spcAft>
                  <a:tabLst>
                    <a:tab algn="l" pos="0"/>
                    <a:tab algn="l" pos="622440"/>
                    <a:tab algn="l" pos="1244520"/>
                    <a:tab algn="l" pos="1866960"/>
                    <a:tab algn="l" pos="2489040"/>
                    <a:tab algn="l" pos="3111480"/>
                    <a:tab algn="l" pos="3733920"/>
                    <a:tab algn="l" pos="4356000"/>
                    <a:tab algn="l" pos="4978440"/>
                    <a:tab algn="l" pos="5600880"/>
                    <a:tab algn="l" pos="6222960"/>
                    <a:tab algn="l" pos="6845400"/>
                    <a:tab algn="l" pos="7467480"/>
                    <a:tab algn="l" pos="8089920"/>
                    <a:tab algn="l" pos="8712360"/>
                    <a:tab algn="l" pos="9334440"/>
                    <a:tab algn="l" pos="9956880"/>
                    <a:tab algn="l" pos="10578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Прямоугольник 8"/>
            <p:cNvSpPr/>
            <p:nvPr/>
          </p:nvSpPr>
          <p:spPr>
            <a:xfrm>
              <a:off x="684000" y="547560"/>
              <a:ext cx="79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Организационный эта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" name="Picture 12" descr=""/>
          <p:cNvPicPr/>
          <p:nvPr/>
        </p:nvPicPr>
        <p:blipFill>
          <a:blip r:embed="rId2"/>
          <a:stretch/>
        </p:blipFill>
        <p:spPr>
          <a:xfrm>
            <a:off x="1928880" y="4857840"/>
            <a:ext cx="2266920" cy="1703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58" descr=""/>
          <p:cNvPicPr/>
          <p:nvPr/>
        </p:nvPicPr>
        <p:blipFill>
          <a:blip r:embed="rId3"/>
          <a:stretch/>
        </p:blipFill>
        <p:spPr>
          <a:xfrm>
            <a:off x="5500800" y="485784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4T19:11:53Z</dcterms:created>
  <dc:creator>XP GAME 2008</dc:creator>
  <dc:description/>
  <dc:language>en-US</dc:language>
  <cp:lastModifiedBy>User</cp:lastModifiedBy>
  <dcterms:modified xsi:type="dcterms:W3CDTF">2012-03-14T14:04:42Z</dcterms:modified>
  <cp:revision>8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241</vt:lpwstr>
  </property>
  <property fmtid="{D5CDD505-2E9C-101B-9397-08002B2CF9AE}" pid="3" name="APEditor">
    <vt:lpwstr>103</vt:lpwstr>
  </property>
  <property fmtid="{D5CDD505-2E9C-101B-9397-08002B2CF9AE}" pid="4" name="APTrustLevel">
    <vt:lpwstr>1.00000000000000</vt:lpwstr>
  </property>
  <property fmtid="{D5CDD505-2E9C-101B-9397-08002B2CF9AE}" pid="5" name="Applications">
    <vt:lpwstr>172;#Office 2000;#-1;#TBD;#-1;#TBD;#-1;#TBD;#-1;#TBD;#-1;#TBD;#-1;#TBD</vt:lpwstr>
  </property>
  <property fmtid="{D5CDD505-2E9C-101B-9397-08002B2CF9AE}" pid="6" name="AssetId">
    <vt:lpwstr>TS001069050</vt:lpwstr>
  </property>
  <property fmtid="{D5CDD505-2E9C-101B-9397-08002B2CF9AE}" pid="7" name="AssetType">
    <vt:lpwstr>TP</vt:lpwstr>
  </property>
  <property fmtid="{D5CDD505-2E9C-101B-9397-08002B2CF9AE}" pid="8" name="AuthoringAssetId">
    <vt:lpwstr>TP001069050</vt:lpwstr>
  </property>
  <property fmtid="{D5CDD505-2E9C-101B-9397-08002B2CF9AE}" pid="9" name="CHMName">
    <vt:lpwstr/>
  </property>
  <property fmtid="{D5CDD505-2E9C-101B-9397-08002B2CF9AE}" pid="10" name="Content Type">
    <vt:lpwstr>OOFile</vt:lpwstr>
  </property>
  <property fmtid="{D5CDD505-2E9C-101B-9397-08002B2CF9AE}" pid="11" name="ContentTypeId">
    <vt:lpwstr>0x0101006025706CF4CD034688BEBAE97A2E701D0202001F9DE411C1B38343BE78B0080F632418</vt:lpwstr>
  </property>
  <property fmtid="{D5CDD505-2E9C-101B-9397-08002B2CF9AE}" pid="12" name="DirectSourceMarket">
    <vt:lpwstr>english</vt:lpwstr>
  </property>
  <property fmtid="{D5CDD505-2E9C-101B-9397-08002B2CF9AE}" pid="13" name="EditorialStatus">
    <vt:lpwstr/>
  </property>
  <property fmtid="{D5CDD505-2E9C-101B-9397-08002B2CF9AE}" pid="14" name="IsDeleted">
    <vt:lpwstr>0</vt:lpwstr>
  </property>
  <property fmtid="{D5CDD505-2E9C-101B-9397-08002B2CF9AE}" pid="15" name="IsSearchable">
    <vt:lpwstr>0</vt:lpwstr>
  </property>
  <property fmtid="{D5CDD505-2E9C-101B-9397-08002B2CF9AE}" pid="16" name="LCID">
    <vt:lpwstr>1049</vt:lpwstr>
  </property>
  <property fmtid="{D5CDD505-2E9C-101B-9397-08002B2CF9AE}" pid="17" name="Markets">
    <vt:lpwstr/>
  </property>
  <property fmtid="{D5CDD505-2E9C-101B-9397-08002B2CF9AE}" pid="18" name="Milestone">
    <vt:lpwstr>Continuous</vt:lpwstr>
  </property>
  <property fmtid="{D5CDD505-2E9C-101B-9397-08002B2CF9AE}" pid="19" name="NumericId">
    <vt:lpwstr>-1.00000000000000</vt:lpwstr>
  </property>
  <property fmtid="{D5CDD505-2E9C-101B-9397-08002B2CF9AE}" pid="20" name="OriginalSourceMarket">
    <vt:lpwstr>english</vt:lpwstr>
  </property>
  <property fmtid="{D5CDD505-2E9C-101B-9397-08002B2CF9AE}" pid="21" name="ParentAssetId">
    <vt:lpwstr/>
  </property>
  <property fmtid="{D5CDD505-2E9C-101B-9397-08002B2CF9AE}" pid="22" name="PrimaryImageGen">
    <vt:lpwstr>1</vt:lpwstr>
  </property>
  <property fmtid="{D5CDD505-2E9C-101B-9397-08002B2CF9AE}" pid="23" name="Provider">
    <vt:lpwstr>EY006220130</vt:lpwstr>
  </property>
  <property fmtid="{D5CDD505-2E9C-101B-9397-08002B2CF9AE}" pid="24" name="PublishTargets">
    <vt:lpwstr>OfficeOnline</vt:lpwstr>
  </property>
  <property fmtid="{D5CDD505-2E9C-101B-9397-08002B2CF9AE}" pid="25" name="ShowIn">
    <vt:lpwstr>Show everywhere</vt:lpwstr>
  </property>
  <property fmtid="{D5CDD505-2E9C-101B-9397-08002B2CF9AE}" pid="26" name="SourceTitle">
    <vt:lpwstr>Math design template</vt:lpwstr>
  </property>
  <property fmtid="{D5CDD505-2E9C-101B-9397-08002B2CF9AE}" pid="27" name="TPAppVersion">
    <vt:lpwstr>11</vt:lpwstr>
  </property>
  <property fmtid="{D5CDD505-2E9C-101B-9397-08002B2CF9AE}" pid="28" name="TPApplication">
    <vt:lpwstr>PowerPoint</vt:lpwstr>
  </property>
  <property fmtid="{D5CDD505-2E9C-101B-9397-08002B2CF9AE}" pid="29" name="TPClientViewer">
    <vt:lpwstr>Microsoft Office PowerPoint</vt:lpwstr>
  </property>
  <property fmtid="{D5CDD505-2E9C-101B-9397-08002B2CF9AE}" pid="30" name="TPCommandLine">
    <vt:lpwstr>{PP} /n {FilePath}</vt:lpwstr>
  </property>
  <property fmtid="{D5CDD505-2E9C-101B-9397-08002B2CF9AE}" pid="31" name="TPComponent">
    <vt:lpwstr>PPTFiles</vt:lpwstr>
  </property>
  <property fmtid="{D5CDD505-2E9C-101B-9397-08002B2CF9AE}" pid="32" name="TPFriendlyName">
    <vt:lpwstr>Math design template</vt:lpwstr>
  </property>
  <property fmtid="{D5CDD505-2E9C-101B-9397-08002B2CF9AE}" pid="33" name="TPInstallLocation">
    <vt:lpwstr>{My Templates}</vt:lpwstr>
  </property>
  <property fmtid="{D5CDD505-2E9C-101B-9397-08002B2CF9AE}" pid="34" name="TPNamespace">
    <vt:lpwstr>POWERPNT</vt:lpwstr>
  </property>
  <property fmtid="{D5CDD505-2E9C-101B-9397-08002B2CF9AE}" pid="35" name="TrustLevel">
    <vt:lpwstr>Microsoft Managed Content</vt:lpwstr>
  </property>
  <property fmtid="{D5CDD505-2E9C-101B-9397-08002B2CF9AE}" pid="36" name="UACurrentWords">
    <vt:lpwstr>0</vt:lpwstr>
  </property>
  <property fmtid="{D5CDD505-2E9C-101B-9397-08002B2CF9AE}" pid="37" name="UALocComments">
    <vt:lpwstr/>
  </property>
  <property fmtid="{D5CDD505-2E9C-101B-9397-08002B2CF9AE}" pid="38" name="UALocRecommendation">
    <vt:lpwstr>Localize</vt:lpwstr>
  </property>
  <property fmtid="{D5CDD505-2E9C-101B-9397-08002B2CF9AE}" pid="39" name="UANotes">
    <vt:lpwstr>LEGACY PPTDT. 421488L. June 2003 retrofit. SEO Pilot 2008</vt:lpwstr>
  </property>
  <property fmtid="{D5CDD505-2E9C-101B-9397-08002B2CF9AE}" pid="40" name="Version">
    <vt:r8>1</vt:r8>
  </property>
  <property fmtid="{D5CDD505-2E9C-101B-9397-08002B2CF9AE}" pid="41" name="display_urn:schemas-microsoft-com:office:office#APAuthor">
    <vt:lpwstr>REDMOND\cynvey</vt:lpwstr>
  </property>
  <property fmtid="{D5CDD505-2E9C-101B-9397-08002B2CF9AE}" pid="42" name="display_urn:schemas-microsoft-com:office:office#APEditor">
    <vt:lpwstr>REDMOND\v-luannv</vt:lpwstr>
  </property>
</Properties>
</file>