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527-631E-41ED-B3DA-88CB624E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028-6884-4BF2-826F-C82ACDEF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D2FA-993F-4041-8569-5C43209A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9F0-3186-4C1D-8D35-A84816B5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B53B-38B9-49A3-BB55-3D6AC8CC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79EA-A998-4E91-8827-10E32138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0F27-939B-4493-B76D-C78226EC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4F86-0C00-4F27-908C-0710947E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9A9E-F70F-4F49-B427-FC2EBC55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9730-66A4-4CC6-BB6D-5385257B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1C47-75A1-43A9-96F1-0A8E11EC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579-B60D-402A-934C-29AD33DA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3EE7-A72F-469F-A2BC-C9A77E86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80CA-4CA0-4E1D-8EB8-2763E0FF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A50C-44D3-4AB1-8C65-EB7992DD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5A8F-3B8C-467E-8ABC-66E6FE53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3D11-2346-4627-B218-2EDD7C2C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ABF-D585-422B-903E-C911CA80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A3A-18BC-47FB-9F5F-60201CCD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106-F869-4F7D-8E2F-F1B2B3A2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B17-B4A9-49D8-9255-9DA4D848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4F2-E93C-45CB-BB37-40495FCD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64C-613F-45E8-A373-5F9D01B8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FEBC-1A96-4ADD-B99B-3FC1C8DD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77D7-2FE2-455A-B326-43DEA4624D2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9F65-16DA-499C-9AE6-A84865319E3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744640" y="1981080"/>
            <a:ext cx="2578320" cy="560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286000" y="2971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такое эт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значит светская этика и что она предполаг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81080" y="6094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такое светская этик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 живем в мире, среди множества людей, и каждый день нам приходится принимать решения, совершать поступки и действия, которые важны не только для нас, но и для многих людей вокру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5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5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овек часто задумывается о правильности своих поступков и решений, о том,  как он  поступил  в том или ином случае, не обидел ли кого и не причинил ли кому-то боль. Осознаём мы или нет, но каждый из нас придерживается правил нравственности  и э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5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овеческое общество существует лишь благодаря тому, что оно подчиняется законам или правилам, которые признают все люди, и не допускает, чтобы каждый делал все по собственному желани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Эти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– это сложившееся у нас представление о том, что хорошо и что плохо. Она позволяет нам оценивать ту или иную жизненную ситуацию или поступок: хороши они или дурны, правильны или неправильн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ика изучает морал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ово «мораль» возникло в Древнем Риме и означает «привычки», «обычаи», «правила поведения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ё вместе это можно назвать словом «нравы», от которого в русском языке произошло слово «нравственность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этому слова «мораль» и «нравственность» являются синоним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8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8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8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ccff"/>
                </a:solidFill>
                <a:latin typeface="Arial"/>
              </a:rPr>
              <a:t>Рафаэль. </a:t>
            </a:r>
            <a:r>
              <a:rPr b="0" i="1" lang="en-US" sz="4400" spc="-1" strike="noStrike">
                <a:solidFill>
                  <a:srgbClr val="66ccff"/>
                </a:solidFill>
                <a:latin typeface="Arial"/>
              </a:rPr>
              <a:t>Афинская школ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7400" y="2135160"/>
            <a:ext cx="501984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реска Рафаэля (1483—1520) «Афинская школа» имеет и другое название — «Философские беседы». На ней художник изобразил великих мыслителей, живших в другое время и в других странах. Некоторым из них он придал черты своих современник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пример, в центре фрески мы видим фигуру Платона, который имеет черты великого художника Леонардо да Вин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рава от него стоит Аристотель,держа в руке свою книгу «Этик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ика не просто изучает, как ведут себя люди и почему они поступают так или инач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а помогает разобраться в том, что такое нравственность и каким путём она достиг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каждом человеке есть положительные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рицательные черт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льшинство людей честные, трудолюбивые, заботливые, способные любить и дружи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ако есть и такие, которые лгут, крадут, грубят, обижают слаб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му одни совершают добрые поступ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другие делают зло себе и окружающи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нужно делать, чтобы самому стать добрым и чтобы хороших людей было как можно больше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наградить человека, сделав шего добро? Как не делать зл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сделать жизнь людей лучш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все эти вопросы помогает ответить э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личают этику религиозную и светску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ово «светская» означает «мирская», «гражданская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етская этика предполагает, что человек сам может определить, что такое добро, а что такое зло; что от самого человека зависит, станет он хорошим или плохим; что человек сам должен отвечать за свои поступки перед другими людь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 человеке и его делах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кажи, челов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твои дел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ела ничего у мен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спал неплох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 ночь мал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я прихватил полдн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но сказать, что этика помогает человеку самостоятельно совершать добродетельные поступки и строить отношения с людьми, а значит, стать лучш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был основателем науки «Этика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означает слово «мораль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помогает понять светская эти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81400" y="449280"/>
            <a:ext cx="257976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77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6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8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77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5" dur="77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7" dur="77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9" dur="77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77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6" dur="77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8" dur="77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0" dur="77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кажи, челове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что же усп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ты соверши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а много успел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орошо по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чаю успел попи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кажи, челове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когда поспа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шел ли ты за поро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Конечно, выше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 очень уста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рнулся, не чуя н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кажи, челове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что за окн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идеть тебе довелос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а что там увидиш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тем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лютый стоит моро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кажи, челове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у, а как пото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ло ли что-нибуд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А что пот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играл с кот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вновь прилег отдохну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кажи, челове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кроме кот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ть друзья у теб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а что т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друзьями одна мает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Больше не спрашивал 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00"/>
                </a:solidFill>
                <a:latin typeface="Arial"/>
              </a:rPr>
              <a:t>А теперь послушайте пословицу. Попробуем вместе понять ее мудрость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ей поступок – пожнёшь привычк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ей привычку – пожнёшь добродетель или поро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ей добродетель или порок -  пожнёшь характе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ей характер – пожнёшь судьб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ика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— это наука, которая рассматривае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тупки и отношения между людьми с точки зрения представлений о добре и зл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ателем этой науки был древнегреческий философ Аристотель (IV в. до н. э.), который ввёл и сам термин в названия свои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удов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ревней Греции все науки назывались философией. Слово «философия» состоит из греческих слов «фило» — любовь 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софия» — мудрость. Получается,философия — любовь к мудрости. Аристотель считал, что этика — часть философ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15000" y="1676520"/>
            <a:ext cx="261144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6:57:03Z</dcterms:created>
  <dc:creator>Даня</dc:creator>
  <dc:description/>
  <dc:language>en-US</dc:language>
  <cp:lastModifiedBy>Рома</cp:lastModifiedBy>
  <dcterms:modified xsi:type="dcterms:W3CDTF">2012-09-11T18:09:0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