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0ED-80B1-4FDD-BD51-FEEBBF2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D84-5B52-4276-B535-0F571EF6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12C-BDC3-4702-89E0-346B26F7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622-68CB-4C0A-B4EA-49E48E6E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E3E-C864-4E90-8A81-E171EA8C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A6C3-014B-40D8-B397-5B95D244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4CD0-B199-4137-95D4-78ACD41D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0778-42A1-4413-AD18-AD6D8409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363-DA1F-4B80-AD19-BB10AB7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9F39-9311-4660-99A3-E40B597D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CE41-098C-4D28-8551-87EECA5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6A2-83A1-484B-9590-04DA1126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B018-7C2F-414D-AEE2-0FDC98A0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AC2-A87F-4DB3-BE26-D6A5188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119-183D-4CA3-8E86-AA8B76E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8A25-43F8-4BB5-AEE3-AB93E5D5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63B1-47E1-4D47-A9AE-ED8EADBE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909-DE79-478C-84E2-505AC6E5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B20-57EC-477C-A7F3-D76024A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4D7-8827-464F-B026-81864EE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F6C-3831-42EA-B6BE-E1A7DFA7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62E-E6B1-4898-95AF-861E27E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B5C-F38F-4B42-A9B1-9745A6A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1C2-2713-48DA-B437-13FC3DC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BB75-3825-4D14-B511-7673AC0324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2B72-AAC6-41CE-9ED4-46EBD056A2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44640" y="1981080"/>
            <a:ext cx="2578320" cy="560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0" y="2971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э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значит светская этика и что она предполаг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81080" y="6094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 светская этик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живем в мире, среди множества людей, и каждый день нам приходится принимать решения, совершать поступки и действия, которые важны не только для нас, но и для многих людей вокру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к часто задумывается о правильности своих поступков и решений, о том,  как он  поступил  в том или ином случае, не обидел ли кого и не причинил ли кому-то боль. Осознаём мы или нет, но каждый из нас придерживается правил нравственности  и э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ческое общество существует лишь благодаря тому, что оно подчиняется законам или правилам, которые признают все люди, и не допускает, чтобы каждый делал все по собственному желан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Эти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– это сложившееся у нас представление о том, что хорошо и что плохо. Она позволяет нам оценивать ту или иную жизненную ситуацию или поступок: хороши они или дурны, правильны или неправиль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ика изучает морал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о «мораль» возникло в Древнем Риме и означает «привычки», «обычаи», «правила поведени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ё вместе это можно назвать словом «нравы», от которого в русском языке произошло слово «нравственност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этому слова «мораль» и «нравственность» являются синоним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ccff"/>
                </a:solidFill>
                <a:latin typeface="Arial"/>
              </a:rPr>
              <a:t>Рафаэль. </a:t>
            </a:r>
            <a:r>
              <a:rPr b="0" i="1" lang="en-US" sz="4400" spc="-1" strike="noStrike">
                <a:solidFill>
                  <a:srgbClr val="66ccff"/>
                </a:solidFill>
                <a:latin typeface="Arial"/>
              </a:rPr>
              <a:t>Афинская школ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7400" y="2135160"/>
            <a:ext cx="50198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еска Рафаэля (1483—1520) «Афинская школа» имеет и другое название — «Философские беседы». На ней художник изобразил великих мыслителей, живших в другое время и в других странах. Некоторым из них он придал черты своих современни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имер, в центре фрески мы видим фигуру Платона, который имеет черты великого художника Леонардо да Вин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ава от него стоит Аристотель,держа в руке свою книгу «Эти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ика не просто изучает, как ведут себя люди и почему они поступают так или инач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а помогает разобраться в том, что такое нравственность и каким путём она достиг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аждом человеке есть положительны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рицательные чер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инство людей честные, трудолюбивые, заботливые, способные любить и дружи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ако есть и такие, которые лгут, крадут, грубят, обижают слаб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одни совершают добрые поступ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другие делают зло себе и окружающи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нужно делать, чтобы самому стать добрым и чтобы хороших людей было как можно больш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наградить человека, сделав шего добро? Как не делать зл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делать жизнь людей лучш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се эти вопросы помогает ответить э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личают этику религиозную и светск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о «светская» означает «мирская», «гражданска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етская этика предполагает, что человек сам может определить, что такое добро, а что такое зло; что от самого человека зависит, станет он хорошим или плохим; что человек сам должен отвечать за свои поступки перед другими люд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 человеке и его дела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твои дел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ела ничего у ме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спал неплох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 ночь мал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я прихватил полд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но сказать, что этика помогает человеку самостоятельно совершать добродетельные поступки и строить отношения с людьми, а значит, стать лучш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был основателем науки «Этика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означает слово «мораль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омогает понять светская эт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81400" y="449280"/>
            <a:ext cx="2579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что же усп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ты соверш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 много успе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шо по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чаю успел поп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когда посп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шел ли ты за поро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онечно, выше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 очень уст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нулся, не чуя н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что за окн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идеть тебе довело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 что там увиди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тем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лютый стоит моро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у, а как пот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о ли что-нибуд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А что по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играл с ко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новь прилег отдохну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кроме кот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ь друзья у теб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 что т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друзьями одна мает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Больше не спрашивал 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00"/>
                </a:solidFill>
                <a:latin typeface="Arial"/>
              </a:rPr>
              <a:t>А теперь послушайте пословицу. Попробуем вместе понять ее мудрость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поступок – пожнёшь привыч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привычку – пожнёшь добродетель или пор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добродетель или порок -  пожнёшь характе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характер – пожнёшь судьб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ик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это наука, которая рассматрива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тупки и отношения между людьми с точки зрения представлений о добре и з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ателем этой науки был древнегреческий философ Аристотель (IV в. до н. э.), который ввёл и сам термин в названия свои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удо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ревней Греции все науки назывались философией. Слово «философия» состоит из греческих слов «фило» — любовь 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софия» — мудрость. Получается,философия — любовь к мудрости. Аристотель считал, что этика — часть философ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61144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6:57:03Z</dcterms:created>
  <dc:creator>Даня</dc:creator>
  <dc:description/>
  <dc:language>en-US</dc:language>
  <cp:lastModifiedBy>Рома</cp:lastModifiedBy>
  <dcterms:modified xsi:type="dcterms:W3CDTF">2012-09-11T18:09:0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