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D98-A7DB-4A90-A90A-1D6D252B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733-6E3E-416F-AC93-DF73BDFF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D51-7C45-4C20-8454-9A719CFC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248-060F-4F32-B37D-DA8D23F2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D35B-E020-4A74-A9F4-E3B716B5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CD75-7BEE-4024-9309-A53B65B9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E1B1-E5FD-45EA-B1B3-16A0ABCA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412E-E2CB-49C4-9164-76CC7F35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01EC-AC05-43BA-B6A2-D94446FC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11A6-9965-4ABE-9517-4AE7AAF5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D68E-F880-4BD3-9376-45D67E0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933-A109-4E25-B148-CC449C08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B5C6-1C08-48D7-A251-A35D484A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F3DD-F7BC-4852-B5D2-5C51064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DF2A-1773-4C2B-B513-4584F6D5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3547-172A-4F47-A454-A4A6A5E2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DBD5-2348-4766-9631-57C63822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2EFC-D060-4543-9ECA-A14504BD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513E-8058-4EFA-90D8-2B575ADF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3F86-C32F-45D7-BC22-62E6F878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4A50-F822-4FFC-98E9-47D98209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866A-63C2-4FF0-B1AC-56F7B7C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389-7357-4DD7-ACE7-DAE1824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5AD1-CF99-4E99-9552-D8EB778B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69A98-B833-4F65-AD2F-D014AA27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E7A9-859D-430F-B122-3120CD0D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5DB64-CF03-4E03-93C3-C2ED5974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961FA-A719-4B4B-AB3E-1F634F40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31377-1243-44B9-8CE7-8541E4FF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5AE9C-2556-4C29-ABC4-6C4B76F5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6398-6B65-40EC-A3D7-5244F00B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2388-0C36-48A6-A68C-8E8B2447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EC52-4A92-40FC-8875-07C788A3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356-AE7E-4768-BCA9-1C9489CC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C1DFC-72F6-4524-8B4A-2BC21A2D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3029-27EB-4CD5-BC0E-6FD91C11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0306-5A31-4B6D-B0D6-B594A812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46CBC-CB35-4E7B-9DB1-3623EEF4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33375-B51F-4586-8013-8F94EFD3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75DAA-F10F-47F9-A877-36CFB84C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9C3D-8DFA-4ACA-8BDB-3E7107EB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30A6F-803C-41F2-9C4D-A1954F7C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BBFBF-CD2A-4722-9F0C-C6E7DD68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EE1-01DB-45BD-B14A-5C7830DF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884-CF9C-4A69-BA26-B871EC07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3DD-289E-4CF6-879F-120A6A06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B2A-34FD-4C7B-AC71-F8018F1A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145-75BA-487A-AEA0-B1B560A9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4AC5-C111-4708-8BC0-1161AC404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54F8-642C-4C40-B963-64DCA4D7B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68DC-A8CD-45C9-BA8C-01E4F7FF6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8D21-A215-481B-B696-C612356D1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file:///E:/works/french/&#1060;&#1056;&#1040;&#1053;&#1062;&#1048;&#1071;/&#1072;&#1088;&#1082;&#1072;%20&#1044;&#1077;%20&#1060;&#1072;&#1085;&#1089;.htm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36446182&amp;p=4&amp;ag=ih&amp;qs=text=&#1084;&#1061;&#1063;&#1058;&amp;stype=image&amp;nl=0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privetparis.com/gallery/album04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ivetparis.com/gallery/paris1/DSC01843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rivetparis.com/gallery/paris1/DSC01862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hyperlink" Target="http://privetparis.com/gallery/paris1/DSC01853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privetparis.com/gallery/album01?&amp;page=1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156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Открытки / Франция / Париж / Лувр (251К)"/>
          <p:cNvPicPr/>
          <p:nvPr/>
        </p:nvPicPr>
        <p:blipFill>
          <a:blip r:embed="rId3"/>
          <a:stretch/>
        </p:blipFill>
        <p:spPr>
          <a:xfrm>
            <a:off x="-25236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535640" y="3395520"/>
            <a:ext cx="72720" cy="68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42764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240000" cy="338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556000" y="0"/>
            <a:ext cx="5905440" cy="18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66ff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ка Дефанс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66ff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"/>
          <p:cNvSpPr/>
          <p:nvPr/>
        </p:nvSpPr>
        <p:spPr>
          <a:xfrm>
            <a:off x="4067280" y="2421000"/>
            <a:ext cx="4897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Триумфальная арка – Квадратный двор Лувра. (Архитектор: Ото фон Спрекельсен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Кажется, что квартал ла Дефанс построен совсем недавно. Однако, </a:t>
            </a:r>
            <a:r>
              <a:rPr b="0" lang="ru-RU" sz="24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история </a:t>
            </a: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его создания относится к 50-м год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094200" cy="4464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79280" y="189000"/>
            <a:ext cx="53532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9966ff"/>
                    </a:gs>
                  </a:gsLst>
                  <a:lin ang="13500000"/>
                </a:gradFill>
                <a:latin typeface="Impact"/>
              </a:rPr>
              <a:t>Триумфальная арк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9966ff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52" name=""/>
          <p:cNvSpPr/>
          <p:nvPr/>
        </p:nvSpPr>
        <p:spPr>
          <a:xfrm>
            <a:off x="250920" y="1484280"/>
            <a:ext cx="525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Творение Шальгрена (1806 – 1836). Расположенная на самой красивой перспективе Парижа, на середине расстояния между садом Тюильри и Большой аркой Дефанс. Триумфальная арка является  кульминационной точкой Триумфального пу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Триумфальная арка была задумана Наполеоном в 1806году и закончена в 1836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479736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Её размеры 45 м в высоту, 45 м в длину и 27 м в ширину. Сама арка была построена по античным канонам, воссоздавая традиции древнеримской арки Тиция. Великолепная скульптура «Марсельеза» Ф. Рюда украшает лицевую часть ар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067280" y="189000"/>
            <a:ext cx="3779640" cy="28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увр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3068640"/>
            <a:ext cx="85690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Лувр – энциклопедический музей состоит из 7 отделов, представляющих коллекции с античных времён до середины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в. Пирамида, построенная по проекту архитектора Йю Минг Пея, является новым входом в музей (198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Лувр, который «молчит неизменно и величественно, как пирамида» на протяжении веков перенёс немало изменений прежде, чем превратиться в величайший музей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89000"/>
            <a:ext cx="3097080" cy="2819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8459640" y="6237360"/>
            <a:ext cx="505080" cy="333360"/>
          </a:xfrm>
          <a:custGeom>
            <a:avLst/>
            <a:gdLst>
              <a:gd name="textAreaLeft" fmla="*/ 21600 w 505080"/>
              <a:gd name="textAreaRight" fmla="*/ 483480 w 505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715" h="21600">
                <a:moveTo>
                  <a:pt x="0" y="0"/>
                </a:moveTo>
                <a:lnTo>
                  <a:pt x="32715" y="0"/>
                </a:lnTo>
                <a:lnTo>
                  <a:pt x="32715" y="21600"/>
                </a:lnTo>
                <a:lnTo>
                  <a:pt x="0" y="21600"/>
                </a:lnTo>
                <a:close/>
              </a:path>
              <a:path fill="lightenLess" w="32715" h="21600">
                <a:moveTo>
                  <a:pt x="0" y="0"/>
                </a:moveTo>
                <a:lnTo>
                  <a:pt x="32715" y="0"/>
                </a:lnTo>
                <a:lnTo>
                  <a:pt x="31315" y="1400"/>
                </a:lnTo>
                <a:lnTo>
                  <a:pt x="1400" y="1400"/>
                </a:lnTo>
                <a:close/>
              </a:path>
              <a:path fill="darken" w="32715" h="21600">
                <a:moveTo>
                  <a:pt x="32715" y="0"/>
                </a:moveTo>
                <a:lnTo>
                  <a:pt x="32715" y="21600"/>
                </a:lnTo>
                <a:lnTo>
                  <a:pt x="31315" y="20200"/>
                </a:lnTo>
                <a:lnTo>
                  <a:pt x="31315" y="1400"/>
                </a:lnTo>
                <a:close/>
              </a:path>
              <a:path fill="darkenLess" w="32715" h="21600">
                <a:moveTo>
                  <a:pt x="3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15" y="20200"/>
                </a:lnTo>
                <a:close/>
              </a:path>
              <a:path fill="lighten" w="3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15" h="21600">
                <a:moveTo>
                  <a:pt x="9351" y="3794"/>
                </a:moveTo>
                <a:lnTo>
                  <a:pt x="23364" y="10800"/>
                </a:lnTo>
                <a:lnTo>
                  <a:pt x="9351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572000" y="404640"/>
            <a:ext cx="4321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н родился как крепость, воздвигнутая Филиппом Августом в 1190 г, вскоре превратившаяся в королевскую резиденцию. Полностью забытый в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XVII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веке, в связи с переводом королевского двора в Версаль, он возродился при Наполеоне. В 1793 году дворец становится музем. В музее создано семь отделов: античность Востока, античность Египта, греческая и римская античность, живопись и рисунки, скульптура, предметы искусства и художественная мебель. Открытие великого Лувра состоялось и 1989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98600" cy="3068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4284720" cy="2773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1476360" y="2133720"/>
            <a:ext cx="3095640" cy="20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 rot="5400000">
            <a:off x="-1962360" y="2473200"/>
            <a:ext cx="6267600" cy="1841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1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Диснейленд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34080" y="3141720"/>
            <a:ext cx="2509920" cy="3527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2484360" y="260280"/>
            <a:ext cx="4681440" cy="2670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195640" y="3141720"/>
            <a:ext cx="3960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Парижский Диснейленд работает 365 дней в году. Тематический парк предлагает вниманию публики аттракционы, парады и шо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Парижский парк развлечений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uro Disney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был построен в1992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411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84360" y="90792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Парижский Диснейленд занимает площадь в 200 га – это примерно 1\5 часть площади Парижа. Он включает в себя два тематических парка, гостиничный комплекс из шести отелей, Дисней-вилледж («деревню», где есть магазины, кафе, рестораны, увеселительные заведения), кемпинг, ледовый каток, озера, два конференц-зала, поле для гольфа и несколько бассейнов. Неподалеку находится Валь д`Эроп (Val d`Europe) с колоссальным торговым комплексом (180 магазинов) и гигантским морским аквариум. Диснейленд дает несравненную возможность оторваться от будничной жизни, испытать сильные эмоции и острые ощущения, набраться энергии.</a:t>
            </a:r>
            <a:br>
              <a:rPr sz="2400"/>
            </a:b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Парижский Диснейленд состоит из парка Диснейленд и студии Уолта Дисне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95280" y="333360"/>
            <a:ext cx="8477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ранция - страна наиболее посещаемая на Европейском континенте.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Франция  - это великая культура и необычайное многообразие природы. В этой стране невозможно всё увидеть  и посетить  в несколько дней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03280" y="2781360"/>
            <a:ext cx="4140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Каждая провинция Франции (всего их 22) полностью отличается одна от другой своей архитектурой и природой, обычаями и традициями, но все они имеют свой стиль, цвет и вк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4608360" cy="3067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95280" y="148428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852640"/>
            <a:ext cx="4140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3068640"/>
            <a:ext cx="4140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3068640"/>
            <a:ext cx="4140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6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306" name="" descr="Тур. Луара. Франция"/>
          <p:cNvPicPr/>
          <p:nvPr/>
        </p:nvPicPr>
        <p:blipFill>
          <a:blip r:embed="rId2"/>
          <a:stretch/>
        </p:blipFill>
        <p:spPr>
          <a:xfrm>
            <a:off x="179280" y="189000"/>
            <a:ext cx="2376720" cy="15508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6920" y="4533840"/>
            <a:ext cx="3600720" cy="2324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9280" y="1629360"/>
            <a:ext cx="32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Луара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 расположена в центре Франции и всемирно известна своими </a:t>
            </a:r>
            <a:r>
              <a:rPr b="0" lang="en-US" sz="2800" spc="-1" strike="noStrike" u="sng">
                <a:solidFill>
                  <a:srgbClr val="666633"/>
                </a:solidFill>
                <a:uFillTx/>
                <a:latin typeface="Arial"/>
                <a:hlinkClick r:id="rId4"/>
              </a:rPr>
              <a:t>замками</a:t>
            </a:r>
            <a:r>
              <a:rPr b="0" lang="en-US" sz="2800" spc="-1" strike="noStrike" u="sng">
                <a:solidFill>
                  <a:srgbClr val="cc00ff"/>
                </a:solidFill>
                <a:uFillTx/>
                <a:latin typeface="Arial"/>
              </a:rPr>
              <a:t> и вин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556000" y="333360"/>
            <a:ext cx="4171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инции Франц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564000" y="1916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Лазурный Берег. Франция"/>
          <p:cNvPicPr/>
          <p:nvPr/>
        </p:nvPicPr>
        <p:blipFill>
          <a:blip r:embed="rId1"/>
          <a:stretch/>
        </p:blipFill>
        <p:spPr>
          <a:xfrm>
            <a:off x="324000" y="1916280"/>
            <a:ext cx="2735280" cy="2025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39640" y="83664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остирается от Тулона до итальянской границы через Канны, Ниццу, Монако и Менто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47640" y="189000"/>
            <a:ext cx="5162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азурный Берег Франц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1628640"/>
            <a:ext cx="504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Курорты Лазурного Берега залиты солнцем более 300 дней в году. Вы всегда найдете уголок по своему вкусу - как для прогулок в пешеходных и торговых кварталах традиционных старинных городов, так и для наслаждения неповторимыми пейзажами экзотической французской Ривьеры в ее садах и парках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alps1" descr="Альпы. Горнолыжные курорты Франции."/>
          <p:cNvPicPr/>
          <p:nvPr/>
        </p:nvPicPr>
        <p:blipFill>
          <a:blip r:embed="rId2"/>
          <a:stretch/>
        </p:blipFill>
        <p:spPr>
          <a:xfrm>
            <a:off x="5508720" y="4437000"/>
            <a:ext cx="3384360" cy="22100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79280" y="5013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Французские Альпы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- крупнейшая в мире область для катания на горных лыжах, которая включает в себя более 2500 подъемников и 4000км. тр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116000" y="4221000"/>
            <a:ext cx="1419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ьпы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645000"/>
            <a:ext cx="3276360" cy="2468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620640"/>
            <a:ext cx="3024000" cy="22798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 Франция, Нотр Дам, экскурсии, "/>
          <p:cNvPicPr/>
          <p:nvPr/>
        </p:nvPicPr>
        <p:blipFill>
          <a:blip r:embed="rId5"/>
          <a:stretch/>
        </p:blipFill>
        <p:spPr>
          <a:xfrm>
            <a:off x="179280" y="692280"/>
            <a:ext cx="2092320" cy="2735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340000" y="765000"/>
            <a:ext cx="3887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  </a:t>
            </a: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Париж, столица La Belle France - "Прекрасной Франции", всегда занимал особое место в русской душе. Париж - тайна, загадка, мечта... Город художников, архитекторов, поэтов и, конечно же, высокой моды! Париж с его бульварами, мостами, соборами и дворцами открывает свою красоту миллионам туристов, прибывающим со всех концов света. Елисейские поля, Собор Парижской Богоматери, Эйфелева башня и Лувр. Кто не мечтал увидеть это воочию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3933720"/>
            <a:ext cx="2376360" cy="2521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187280" y="0"/>
            <a:ext cx="59626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ариж - жемчужина Франц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4967280" cy="31622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557360"/>
            <a:ext cx="2746440" cy="36720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7037280" y="3284640"/>
            <a:ext cx="1857600" cy="334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826920" y="0"/>
            <a:ext cx="501048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йфелева башня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19640" y="170028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оружённая к Всемирной выставке1889 года, Эйфелева башня (317 м) стала символом Парижа для все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19640" y="321300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юстав Эйфель выиграл конкурс, представив свой проект, который был прозван в артистических кругах того времени «башня в гайках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3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11280" y="260280"/>
            <a:ext cx="7972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9966ff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бор Парижской Богоматери</a:t>
            </a:r>
            <a:endParaRPr b="0" lang="en-US" sz="4400" spc="1" strike="noStrike">
              <a:ln w="12600">
                <a:solidFill>
                  <a:srgbClr val="9966ff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052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ff"/>
                </a:solidFill>
                <a:latin typeface="Arial"/>
              </a:rPr>
              <a:t>Собор Парижской Богоматери – шедевр готической архитектуры. Постройку собора задумал Морис де Сюлли. Расположен он на острове посреди реки Сены и находится в самом древнем квартале города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19640" y="2421000"/>
            <a:ext cx="3673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Строился Собор между 1163 и 1250 годами на месте старинной базилики, но был окончательно отделан лишь в 1345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С площади, от которой расходятся все дороги Франции в храм ведут три двери, украшенные многочисленными стату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818240" cy="32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3500280"/>
            <a:ext cx="1981440" cy="3175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5219640" y="981000"/>
            <a:ext cx="3175200" cy="23875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539640" y="260280"/>
            <a:ext cx="478152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cc00ff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ощадь согласия</a:t>
            </a:r>
            <a:endParaRPr b="1" lang="en-US" sz="4400" spc="1" strike="noStrike">
              <a:ln w="12600">
                <a:solidFill>
                  <a:srgbClr val="cc00ff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134136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1125360"/>
            <a:ext cx="46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Была оформлена в 1757 – 1779гг по проекту архитектора Жака  - Анжа Габриэля на территории, предоставленной городу королём в1743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4076640"/>
            <a:ext cx="53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Она стала площадью (Пляс де ла Конкорд) в 1795 году и получила свой окончательный современный вид в 1836 – 1840гг.  под руководством архитектора Гитторф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280" y="6165720"/>
            <a:ext cx="432000" cy="40500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39" h="21600">
                <a:moveTo>
                  <a:pt x="0" y="0"/>
                </a:moveTo>
                <a:lnTo>
                  <a:pt x="23039" y="0"/>
                </a:lnTo>
                <a:lnTo>
                  <a:pt x="23039" y="21600"/>
                </a:lnTo>
                <a:lnTo>
                  <a:pt x="0" y="21600"/>
                </a:lnTo>
                <a:close/>
              </a:path>
              <a:path fill="lightenLess" w="23039" h="21600">
                <a:moveTo>
                  <a:pt x="0" y="0"/>
                </a:moveTo>
                <a:lnTo>
                  <a:pt x="23039" y="0"/>
                </a:lnTo>
                <a:lnTo>
                  <a:pt x="21639" y="1400"/>
                </a:lnTo>
                <a:lnTo>
                  <a:pt x="1400" y="1400"/>
                </a:lnTo>
                <a:close/>
              </a:path>
              <a:path fill="darken" w="23039" h="21600">
                <a:moveTo>
                  <a:pt x="23039" y="0"/>
                </a:moveTo>
                <a:lnTo>
                  <a:pt x="23039" y="21600"/>
                </a:lnTo>
                <a:lnTo>
                  <a:pt x="21639" y="20200"/>
                </a:lnTo>
                <a:lnTo>
                  <a:pt x="21639" y="1400"/>
                </a:lnTo>
                <a:close/>
              </a:path>
              <a:path fill="darkenLess" w="23039" h="21600">
                <a:moveTo>
                  <a:pt x="2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9" y="20200"/>
                </a:lnTo>
                <a:close/>
              </a:path>
              <a:path fill="lighten" w="2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9" h="21600">
                <a:moveTo>
                  <a:pt x="4513" y="3794"/>
                </a:moveTo>
                <a:lnTo>
                  <a:pt x="18526" y="10800"/>
                </a:lnTo>
                <a:lnTo>
                  <a:pt x="4513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2997360"/>
            <a:ext cx="3113280" cy="334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971640" y="83664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476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ервоначально Площадь Согласия была посвящена Людовику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V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 конная статуя которого возвышалась в центре площади. Этот памятник – произведение Бушардона и Пигаля – был уничтожен во время французской революци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2349360"/>
            <a:ext cx="504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наши дни в центре площади возвышается египетский обелиск из Луксора, подаренный в 1831 году Луи-Филиппу египетским пашой Мухаммедом Али и установленный 1836 году. Он имеет 23 м в высоту и украшен иероглифами, которые знаменуют славные деяния фараона Рамзес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09:55:28Z</dcterms:created>
  <dc:creator>Пискунова Т. Н.</dc:creator>
  <dc:description/>
  <dc:language>en-US</dc:language>
  <cp:lastModifiedBy>Катюша</cp:lastModifiedBy>
  <dcterms:modified xsi:type="dcterms:W3CDTF">2015-09-13T16:54:10Z</dcterms:modified>
  <cp:revision>20</cp:revision>
  <dc:subject/>
  <dc:title>Слайд 1</dc:title>
</cp:coreProperties>
</file>