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4E5-F481-4F45-B758-FC19F04C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0ED-A5A9-4172-B387-CE8351E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987-4070-4099-B01F-3246A307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305-2D7D-43DE-9752-20D1D5BC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A5AD-7B02-4EF5-8A26-97A859BF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F1C0-8748-427A-9BD5-5003FCAB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EFE1-A996-461A-91E0-B355DBEF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1C8C-8E99-4B66-9F7E-285013FC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93EF-8854-475A-9906-9A00ADAE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8890-C79F-4252-BEE0-C956714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497C-5B34-44C8-904F-B0C6935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62B-D9C6-4985-B8FD-994CB82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18D8-1212-411A-A6A8-D30971F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E594-CA83-4FAA-B1F6-8CE77E66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02D5-E8CB-44BA-9AA2-83F2006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5F6-4732-4CEF-9A2E-F4B2AA98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EA2-9D46-483B-B6AC-86472948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AC5C-E486-4CC8-B23C-C8B2BF04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9ADF-D14B-432C-A64B-F9B597D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7C62-753A-433E-A1FD-655EC3D3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6E33-FDA0-4B9B-A3AC-A151683B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F914-E2A1-478D-A695-7B4752A1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0D5-442C-4164-858A-BFD4A5BA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7186-BE1C-4F9D-A58F-87EC71C2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3C49-739C-4A13-9F9D-9307324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EFB5-A5A3-4D0C-BBE3-1319B9D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4AD8-1F5B-47E2-B095-88FC094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CCCB-12E3-4E5B-BF89-D6BF352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4A55-781C-4CF1-904E-81F97ED3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B6C9-C5B1-49A7-A639-4242D438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B528-6424-4234-A169-EF0D3699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4733-D3AF-4502-93A7-CAC89708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1684-6953-4DAC-96C0-95D24027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479-92EE-4173-A876-B50265F4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A25A-A413-48AE-AF30-270A537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6220-5165-4401-B503-ECBF2FFF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F764-FD1F-4D77-9D60-93CEC359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BB7F-1905-4063-8C00-8E229BD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812C-75FA-4FC9-8F3C-9C5DEAF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2D43-BF84-4AE0-B37E-17D0E4A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1187-2399-4463-8FD8-F676BA94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7FBED-D95D-4478-A93B-BCEC4EEF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7FE9-365D-4ECC-8670-C9336BE1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CEF-D86E-48B6-9A7E-8A685E7D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60D-C766-45EE-8288-A028CBE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E84-FAA8-4442-AFA8-8180B1D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E57-33B0-4DBC-9E4E-2C8FA2C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A5A-8A3B-4834-9D8A-330864F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FD2B-AD77-4909-BF18-281DAF228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98C-322C-4477-B734-BD2E6F81F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254-F4C4-4260-A562-13303848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EE8-9551-4682-8AA2-7ADFAD381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file:///E:/works/french/&#1060;&#1056;&#1040;&#1053;&#1062;&#1048;&#1071;/&#1072;&#1088;&#1082;&#1072;%20&#1044;&#1077;%20&#1060;&#1072;&#1085;&#1089;.htm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36446182&amp;p=4&amp;ag=ih&amp;qs=text=&#1084;&#1061;&#1063;&#1058;&amp;stype=image&amp;nl=0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privetparis.com/gallery/album04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ivetparis.com/gallery/paris1/DSC01843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rivetparis.com/gallery/paris1/DSC01862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hyperlink" Target="http://privetparis.com/gallery/paris1/DSC01853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privetparis.com/gallery/album01?&amp;page=1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156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Открытки / Франция / Париж / Лувр (251К)"/>
          <p:cNvPicPr/>
          <p:nvPr/>
        </p:nvPicPr>
        <p:blipFill>
          <a:blip r:embed="rId3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535640" y="3395520"/>
            <a:ext cx="72720" cy="68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42764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240000" cy="338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556000" y="0"/>
            <a:ext cx="5905440" cy="18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66ff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ка Дефанс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66ff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/>
          <p:nvPr/>
        </p:nvSpPr>
        <p:spPr>
          <a:xfrm>
            <a:off x="4067280" y="2421000"/>
            <a:ext cx="4897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Триумфальная арка – Квадратный двор Лувра. (Архитектор: Ото фон Спрекельсе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Кажется, что квартал ла Дефанс построен совсем недавно. Однако, 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история 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его создания относится к 50-м го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094200" cy="4464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79280" y="189000"/>
            <a:ext cx="53532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66ff"/>
                    </a:gs>
                  </a:gsLst>
                  <a:lin ang="13500000"/>
                </a:gradFill>
                <a:latin typeface="Impact"/>
              </a:rPr>
              <a:t>Триумфальная арк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9966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1484280"/>
            <a:ext cx="525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Творение Шальгрена (1806 – 1836). Расположенная на самой красивой перспективе Парижа, на середине расстояния между садом Тюильри и Большой аркой Дефанс. Триумфальная арка является  кульминационной точкой Триумфального пу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Триумфальная арка была задумана Наполеоном в 1806году и закончена в 1836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479736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Её размеры 45 м в высоту, 45 м в длину и 27 м в ширину. Сама арка была построена по античным канонам, воссоздавая традиции древнеримской арки Тиция. Великолепная скульптура «Марсельеза» Ф. Рюда украшает лицевую часть ар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067280" y="189000"/>
            <a:ext cx="377964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увр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3068640"/>
            <a:ext cx="8569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Лувр – энциклопедический музей состоит из 7 отделов, представляющих коллекции с античных времён до середины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в. Пирамида, построенная по проекту архитектора Йю Минг Пея, является новым входом в музей (198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Лувр, который «молчит неизменно и величественно, как пирамида» на протяжении веков перенёс немало изменений прежде, чем превратиться в величайший музей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9000"/>
            <a:ext cx="3097080" cy="2819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8459640" y="6237360"/>
            <a:ext cx="505080" cy="333360"/>
          </a:xfrm>
          <a:custGeom>
            <a:avLst/>
            <a:gdLst>
              <a:gd name="textAreaLeft" fmla="*/ 21600 w 505080"/>
              <a:gd name="textAreaRight" fmla="*/ 483480 w 505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715" h="21600">
                <a:moveTo>
                  <a:pt x="0" y="0"/>
                </a:moveTo>
                <a:lnTo>
                  <a:pt x="32715" y="0"/>
                </a:lnTo>
                <a:lnTo>
                  <a:pt x="32715" y="21600"/>
                </a:lnTo>
                <a:lnTo>
                  <a:pt x="0" y="21600"/>
                </a:lnTo>
                <a:close/>
              </a:path>
              <a:path fill="lightenLess" w="32715" h="21600">
                <a:moveTo>
                  <a:pt x="0" y="0"/>
                </a:moveTo>
                <a:lnTo>
                  <a:pt x="32715" y="0"/>
                </a:lnTo>
                <a:lnTo>
                  <a:pt x="31315" y="1400"/>
                </a:lnTo>
                <a:lnTo>
                  <a:pt x="1400" y="1400"/>
                </a:lnTo>
                <a:close/>
              </a:path>
              <a:path fill="darken" w="32715" h="21600">
                <a:moveTo>
                  <a:pt x="32715" y="0"/>
                </a:moveTo>
                <a:lnTo>
                  <a:pt x="32715" y="21600"/>
                </a:lnTo>
                <a:lnTo>
                  <a:pt x="31315" y="20200"/>
                </a:lnTo>
                <a:lnTo>
                  <a:pt x="31315" y="1400"/>
                </a:lnTo>
                <a:close/>
              </a:path>
              <a:path fill="darkenLess" w="32715" h="21600">
                <a:moveTo>
                  <a:pt x="3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5" y="20200"/>
                </a:lnTo>
                <a:close/>
              </a:path>
              <a:path fill="lighten" w="3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5" h="21600">
                <a:moveTo>
                  <a:pt x="9351" y="3794"/>
                </a:moveTo>
                <a:lnTo>
                  <a:pt x="23364" y="10800"/>
                </a:lnTo>
                <a:lnTo>
                  <a:pt x="9351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572000" y="404640"/>
            <a:ext cx="4321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н родился как крепость, воздвигнутая Филиппом Августом в 1190 г, вскоре превратившаяся в королевскую резиденцию. Полностью забытый в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веке, в связи с переводом королевского двора в Версаль, он возродился при Наполеоне. В 1793 году дворец становится музем. В музее создано семь отделов: античность Востока, античность Египта, греческая и римская античность, живопись и рисунки, скульптура, предметы искусства и художественная мебель. Открытие великого Лувра состоялось и 1989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98600" cy="3068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4284720" cy="2773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1476360" y="2133720"/>
            <a:ext cx="3095640" cy="20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 rot="5400000">
            <a:off x="-1962360" y="2473200"/>
            <a:ext cx="6267600" cy="1841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1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иснейленд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34080" y="3141720"/>
            <a:ext cx="2509920" cy="3527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484360" y="260280"/>
            <a:ext cx="4681440" cy="267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195640" y="3141720"/>
            <a:ext cx="396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Парижский Диснейленд работает 365 дней в году. Тематический парк предлагает вниманию публики аттракционы, парады и шо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Парижский парк развлечений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uro Disney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был построен в1992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411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84360" y="90792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Парижский Диснейленд занимает площадь в 200 га – это примерно 1\5 часть площади Парижа. Он включает в себя два тематических парка, гостиничный комплекс из шести отелей, Дисней-вилледж («деревню», где есть магазины, кафе, рестораны, увеселительные заведения), кемпинг, ледовый каток, озера, два конференц-зала, поле для гольфа и несколько бассейнов. Неподалеку находится Валь д`Эроп (Val d`Europe) с колоссальным торговым комплексом (180 магазинов) и гигантским морским аквариум. Диснейленд дает несравненную возможность оторваться от будничной жизни, испытать сильные эмоции и острые ощущения, набраться энергии.</a:t>
            </a:r>
            <a:br>
              <a:rPr sz="2400"/>
            </a:b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Парижский Диснейленд состоит из парка Диснейленд и студии Уолта Дисне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95280" y="333360"/>
            <a:ext cx="8477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анция - страна наиболее посещаемая на Европейском континенте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Франция  - это великая культура и необычайное многообразие природы. В этой стране невозможно всё увидеть  и посетить  в несколько дней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03280" y="2781360"/>
            <a:ext cx="414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Каждая провинция Франции (всего их 22) полностью отличается одна от другой своей архитектурой и природой, обычаями и традициями, но все они имеют свой стиль, цвет и в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608360" cy="3067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95280" y="148428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852640"/>
            <a:ext cx="4140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3068640"/>
            <a:ext cx="4140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3068640"/>
            <a:ext cx="4140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6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306" name="" descr="Тур. Луара. Франция"/>
          <p:cNvPicPr/>
          <p:nvPr/>
        </p:nvPicPr>
        <p:blipFill>
          <a:blip r:embed="rId2"/>
          <a:stretch/>
        </p:blipFill>
        <p:spPr>
          <a:xfrm>
            <a:off x="179280" y="189000"/>
            <a:ext cx="2376720" cy="15508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6920" y="4533840"/>
            <a:ext cx="3600720" cy="2324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9280" y="1629360"/>
            <a:ext cx="32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Луара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 расположена в центре Франции и всемирно известна своими </a:t>
            </a:r>
            <a:r>
              <a:rPr b="0" lang="en-US" sz="28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замками</a:t>
            </a:r>
            <a:r>
              <a:rPr b="0" lang="en-US" sz="2800" spc="-1" strike="noStrike" u="sng">
                <a:solidFill>
                  <a:srgbClr val="cc00ff"/>
                </a:solidFill>
                <a:uFillTx/>
                <a:latin typeface="Arial"/>
              </a:rPr>
              <a:t> и ви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556000" y="333360"/>
            <a:ext cx="4171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инции Фран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564000" y="1916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Лазурный Берег. Франция"/>
          <p:cNvPicPr/>
          <p:nvPr/>
        </p:nvPicPr>
        <p:blipFill>
          <a:blip r:embed="rId1"/>
          <a:stretch/>
        </p:blipFill>
        <p:spPr>
          <a:xfrm>
            <a:off x="324000" y="1916280"/>
            <a:ext cx="2735280" cy="202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39640" y="83664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остирается от Тулона до итальянской границы через Канны, Ниццу, Монако и Менто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47640" y="189000"/>
            <a:ext cx="5162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азурный Берег Франц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1628640"/>
            <a:ext cx="504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Курорты Лазурного Берега залиты солнцем более 300 дней в году. Вы всегда найдете уголок по своему вкусу - как для прогулок в пешеходных и торговых кварталах традиционных старинных городов, так и для наслаждения неповторимыми пейзажами экзотической французской Ривьеры в ее садах и парках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alps1" descr="Альпы. Горнолыжные курорты Франции."/>
          <p:cNvPicPr/>
          <p:nvPr/>
        </p:nvPicPr>
        <p:blipFill>
          <a:blip r:embed="rId2"/>
          <a:stretch/>
        </p:blipFill>
        <p:spPr>
          <a:xfrm>
            <a:off x="5508720" y="4437000"/>
            <a:ext cx="3384360" cy="2210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79280" y="5013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Французские Альпы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- крупнейшая в мире область для катания на горных лыжах, которая включает в себя более 2500 подъемников и 4000км. тр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116000" y="4221000"/>
            <a:ext cx="1419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ьпы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645000"/>
            <a:ext cx="3276360" cy="2468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620640"/>
            <a:ext cx="3024000" cy="22798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 Франция, Нотр Дам, экскурсии, "/>
          <p:cNvPicPr/>
          <p:nvPr/>
        </p:nvPicPr>
        <p:blipFill>
          <a:blip r:embed="rId5"/>
          <a:stretch/>
        </p:blipFill>
        <p:spPr>
          <a:xfrm>
            <a:off x="179280" y="692280"/>
            <a:ext cx="2092320" cy="2735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340000" y="765000"/>
            <a:ext cx="3887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  </a:t>
            </a: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Париж, столица La Belle France - "Прекрасной Франции", всегда занимал особое место в русской душе. Париж - тайна, загадка, мечта... Город художников, архитекторов, поэтов и, конечно же, высокой моды! Париж с его бульварами, мостами, соборами и дворцами открывает свою красоту миллионам туристов, прибывающим со всех концов света. Елисейские поля, Собор Парижской Богоматери, Эйфелева башня и Лувр. Кто не мечтал увидеть это воочию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3933720"/>
            <a:ext cx="2376360" cy="2521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187280" y="0"/>
            <a:ext cx="59626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ариж - жемчужина Франц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4967280" cy="31622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557360"/>
            <a:ext cx="2746440" cy="3672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7037280" y="3284640"/>
            <a:ext cx="1857600" cy="334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826920" y="0"/>
            <a:ext cx="50104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йфелева башня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19640" y="170028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оружённая к Всемирной выставке1889 года, Эйфелева башня (317 м) стала символом Парижа для все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9640" y="321300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юстав Эйфель выиграл конкурс, представив свой проект, который был прозван в артистических кругах того времени «башня в гайках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11280" y="260280"/>
            <a:ext cx="797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66ff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ор Парижской Богоматери</a:t>
            </a:r>
            <a:endParaRPr b="0" lang="en-US" sz="4400" spc="1" strike="noStrike">
              <a:ln w="12600">
                <a:solidFill>
                  <a:srgbClr val="9966ff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052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ff"/>
                </a:solidFill>
                <a:latin typeface="Arial"/>
              </a:rPr>
              <a:t>Собор Парижской Богоматери – шедевр готической архитектуры. Постройку собора задумал Морис де Сюлли. Расположен он на острове посреди реки Сены и находится в самом древнем квартале города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19640" y="2421000"/>
            <a:ext cx="3673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Строился Собор между 1163 и 1250 годами на месте старинной базилики, но был окончательно отделан лишь в 1345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С площади, от которой расходятся все дороги Франции в храм ведут три двери, украшенные многочисленными стату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818240" cy="32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3500280"/>
            <a:ext cx="1981440" cy="3175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175200" cy="23875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39640" y="260280"/>
            <a:ext cx="47815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cc00ff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ощадь согласия</a:t>
            </a:r>
            <a:endParaRPr b="1" lang="en-US" sz="4400" spc="1" strike="noStrike">
              <a:ln w="12600">
                <a:solidFill>
                  <a:srgbClr val="cc00ff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134136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1125360"/>
            <a:ext cx="46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Была оформлена в 1757 – 1779гг по проекту архитектора Жака  - Анжа Габриэля на территории, предоставленной городу королём в1743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407664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Она стала площадью (Пляс де ла Конкорд) в 1795 году и получила свой окончательный современный вид в 1836 – 1840гг.  под руководством архитектора Гиттор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280" y="6165720"/>
            <a:ext cx="432000" cy="4050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39" y="1400"/>
                </a:lnTo>
                <a:lnTo>
                  <a:pt x="1400" y="140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39" y="20200"/>
                </a:lnTo>
                <a:lnTo>
                  <a:pt x="21639" y="140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9" y="2020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9" h="21600">
                <a:moveTo>
                  <a:pt x="4513" y="3794"/>
                </a:moveTo>
                <a:lnTo>
                  <a:pt x="18526" y="10800"/>
                </a:lnTo>
                <a:lnTo>
                  <a:pt x="4513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997360"/>
            <a:ext cx="3113280" cy="334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71640" y="83664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476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воначально Площадь Согласия была посвящена Людовику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конная статуя которого возвышалась в центре площади. Этот памятник – произведение Бушардона и Пигаля – был уничтожен во время французской революци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2349360"/>
            <a:ext cx="504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наши дни в центре площади возвышается египетский обелиск из Луксора, подаренный в 1831 году Луи-Филиппу египетским пашой Мухаммедом Али и установленный 1836 году. Он имеет 23 м в высоту и украшен иероглифами, которые знаменуют славные деяния фараона Рамзес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9:55:28Z</dcterms:created>
  <dc:creator>Пискунова Т. Н.</dc:creator>
  <dc:description/>
  <dc:language>en-US</dc:language>
  <cp:lastModifiedBy>Катюша</cp:lastModifiedBy>
  <dcterms:modified xsi:type="dcterms:W3CDTF">2015-09-13T16:54:10Z</dcterms:modified>
  <cp:revision>20</cp:revision>
  <dc:subject/>
  <dc:title>Слайд 1</dc:title>
</cp:coreProperties>
</file>