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CAC0-AC63-4292-ABCB-70E879AC6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711-5488-4BD3-A95D-1DB905F75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CC4-93B9-49CD-A996-1CFE9FC0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ECD-D8DD-4DB3-892C-7753413F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EA1-0614-4FFC-B798-CAC00CEE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EF4-954F-4317-B102-CAEA0996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79A-B971-4E77-8533-6D53A89B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AE6-2DD4-4FE6-84AA-69B86821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A67-F539-48A8-B042-96D6E413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C9A-FCFE-4FBC-B56B-D4985366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022-9422-4085-869E-6AA8714C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380-A580-4A25-827E-AB7493EF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32E-FF6F-400D-B918-4A80CD2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8DE-302E-4BDA-80AD-01BFB69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AACA-0EAB-427F-A200-D22B9B583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95640" y="1203120"/>
            <a:ext cx="66434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р: Учитель начальных классов Петрова И.Е , школа 52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лубая красав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83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9680" y="1356840"/>
            <a:ext cx="8186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юткой хвост она расти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ье тёмное носил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росла - зелёной ста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вост на весла поменял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9680" y="1356840"/>
            <a:ext cx="8186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ег почти растаял, и все канавки в лесу разлились в целые ручьи. В них громко кричали лягушки. Мальчик подошёл к канавке. Лягушки сразу замолчали и попрыгали в воду. Понемногу лягушки стали высовывать головы и пучеглазились на мальчика. Он стоял неподвижно, и квакушки снова запели. Мальчик посмотрел на лягушек и ахнул. Они были голубы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Мальчик поймал трёх лягушек и принёс домой. Он вытряхнул лягушек из кепки. Но они стали обыкновенного лягушачьего цвета – буро-коричневы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Это травяные лягушки. Они некрасивы. Но когда поют, они очень хорошеют. Становятся нежно-голубого цве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86440" y="4516200"/>
            <a:ext cx="709560" cy="1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10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ный план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Лягушачий концер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Удивительное превращени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тгадка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686440" y="4516200"/>
            <a:ext cx="709560" cy="1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99680" y="1356840"/>
            <a:ext cx="8186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обрать по составу глагол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тая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Объяснить его зна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ерите синонимы к словам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немногу, неподви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образовано сло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учеглазилис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Подберите синоним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слова в тексте называют лягушек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фограф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9680" y="1356840"/>
            <a:ext cx="8186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те с буквосочетаниями: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 - щ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айдите слова с мягким зна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ишите правильно слов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азу, громко, снова, когда, буро-коричневые, нежно - голуб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Пишите слитно слов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красивы, понемногу, неподви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2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Объясните написание пропущенных букв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е…, разл..лись, в л..су, кр..чали, зам..чали, гол..вы, ст..ял, посм…трел, д..мой, вытр..хнул, ке..ка, тр..вяные, п..ют, ст..новят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азовите непроверяемые орфограммы в словах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навки, лягушки, голубые, коричневые, обыкновенного, хорошеют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686800" y="4443120"/>
            <a:ext cx="1285920" cy="1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410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9680" y="1356840"/>
            <a:ext cx="8186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частей в текс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айдите предложения с однородными член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Сколько в тексте сложных предложен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йдите восклицательное предлож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Запишите текст по плану. Помните, что каждую часть текста следует начинать с красной стро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1T11:31:15Z</dcterms:created>
  <dc:creator>DNA7 X86</dc:creator>
  <dc:description/>
  <dc:language>en-US</dc:language>
  <cp:lastModifiedBy>user</cp:lastModifiedBy>
  <dcterms:modified xsi:type="dcterms:W3CDTF">2015-09-13T14:58:50Z</dcterms:modified>
  <cp:revision>10</cp:revision>
  <dc:subject/>
  <dc:title>Заголовок</dc:title>
</cp:coreProperties>
</file>