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651B-32A4-4476-A9D5-FD170936F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F760-0765-4E6B-A9C3-C76309928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4D9-6179-499E-B635-7E50FBD0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4B7-7E5E-4D83-A77E-EFA2CC00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764-5996-415D-BEA7-26EE6BDA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694-479C-449B-978F-7342C40D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54C-40BF-47B2-9E20-08398718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F81-3BBF-45EA-B57F-BDE60932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EDC-CDCD-4871-A1FD-F42424B8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0AC-C2BF-42D1-868B-71CDDDC0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DAB-3252-417F-969B-83ADE354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CF6-3E5C-41D5-B4CA-1F860D01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1D8-1540-4B57-A530-ACEBD165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84F-207D-4409-914D-F5BCC71C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FBEA-65C6-41EE-8E60-B1A2FE670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95640" y="1203120"/>
            <a:ext cx="66434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р: Учитель начальных классов Петрова И.Е , школа 52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лубая красав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83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9680" y="1356840"/>
            <a:ext cx="8186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юткой хвост она расти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ье тёмное носил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росла - зелёной ста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вост на весла поменял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9680" y="1356840"/>
            <a:ext cx="8186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ег почти растаял, и все канавки в лесу разлились в целые ручьи. В них громко кричали лягушки. Мальчик подошёл к канавке. Лягушки сразу замолчали и попрыгали в воду. Понемногу лягушки стали высовывать головы и пучеглазились на мальчика. Он стоял неподвижно, и квакушки снова запели. Мальчик посмотрел на лягушек и ахнул. Они были голубы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Мальчик поймал трёх лягушек и принёс домой. Он вытряхнул лягушек из кепки. Но они стали обыкновенного лягушачьего цвета – буро-коричневы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Это травяные лягушки. Они некрасивы. Но когда поют, они очень хорошеют. Становятся нежно-голубого цве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86440" y="4516200"/>
            <a:ext cx="709560" cy="1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10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ный план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Лягушачий концер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Удивительное превращени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тгадка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686440" y="4516200"/>
            <a:ext cx="709560" cy="1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99680" y="1356840"/>
            <a:ext cx="8186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обрать по составу глагол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тая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Объяснить его зна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ерите синонимы к словам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немногу, неподви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образовано сло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учеглазилис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Подберите синоним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слова в тексте называют лягушек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фограф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9680" y="1356840"/>
            <a:ext cx="8186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те с буквосочетаниями: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 - щ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айдите слова с мягким зна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ишите правильно слов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азу, громко, снова, когда, буро-коричневые, нежно - голуб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Пишите слитно слов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красивы, понемногу, неподви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2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Объясните написание пропущенных букв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е…, разл..лись, в л..су, кр..чали, зам..чали, гол..вы, ст..ял, посм…трел, д..мой, вытр..хнул, ке..ка, тр..вяные, п..ют, ст..новят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азовите непроверяемые орфограммы в словах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навки, лягушки, голубые, коричневые, обыкновенного, хорошеют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686800" y="4443120"/>
            <a:ext cx="1285920" cy="1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410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9680" y="1356840"/>
            <a:ext cx="8186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частей в текс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айдите предложения с однородными член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Сколько в тексте сложных предложен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йдите восклицательное предлож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Запишите текст по плану. Помните, что каждую часть текста следует начинать с красной стро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1T11:31:15Z</dcterms:created>
  <dc:creator>DNA7 X86</dc:creator>
  <dc:description/>
  <dc:language>en-US</dc:language>
  <cp:lastModifiedBy>user</cp:lastModifiedBy>
  <dcterms:modified xsi:type="dcterms:W3CDTF">2015-09-13T14:58:50Z</dcterms:modified>
  <cp:revision>10</cp:revision>
  <dc:subject/>
  <dc:title>Заголовок</dc:title>
</cp:coreProperties>
</file>