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147-A74E-456B-8E60-C077A509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4E0-6C1E-453D-97CC-58143BCD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78C-9259-46DD-9ECF-CCBC19AC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136-DB36-4ADD-A7D3-18C5FE24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FCA-A663-4D07-B953-01287ACD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CA7-260A-4F80-BD90-F6BB473A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6489-89A3-4FC0-AF12-51BB71C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309-8234-458F-AFD8-08FE527B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9E2E-7ADF-4CDD-B00B-A45C335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83F9-7421-445C-8D49-1F02FAD6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C939-069A-404C-AB11-0D29F28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CF8-738E-4B89-A8F7-A118A42E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0580-CE7E-4231-8808-FF99ACA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5CC-57F5-4C98-A5CB-F723E18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D4EE-8F75-4196-859E-E2CFFA8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011-62B4-45D3-84C5-B6BEBB2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614A-C73B-4AF4-B5DE-CEEE499B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761A-2811-4BEC-8137-EE37EB6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F779-269F-4B7E-88FB-CC7B09EE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A9B4-0F85-4BAC-958C-70DD3D8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83A8-EEDD-4D39-9E5E-208AB877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9CE9-9E4C-419D-8D3F-24679AF4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038-B09F-4964-B0CE-E918043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5470-821B-4DAC-8962-F00F3D2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83D6-262A-4C42-AC7F-AE848D8E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4710-DEDC-45D5-8FED-70B39E84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919B-842D-49C5-A9CA-4D221F72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1894-207A-4032-ABA3-55FCB0D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383C-DF49-4294-BDB9-72B189BA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635F-36DE-45F8-AA3F-A0A27030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4644-2E6F-4298-9F50-C267FEE3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A8D3-C44E-4CC9-B948-B851529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E9AF-45C7-425D-8617-E4AF01A6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7B-AC2F-4F46-B4A2-1177671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5FC2-9BE9-4140-A94E-6892316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B951-E5E3-46FC-B17C-3392F0F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68CB-FD8D-49AF-9B70-60EBAAB1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8A08-F546-4525-A635-DF9C71C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FB06-0EF3-4B9C-92C1-4B0136F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C08A-7F70-4409-AF0F-1D17213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AE43-70F9-487A-85F6-6FBF3F2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D3E0-4ADB-4222-A3E6-D2EA94BD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817B-373F-43E6-99BE-24E1AC0B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BF7C-DE09-4172-8D05-F704D2BE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948-871E-4800-BB54-49BD8991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D1FC-AEB9-4E45-9753-79AD0DB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5A61-88AB-4009-9B70-A420BF14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4AB6-5200-4EBE-B1C3-05E50BB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AE46-616D-4AC6-B4F7-E35ECA32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C343-B5A6-4ABF-9EC3-4BA10CD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D52B-D250-448D-A864-7DB92A6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CE22-7F72-460C-A095-47E91EE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5968-5CAD-4805-B5F3-6C54498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B3F9-0A9C-4D40-B5A8-9F317F9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D28E-03D4-4079-9B64-705FB3B5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13A-566E-417D-92E0-CDDA0F37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1D77-5226-487B-B3F1-57A0099A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4E19-E8B1-4F5B-8C02-AD975905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971E-3008-4B1A-8AF1-E7F094F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08AC7-40B1-4D3E-8BD8-47379D3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45CF8-E4AB-4943-9747-3035D51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D036-18DE-4BE6-8E9C-52BEF98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3523-C0CF-4269-913F-264BE4F4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88C6-9F9C-4A59-AE55-0DED1F1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FB11-4794-4938-9638-C65F2892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30C17-47BF-45A8-B706-5FAB267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865-3123-4BF9-93CA-6A56FB70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DE3E-1166-46A2-8FD3-1072B030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5EBE-81EA-40A8-8B1E-3CC253E9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4EB0-8241-4DF7-ABE4-58B77401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ACB-7FD8-44E6-A1F0-00C2A1F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030-DF07-458F-AD3A-A0482EB7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A181-789A-4FFD-AAC9-180905ADA6E0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63"/>
            </a:gs>
            <a:gs pos="100000">
              <a:srgbClr val="5e94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D133-7A5C-432B-88C6-896ECAF24FDE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63"/>
            </a:gs>
            <a:gs pos="100000">
              <a:srgbClr val="5e94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73F4-ED90-433B-8104-4057E37E30CA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D44-9F35-4478-968A-1FC21ABCE1FD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D032-AEC1-46FD-BA08-2915DC22AFE1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2B74-BEF2-44A3-B57A-097E920C4AD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268200" y="500040"/>
            <a:ext cx="9534600" cy="478476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E:\АНЯ\работа\12\Космонавтика\uranus.jpg"/>
          <p:cNvPicPr/>
          <p:nvPr/>
        </p:nvPicPr>
        <p:blipFill>
          <a:blip r:embed="rId1"/>
          <a:stretch/>
        </p:blipFill>
        <p:spPr>
          <a:xfrm>
            <a:off x="0" y="0"/>
            <a:ext cx="10477440" cy="78580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Documents and Settings\Валера\Мои документы\Мои рисунки\Новая папка\f_16473516.jpg"/>
          <p:cNvPicPr/>
          <p:nvPr/>
        </p:nvPicPr>
        <p:blipFill>
          <a:blip r:embed="rId1"/>
          <a:stretch/>
        </p:blipFill>
        <p:spPr>
          <a:xfrm>
            <a:off x="0" y="-857160"/>
            <a:ext cx="9144000" cy="857232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C:\Documents and Settings\Валера\Мои документы\Мои рисунки\Новая папка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E:\АНЯ\работа\12\Космонавтика\Плутон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Documents and Settings\Валера\Мои документы\Мои рисунки\Новая папка\img333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E:\АНЯ\работа\12\Космонавтика\Планета Икс.jpg"/>
          <p:cNvPicPr/>
          <p:nvPr/>
        </p:nvPicPr>
        <p:blipFill>
          <a:blip r:embed="rId1"/>
          <a:stretch/>
        </p:blipFill>
        <p:spPr>
          <a:xfrm>
            <a:off x="0" y="0"/>
            <a:ext cx="9109080" cy="70009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E:\АНЯ\работа\12\Космонавтика\ear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Валера\Мои документы\Мои рисунки\Новая папка\70048759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72" name="Разукрасим все планеты.mp3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393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E:\АНЯ\работа\12\Космонавтика\pervyiykosmonavtmira.jpg"/>
          <p:cNvPicPr/>
          <p:nvPr/>
        </p:nvPicPr>
        <p:blipFill>
          <a:blip r:embed="rId1"/>
          <a:stretch/>
        </p:blipFill>
        <p:spPr>
          <a:xfrm>
            <a:off x="0" y="0"/>
            <a:ext cx="491004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5" descr=""/>
          <p:cNvPicPr/>
          <p:nvPr/>
        </p:nvPicPr>
        <p:blipFill>
          <a:blip r:embed="rId2"/>
          <a:stretch/>
        </p:blipFill>
        <p:spPr>
          <a:xfrm>
            <a:off x="4925880" y="1365120"/>
            <a:ext cx="4529160" cy="27496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Documents and Settings\Валера\Мои документы\Мои рисунки\Новая папка\0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Валера\Мои документы\Мои рисунки\Новая папка\382353_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E:\АНЯ\работа\12\Космонавтика\venus-card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p:transition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E:\АНЯ\работа\12\Космонавтика\merkuriy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E:\АНЯ\работа\12\Космонавтика\Марс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Валера\Мои документы\Мои рисунки\Новая папка\moon-mare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E:\АНЯ\работа\12\Космонавтика\Юпитер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4:12:16Z</dcterms:created>
  <dc:creator>user</dc:creator>
  <dc:description/>
  <dc:language>en-US</dc:language>
  <cp:lastModifiedBy>Admin</cp:lastModifiedBy>
  <dcterms:modified xsi:type="dcterms:W3CDTF">2015-09-13T17:14:49Z</dcterms:modified>
  <cp:revision>7</cp:revision>
  <dc:subject/>
  <dc:title> КОСМИЧЕСКИЕ ПУТЕШЕСТВЕННИКИ</dc:title>
</cp:coreProperties>
</file>