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660-FBF7-4CDB-80D8-0C35920B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8DE-CD37-4659-AB1F-E109B42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552-A72B-4C0D-BC7E-8C609364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AE0-6A5D-4F55-91B8-FD4E0166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317-92DB-4909-BCB7-6E536E83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E078-517A-4C0D-8A02-C62B2D0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454D-90B8-4BF1-A2EA-AB04277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B870-9D17-4747-9463-BBE141A4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FE66-0A2C-4740-9199-294D6B3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F4A-58AF-49B3-B87B-5F3B418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977B-A09D-4150-BB27-FB58F80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A25-36DC-4DD5-845E-70D2C63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DB9-C0D4-4B48-80E8-9B9F64A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52EE-DED7-4167-8D59-5EEB3CB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972-CEDB-4F81-9677-3262372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5474-87E5-4F7D-AFEF-852BB765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577F-B3CD-4DA4-B98A-27F4F3D9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2F3B-FE5B-47AE-ADC9-70FF1F3E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B36E-3617-4012-8A21-901E3F9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0A1B-0996-4FA9-A145-2D46C7E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3286-8E3B-46A5-B7CA-BBA76209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2C09-1277-4D1B-B2C4-0610D769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2B3-5395-48BB-9EAD-FEC81CD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DFD6-903A-4144-AB46-9289B6DA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F672-CBCA-4033-8FBC-6186219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799D-F79C-4CC6-8BB9-4C17F65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2A08-FE49-4E45-823A-5F5F67C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2B25-F515-4CFB-A896-5ABB0A5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D823-3680-45E3-B38A-A7068AA3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521E-45BC-4E00-BE4A-223F5FCB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75DA-0816-4B73-880C-4D74DAB6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CA3F-A5E3-4ED0-A565-EA297A8D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D6C6-D241-4731-B2B6-A81EB27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B1A-6C40-4CBE-9F02-1EA9682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1234-9B4B-4B86-899A-76085A0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72BA-A486-4BE8-AED0-D871ACF0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7CFB-AA8A-4692-B06B-1BEDBD3D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113D-40C3-4D6C-82A6-36A3079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DA45-1C7E-4DBB-8465-7B5F5A92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80F0-1FCC-4B56-9E75-13B7D8E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821A-91FB-4651-9368-B6EDBC9D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4FD7-F86E-4452-8D6C-6F3CF63C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7245-1A9A-4DD4-B720-E11C4831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F4BB-B58A-4DDA-900B-1FB65FC3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FC8-D7BA-4616-A2EA-13ABA5F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846A-55A3-40C2-974A-F9FE2E57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3CEC-76A5-4AE2-8516-4456179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5B82-047C-426E-AF0E-2ABB5A5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3E357-D716-4B21-977E-931A296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CBB9-4CD7-4959-BDF3-4538CC24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8AE0C-F863-42DE-A7B1-99BBB18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197D-34A2-422E-9116-41E0726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78FB-7640-4430-8FDD-83AE17C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93406-BDAA-49B0-A7B7-1222618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6FFC-B6B1-4C3B-8D67-A5FB9B8E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167-2122-4166-AF76-7B433ED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6D83-24E5-441E-A5AC-0CEB06E8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77C5-152A-4FCB-828B-36C725BD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A9473-D722-4B0C-9CD6-D7DD9FD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5621-1C5B-4291-BA53-7C2ECD43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59E6-B08F-4F17-809F-743B6211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165D-6768-42F5-9820-2065C92F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81FA-04B2-4202-AD0A-08D28FEA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CD54-12D2-4718-BBCC-AE47172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72C9-8C49-4A4B-BC22-D6C99ED2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F9745-AE57-4034-8090-F894210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2C8-7A92-49BA-BA80-C39DECC1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5895-783F-47FB-A9BE-DF13E61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B910-2ABB-4857-8AE0-6B8017CF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D41D8-66D4-4968-BCBF-CB29FDF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037-6529-4470-B0F2-951BF0F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CE9-F1D1-4F3D-B5AF-7B6B320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FA56-CEF4-4B6A-B3CF-366D0EBE9B07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63"/>
            </a:gs>
            <a:gs pos="100000">
              <a:srgbClr val="5e94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516-C4B0-41FA-B518-88BAEB74AAA2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63"/>
            </a:gs>
            <a:gs pos="100000">
              <a:srgbClr val="5e94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1413-6355-4832-9F38-8BB0041B454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9FFB-CA01-463A-B3AA-D8CD35686C0A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A0CB-0F52-42C6-B1A6-DD48D0FB3932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CFAA-D55E-4B07-9BEF-0CBEC44AF62C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268200" y="500040"/>
            <a:ext cx="9534600" cy="478476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E:\АНЯ\работа\12\Космонавтика\uranus.jpg"/>
          <p:cNvPicPr/>
          <p:nvPr/>
        </p:nvPicPr>
        <p:blipFill>
          <a:blip r:embed="rId1"/>
          <a:stretch/>
        </p:blipFill>
        <p:spPr>
          <a:xfrm>
            <a:off x="0" y="0"/>
            <a:ext cx="10477440" cy="78580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Documents and Settings\Валера\Мои документы\Мои рисунки\Новая папка\f_16473516.jpg"/>
          <p:cNvPicPr/>
          <p:nvPr/>
        </p:nvPicPr>
        <p:blipFill>
          <a:blip r:embed="rId1"/>
          <a:stretch/>
        </p:blipFill>
        <p:spPr>
          <a:xfrm>
            <a:off x="0" y="-857160"/>
            <a:ext cx="9144000" cy="857232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C:\Documents and Settings\Валера\Мои документы\Мои рисунки\Новая папка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E:\АНЯ\работа\12\Космонавтика\Плутон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Documents and Settings\Валера\Мои документы\Мои рисунки\Новая папка\img333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E:\АНЯ\работа\12\Космонавтика\Планета Икс.jpg"/>
          <p:cNvPicPr/>
          <p:nvPr/>
        </p:nvPicPr>
        <p:blipFill>
          <a:blip r:embed="rId1"/>
          <a:stretch/>
        </p:blipFill>
        <p:spPr>
          <a:xfrm>
            <a:off x="0" y="0"/>
            <a:ext cx="9109080" cy="70009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E:\АНЯ\работа\12\Космонавтика\ear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Валера\Мои документы\Мои рисунки\Новая папка\70048759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72" name="Разукрасим все планеты.mp3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7393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E:\АНЯ\работа\12\Космонавтика\pervyiykosmonavtmira.jpg"/>
          <p:cNvPicPr/>
          <p:nvPr/>
        </p:nvPicPr>
        <p:blipFill>
          <a:blip r:embed="rId1"/>
          <a:stretch/>
        </p:blipFill>
        <p:spPr>
          <a:xfrm>
            <a:off x="0" y="0"/>
            <a:ext cx="491004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5" descr=""/>
          <p:cNvPicPr/>
          <p:nvPr/>
        </p:nvPicPr>
        <p:blipFill>
          <a:blip r:embed="rId2"/>
          <a:stretch/>
        </p:blipFill>
        <p:spPr>
          <a:xfrm>
            <a:off x="4925880" y="1365120"/>
            <a:ext cx="4529160" cy="27496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Documents and Settings\Валера\Мои документы\Мои рисунки\Новая папка\0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Валера\Мои документы\Мои рисунки\Новая папка\382353_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E:\АНЯ\работа\12\Космонавтика\venus-card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p:transition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E:\АНЯ\работа\12\Космонавтика\merkuriy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E:\АНЯ\работа\12\Космонавтика\Марс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Валера\Мои документы\Мои рисунки\Новая папка\moon-mare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E:\АНЯ\работа\12\Космонавтика\Юпитер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4:12:16Z</dcterms:created>
  <dc:creator>user</dc:creator>
  <dc:description/>
  <dc:language>en-US</dc:language>
  <cp:lastModifiedBy>Admin</cp:lastModifiedBy>
  <dcterms:modified xsi:type="dcterms:W3CDTF">2015-09-13T17:14:49Z</dcterms:modified>
  <cp:revision>7</cp:revision>
  <dc:subject/>
  <dc:title> КОСМИЧЕСКИЕ ПУТЕШЕСТВЕННИКИ</dc:title>
</cp:coreProperties>
</file>