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A10E-4FAC-4D60-9B5E-C2964D98D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35DF-BCCE-483D-80BA-F59A6319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A839-5C37-410F-A091-47AB49431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9040-E83F-4E1E-8CFF-93F57A2E8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E675-FF98-4F7F-BAD7-9C9BD5E1D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FC21-90EC-4E0F-AD2B-C12DFA9D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FABD-6E87-4747-B23E-C5F948DB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B0F33-FC5E-4235-83D4-FB16B6B2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7641-01DC-417D-9C1A-3A351399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04C3-83E9-4264-AA74-973089ED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BFB6-0D96-43D5-9DE4-9BA94E81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6B61-4A24-4E01-8F96-62AC1A50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54A0-9E94-41B3-A6D3-9A96B920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D78B-C921-48D4-8C40-30723F39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A4AC-929A-4727-A959-38471711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D501-3851-4881-B059-17A85BE13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88BA-7B9C-47FA-B88B-70396CDFE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1398-7F21-40E2-AE2F-D9816B4D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E7C8-C237-49F9-9A2F-4471EC82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0E34-7B7B-43B2-9548-FC3C9865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49E4-AA0B-482D-A2EE-764A775F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39C2-7737-4F90-AFEF-72CC650F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F391-5301-4227-9A5F-0A6D04DD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0036-4439-461D-AD6F-5B39B823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680" y="1440"/>
            <a:ext cx="17542080" cy="13689000"/>
            <a:chOff x="-8410680" y="1440"/>
            <a:chExt cx="17542080" cy="1368900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3280" cy="525960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680" y="1440"/>
              <a:ext cx="16819560" cy="13689000"/>
            </a:xfrm>
            <a:custGeom>
              <a:avLst/>
              <a:gdLst>
                <a:gd name="textAreaLeft" fmla="*/ 8408880 w 16819560"/>
                <a:gd name="textAreaRight" fmla="*/ 16818840 w 16819560"/>
                <a:gd name="textAreaTop" fmla="*/ 0 h 13689000"/>
                <a:gd name="textAreaBottom" fmla="*/ 6843960 h 1368900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D6588B-81BE-4372-8849-825D60BC9FD5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5200"/>
            <a:ext cx="16903800" cy="10783800"/>
            <a:chOff x="-7761240" y="1465200"/>
            <a:chExt cx="16903800" cy="107838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0880" cy="414684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5200"/>
              <a:ext cx="13450680" cy="10783800"/>
            </a:xfrm>
            <a:custGeom>
              <a:avLst/>
              <a:gdLst>
                <a:gd name="textAreaLeft" fmla="*/ 6724800 w 13450680"/>
                <a:gd name="textAreaRight" fmla="*/ 13450320 w 13450680"/>
                <a:gd name="textAreaTop" fmla="*/ 86760 h 10783800"/>
                <a:gd name="textAreaBottom" fmla="*/ 5391360 h 1078380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72B1183-80E8-4A39-8C41-6B1BFFC3B5DF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 algn="ctr"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-223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../~f1_12" TargetMode="External"/><Relationship Id="rId2" Type="http://schemas.openxmlformats.org/officeDocument/2006/relationships/hyperlink" Target="file:///../../~f1_13" TargetMode="External"/><Relationship Id="rId3" Type="http://schemas.openxmlformats.org/officeDocument/2006/relationships/hyperlink" Target="file:///../../~f1_12_1" TargetMode="External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КРУГОВОРОТ ВЕЩЕСТВ </a:t>
            </a: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учитель биологии Истомина И.А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cap="sq" w="9360">
            <a:solidFill>
              <a:srgbClr val="ffffff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260280"/>
            <a:ext cx="7772400" cy="583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иосфера прошла длительный период развития, в течение которого жизнь меняла формы, распространилась из воды на сушу, изменила систему круговоротов. Содержание кислорода в атмосфере постепенно росл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 последние 600 млн лет скорости и характер круговоротов приблизились к современным. Биосфера функционирует как гигантская слаженная экосистема, где организмы не только приспосабливаются к среде, но и сами создают и поддерживают на Земле условия, благоприятные для жизн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cap="sq" w="9360">
            <a:solidFill>
              <a:srgbClr val="ffffff"/>
            </a:solidFill>
            <a:miter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189000"/>
            <a:ext cx="7772400" cy="590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токи вещества и энергии через живые организмы в процессах обмена веществ чрезвычайно велики. Человек, например, за свою жизнь потребляет десятки тонн еды и питья, а через легкие – многие миллионы литров воздуха. Многие организмы взаимодействуют со средой еще более интенсивно. Растения на создание каждого грамма своей массы тратят от 200 до 800 и более граммов воды, которую они извлекают из почвы и испаряют в атмосферу. Вещества, необходимые для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фотосинте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растения получают из почвы, воды и воздух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189000"/>
            <a:ext cx="7772400" cy="61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такой интенсивности потоков вещества из неорганической природы в живые тела запасы необходимых для жизни соединений –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иогенных элемент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– давно были бы исчерпаны на Земле. Однако жизнь не прекращается, потому что биогенные элементы постоянно возвращаются в окружающую организмы среду. Происходит это в биоценозах, где в результате пищевых отношений между видами синтезированные растениями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рганические веществ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разрушаются в конце концов вновь до таких соединений, которые могут быть снова использованы растениями. Так возникает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иологический круговорот вещест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ким образом, биоценоз является частью еще более сложной системы, в которую, кроме живых организмов, входит и их неживое окружение, содержащее вещество и энергию, необходимые для жизни. Биоценоз не может существовать без вещественно-энергетических связей со средой. В итоге биоценоз представляет с ней некое единств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ЭКОСИСТЕМ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Любую совокупность организмов и неорганических компонентов, в которой может поддерживаться круговорот вещества, называют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экологической системой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, или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экосистемой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25992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родные экосистемы могут быть разного объема и протяженности: небольшая лужа с ее обитателями, пруд, океан, луг, роща, тайга, степь – все это примеры разномасштабных экосистем. Любая экосистема включает живую часть – биоценоз и его физическое окружение. Более мелкие экосистемы входят в состав все более крупных, вплоть до общей экосистемы Земли. Общий биологический круговорот вещества на нашей планете также складывается из взаимодействия множества более частных круговоротов. Экосистема может обеспечить круговорот вещества только в том случае, если включает необходимые для этого четыре составные части: запасы биогенных элементов,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одуцент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нсумент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едуцент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76520" y="1554120"/>
            <a:ext cx="914400" cy="228600"/>
          </a:xfrm>
          <a:prstGeom prst="rect">
            <a:avLst/>
          </a:prstGeom>
          <a:ln cap="sq" w="9360">
            <a:solidFill>
              <a:srgbClr val="ffffff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cc66"/>
                </a:solidFill>
                <a:latin typeface="Arial"/>
              </a:rPr>
              <a:t>Продуцент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о зеленые растения, создающие из биогенных элементов органическое вещество, т. е. биологическую продукцию, используя потоки солнечной энерг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cc66"/>
                </a:solidFill>
                <a:latin typeface="Arial"/>
              </a:rPr>
              <a:t>Консумент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 –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требители этого органического вещества, перерабатывающие его в новые формы. В роли консументов выступают обычно животные. Различают консументы первого порядка – растительноядные виды и второго порядка – плотоядных животны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cc66"/>
                </a:solidFill>
                <a:latin typeface="Arial"/>
              </a:rPr>
              <a:t>Редуцент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 –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рганизмы, окончательно разрушающие органические соединения до минеральных. Роль редуцентов выполняют в биоценозах в основном грибы и бактерии, а также другие мелкие организмы, перерабатывающие мертвые остатки растений и животны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Биосфер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1004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иосфера составляет одну из специфических оболочек земли и в то же время глобальную единую экосистему. Геологически биосфера располагается в нижних слоях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атмосферы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(более 10 км от уровня моря), охватывает всю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гидросферу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и верхнюю часть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литосферы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на которой постепенно образуется почва. Свойства этих сред являются определяющими для биосферы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500720" y="2276640"/>
            <a:ext cx="4643280" cy="34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ис. 2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Разрушители мертвой древесины (жук бронзовка и его личинка; жук-олень и его личинка; большой дубовый усач и его личинка; бабочка древоточец пахучий и его гусеница; жук красный плоскотел; многоножка кивсяк; черный муравей; мокрица; дождевой червь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cap="sq" w="9360">
            <a:solidFill>
              <a:srgbClr val="ffffff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7772400" cy="57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Жизнь на Земле продолжается уже около 4 млрд лет, не прерываясь именно потому, что она протекает в системе биологических круговоротов вещества. Основу этого составляет фотосинтез растений и пищевые связи организмов в биоценозах. Однако биологический круговорот вещества требует постоянных затрат энергии. В отличие от химических элементов, многократно вовлекаемых в живые тела, энергия солнечных лучей, задержанная зелеными растениями, не может использоваться организмами бесконечн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5800" y="260280"/>
            <a:ext cx="7772400" cy="583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 первому закону термодинамики, энергия не исчезает бесследно, она сохраняется в окружающем нас мире, но переходит из одной формы в другую. По второму закону термодинамики, любые превращения энергии сопровождаются переходом части ее в такое состояние, когда она уже не может быть использована для работы. В клетках живых существ энергия, обеспечивающая химические реакции, при каждой реакции частично превращается в тепловую, а тепло рассеивается организмом в окружающем пространстве. Сложная работа клеток и органов сопровождается, таким образом, потерями энергии из организма. Каждый цикл круговорота веществ, зависящий от активности членов биоценоза, требует все новых поступлений энерг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189000"/>
            <a:ext cx="7772400" cy="590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ким образом, жизнь на нашей планете осуществляется как постоянный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круговорот вещест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поддерживаемый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отоком солнечной энергии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Жизнь организуется не только в биоценозы, но и в экосистемы, в которых осуществляется тесная связь между живыми и неживыми компонентами приро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нообразие экосистем на Земле связано как с разнообразием живых организмов, так и условий физической, географической среды. Тундровые, лесные, степные, пустынные или тропические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обществ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имеют свои особенности биологических круговоротов и связей с окружающей средой. Водные экосистемы также чрезвычайно различны. Экосистемы отличаются по скорости биологических круговоротов и по общему количеству вовлекаемого в эти циклы вещес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7772400" cy="57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ной принцип устойчивости экосистем – круговорот вещества, поддерживаемый потоком энергии, – по сути дела обеспечивает бесконечное существование жизни на Земл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этому принципу могут быть организованы и устойчивые искусственные экосистемы, и производственные технологии, в которых сберегается вода или другие ресурсы. Нарушение согласованной деятельности организмов в биоценозах обычно влечет за собой серьезные изменения круговоротов вещества в экосистемах. Это главная причина таких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экологических катастроф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как падение почвенного плодородия, снижение урожая растений, роста и продуктивности животных, постепенное разрушение природной сре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вершая гигантский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иологический круговорот вещест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 биосфере, жизнь поддерживает стабильные условия для своего существования и существования в ней челове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ивые организмы создают в биосфере круговороты важнейших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иогенных элемент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которые попеременно переходят из живого вещества в неорганическую материю. Эти циклы делят на две основные группы: круговороты газов и осадочные круговороты. В первом случае главный поставщик элементов – атмосфера (углерод, кислород, азот), во втором – горные осадочные породы (фосфор, сера и др.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-603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Круговорот углерод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569440" cy="56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точником  для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фотосинте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служит углекислый газ (диоксид углерода), находящийся в атмосфере или растворенный в воде. Углерод, связанный в горных породах, вовлекается в круговорот значительно медленнее. В составе синтезированных растением органических веществ углерод поступает затем в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цепи питан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через живые или мертвые ткани растений и возвращается в атмосферу снова в форме углекислого газа в результате дыхания, брожения или сгорания топлива (древесины, нефти, угля и т. п.). Продолжительность цикла углерода равна трем-четырем столетия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13000" y="520560"/>
            <a:ext cx="914400" cy="228600"/>
          </a:xfrm>
          <a:prstGeom prst="rect">
            <a:avLst/>
          </a:prstGeom>
          <a:ln cap="sq" w="9360">
            <a:solidFill>
              <a:srgbClr val="ffffff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187280" y="0"/>
            <a:ext cx="6409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Круговорот азот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тения получают азот в основном из разлагающегося мертвого органического вещества посредством деятельности бактерий, которые превращают азот белков в усваиваемую растениями форму. Другой источник – свободный азот атмосферы – растениям непосредственно недоступен. Но его связывают, т. е. переводят в другие химические формы, некоторые группы бактерий и сине-зеленые водоросли, они обогащают им почву. Многие растения находятся в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имбиоз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с азотфиксирующими бактериями, образующими клубеньки на их корнях. Из отмерших растений или трупов животных часть азота, за счет деятельности других групп бактерий, превращается в свободную форму и вновь поступает в атмосфер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725400"/>
            <a:ext cx="914400" cy="228600"/>
          </a:xfrm>
          <a:prstGeom prst="rect">
            <a:avLst/>
          </a:prstGeom>
          <a:ln cap="sq" w="9360">
            <a:solidFill>
              <a:srgbClr val="ffffff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-36360" y="357120"/>
            <a:ext cx="9213480" cy="61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pl-PL" sz="25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71640" y="0"/>
            <a:ext cx="7020000" cy="68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Круговорот фосфора и серы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осфор и сера содержатся в горных породах. При их разрушении и эрозии они поступают в почву, оттуда используются растениями. Деятельность организмов-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едуценто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снова возвращает их в почву. Часть соединений азота и фосфора смывается дождями в реки, а оттуда – в моря и океаны и используется водорослями. Но в конце концов в составе мертвого органического вещества они оседают на дно и снова включаются в состав горных поро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Цикл кислорода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Цикл кислорода занимает на Земле около 2000 лет, воды – около 2 млн лет .Это значит, что атомы этих веществ за историю Земли многократно проходили через живое вещество, побывав в телах древних бактерий, водорослей, древовидных папоротников, динозавров и мамонт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13:24:47Z</dcterms:created>
  <dc:creator>Владимир</dc:creator>
  <dc:description/>
  <dc:language>en-US</dc:language>
  <cp:lastModifiedBy>Владимир</cp:lastModifiedBy>
  <dcterms:modified xsi:type="dcterms:W3CDTF">2010-03-14T14:07:10Z</dcterms:modified>
  <cp:revision>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721049</vt:lpwstr>
  </property>
</Properties>
</file>