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B92-AAE0-4289-8408-56B8E969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1B0-1038-4EC9-8D1A-ADD78DE3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51E-9777-4310-A0B8-4C0A928E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BBA-3399-4FE9-8A67-BEC4F225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CA8C-9DB6-466C-A55C-1A52D1D1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F001-8C21-428F-9852-21E87249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98EC-4618-4035-A5F8-084FF54C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DC6F-6679-468A-B25F-65F92E3A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84A9-56A0-4201-9B56-0F745F8F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F144-6443-49F2-A0DA-62AC7B72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9376-2754-46E1-B81E-7C5C76CC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9BE-C809-4E00-AFBD-D97A46F1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F32A-E9EF-417C-A958-3C2ACF58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CADB-8AEE-472C-ABB1-56C774FC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E8A8-F231-4EF9-ABE3-3C5397FB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AEB5-B5FA-4E8D-8D67-A28C3AE9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8EBF-2212-41DD-B4DE-F4B7317F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893-D248-4E1A-AA6D-CCA9618D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390-FBFC-4DC0-B623-3D91EAB9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6D8-0459-4A8A-8985-2D919A05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EA8A-B271-4CFE-AD09-8A96D299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D2F-451A-445B-834E-0C635F96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E66-DFEE-4B4B-8E1B-783441A8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0A9-02F2-451E-85D2-BD5F729C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680" y="1440"/>
            <a:ext cx="17542080" cy="13689000"/>
            <a:chOff x="-8410680" y="1440"/>
            <a:chExt cx="17542080" cy="1368900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280" cy="525960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680" y="1440"/>
              <a:ext cx="16819560" cy="13689000"/>
            </a:xfrm>
            <a:custGeom>
              <a:avLst/>
              <a:gdLst>
                <a:gd name="textAreaLeft" fmla="*/ 8408880 w 16819560"/>
                <a:gd name="textAreaRight" fmla="*/ 16818840 w 16819560"/>
                <a:gd name="textAreaTop" fmla="*/ 0 h 13689000"/>
                <a:gd name="textAreaBottom" fmla="*/ 6843960 h 136890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F47356-FE29-47CE-B00C-64AEBE2BD01F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5200"/>
            <a:ext cx="16903800" cy="10783800"/>
            <a:chOff x="-7761240" y="1465200"/>
            <a:chExt cx="16903800" cy="107838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0880" cy="414684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5200"/>
              <a:ext cx="13450680" cy="10783800"/>
            </a:xfrm>
            <a:custGeom>
              <a:avLst/>
              <a:gdLst>
                <a:gd name="textAreaLeft" fmla="*/ 6724800 w 13450680"/>
                <a:gd name="textAreaRight" fmla="*/ 13450320 w 13450680"/>
                <a:gd name="textAreaTop" fmla="*/ 86760 h 10783800"/>
                <a:gd name="textAreaBottom" fmla="*/ 5391360 h 107838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47A614-F1BC-4E70-BB30-580ED6B8740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 algn="ctr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~f1_12" TargetMode="External"/><Relationship Id="rId2" Type="http://schemas.openxmlformats.org/officeDocument/2006/relationships/hyperlink" Target="file:///../../~f1_13" TargetMode="External"/><Relationship Id="rId3" Type="http://schemas.openxmlformats.org/officeDocument/2006/relationships/hyperlink" Target="file:///../../~f1_12_1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УГОВОРОТ ВЕЩЕСТВ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учитель биологии Истомина И.А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9360">
            <a:solidFill>
              <a:srgbClr val="ffff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сфера прошла длительный период развития, в течение которого жизнь меняла формы, распространилась из воды на сушу, изменила систему круговоротов. Содержание кислорода в атмосфере постепенно рос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 последние 600 млн лет скорости и характер круговоротов приблизились к современным. Биосфера функционирует как гигантская слаженная экосистема, где организмы не только приспосабливаются к среде, но и сами создают и поддерживают на Земле условия, благоприятные для жиз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9360">
            <a:solidFill>
              <a:srgbClr val="ffffff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оки вещества и энергии через живые организмы в процессах обмена веществ чрезвычайно велики. Человек, например, за свою жизнь потребляет десятки тонн еды и питья, а через легкие – многие миллионы литров воздуха. Многие организмы взаимодействуют со средой еще более интенсивно. Растения на создание каждого грамма своей массы тратят от 200 до 800 и более граммов воды, которую они извлекают из почвы и испаряют в атмосферу. Вещества, необходимые дл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тосинте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растения получают из почвы, воды и воздух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такой интенсивности потоков вещества из неорганической природы в живые тела запасы необходимых для жизни соединений 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генных элемент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– давно были бы исчерпаны на Земле. Однако жизнь не прекращается, потому что биогенные элементы постоянно возвращаются в окружающую организмы среду. Происходит это в биоценозах, где в результате пищевых отношений между видами синтезированные растениями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ические вещест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разрушаются в конце концов вновь до таких соединений, которые могут быть снова использованы растениями. Так возникает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логический круговорот вещест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образом, биоценоз является частью еще более сложной системы, в которую, кроме живых организмов, входит и их неживое окружение, содержащее вещество и энергию, необходимые для жизни. Биоценоз не может существовать без вещественно-энергетических связей со средой. В итоге биоценоз представляет с ней некое един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ЭКОСИСТЕМ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Любую совокупность организмов и неорганических компонентов, в которой может поддерживаться круговорот вещества, называют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экологической системой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, или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экосистемой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родные экосистемы могут быть разного объема и протяженности: небольшая лужа с ее обитателями, пруд, океан, луг, роща, тайга, степь – все это примеры разномасштабных экосистем. Любая экосистема включает живую часть – биоценоз и его физическое окружение. Более мелкие экосистемы входят в состав все более крупных, вплоть до общей экосистемы Земли. Общий биологический круговорот вещества на нашей планете также складывается из взаимодействия множества более частных круговоротов. Экосистема может обеспечить круговорот вещества только в том случае, если включает необходимые для этого четыре составные части: запасы биогенных элементов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дуцент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сумент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дуцен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76520" y="1554120"/>
            <a:ext cx="914400" cy="228600"/>
          </a:xfrm>
          <a:prstGeom prst="rect">
            <a:avLst/>
          </a:prstGeom>
          <a:ln cap="sq" w="9360">
            <a:solidFill>
              <a:srgbClr val="ffffff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Arial"/>
              </a:rPr>
              <a:t>Продуцент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зеленые растения, создающие из биогенных элементов органическое вещество, т. е. биологическую продукцию, используя потоки солнечной энерг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Arial"/>
              </a:rPr>
              <a:t>Консумент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требители этого органического вещества, перерабатывающие его в новые формы. В роли консументов выступают обычно животные. Различают консументы первого порядка – растительноядные виды и второго порядка – плотоядных животны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Arial"/>
              </a:rPr>
              <a:t>Редуцент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ганизмы, окончательно разрушающие органические соединения до минеральных. Роль редуцентов выполняют в биоценозах в основном грибы и бактерии, а также другие мелкие организмы, перерабатывающие мертвые остатки растений и животны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Биосфе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100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иосфера составляет одну из специфических оболочек земли и в то же время глобальную единую экосистему. Геологически биосфера располагается в нижних слоях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атмосфер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более 10 км от уровня моря), охватывает всю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гидросфер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верхнюю часть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литосфер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на которой постепенно образуется почва. Свойства этих сред являются определяющими для биосфер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500720" y="2276640"/>
            <a:ext cx="4643280" cy="34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ис. 2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зрушители мертвой древесины (жук бронзовка и его личинка; жук-олень и его личинка; большой дубовый усач и его личинка; бабочка древоточец пахучий и его гусеница; жук красный плоскотел; многоножка кивсяк; черный муравей; мокрица; дождевой червь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cap="sq" w="9360">
            <a:solidFill>
              <a:srgbClr val="ffffff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изнь на Земле продолжается уже около 4 млрд лет, не прерываясь именно потому, что она протекает в системе биологических круговоротов вещества. Основу этого составляет фотосинтез растений и пищевые связи организмов в биоценозах. Однако биологический круговорот вещества требует постоянных затрат энергии. В отличие от химических элементов, многократно вовлекаемых в живые тела, энергия солнечных лучей, задержанная зелеными растениями, не может использоваться организмами бесконеч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первому закону термодинамики, энергия не исчезает бесследно, она сохраняется в окружающем нас мире, но переходит из одной формы в другую. По второму закону термодинамики, любые превращения энергии сопровождаются переходом части ее в такое состояние, когда она уже не может быть использована для работы. В клетках живых существ энергия, обеспечивающая химические реакции, при каждой реакции частично превращается в тепловую, а тепло рассеивается организмом в окружающем пространстве. Сложная работа клеток и органов сопровождается, таким образом, потерями энергии из организма. Каждый цикл круговорота веществ, зависящий от активности членов биоценоза, требует все новых поступлений энерг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образом, жизнь на нашей планете осуществляется как постоянный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руговорот вещест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ддерживаемый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током солнечной энерги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Жизнь организуется не только в биоценозы, но и в экосистемы, в которых осуществляется тесная связь между живыми и неживыми компонентами прир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нообразие экосистем на Земле связано как с разнообразием живых организмов, так и условий физической, географической среды. Тундровые, лесные, степные, пустынные или тропически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общест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меют свои особенности биологических круговоротов и связей с окружающей средой. Водные экосистемы также чрезвычайно различны. Экосистемы отличаются по скорости биологических круговоротов и по общему количеству вовлекаемого в эти циклы вещ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й принцип устойчивости экосистем – круговорот вещества, поддерживаемый потоком энергии, – по сути дела обеспечивает бесконечное существование жизни на Земл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этому принципу могут быть организованы и устойчивые искусственные экосистемы, и производственные технологии, в которых сберегается вода или другие ресурсы. Нарушение согласованной деятельности организмов в биоценозах обычно влечет за собой серьезные изменения круговоротов вещества в экосистемах. Это главная причина таких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кологических катастроф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как падение почвенного плодородия, снижение урожая растений, роста и продуктивности животных, постепенное разрушение природной сре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ершая гигантский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логический круговорот вещест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биосфере, жизнь поддерживает стабильные условия для своего существования и существования в ней челове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ые организмы создают в биосфере круговороты важнейших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генных элемент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оторые попеременно переходят из живого вещества в неорганическую материю. Эти циклы делят на две основные группы: круговороты газов и осадочные круговороты. В первом случае главный поставщик элементов – атмосфера (углерод, кислород, азот), во втором – горные осадочные породы (фосфор, сера и др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60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Круговорот углерод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56944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чником  дл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тосинте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лужит углекислый газ (диоксид углерода), находящийся в атмосфере или растворенный в воде. Углерод, связанный в горных породах, вовлекается в круговорот значительно медленнее. В составе синтезированных растением органических веществ углерод поступает затем 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епи пита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через живые или мертвые ткани растений и возвращается в атмосферу снова в форме углекислого газа в результате дыхания, брожения или сгорания топлива (древесины, нефти, угля и т. п.). Продолжительность цикла углерода равна трем-четырем столетия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13000" y="520560"/>
            <a:ext cx="914400" cy="228600"/>
          </a:xfrm>
          <a:prstGeom prst="rect">
            <a:avLst/>
          </a:prstGeom>
          <a:ln cap="sq" w="9360">
            <a:solidFill>
              <a:srgbClr val="ffff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87280" y="0"/>
            <a:ext cx="640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Круговорот азот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тения получают азот в основном из разлагающегося мертвого органического вещества посредством деятельности бактерий, которые превращают азот белков в усваиваемую растениями форму. Другой источник – свободный азот атмосферы – растениям непосредственно недоступен. Но его связывают, т. е. переводят в другие химические формы, некоторые группы бактерий и сине-зеленые водоросли, они обогащают им почву. Многие растения находятся в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мбиоз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 азотфиксирующими бактериями, образующими клубеньки на их корнях. Из отмерших растений или трупов животных часть азота, за счет деятельности других групп бактерий, превращается в свободную форму и вновь поступает в атмосфе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25400"/>
            <a:ext cx="914400" cy="228600"/>
          </a:xfrm>
          <a:prstGeom prst="rect">
            <a:avLst/>
          </a:prstGeom>
          <a:ln cap="sq" w="9360">
            <a:solidFill>
              <a:srgbClr val="ffffff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-36360" y="357120"/>
            <a:ext cx="9213480" cy="61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5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7020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Круговорот фосфора и серы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сфор и сера содержатся в горных породах. При их разрушении и эрозии они поступают в почву, оттуда используются растениями. Деятельность организмов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дуцент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нова возвращает их в почву. Часть соединений азота и фосфора смывается дождями в реки, а оттуда – в моря и океаны и используется водорослями. Но в конце концов в составе мертвого органического вещества они оседают на дно и снова включаются в состав горных пор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Цикл кислорода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икл кислорода занимает на Земле около 2000 лет, воды – около 2 млн лет .Это значит, что атомы этих веществ за историю Земли многократно проходили через живое вещество, побывав в телах древних бактерий, водорослей, древовидных папоротников, динозавров и мамонт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3:24:47Z</dcterms:created>
  <dc:creator>Владимир</dc:creator>
  <dc:description/>
  <dc:language>en-US</dc:language>
  <cp:lastModifiedBy>Владимир</cp:lastModifiedBy>
  <dcterms:modified xsi:type="dcterms:W3CDTF">2010-03-14T14:07:10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49</vt:lpwstr>
  </property>
</Properties>
</file>