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png" ContentType="image/png"/>
  <Override PartName="/ppt/media/image22.png" ContentType="image/png"/>
  <Override PartName="/ppt/media/image28.png" ContentType="image/png"/>
  <Override PartName="/ppt/media/image10.jpeg" ContentType="image/jpeg"/>
  <Override PartName="/ppt/media/image30.png" ContentType="image/png"/>
  <Override PartName="/ppt/media/image5.jpeg" ContentType="image/jpeg"/>
  <Override PartName="/ppt/media/image14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34.jpeg" ContentType="image/jpeg"/>
  <Override PartName="/ppt/media/image12.png" ContentType="image/png"/>
  <Override PartName="/ppt/media/image19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3BFC-0CF9-41B1-997C-74390A91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D019-CB1F-4493-B3CD-115ADBB7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4BDB-5C9A-4614-9AB7-322BA191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69E6-F4AE-4948-BDDB-A5FFF3E3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16A0-5F5A-4926-87C0-0BC85812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386E-A03F-4324-963A-8791F0E3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0775-426D-4B6A-AC27-456AC719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6354-F26A-4EAC-8B35-A17AAA51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C420-5CC1-4C96-AAFC-C3AAE6DA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0640-099B-40C4-8ABF-4D7D269F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4F12-F349-44FB-82E4-1DEDD3DF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0E7D-DECF-4C79-A08C-16724C74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8CAE-829D-4CD8-8EC3-E2A3E04E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2270-606E-41E7-A168-B9A4607B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0163-45C8-4615-A773-671A48BB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9E8B-1176-44BB-A6F9-9A24767E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0470-749F-44E1-8F18-6511A0B4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526D7-C4FA-492C-895D-1D5086A8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6CC4B-A002-4D1B-A4FB-8234871B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9C2D6-B534-49C8-862A-FF71D250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45B8F-B1CD-4F9E-B2B4-2E1E898B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00515-943B-49B0-B382-1B08534E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25FE-CDD8-4F79-A45F-FB3BEAB6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66F44-21AE-4832-98A4-969FA545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58F13-46A7-4530-B2D6-357EF44C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9B7D9-A4C4-453D-B05F-447940DE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592F7-0C1D-4E15-AE13-EFBE3D00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9A820-538C-4327-8C2C-6A750934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CFCEA-74A2-4294-9108-3786DD4F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6A6BA-3E4B-4DD3-8017-7D62A2E6A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A8EB6-DFE5-42E1-ADAC-AEFD95FF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F55E2-0553-484C-BC6F-5DE3B74B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3FAAD-EC9A-4FFC-84F2-1D5980E1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A38D-7EDF-4608-A40A-21CD89A6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9C3A9-0A27-4E15-AFBE-3AA18EED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72C60-F2EC-4EF6-99FD-0D0A9539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A774F-536F-4FB1-8AB9-92AEF192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C76C5-5B4B-4D66-808E-3C5EE96C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16A00-977F-4B30-AFB5-F6B76BD1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D5CDB-8A36-4CF2-B33A-878BB098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7D33A-9A21-4E48-B199-D77368D9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0E25F-FECC-45EB-99F6-AE4FED24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D05BE-6BB7-4422-883C-73474CB0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AC0C-570E-412A-972B-D3202F0E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20CE-B259-46D7-90CE-1045804F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2830-498F-445E-B8C3-2EA7B6A2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EC10-1DDE-4172-B6DB-858AD23B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3C22-EDA7-4663-B2C9-0FCED84F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62A5-C697-49E9-BBFF-71670EA37A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0B83-E6C9-41D6-AAE5-1BA03C71144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377C-C470-43DB-8556-5AD3BAE698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3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219E-E852-47BD-8CE8-9EAAB887994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1760" y="281916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ffff"/>
                </a:solidFill>
                <a:latin typeface="Monotype Corsiva"/>
              </a:rPr>
              <a:t>Утро</a:t>
            </a:r>
            <a:br>
              <a:rPr sz="7200"/>
            </a:br>
            <a:r>
              <a:rPr b="0" i="1" lang="ru-RU" sz="7200" spc="-1" strike="noStrike">
                <a:solidFill>
                  <a:srgbClr val="ffffff"/>
                </a:solidFill>
                <a:latin typeface="Monotype Corsiva"/>
              </a:rPr>
              <a:t>космической эры</a:t>
            </a:r>
            <a:r>
              <a:rPr b="0" i="1" lang="ru-RU" sz="8800" spc="-1" strike="noStrike">
                <a:solidFill>
                  <a:srgbClr val="ff0066"/>
                </a:solidFill>
                <a:latin typeface="Calligraph421 BT"/>
              </a:rPr>
              <a:t> </a:t>
            </a:r>
            <a:endParaRPr b="0" lang="en-US" sz="8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685800" y="533520"/>
            <a:ext cx="78487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09480" y="60948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ff0066"/>
                </a:solidFill>
                <a:latin typeface="Calligraph421 BT"/>
              </a:rPr>
              <a:t>К ЗВЕЗДАМ 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http://pics.livejournal.com/anzee/pic/0008brk3/t9678z"/>
          <p:cNvPicPr/>
          <p:nvPr/>
        </p:nvPicPr>
        <p:blipFill>
          <a:blip r:embed="rId1"/>
          <a:stretch/>
        </p:blipFill>
        <p:spPr>
          <a:xfrm>
            <a:off x="4724280" y="304920"/>
            <a:ext cx="3733920" cy="29876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915840" y="304920"/>
            <a:ext cx="37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бинезон для пол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4572000" y="3733920"/>
            <a:ext cx="4343400" cy="28335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685800" y="5334120"/>
            <a:ext cx="358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кафандры для собак-космонав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8" descr="http://www.vokrugsveta.ru/img/cmn/2007/11/02/015.jpg"/>
          <p:cNvPicPr/>
          <p:nvPr/>
        </p:nvPicPr>
        <p:blipFill>
          <a:blip r:embed="rId3"/>
          <a:stretch/>
        </p:blipFill>
        <p:spPr>
          <a:xfrm>
            <a:off x="380880" y="1905120"/>
            <a:ext cx="4046760" cy="30351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катапультная кабина"/>
          <p:cNvPicPr/>
          <p:nvPr/>
        </p:nvPicPr>
        <p:blipFill>
          <a:blip r:embed="rId1"/>
          <a:stretch/>
        </p:blipFill>
        <p:spPr>
          <a:xfrm>
            <a:off x="228600" y="457200"/>
            <a:ext cx="3733920" cy="3278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собачья тележка"/>
          <p:cNvPicPr/>
          <p:nvPr/>
        </p:nvPicPr>
        <p:blipFill>
          <a:blip r:embed="rId2"/>
          <a:stretch/>
        </p:blipFill>
        <p:spPr>
          <a:xfrm>
            <a:off x="5257800" y="380880"/>
            <a:ext cx="3657600" cy="3467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космическая кабина"/>
          <p:cNvPicPr/>
          <p:nvPr/>
        </p:nvPicPr>
        <p:blipFill>
          <a:blip r:embed="rId3"/>
          <a:stretch/>
        </p:blipFill>
        <p:spPr>
          <a:xfrm>
            <a:off x="2590920" y="3429000"/>
            <a:ext cx="3398760" cy="3429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5638680" y="5791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смическая каб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611280" y="0"/>
            <a:ext cx="32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атапультная каб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5853960" y="-3636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кафанд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017"/>
          <p:cNvPicPr/>
          <p:nvPr/>
        </p:nvPicPr>
        <p:blipFill>
          <a:blip r:embed="rId1"/>
          <a:stretch/>
        </p:blipFill>
        <p:spPr>
          <a:xfrm>
            <a:off x="652320" y="1295280"/>
            <a:ext cx="3471840" cy="53341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4724280" y="2133720"/>
            <a:ext cx="3581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торой советский искусственный спутник с собакой на борту отправился в космос 3 ноября 1957 года с космодрома Байкону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3 ноября 1957 год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6" descr="с1"/>
          <p:cNvPicPr/>
          <p:nvPr/>
        </p:nvPicPr>
        <p:blipFill>
          <a:blip r:embed="rId1"/>
          <a:stretch/>
        </p:blipFill>
        <p:spPr>
          <a:xfrm>
            <a:off x="990720" y="228600"/>
            <a:ext cx="2705040" cy="5410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7" descr="с2"/>
          <p:cNvPicPr/>
          <p:nvPr/>
        </p:nvPicPr>
        <p:blipFill>
          <a:blip r:embed="rId2"/>
          <a:stretch/>
        </p:blipFill>
        <p:spPr>
          <a:xfrm>
            <a:off x="5562720" y="1295280"/>
            <a:ext cx="2697120" cy="53341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21"/>
          <p:cNvSpPr/>
          <p:nvPr/>
        </p:nvSpPr>
        <p:spPr>
          <a:xfrm>
            <a:off x="380880" y="58672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Биокосмонавт Лайка перед полетом в косм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2"/>
          <p:cNvSpPr/>
          <p:nvPr/>
        </p:nvSpPr>
        <p:spPr>
          <a:xfrm>
            <a:off x="5029200" y="304920"/>
            <a:ext cx="348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лой отсек космической соба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410080" y="1904760"/>
            <a:ext cx="34322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Собака Лайка первое живое существо, побывавшее в космос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http://www.vokrugsveta.ru/img/cmn/2007/11/02/013.jpg"/>
          <p:cNvPicPr/>
          <p:nvPr/>
        </p:nvPicPr>
        <p:blipFill>
          <a:blip r:embed="rId1"/>
          <a:stretch/>
        </p:blipFill>
        <p:spPr>
          <a:xfrm>
            <a:off x="228600" y="1600200"/>
            <a:ext cx="5181480" cy="38847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613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Monotype Corsiva"/>
              </a:rPr>
              <a:t>Память о Лайке осталась в почтовых марках, выпущенных в разных странах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32" name="Picture 4" descr="Новый рисунок (2)"/>
          <p:cNvPicPr/>
          <p:nvPr/>
        </p:nvPicPr>
        <p:blipFill>
          <a:blip r:embed="rId1"/>
          <a:stretch/>
        </p:blipFill>
        <p:spPr>
          <a:xfrm>
            <a:off x="5029200" y="3505320"/>
            <a:ext cx="3657600" cy="2755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Новый рисунок (1)"/>
          <p:cNvPicPr/>
          <p:nvPr/>
        </p:nvPicPr>
        <p:blipFill>
          <a:blip r:embed="rId2"/>
          <a:stretch/>
        </p:blipFill>
        <p:spPr>
          <a:xfrm>
            <a:off x="609480" y="2819520"/>
            <a:ext cx="3962520" cy="291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3809880"/>
            <a:ext cx="85377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Monotype Corsiva"/>
              </a:rPr>
              <a:t>Белка и Стрелка стали первыми биокосмонавтами, благополучно вернувшимися на Землю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35" name="Picture 4" descr="Новый рисунок (4)"/>
          <p:cNvPicPr/>
          <p:nvPr/>
        </p:nvPicPr>
        <p:blipFill>
          <a:blip r:embed="rId1"/>
          <a:stretch/>
        </p:blipFill>
        <p:spPr>
          <a:xfrm>
            <a:off x="609480" y="533520"/>
            <a:ext cx="7158240" cy="288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267080"/>
            <a:ext cx="85104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Специалист по авиационной медицине, старший научный сотрудник Олег Газенко демонстрирует вернувшихся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из космоса собак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37" name="Picture 7" descr="Новый рисунок (8)"/>
          <p:cNvPicPr/>
          <p:nvPr/>
        </p:nvPicPr>
        <p:blipFill>
          <a:blip r:embed="rId1"/>
          <a:stretch/>
        </p:blipFill>
        <p:spPr>
          <a:xfrm>
            <a:off x="1295280" y="228600"/>
            <a:ext cx="6319800" cy="37400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Потомство Белки"/>
          <p:cNvPicPr/>
          <p:nvPr/>
        </p:nvPicPr>
        <p:blipFill>
          <a:blip r:embed="rId1"/>
          <a:stretch/>
        </p:blipFill>
        <p:spPr>
          <a:xfrm>
            <a:off x="533520" y="457200"/>
            <a:ext cx="3213000" cy="4419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t9678z"/>
          <p:cNvPicPr/>
          <p:nvPr/>
        </p:nvPicPr>
        <p:blipFill>
          <a:blip r:embed="rId2"/>
          <a:stretch/>
        </p:blipFill>
        <p:spPr>
          <a:xfrm>
            <a:off x="4419720" y="838080"/>
            <a:ext cx="4267080" cy="34149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6"/>
          <p:cNvSpPr/>
          <p:nvPr/>
        </p:nvSpPr>
        <p:spPr>
          <a:xfrm>
            <a:off x="3489480" y="3207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1600200" y="5257800"/>
            <a:ext cx="589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отомство Бел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107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Monotype Corsiva"/>
              </a:rPr>
              <a:t>Почтовые марки с изображением животных, побывавших в космосе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43" name="Picture 4" descr="Новый рисунок (9)"/>
          <p:cNvPicPr/>
          <p:nvPr/>
        </p:nvPicPr>
        <p:blipFill>
          <a:blip r:embed="rId1"/>
          <a:stretch/>
        </p:blipFill>
        <p:spPr>
          <a:xfrm>
            <a:off x="3429000" y="2438280"/>
            <a:ext cx="2668680" cy="3733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Новый рисунок (10)"/>
          <p:cNvPicPr/>
          <p:nvPr/>
        </p:nvPicPr>
        <p:blipFill>
          <a:blip r:embed="rId2"/>
          <a:stretch/>
        </p:blipFill>
        <p:spPr>
          <a:xfrm>
            <a:off x="5943600" y="4572000"/>
            <a:ext cx="320040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Новый рисунок (11)"/>
          <p:cNvPicPr/>
          <p:nvPr/>
        </p:nvPicPr>
        <p:blipFill>
          <a:blip r:embed="rId3"/>
          <a:stretch/>
        </p:blipFill>
        <p:spPr>
          <a:xfrm>
            <a:off x="380880" y="1752480"/>
            <a:ext cx="3200400" cy="225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онстантин Эдуардович Циолковский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1893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оположник космонавтики и ракетостро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сновал возможность использования ракеты для полетов в космическое пространство, к другим планетам Солнечной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5103720" y="1676520"/>
            <a:ext cx="3286080" cy="44226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Monotype Corsiva"/>
              </a:rPr>
              <a:t>Участники полета в космос – собаки Ветерок и Уголек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47" name="Picture 4" descr="с4"/>
          <p:cNvPicPr/>
          <p:nvPr/>
        </p:nvPicPr>
        <p:blipFill>
          <a:blip r:embed="rId1"/>
          <a:stretch/>
        </p:blipFill>
        <p:spPr>
          <a:xfrm>
            <a:off x="1676520" y="1752480"/>
            <a:ext cx="5715000" cy="48373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Звездочка"/>
          <p:cNvPicPr/>
          <p:nvPr/>
        </p:nvPicPr>
        <p:blipFill>
          <a:blip r:embed="rId1"/>
          <a:stretch/>
        </p:blipFill>
        <p:spPr>
          <a:xfrm>
            <a:off x="380880" y="304920"/>
            <a:ext cx="3289320" cy="4724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124440" cy="23385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памятник"/>
          <p:cNvPicPr/>
          <p:nvPr/>
        </p:nvPicPr>
        <p:blipFill>
          <a:blip r:embed="rId3"/>
          <a:stretch/>
        </p:blipFill>
        <p:spPr>
          <a:xfrm>
            <a:off x="4267080" y="2971800"/>
            <a:ext cx="4381560" cy="29066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689760" y="5334120"/>
            <a:ext cx="26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Звездоч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3751200" y="6019920"/>
            <a:ext cx="53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амятник Звездочке в Ижевс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762120"/>
            <a:ext cx="846144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Arial"/>
              </a:rPr>
              <a:t>До старта человека в космос оставалось</a:t>
            </a:r>
            <a:br>
              <a:rPr sz="5400"/>
            </a:br>
            <a:r>
              <a:rPr b="0" lang="ru-RU" sz="5400" spc="-1" strike="noStrike">
                <a:solidFill>
                  <a:srgbClr val="ff0066"/>
                </a:solidFill>
                <a:latin typeface="Arial"/>
              </a:rPr>
              <a:t> 18 дней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3885840"/>
            <a:ext cx="854064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Monotype Corsiva"/>
              </a:rPr>
              <a:t>Больше собакам в космос подняться было не сужден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Фридрих Артурович Цандер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(1887 – 1933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419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етский ученый и изобретатель в области теории межпланетных полетов, реактивных двигате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5" descr="цандер"/>
          <p:cNvPicPr/>
          <p:nvPr/>
        </p:nvPicPr>
        <p:blipFill>
          <a:blip r:embed="rId1"/>
          <a:stretch/>
        </p:blipFill>
        <p:spPr>
          <a:xfrm>
            <a:off x="4952880" y="1752480"/>
            <a:ext cx="345924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Юрий Васильевич Кондратюк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(1897 – 1942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94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ложил при полетах к другим планетам выводить корабль на орбиту его искусственного спут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посадки человека на другую планету и возвращения на корабль применить небольшой взлетно-посадочный кораб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кондратюк"/>
          <p:cNvPicPr/>
          <p:nvPr/>
        </p:nvPicPr>
        <p:blipFill>
          <a:blip r:embed="rId1"/>
          <a:stretch/>
        </p:blipFill>
        <p:spPr>
          <a:xfrm>
            <a:off x="5105520" y="1676520"/>
            <a:ext cx="30477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10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ергей Павлович Королев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41893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структор ракетных сист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неральный Конструк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Гагарин и Королёв"/>
          <p:cNvPicPr/>
          <p:nvPr/>
        </p:nvPicPr>
        <p:blipFill>
          <a:blip r:embed="rId1"/>
          <a:stretch/>
        </p:blipFill>
        <p:spPr>
          <a:xfrm>
            <a:off x="4952880" y="1371600"/>
            <a:ext cx="3989520" cy="51814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1 спутник пр"/>
          <p:cNvPicPr/>
          <p:nvPr/>
        </p:nvPicPr>
        <p:blipFill>
          <a:blip r:embed="rId1"/>
          <a:stretch/>
        </p:blipFill>
        <p:spPr>
          <a:xfrm>
            <a:off x="0" y="0"/>
            <a:ext cx="9144000" cy="7077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21337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4 октября 1957 г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304920" y="62164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ервый искусственный спутник Зем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omic Sans MS"/>
              </a:rPr>
              <a:t>ПЕРВЫЕ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omic Sans MS"/>
              </a:rPr>
              <a:t>«КОСМОНАВТЫ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Первый отряд космонавтов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00" name="Picture 4" descr="http://pics.livejournal.com/anzee/pic/0008x4gt/t9678z"/>
          <p:cNvPicPr/>
          <p:nvPr/>
        </p:nvPicPr>
        <p:blipFill>
          <a:blip r:embed="rId1"/>
          <a:stretch/>
        </p:blipFill>
        <p:spPr>
          <a:xfrm>
            <a:off x="380880" y="1295280"/>
            <a:ext cx="3505320" cy="2801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http://pics.livejournal.com/anzee/pic/0008wcpy/t9678z"/>
          <p:cNvPicPr/>
          <p:nvPr/>
        </p:nvPicPr>
        <p:blipFill>
          <a:blip r:embed="rId2"/>
          <a:stretch/>
        </p:blipFill>
        <p:spPr>
          <a:xfrm>
            <a:off x="5486400" y="1295280"/>
            <a:ext cx="3429000" cy="2745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http://pics.livejournal.com/anzee/pic/0008qk6t/t9678z"/>
          <p:cNvPicPr/>
          <p:nvPr/>
        </p:nvPicPr>
        <p:blipFill>
          <a:blip r:embed="rId3"/>
          <a:stretch/>
        </p:blipFill>
        <p:spPr>
          <a:xfrm>
            <a:off x="2666880" y="3978360"/>
            <a:ext cx="3429000" cy="27334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016"/>
          <p:cNvPicPr/>
          <p:nvPr/>
        </p:nvPicPr>
        <p:blipFill>
          <a:blip r:embed="rId1"/>
          <a:stretch/>
        </p:blipFill>
        <p:spPr>
          <a:xfrm>
            <a:off x="685800" y="380880"/>
            <a:ext cx="3013200" cy="42674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0"/>
          <p:cNvSpPr/>
          <p:nvPr/>
        </p:nvSpPr>
        <p:spPr>
          <a:xfrm>
            <a:off x="0" y="21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0" y="21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12" descr="http://pics.livejournal.com/anzee/pic/0008pwt8/t9678z"/>
          <p:cNvPicPr/>
          <p:nvPr/>
        </p:nvPicPr>
        <p:blipFill>
          <a:blip r:embed="rId2"/>
          <a:stretch/>
        </p:blipFill>
        <p:spPr>
          <a:xfrm>
            <a:off x="4419720" y="2362320"/>
            <a:ext cx="4343400" cy="34750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4"/>
          <p:cNvSpPr/>
          <p:nvPr/>
        </p:nvSpPr>
        <p:spPr>
          <a:xfrm>
            <a:off x="0" y="21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0" y="21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7"/>
          <p:cNvSpPr/>
          <p:nvPr/>
        </p:nvSpPr>
        <p:spPr>
          <a:xfrm>
            <a:off x="457200" y="495288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ергей Павлович Корол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4724280" y="609480"/>
            <a:ext cx="384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Ученые медики со своими любимц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Admin</cp:lastModifiedBy>
  <dcterms:modified xsi:type="dcterms:W3CDTF">2015-09-13T17:15:18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